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2.png" ContentType="image/png"/>
  <Override PartName="/ppt/media/image4.png" ContentType="image/png"/>
  <Override PartName="/ppt/media/image34.png" ContentType="image/png"/>
  <Override PartName="/ppt/media/image50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51.jpeg" ContentType="image/jpeg"/>
  <Override PartName="/ppt/media/image13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12.png" ContentType="image/png"/>
  <Override PartName="/ppt/media/image54.jpeg" ContentType="image/jpeg"/>
  <Override PartName="/ppt/media/image56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8.png" ContentType="image/png"/>
  <Override PartName="/ppt/media/image39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3.png" ContentType="image/png"/>
  <Override PartName="/ppt/media/image5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1BBF-05E5-4DAA-836B-C92794963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B2E-1747-4A8D-B5FA-97504E1245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C2BA-B584-4A68-B49D-0F26F3A553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C36D-0F27-4424-B54A-7801D8E6EC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383B-EC01-44EC-913B-B39B2D59A5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6E2E-1313-4715-B716-537EACD6A6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4A84-4A19-402F-9A02-64F66E3074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9AA8-B9A6-4328-8CB4-BC20462AFE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FAD2-4132-43EB-B9BD-EB6FCB9012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44B8-6C60-4BA1-B90F-83E3DC9242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B417-8D3C-4F7E-B573-9210698828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0B2D-0331-4CBD-A5B8-3CF1B3C918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15CF-60C4-438E-8534-62DE5AB03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6363-987F-4CDB-84DA-4A24B7C040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E35-0E65-4D35-80EF-6944BBB503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BFD-F301-4A76-BFDE-342F8BF8F9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9F08-F0AA-4FB3-A6C9-B9850225EB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11C7-E9F9-4D90-975E-E6464C80D0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A8FD-0D61-4F2C-B727-16F3E0DF6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8C9D-D178-4751-8C40-AAD0BE9DC5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9201-DF30-4F4C-82FA-8F9484EDCC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A37A-AFD4-41C5-933E-D70C9F7724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E1C7-EC86-4F9F-B905-A52CA233A8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5565-2DFF-4AB5-99F5-4A681C7B0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FC9-DD44-4C9C-8207-9111D825F7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2519-69BE-40FE-8185-AA171FE547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023-CE67-483D-A9CC-22C1BCFCFD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A209-EB48-429C-BB68-D6EBE79675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0CFD-5602-43B2-9D0E-26B355BD6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DDF8-8E1F-4D3A-8020-61D577CFD8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113F-4576-4AD6-8ADB-DF40206B7A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FEC4-7892-4F33-B58A-FF758F6514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AF3E-AF8E-42E7-A7BF-EAB1A4121A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26CB-033F-43F4-A85F-5C7FF2AC87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105B-E19A-4132-9F95-02642C1F66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24E3-F4E8-4FF6-A0D9-A831395D7E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6029-A6BC-41BE-8470-62BFA2DE4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409-6152-4392-8D49-BE728E87BB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C240-FFFD-4E63-A9DD-EE767B1324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FF6F-3E91-498A-A53C-9EAEB2D11E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D7A4-D245-41EA-9B0C-3D3C07A737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694B-80FD-4D2C-8084-DE03B8298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A4E2-C1D9-413A-BA61-4518B57FE9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B10-49EF-40C7-B943-DA45BB8085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481B-4581-41A9-B964-329EAD0C37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DA45-F954-4C56-8C8D-5846ED2E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84D6-BE1D-46D4-8B3F-4D5CEE71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2F1D-13DD-4778-90B9-F99C652C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7880-904E-404D-8D53-93BC9EDF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0F4A-B721-4E78-A0B6-6D975583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10AA-B2D2-4A06-9500-57BD0710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084C-1FBB-4414-A76A-02C73E2B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4677-0411-466E-8446-CF21BFFC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8322-71C1-4575-A892-D8321C21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1623-554D-429B-92BB-F2E8E892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7F22-3452-4535-850E-32A298F2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6995-1FFE-46A4-8A66-539BFF8E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9F78-24E2-4FE2-B886-C2E23A0C4A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22.png"/><Relationship Id="rId5" Type="http://schemas.openxmlformats.org/officeDocument/2006/relationships/image" Target="../media/image36.png"/><Relationship Id="rId6" Type="http://schemas.openxmlformats.org/officeDocument/2006/relationships/image" Target="../media/image22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3.png"/><Relationship Id="rId7" Type="http://schemas.openxmlformats.org/officeDocument/2006/relationships/image" Target="../media/image18.pn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538B-2D74-457C-ADE2-015C8AC5D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Mercator Characterist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906200"/>
            <a:ext cx="822960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idians and parallels expanded at same ratio with increasing lat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 of constant direction = rhumb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ross every meridian at the same ang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ight line on Mercator proj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handy when drawing courses on char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t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9" descr="npo00001b"/>
          <p:cNvPicPr/>
          <p:nvPr/>
        </p:nvPicPr>
        <p:blipFill>
          <a:blip r:embed="rId7"/>
          <a:stretch/>
        </p:blipFill>
        <p:spPr>
          <a:xfrm>
            <a:off x="6489720" y="4838760"/>
            <a:ext cx="2197080" cy="1562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850"/>
                            </p:stCondLst>
                            <p:childTnLst>
                              <p:par>
                                <p:cTn id="3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DDA4-2941-43FF-859D-B7463A4A6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22 copy"/>
          <p:cNvPicPr/>
          <p:nvPr/>
        </p:nvPicPr>
        <p:blipFill>
          <a:blip r:embed="rId1"/>
          <a:stretch/>
        </p:blipFill>
        <p:spPr>
          <a:xfrm>
            <a:off x="380880" y="2025720"/>
            <a:ext cx="3429000" cy="3384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humb Line or Loxodrom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41720" y="1828800"/>
            <a:ext cx="4873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xodrome crosses each meridian at the same ang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piral that has no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usually a good long range navigation techniqu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E144-2277-4A8D-9681-084DC6674C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ing a Mercator Chart to Measure a Pos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of Mercator charts is a rect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tude &amp; Longitude are coordinat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usually at the t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e scale at top and bot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tude scale on right and le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used for measuring dist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24-1"/>
          <p:cNvPicPr/>
          <p:nvPr/>
        </p:nvPicPr>
        <p:blipFill>
          <a:blip r:embed="rId7"/>
          <a:stretch/>
        </p:blipFill>
        <p:spPr>
          <a:xfrm>
            <a:off x="7061040" y="2971800"/>
            <a:ext cx="1854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300"/>
                            </p:stCondLst>
                            <p:childTnLst>
                              <p:par>
                                <p:cTn id="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B5DE-F02A-4249-B284-57442C1BF1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asuring a Position’s Latitude &amp; Longitu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9" name="Group 32"/>
          <p:cNvGrpSpPr/>
          <p:nvPr/>
        </p:nvGrpSpPr>
        <p:grpSpPr>
          <a:xfrm>
            <a:off x="685800" y="1731960"/>
            <a:ext cx="4800600" cy="4592520"/>
            <a:chOff x="685800" y="1731960"/>
            <a:chExt cx="4800600" cy="4592520"/>
          </a:xfrm>
        </p:grpSpPr>
        <p:pic>
          <p:nvPicPr>
            <p:cNvPr id="170" name="Picture 11" descr="npo00001c"/>
            <p:cNvPicPr/>
            <p:nvPr/>
          </p:nvPicPr>
          <p:blipFill>
            <a:blip r:embed="rId1"/>
            <a:stretch/>
          </p:blipFill>
          <p:spPr>
            <a:xfrm>
              <a:off x="685800" y="1731960"/>
              <a:ext cx="4800600" cy="459252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71" name="Oval 2071"/>
            <p:cNvSpPr/>
            <p:nvPr/>
          </p:nvSpPr>
          <p:spPr>
            <a:xfrm>
              <a:off x="2381400" y="3695760"/>
              <a:ext cx="74520" cy="7452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2079"/>
          <p:cNvGrpSpPr/>
          <p:nvPr/>
        </p:nvGrpSpPr>
        <p:grpSpPr>
          <a:xfrm>
            <a:off x="2451240" y="2895480"/>
            <a:ext cx="1587240" cy="800280"/>
            <a:chOff x="2451240" y="2895480"/>
            <a:chExt cx="1587240" cy="800280"/>
          </a:xfrm>
        </p:grpSpPr>
        <p:sp>
          <p:nvSpPr>
            <p:cNvPr id="173" name="Text Box 2072"/>
            <p:cNvSpPr/>
            <p:nvPr/>
          </p:nvSpPr>
          <p:spPr>
            <a:xfrm>
              <a:off x="2590920" y="2895480"/>
              <a:ext cx="1447560" cy="459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L   33° 19.0’ 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Lo 77° 40.0’ 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073"/>
            <p:cNvSpPr/>
            <p:nvPr/>
          </p:nvSpPr>
          <p:spPr>
            <a:xfrm flipH="1">
              <a:off x="2451240" y="3362400"/>
              <a:ext cx="142560" cy="33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2068"/>
          <p:cNvGrpSpPr/>
          <p:nvPr/>
        </p:nvGrpSpPr>
        <p:grpSpPr>
          <a:xfrm>
            <a:off x="1714680" y="2154240"/>
            <a:ext cx="7350120" cy="2125800"/>
            <a:chOff x="1714680" y="2154240"/>
            <a:chExt cx="7350120" cy="2125800"/>
          </a:xfrm>
        </p:grpSpPr>
        <p:sp>
          <p:nvSpPr>
            <p:cNvPr id="176" name="Text Box 2060"/>
            <p:cNvSpPr/>
            <p:nvPr/>
          </p:nvSpPr>
          <p:spPr>
            <a:xfrm>
              <a:off x="6000840" y="2154240"/>
              <a:ext cx="306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ick off distance from parallel to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uler edg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AutoShape 2063"/>
            <p:cNvSpPr/>
            <p:nvPr/>
          </p:nvSpPr>
          <p:spPr>
            <a:xfrm>
              <a:off x="1714680" y="3713400"/>
              <a:ext cx="304920" cy="566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4760 h 566640"/>
                <a:gd name="textAreaBottom" fmla="*/ 551880 h 56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69"/>
          <p:cNvGrpSpPr/>
          <p:nvPr/>
        </p:nvGrpSpPr>
        <p:grpSpPr>
          <a:xfrm>
            <a:off x="4586040" y="3483000"/>
            <a:ext cx="4478760" cy="1191240"/>
            <a:chOff x="4586040" y="3483000"/>
            <a:chExt cx="4478760" cy="1191240"/>
          </a:xfrm>
        </p:grpSpPr>
        <p:sp>
          <p:nvSpPr>
            <p:cNvPr id="179" name="Text Box 2061"/>
            <p:cNvSpPr/>
            <p:nvPr/>
          </p:nvSpPr>
          <p:spPr>
            <a:xfrm>
              <a:off x="6000840" y="3483000"/>
              <a:ext cx="306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ansfer distance.  Read latitude 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om scal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AutoShape 2064"/>
            <p:cNvSpPr/>
            <p:nvPr/>
          </p:nvSpPr>
          <p:spPr>
            <a:xfrm flipH="1">
              <a:off x="4585680" y="3698640"/>
              <a:ext cx="304920" cy="566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4760 h 566280"/>
                <a:gd name="textAreaBottom" fmla="*/ 551520 h 56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Group 2075"/>
          <p:cNvGrpSpPr/>
          <p:nvPr/>
        </p:nvGrpSpPr>
        <p:grpSpPr>
          <a:xfrm>
            <a:off x="2037960" y="1751040"/>
            <a:ext cx="7026840" cy="4251960"/>
            <a:chOff x="2037960" y="1751040"/>
            <a:chExt cx="7026840" cy="4251960"/>
          </a:xfrm>
        </p:grpSpPr>
        <p:sp>
          <p:nvSpPr>
            <p:cNvPr id="182" name="Text Box 2062"/>
            <p:cNvSpPr/>
            <p:nvPr/>
          </p:nvSpPr>
          <p:spPr>
            <a:xfrm>
              <a:off x="6000840" y="4811760"/>
              <a:ext cx="306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peat process using longitude scal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AutoShape 2066"/>
            <p:cNvSpPr/>
            <p:nvPr/>
          </p:nvSpPr>
          <p:spPr>
            <a:xfrm flipV="1" rot="16200000">
              <a:off x="2068920" y="3681360"/>
              <a:ext cx="304920" cy="366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9360 h 366840"/>
                <a:gd name="textAreaBottom" fmla="*/ 3574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AutoShape 2067"/>
            <p:cNvSpPr/>
            <p:nvPr/>
          </p:nvSpPr>
          <p:spPr>
            <a:xfrm rot="5400000">
              <a:off x="2068920" y="1720080"/>
              <a:ext cx="304920" cy="366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9360 h 366840"/>
                <a:gd name="textAreaBottom" fmla="*/ 35748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CDCE-2B96-46B2-A148-F854146565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Group 18"/>
          <p:cNvGrpSpPr/>
          <p:nvPr/>
        </p:nvGrpSpPr>
        <p:grpSpPr>
          <a:xfrm>
            <a:off x="3733920" y="2057400"/>
            <a:ext cx="5079960" cy="4038480"/>
            <a:chOff x="3733920" y="2057400"/>
            <a:chExt cx="5079960" cy="4038480"/>
          </a:xfrm>
        </p:grpSpPr>
        <p:pic>
          <p:nvPicPr>
            <p:cNvPr id="189" name="Picture 4" descr="npo00001f"/>
            <p:cNvPicPr/>
            <p:nvPr/>
          </p:nvPicPr>
          <p:blipFill>
            <a:blip r:embed="rId1"/>
            <a:stretch/>
          </p:blipFill>
          <p:spPr>
            <a:xfrm>
              <a:off x="3733920" y="2057400"/>
              <a:ext cx="5079960" cy="403848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90" name="Oval 7"/>
            <p:cNvSpPr/>
            <p:nvPr/>
          </p:nvSpPr>
          <p:spPr>
            <a:xfrm>
              <a:off x="3962520" y="4952880"/>
              <a:ext cx="990360" cy="728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 Measur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2112480"/>
            <a:ext cx="3166920" cy="94248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L &amp; Lo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zards L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20"/>
          <p:cNvGrpSpPr/>
          <p:nvPr/>
        </p:nvGrpSpPr>
        <p:grpSpPr>
          <a:xfrm>
            <a:off x="533520" y="4465800"/>
            <a:ext cx="4802040" cy="872280"/>
            <a:chOff x="533520" y="4465800"/>
            <a:chExt cx="4802040" cy="872280"/>
          </a:xfrm>
        </p:grpSpPr>
        <p:sp>
          <p:nvSpPr>
            <p:cNvPr id="194" name="Line 15"/>
            <p:cNvSpPr/>
            <p:nvPr/>
          </p:nvSpPr>
          <p:spPr>
            <a:xfrm>
              <a:off x="4606920" y="5333400"/>
              <a:ext cx="728640" cy="4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533520" y="4465800"/>
              <a:ext cx="327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o =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71° 02.0´ 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9"/>
          <p:cNvGrpSpPr/>
          <p:nvPr/>
        </p:nvGrpSpPr>
        <p:grpSpPr>
          <a:xfrm>
            <a:off x="533520" y="2465280"/>
            <a:ext cx="4084560" cy="2871720"/>
            <a:chOff x="533520" y="2465280"/>
            <a:chExt cx="4084560" cy="2871720"/>
          </a:xfrm>
        </p:grpSpPr>
        <p:sp>
          <p:nvSpPr>
            <p:cNvPr id="197" name="Rectangle 14"/>
            <p:cNvSpPr/>
            <p:nvPr/>
          </p:nvSpPr>
          <p:spPr>
            <a:xfrm>
              <a:off x="533520" y="3525840"/>
              <a:ext cx="320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 =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41° 23.8´ 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17"/>
            <p:cNvSpPr/>
            <p:nvPr/>
          </p:nvSpPr>
          <p:spPr>
            <a:xfrm flipH="1">
              <a:off x="4603680" y="2465280"/>
              <a:ext cx="14400" cy="2871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35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18C7-B03F-4F49-963F-B0F4DBD487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scribe Buzzard’s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58360" y="20574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L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, flashing every 2.5 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eab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th of the Wa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 60 ft, rising at light to 37 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other information is provi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is 101ft high, visible for 22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 beacon, frequency of 314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:  Dash followed by three d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npo000021"/>
          <p:cNvPicPr/>
          <p:nvPr/>
        </p:nvPicPr>
        <p:blipFill>
          <a:blip r:embed="rId12"/>
          <a:stretch/>
        </p:blipFill>
        <p:spPr>
          <a:xfrm>
            <a:off x="6858000" y="2133720"/>
            <a:ext cx="1928880" cy="37814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50"/>
                            </p:stCondLst>
                            <p:childTnLst>
                              <p:par>
                                <p:cTn id="5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F165-B27B-495D-B5C2-67E0FEEB78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45960" y="1855440"/>
            <a:ext cx="459288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ss ro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True and Magnetic dir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ose nearest measu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parallel rules or course plo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etermining Direc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0" name="Picture 6" descr="npo000023"/>
          <p:cNvPicPr/>
          <p:nvPr/>
        </p:nvPicPr>
        <p:blipFill>
          <a:blip r:embed="rId5"/>
          <a:stretch/>
        </p:blipFill>
        <p:spPr>
          <a:xfrm>
            <a:off x="4952880" y="1981080"/>
            <a:ext cx="3637080" cy="3702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4148-6335-4C23-9730-F8B73E781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1027" descr="npo000025"/>
          <p:cNvPicPr/>
          <p:nvPr/>
        </p:nvPicPr>
        <p:blipFill>
          <a:blip r:embed="rId1"/>
          <a:stretch/>
        </p:blipFill>
        <p:spPr>
          <a:xfrm>
            <a:off x="4038480" y="1882800"/>
            <a:ext cx="4724640" cy="41576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15" name="Oval 7"/>
          <p:cNvSpPr/>
          <p:nvPr/>
        </p:nvSpPr>
        <p:spPr>
          <a:xfrm>
            <a:off x="5361120" y="5157720"/>
            <a:ext cx="504720" cy="37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etermining Direction Using Parallel Rul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906560"/>
            <a:ext cx="3200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line for expected cou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4776840" y="2071800"/>
            <a:ext cx="5428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5376960" y="3857760"/>
            <a:ext cx="557280" cy="162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H="1">
            <a:off x="4927680" y="2519280"/>
            <a:ext cx="5428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5076720" y="2965320"/>
            <a:ext cx="5428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 flipH="1">
            <a:off x="5227560" y="3411360"/>
            <a:ext cx="5428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762120" y="31003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” parallel rulers to center of compass r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762120" y="47242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rue direction from outer 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35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9" dur="1" fill="hold">
                                    <p:stCondLst>
                                      <p:cond evt="end">
                                        <p:tn val="696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4" dur="1" fill="hold">
                                    <p:stCondLst>
                                      <p:cond evt="end">
                                        <p:tn val="701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6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95BD-9D73-4575-8866-2129EFF8D4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28240" y="187956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direction, R“2” to Buzzards Ligh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line, R“2” to Buzz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direction from Buzzards to R“2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termining Dire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0" name="Picture 4" descr="npo000027"/>
          <p:cNvPicPr/>
          <p:nvPr/>
        </p:nvPicPr>
        <p:blipFill>
          <a:blip r:embed="rId4"/>
          <a:stretch/>
        </p:blipFill>
        <p:spPr>
          <a:xfrm>
            <a:off x="3809880" y="1879560"/>
            <a:ext cx="5079960" cy="38098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31" name="Line 7"/>
          <p:cNvSpPr/>
          <p:nvPr/>
        </p:nvSpPr>
        <p:spPr>
          <a:xfrm flipV="1">
            <a:off x="4676760" y="3556080"/>
            <a:ext cx="326880" cy="1409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45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DDD4-C0C1-47D6-AB1F-A4DEAC76F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asuring Dist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549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2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dividers to transfer distances between objec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distance sc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atitude scale 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stance sc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8" descr="npo000028"/>
          <p:cNvPicPr/>
          <p:nvPr/>
        </p:nvPicPr>
        <p:blipFill>
          <a:blip r:embed="rId3"/>
          <a:stretch/>
        </p:blipFill>
        <p:spPr>
          <a:xfrm>
            <a:off x="5029200" y="2133720"/>
            <a:ext cx="3900600" cy="34210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300"/>
                            </p:stCondLst>
                            <p:childTnLst>
                              <p:par>
                                <p:cTn id="7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asic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Nautical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ED4D-CE14-47BA-B186-FED714422D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nger Dista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2" name="Picture 5" descr="npo000029"/>
          <p:cNvPicPr/>
          <p:nvPr/>
        </p:nvPicPr>
        <p:blipFill>
          <a:blip r:embed="rId1"/>
          <a:stretch/>
        </p:blipFill>
        <p:spPr>
          <a:xfrm>
            <a:off x="2209680" y="2362320"/>
            <a:ext cx="4724640" cy="2676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43" name="Picture 6" descr="npo00002b"/>
          <p:cNvPicPr/>
          <p:nvPr/>
        </p:nvPicPr>
        <p:blipFill>
          <a:blip r:embed="rId2"/>
          <a:stretch/>
        </p:blipFill>
        <p:spPr>
          <a:xfrm>
            <a:off x="2209680" y="2362320"/>
            <a:ext cx="4724640" cy="2676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44" name="Picture 7" descr="npo00002d"/>
          <p:cNvPicPr/>
          <p:nvPr/>
        </p:nvPicPr>
        <p:blipFill>
          <a:blip r:embed="rId3"/>
          <a:stretch/>
        </p:blipFill>
        <p:spPr>
          <a:xfrm>
            <a:off x="2209680" y="2362320"/>
            <a:ext cx="4724640" cy="2676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45" name="Picture 8" descr="npo00002f"/>
          <p:cNvPicPr/>
          <p:nvPr/>
        </p:nvPicPr>
        <p:blipFill>
          <a:blip r:embed="rId4"/>
          <a:stretch/>
        </p:blipFill>
        <p:spPr>
          <a:xfrm>
            <a:off x="2209680" y="2362320"/>
            <a:ext cx="4724640" cy="2676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46" name="Picture 9" descr="npo000031"/>
          <p:cNvPicPr/>
          <p:nvPr/>
        </p:nvPicPr>
        <p:blipFill>
          <a:blip r:embed="rId5"/>
          <a:stretch/>
        </p:blipFill>
        <p:spPr>
          <a:xfrm>
            <a:off x="2209680" y="2362320"/>
            <a:ext cx="4724640" cy="2676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47" name="Picture 10" descr="npo000033"/>
          <p:cNvPicPr/>
          <p:nvPr/>
        </p:nvPicPr>
        <p:blipFill>
          <a:blip r:embed="rId6"/>
          <a:stretch/>
        </p:blipFill>
        <p:spPr>
          <a:xfrm>
            <a:off x="2209680" y="2362320"/>
            <a:ext cx="4724640" cy="2676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48" name="Picture 11" descr="npo000035"/>
          <p:cNvPicPr/>
          <p:nvPr/>
        </p:nvPicPr>
        <p:blipFill>
          <a:blip r:embed="rId7"/>
          <a:stretch/>
        </p:blipFill>
        <p:spPr>
          <a:xfrm>
            <a:off x="2209680" y="2362320"/>
            <a:ext cx="4724640" cy="2676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4201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” dividers to measure large dist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838080" y="5257800"/>
            <a:ext cx="7620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amount “left-over” on distance sc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6A5C-D94A-4637-94FC-68A83D1F5B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olyconic Projection Metho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2080" y="1980720"/>
            <a:ext cx="3949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ion onto series of c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es tangent at different parallels of latitu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es concentric with earth’s ax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conf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ortion negligible for charts used by small boat oper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ts use compass r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13"/>
          <p:cNvGrpSpPr/>
          <p:nvPr/>
        </p:nvGrpSpPr>
        <p:grpSpPr>
          <a:xfrm>
            <a:off x="4800600" y="2133720"/>
            <a:ext cx="4106880" cy="3962160"/>
            <a:chOff x="4800600" y="2133720"/>
            <a:chExt cx="4106880" cy="3962160"/>
          </a:xfrm>
        </p:grpSpPr>
        <p:pic>
          <p:nvPicPr>
            <p:cNvPr id="257" name="Picture 7" descr="npo000037"/>
            <p:cNvPicPr/>
            <p:nvPr/>
          </p:nvPicPr>
          <p:blipFill>
            <a:blip r:embed="rId7"/>
            <a:stretch/>
          </p:blipFill>
          <p:spPr>
            <a:xfrm>
              <a:off x="4800600" y="2133720"/>
              <a:ext cx="4101840" cy="39621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58" name="Text Box 8"/>
            <p:cNvSpPr/>
            <p:nvPr/>
          </p:nvSpPr>
          <p:spPr>
            <a:xfrm>
              <a:off x="6253200" y="3105720"/>
              <a:ext cx="123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entral Meridian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7455960" y="3689280"/>
              <a:ext cx="145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45º Tangent Parall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7455960" y="4153680"/>
              <a:ext cx="145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0º Tangent Parall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7455960" y="4619880"/>
              <a:ext cx="145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5º Tangent Parall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12"/>
            <p:cNvSpPr/>
            <p:nvPr/>
          </p:nvSpPr>
          <p:spPr>
            <a:xfrm>
              <a:off x="6877440" y="3291120"/>
              <a:ext cx="0" cy="296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700"/>
                            </p:stCondLst>
                            <p:childTnLst>
                              <p:par>
                                <p:cTn id="8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60F4-BDC5-480B-AB8F-6ADC7DE41C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olyconic Cha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96880" y="1993680"/>
            <a:ext cx="618480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ortion least at central merid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toward the sid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ch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s appear as slight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ved 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idians converge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ary spot off top of ch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ortions not readily appar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mall scale ch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npo00003a"/>
          <p:cNvPicPr/>
          <p:nvPr/>
        </p:nvPicPr>
        <p:blipFill>
          <a:blip r:embed="rId6"/>
          <a:stretch/>
        </p:blipFill>
        <p:spPr>
          <a:xfrm>
            <a:off x="5870520" y="2590920"/>
            <a:ext cx="3044880" cy="26445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300"/>
                            </p:stCondLst>
                            <p:childTnLst>
                              <p:par>
                                <p:cTn id="8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9E5D-974F-43EA-8040-C5A397D509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ere Polyconic Projections Us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harts for Great Lakes are polyconic proj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s on Great Lakes charts giv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tatute m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029" descr="npo00003c"/>
          <p:cNvPicPr/>
          <p:nvPr/>
        </p:nvPicPr>
        <p:blipFill>
          <a:blip r:embed="rId3"/>
          <a:stretch/>
        </p:blipFill>
        <p:spPr>
          <a:xfrm>
            <a:off x="5105520" y="2814480"/>
            <a:ext cx="3736800" cy="22147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900"/>
                            </p:stCondLst>
                            <p:childTnLst>
                              <p:par>
                                <p:cTn id="9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DB1B-8B30-4773-A3F1-A0B5D8750F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50560"/>
            <a:ext cx="77724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easuring Posi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79" name="Group 20"/>
          <p:cNvGrpSpPr/>
          <p:nvPr/>
        </p:nvGrpSpPr>
        <p:grpSpPr>
          <a:xfrm>
            <a:off x="1828800" y="982800"/>
            <a:ext cx="5943600" cy="5283000"/>
            <a:chOff x="1828800" y="982800"/>
            <a:chExt cx="5943600" cy="5283000"/>
          </a:xfrm>
        </p:grpSpPr>
        <p:pic>
          <p:nvPicPr>
            <p:cNvPr id="280" name="Picture 7" descr="npo00003e"/>
            <p:cNvPicPr/>
            <p:nvPr/>
          </p:nvPicPr>
          <p:blipFill>
            <a:blip r:embed="rId1"/>
            <a:stretch/>
          </p:blipFill>
          <p:spPr>
            <a:xfrm>
              <a:off x="1828800" y="982800"/>
              <a:ext cx="5943600" cy="528300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81" name="Text Box 8"/>
            <p:cNvSpPr/>
            <p:nvPr/>
          </p:nvSpPr>
          <p:spPr>
            <a:xfrm>
              <a:off x="3419280" y="5778360"/>
              <a:ext cx="18799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ITUDE SCA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long Parallel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Text Box 12"/>
            <p:cNvSpPr/>
            <p:nvPr/>
          </p:nvSpPr>
          <p:spPr>
            <a:xfrm rot="10648800">
              <a:off x="6248160" y="2814480"/>
              <a:ext cx="568440" cy="16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TITUDE SCA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long Meridian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6"/>
          <p:cNvGrpSpPr/>
          <p:nvPr/>
        </p:nvGrpSpPr>
        <p:grpSpPr>
          <a:xfrm>
            <a:off x="2892600" y="1143000"/>
            <a:ext cx="3214800" cy="1371600"/>
            <a:chOff x="2892600" y="1143000"/>
            <a:chExt cx="3214800" cy="1371600"/>
          </a:xfrm>
        </p:grpSpPr>
        <p:sp>
          <p:nvSpPr>
            <p:cNvPr id="284" name="Text Box 11"/>
            <p:cNvSpPr/>
            <p:nvPr/>
          </p:nvSpPr>
          <p:spPr>
            <a:xfrm>
              <a:off x="3360240" y="1143000"/>
              <a:ext cx="2747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lot meridian from upp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o scale to lower Lo scal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4"/>
            <p:cNvSpPr/>
            <p:nvPr/>
          </p:nvSpPr>
          <p:spPr>
            <a:xfrm>
              <a:off x="2892600" y="1295280"/>
              <a:ext cx="1298520" cy="1219320"/>
            </a:xfrm>
            <a:custGeom>
              <a:avLst/>
              <a:gdLst>
                <a:gd name="textAreaLeft" fmla="*/ 0 w 1298520"/>
                <a:gd name="textAreaRight" fmla="*/ 1298520 w 1298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818" h="768">
                  <a:moveTo>
                    <a:pt x="338" y="0"/>
                  </a:moveTo>
                  <a:cubicBezTo>
                    <a:pt x="295" y="38"/>
                    <a:pt x="0" y="98"/>
                    <a:pt x="80" y="226"/>
                  </a:cubicBezTo>
                  <a:cubicBezTo>
                    <a:pt x="160" y="354"/>
                    <a:pt x="664" y="655"/>
                    <a:pt x="818" y="76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Group 17"/>
          <p:cNvGrpSpPr/>
          <p:nvPr/>
        </p:nvGrpSpPr>
        <p:grpSpPr>
          <a:xfrm>
            <a:off x="3770280" y="3200400"/>
            <a:ext cx="2238480" cy="998640"/>
            <a:chOff x="3770280" y="3200400"/>
            <a:chExt cx="2238480" cy="998640"/>
          </a:xfrm>
        </p:grpSpPr>
        <p:sp>
          <p:nvSpPr>
            <p:cNvPr id="287" name="Text Box 10"/>
            <p:cNvSpPr/>
            <p:nvPr/>
          </p:nvSpPr>
          <p:spPr>
            <a:xfrm>
              <a:off x="4197240" y="3200400"/>
              <a:ext cx="1811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easure L 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dividers alo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lotted meridian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3770280" y="3276720"/>
              <a:ext cx="423720" cy="9223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267" h="581">
                  <a:moveTo>
                    <a:pt x="267" y="0"/>
                  </a:moveTo>
                  <a:cubicBezTo>
                    <a:pt x="224" y="38"/>
                    <a:pt x="18" y="129"/>
                    <a:pt x="9" y="226"/>
                  </a:cubicBezTo>
                  <a:cubicBezTo>
                    <a:pt x="0" y="323"/>
                    <a:pt x="171" y="507"/>
                    <a:pt x="214" y="5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9C27-33DE-441C-8922-7848EF1EA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3" descr="npo000040"/>
          <p:cNvPicPr/>
          <p:nvPr/>
        </p:nvPicPr>
        <p:blipFill>
          <a:blip r:embed="rId1"/>
          <a:stretch/>
        </p:blipFill>
        <p:spPr>
          <a:xfrm>
            <a:off x="1174680" y="1936800"/>
            <a:ext cx="6813720" cy="4235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rcator &amp; Polyconic Contrast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F593-9225-418D-8723-DF33F3C912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rcator &amp; Polyconic Contrast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8" name="Picture 7" descr="npo000041"/>
          <p:cNvPicPr/>
          <p:nvPr/>
        </p:nvPicPr>
        <p:blipFill>
          <a:blip r:embed="rId1"/>
          <a:stretch/>
        </p:blipFill>
        <p:spPr>
          <a:xfrm>
            <a:off x="933480" y="1909800"/>
            <a:ext cx="7219800" cy="4567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D7A2-0C9F-4D98-B685-0F1FC1B2F6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cale of a Cha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distance units on earth’s surface represented by same distance unit on a ch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nch on a chart is equal to 2,500 inches on earth’s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writte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:2,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C43A-65DA-4620-8F53-EA535711DD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rge” vs “Small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ratio,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r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sc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scale charts sh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area, more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:2,5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onsidered large-sc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scale charts sh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area, less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:5,00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onsidered small-sc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0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63C-D3EF-42C6-AE96-241BF20405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722160" y="609480"/>
            <a:ext cx="386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Us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Large Scale Chart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o Show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aximum De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468360" y="3819600"/>
            <a:ext cx="8142120" cy="2396160"/>
            <a:chOff x="468360" y="3819600"/>
            <a:chExt cx="8142120" cy="2396160"/>
          </a:xfrm>
        </p:grpSpPr>
        <p:pic>
          <p:nvPicPr>
            <p:cNvPr id="314" name="Picture 7" descr="npo000044"/>
            <p:cNvPicPr/>
            <p:nvPr/>
          </p:nvPicPr>
          <p:blipFill>
            <a:blip r:embed="rId1"/>
            <a:stretch/>
          </p:blipFill>
          <p:spPr>
            <a:xfrm>
              <a:off x="468360" y="3819600"/>
              <a:ext cx="8142120" cy="211284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315" name="Rectangle 8"/>
            <p:cNvSpPr/>
            <p:nvPr/>
          </p:nvSpPr>
          <p:spPr>
            <a:xfrm>
              <a:off x="643320" y="5972040"/>
              <a:ext cx="782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pproach to Woods Hole can be tricky, with strong currents.  Use more detailed charts!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6" name="Picture 11" descr="npo000046"/>
          <p:cNvPicPr/>
          <p:nvPr/>
        </p:nvPicPr>
        <p:blipFill>
          <a:blip r:embed="rId2"/>
          <a:stretch/>
        </p:blipFill>
        <p:spPr>
          <a:xfrm>
            <a:off x="5181480" y="609480"/>
            <a:ext cx="3683160" cy="29084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A760-7872-4605-B78C-39462E601E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npo00000d"/>
          <p:cNvPicPr/>
          <p:nvPr/>
        </p:nvPicPr>
        <p:blipFill>
          <a:blip r:embed="rId1"/>
          <a:stretch/>
        </p:blipFill>
        <p:spPr>
          <a:xfrm>
            <a:off x="4952880" y="3638520"/>
            <a:ext cx="3581640" cy="26877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We’ll Cov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ion of ch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nautical ch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nautical charts to determi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5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9993-2D0E-481C-9058-328C3D7D90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Marine Cha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ling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 - 1:600,000 and smal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off-shore, outside of coastal are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between distant coastal 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 – 1:150,000 to 1:600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for off-shore but within coastal zon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side of outlying reefs and sh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EDB-ED8D-4836-8594-7D903F53E4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Marine Cha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st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 - 1:40,000 to 1:150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for in-shore navigation of bays and harbors of considerable width and for large inland waterways and coastal pass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bor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 – Larger than 1:40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harbors, anchorages are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mall water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4DF6-1892-435D-BF4C-AD8B9AE6CA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mall Craft Cha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- 1:40,000 and lar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e type chart of inland wa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ator projection i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may not be at top - made to fit the expanse of water on the ch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information of intere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mall boat ope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C84C-E8BC-49F8-9DA0-29B9A39370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rt Classification 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36" name="Picture 5" descr="npo000047"/>
          <p:cNvPicPr/>
          <p:nvPr/>
        </p:nvPicPr>
        <p:blipFill>
          <a:blip r:embed="rId1"/>
          <a:stretch/>
        </p:blipFill>
        <p:spPr>
          <a:xfrm>
            <a:off x="2138400" y="1752480"/>
            <a:ext cx="5307120" cy="44481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12C7-8075-4E4C-9744-69EB3242B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ree Choice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int Judith Harb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bor Chart scale is 1:15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left is 1:80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right from Coast Ch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026" descr="npo00004a"/>
          <p:cNvPicPr/>
          <p:nvPr/>
        </p:nvPicPr>
        <p:blipFill>
          <a:blip r:embed="rId4"/>
          <a:stretch/>
        </p:blipFill>
        <p:spPr>
          <a:xfrm>
            <a:off x="2981160" y="1981080"/>
            <a:ext cx="6010560" cy="41148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43" name="Rectangle 1030"/>
          <p:cNvSpPr/>
          <p:nvPr/>
        </p:nvSpPr>
        <p:spPr>
          <a:xfrm>
            <a:off x="2971800" y="1962000"/>
            <a:ext cx="2022480" cy="17035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1031"/>
          <p:cNvSpPr/>
          <p:nvPr/>
        </p:nvSpPr>
        <p:spPr>
          <a:xfrm>
            <a:off x="6578640" y="1965240"/>
            <a:ext cx="1536840" cy="15019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0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2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4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77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6" dur="770" fill="hold"/>
                                        <p:tgtEl>
                                          <p:spTgt spid="3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8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0" dur="77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713F-AD51-4763-A9C2-7C250F8788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2" descr="npo00004c"/>
          <p:cNvPicPr/>
          <p:nvPr/>
        </p:nvPicPr>
        <p:blipFill>
          <a:blip r:embed="rId1"/>
          <a:stretch/>
        </p:blipFill>
        <p:spPr>
          <a:xfrm>
            <a:off x="2666880" y="1811160"/>
            <a:ext cx="6248520" cy="4478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itle Blo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04920" y="2071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304920" y="28130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304920" y="35542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04920" y="4724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16"/>
          <p:cNvGrpSpPr/>
          <p:nvPr/>
        </p:nvGrpSpPr>
        <p:grpSpPr>
          <a:xfrm>
            <a:off x="2133720" y="2362320"/>
            <a:ext cx="3689280" cy="652320"/>
            <a:chOff x="2133720" y="2362320"/>
            <a:chExt cx="3689280" cy="652320"/>
          </a:xfrm>
        </p:grpSpPr>
        <p:sp>
          <p:nvSpPr>
            <p:cNvPr id="355" name="Rectangle 8"/>
            <p:cNvSpPr/>
            <p:nvPr/>
          </p:nvSpPr>
          <p:spPr>
            <a:xfrm>
              <a:off x="3498840" y="2567160"/>
              <a:ext cx="2324160" cy="447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Line 12"/>
            <p:cNvSpPr/>
            <p:nvPr/>
          </p:nvSpPr>
          <p:spPr>
            <a:xfrm>
              <a:off x="2133720" y="2362320"/>
              <a:ext cx="1371600" cy="199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Group 17"/>
          <p:cNvGrpSpPr/>
          <p:nvPr/>
        </p:nvGrpSpPr>
        <p:grpSpPr>
          <a:xfrm>
            <a:off x="1471680" y="3105000"/>
            <a:ext cx="4605120" cy="1452600"/>
            <a:chOff x="1471680" y="3105000"/>
            <a:chExt cx="4605120" cy="1452600"/>
          </a:xfrm>
        </p:grpSpPr>
        <p:sp>
          <p:nvSpPr>
            <p:cNvPr id="358" name="Rectangle 9"/>
            <p:cNvSpPr/>
            <p:nvPr/>
          </p:nvSpPr>
          <p:spPr>
            <a:xfrm>
              <a:off x="3243240" y="3105000"/>
              <a:ext cx="2833560" cy="1452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1471680" y="3105000"/>
              <a:ext cx="1752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18"/>
          <p:cNvGrpSpPr/>
          <p:nvPr/>
        </p:nvGrpSpPr>
        <p:grpSpPr>
          <a:xfrm>
            <a:off x="1976400" y="4276800"/>
            <a:ext cx="3379680" cy="676080"/>
            <a:chOff x="1976400" y="4276800"/>
            <a:chExt cx="3379680" cy="676080"/>
          </a:xfrm>
        </p:grpSpPr>
        <p:sp>
          <p:nvSpPr>
            <p:cNvPr id="361" name="Rectangle 10"/>
            <p:cNvSpPr/>
            <p:nvPr/>
          </p:nvSpPr>
          <p:spPr>
            <a:xfrm>
              <a:off x="3965400" y="4710240"/>
              <a:ext cx="1390680" cy="2426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1976400" y="4276800"/>
              <a:ext cx="1990800" cy="44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Group 19"/>
          <p:cNvGrpSpPr/>
          <p:nvPr/>
        </p:nvGrpSpPr>
        <p:grpSpPr>
          <a:xfrm>
            <a:off x="1862280" y="5014800"/>
            <a:ext cx="3423960" cy="281160"/>
            <a:chOff x="1862280" y="5014800"/>
            <a:chExt cx="3423960" cy="281160"/>
          </a:xfrm>
        </p:grpSpPr>
        <p:sp>
          <p:nvSpPr>
            <p:cNvPr id="364" name="Rectangle 11"/>
            <p:cNvSpPr/>
            <p:nvPr/>
          </p:nvSpPr>
          <p:spPr>
            <a:xfrm>
              <a:off x="4033800" y="5029200"/>
              <a:ext cx="1252440" cy="2667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Line 15"/>
            <p:cNvSpPr/>
            <p:nvPr/>
          </p:nvSpPr>
          <p:spPr>
            <a:xfrm>
              <a:off x="1862280" y="5014800"/>
              <a:ext cx="2171520" cy="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8291-202D-4035-9A25-06B24569F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071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to Nav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s (Color &amp; Tim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eline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91160" y="1905120"/>
            <a:ext cx="4224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ge Clear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igational haz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title"/>
          </p:nvPr>
        </p:nvSpPr>
        <p:spPr>
          <a:xfrm>
            <a:off x="1141200" y="250920"/>
            <a:ext cx="69642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ormation Foun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 Nautical Cha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EC84-D332-458F-ADB0-42E032DC2A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10"/>
          <p:cNvGrpSpPr/>
          <p:nvPr/>
        </p:nvGrpSpPr>
        <p:grpSpPr>
          <a:xfrm>
            <a:off x="7415280" y="1082520"/>
            <a:ext cx="1258920" cy="2651760"/>
            <a:chOff x="7415280" y="1082520"/>
            <a:chExt cx="1258920" cy="2651760"/>
          </a:xfrm>
        </p:grpSpPr>
        <p:pic>
          <p:nvPicPr>
            <p:cNvPr id="376" name="Picture 8" descr="npo00004e"/>
            <p:cNvPicPr/>
            <p:nvPr/>
          </p:nvPicPr>
          <p:blipFill>
            <a:blip r:embed="rId1"/>
            <a:stretch/>
          </p:blipFill>
          <p:spPr>
            <a:xfrm>
              <a:off x="7415280" y="1082520"/>
              <a:ext cx="1258920" cy="23367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377" name="Rectangle 9"/>
            <p:cNvSpPr/>
            <p:nvPr/>
          </p:nvSpPr>
          <p:spPr>
            <a:xfrm>
              <a:off x="7425000" y="3520800"/>
              <a:ext cx="124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y Head Lig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tu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5038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 line or plane from which measurements are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um for water depth is impor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 coast has two tides very simi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st coast has two tides of uneven dep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is mean lower low water (MLL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ndard was mean low water (ML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700"/>
                            </p:stCondLst>
                            <p:childTnLst>
                              <p:par>
                                <p:cTn id="14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A3E2-ED56-41DA-B095-E28300106D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w Wat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680" y="1727280"/>
            <a:ext cx="8076960" cy="292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means an average of all dep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LLW is intended to be conserv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time you will have greater depth - BUT NOT AL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13"/>
          <p:cNvGrpSpPr/>
          <p:nvPr/>
        </p:nvGrpSpPr>
        <p:grpSpPr>
          <a:xfrm>
            <a:off x="6477120" y="3992400"/>
            <a:ext cx="2262240" cy="2485440"/>
            <a:chOff x="6477120" y="3992400"/>
            <a:chExt cx="2262240" cy="2485440"/>
          </a:xfrm>
        </p:grpSpPr>
        <p:pic>
          <p:nvPicPr>
            <p:cNvPr id="386" name="Picture 10" descr="npo000050"/>
            <p:cNvPicPr/>
            <p:nvPr/>
          </p:nvPicPr>
          <p:blipFill>
            <a:blip r:embed="rId4"/>
            <a:stretch/>
          </p:blipFill>
          <p:spPr>
            <a:xfrm>
              <a:off x="6477120" y="3992400"/>
              <a:ext cx="2262240" cy="220212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387" name="Rectangle 11"/>
            <p:cNvSpPr/>
            <p:nvPr/>
          </p:nvSpPr>
          <p:spPr>
            <a:xfrm>
              <a:off x="6857280" y="6264360"/>
              <a:ext cx="150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obska Point Lig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0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850"/>
                            </p:stCondLst>
                            <p:childTnLst>
                              <p:par>
                                <p:cTn id="14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65EC-AE6E-4026-8BA2-5ACACAE30A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th Contou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933560"/>
            <a:ext cx="609624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 points of equal depth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34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.e. 30 ft - 60 ft - 90 ft – et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34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ile the bottom sha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s or color cod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depth.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th is given in fee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oms or 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34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fathom = 6 fee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 also indicat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of the bottom. </a:t>
            </a:r>
            <a:r>
              <a:rPr b="1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16"/>
          <p:cNvGrpSpPr/>
          <p:nvPr/>
        </p:nvGrpSpPr>
        <p:grpSpPr>
          <a:xfrm>
            <a:off x="6629400" y="2133720"/>
            <a:ext cx="2284560" cy="3657600"/>
            <a:chOff x="6629400" y="2133720"/>
            <a:chExt cx="2284560" cy="3657600"/>
          </a:xfrm>
        </p:grpSpPr>
        <p:pic>
          <p:nvPicPr>
            <p:cNvPr id="394" name="Picture 9" descr="npo000052"/>
            <p:cNvPicPr/>
            <p:nvPr/>
          </p:nvPicPr>
          <p:blipFill>
            <a:blip r:embed="rId8"/>
            <a:stretch/>
          </p:blipFill>
          <p:spPr>
            <a:xfrm>
              <a:off x="6629400" y="2133720"/>
              <a:ext cx="2284560" cy="365760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395" name="Rectangle 10"/>
            <p:cNvSpPr/>
            <p:nvPr/>
          </p:nvSpPr>
          <p:spPr>
            <a:xfrm>
              <a:off x="6892200" y="3629160"/>
              <a:ext cx="28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6742800" y="3238560"/>
              <a:ext cx="28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cc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6879600" y="2816280"/>
              <a:ext cx="28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cc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7349400" y="2692440"/>
              <a:ext cx="28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Rectangle 15"/>
            <p:cNvSpPr/>
            <p:nvPr/>
          </p:nvSpPr>
          <p:spPr>
            <a:xfrm>
              <a:off x="8238240" y="3137040"/>
              <a:ext cx="28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100"/>
                            </p:stCondLst>
                            <p:childTnLst>
                              <p:par>
                                <p:cTn id="1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8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8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0D83-7165-467B-9C23-FFF06C6D1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5520" y="250920"/>
            <a:ext cx="598176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truction of Nautical Cha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ing a spherical surfa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 flat surface diffic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some distortion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pe or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npo00000f"/>
          <p:cNvPicPr/>
          <p:nvPr/>
        </p:nvPicPr>
        <p:blipFill>
          <a:blip r:embed="rId6"/>
          <a:stretch/>
        </p:blipFill>
        <p:spPr>
          <a:xfrm>
            <a:off x="5410080" y="3670200"/>
            <a:ext cx="3256200" cy="26542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5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92F5-B2A4-4D0E-8346-FBD19773C9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ndmark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881360"/>
            <a:ext cx="632484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circle with dot in cen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otes accurately located landma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n in “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L CAPITAL LETT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circles without dot in cen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ote landmarks not accurately loc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n on chart in “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itial Capital Lett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10"/>
          <p:cNvGrpSpPr/>
          <p:nvPr/>
        </p:nvGrpSpPr>
        <p:grpSpPr>
          <a:xfrm>
            <a:off x="7086600" y="3429000"/>
            <a:ext cx="1568160" cy="2956680"/>
            <a:chOff x="7086600" y="3429000"/>
            <a:chExt cx="1568160" cy="2956680"/>
          </a:xfrm>
        </p:grpSpPr>
        <p:pic>
          <p:nvPicPr>
            <p:cNvPr id="406" name="Picture 8" descr="npo000054"/>
            <p:cNvPicPr/>
            <p:nvPr/>
          </p:nvPicPr>
          <p:blipFill>
            <a:blip r:embed="rId7"/>
            <a:stretch/>
          </p:blipFill>
          <p:spPr>
            <a:xfrm>
              <a:off x="7086600" y="3429000"/>
              <a:ext cx="1568160" cy="267984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407" name="Rectangle 9"/>
            <p:cNvSpPr/>
            <p:nvPr/>
          </p:nvSpPr>
          <p:spPr>
            <a:xfrm>
              <a:off x="7286760" y="6172200"/>
              <a:ext cx="116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ilmark Spi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8" name="Picture 11" descr="npo000056"/>
          <p:cNvPicPr/>
          <p:nvPr/>
        </p:nvPicPr>
        <p:blipFill>
          <a:blip r:embed="rId8"/>
          <a:stretch/>
        </p:blipFill>
        <p:spPr>
          <a:xfrm>
            <a:off x="6918480" y="1279440"/>
            <a:ext cx="1920600" cy="2073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409" name="Oval 12"/>
          <p:cNvSpPr/>
          <p:nvPr/>
        </p:nvSpPr>
        <p:spPr>
          <a:xfrm>
            <a:off x="7772400" y="1981080"/>
            <a:ext cx="60948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9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900"/>
                            </p:stCondLst>
                            <p:childTnLst>
                              <p:par>
                                <p:cTn id="1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2900"/>
                            </p:stCondLst>
                            <p:childTnLst>
                              <p:par>
                                <p:cTn id="15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F1AC-7897-491E-AF72-C57CD0B1C5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16" descr="npo000058"/>
          <p:cNvPicPr/>
          <p:nvPr/>
        </p:nvPicPr>
        <p:blipFill>
          <a:blip r:embed="rId1"/>
          <a:stretch/>
        </p:blipFill>
        <p:spPr>
          <a:xfrm>
            <a:off x="685800" y="2668680"/>
            <a:ext cx="3505320" cy="27162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bject Dete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228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on charts may not be visible in all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6120" y="3657240"/>
            <a:ext cx="42289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ked by other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y vi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e 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7"/>
          <p:cNvGrpSpPr/>
          <p:nvPr/>
        </p:nvGrpSpPr>
        <p:grpSpPr>
          <a:xfrm>
            <a:off x="4724280" y="1900080"/>
            <a:ext cx="4038480" cy="1758240"/>
            <a:chOff x="4724280" y="1900080"/>
            <a:chExt cx="4038480" cy="1758240"/>
          </a:xfrm>
        </p:grpSpPr>
        <p:pic>
          <p:nvPicPr>
            <p:cNvPr id="418" name="Picture 11" descr="npo00005a"/>
            <p:cNvPicPr/>
            <p:nvPr/>
          </p:nvPicPr>
          <p:blipFill>
            <a:blip r:embed="rId7"/>
            <a:stretch/>
          </p:blipFill>
          <p:spPr>
            <a:xfrm>
              <a:off x="4724280" y="1900080"/>
              <a:ext cx="4038480" cy="150804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419" name="Rectangle 12"/>
            <p:cNvSpPr/>
            <p:nvPr/>
          </p:nvSpPr>
          <p:spPr>
            <a:xfrm>
              <a:off x="4817880" y="3444840"/>
              <a:ext cx="385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y Head Light is masked from some direc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Oval 18"/>
          <p:cNvSpPr/>
          <p:nvPr/>
        </p:nvSpPr>
        <p:spPr>
          <a:xfrm>
            <a:off x="1905120" y="3581280"/>
            <a:ext cx="13716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0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500"/>
                            </p:stCondLst>
                            <p:childTnLst>
                              <p:par>
                                <p:cTn id="16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6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E98F-994C-4332-BA8E-B0780740E4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773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cal Notices to Marin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3160440"/>
            <a:ext cx="8305920" cy="292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ed by each Coast Guard Distri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minate information important to nav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updates to AT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emporary chan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edging, marine construction, whale migration, bridge construction, buoys, special activiti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1531800" y="1600200"/>
            <a:ext cx="6088320" cy="1212120"/>
            <a:chOff x="1531800" y="1600200"/>
            <a:chExt cx="6088320" cy="1212120"/>
          </a:xfrm>
        </p:grpSpPr>
        <p:pic>
          <p:nvPicPr>
            <p:cNvPr id="427" name="Picture 8" descr="npo00005c"/>
            <p:cNvPicPr/>
            <p:nvPr/>
          </p:nvPicPr>
          <p:blipFill>
            <a:blip r:embed="rId6"/>
            <a:stretch/>
          </p:blipFill>
          <p:spPr>
            <a:xfrm>
              <a:off x="1531800" y="1600200"/>
              <a:ext cx="6088320" cy="86184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428" name="Rectangle 9"/>
            <p:cNvSpPr/>
            <p:nvPr/>
          </p:nvSpPr>
          <p:spPr>
            <a:xfrm>
              <a:off x="1652040" y="2446200"/>
              <a:ext cx="584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 the web at: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www.navcen.uscg.gov/lnm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550"/>
                            </p:stCondLst>
                            <p:childTnLst>
                              <p:par>
                                <p:cTn id="16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9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145A-2C8D-473E-8E79-6F22CB1ED0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HT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DI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EWED BEFORE SA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Four R’s for Cha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0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7D07-8739-4EE3-A2CB-1E1BEDDA4A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Chapter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8" name="Picture 7" descr="eagle"/>
          <p:cNvPicPr/>
          <p:nvPr/>
        </p:nvPicPr>
        <p:blipFill>
          <a:blip r:embed="rId1"/>
          <a:stretch/>
        </p:blipFill>
        <p:spPr>
          <a:xfrm>
            <a:off x="1400040" y="2620800"/>
            <a:ext cx="634392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6398-F8E4-43E9-B093-879A95C6DA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ing Go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Picture 10" descr="npo000012"/>
          <p:cNvPicPr/>
          <p:nvPr/>
        </p:nvPicPr>
        <p:blipFill>
          <a:blip r:embed="rId1"/>
          <a:stretch/>
        </p:blipFill>
        <p:spPr>
          <a:xfrm>
            <a:off x="1981080" y="1523880"/>
            <a:ext cx="5639040" cy="2246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4199040"/>
            <a:ext cx="861048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 map cut and bent to spherical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ing direction or distance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“projections” to make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5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096A-AEEE-410A-BAF1-61FCDE7700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1"/>
          <a:stretch/>
        </p:blipFill>
        <p:spPr>
          <a:xfrm>
            <a:off x="6400800" y="2984400"/>
            <a:ext cx="2514600" cy="1924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rt Projection Goa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4800" y="1905120"/>
            <a:ext cx="8082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and minimize distor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representation that preser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pe and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ular relationships (conform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spcBef>
                <a:spcPts val="300"/>
              </a:spcBef>
              <a:buNone/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spcBef>
                <a:spcPts val="799"/>
              </a:spcBef>
              <a:buNone/>
              <a:tabLst>
                <a:tab algn="l" pos="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rojection methods have limi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45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FDAC-C56F-4C76-BD9B-D0BEF22481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ny Projection Metho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Interest to Mariner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ercato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olyc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Method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imuthal-Equidis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l-P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e Homolos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bert Azimuthal Equal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bert Conform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er Cylindr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lwe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thograph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 Stereograph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 Gnom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ins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C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usoid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n der Grin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22"/>
          <p:cNvGrpSpPr/>
          <p:nvPr/>
        </p:nvGrpSpPr>
        <p:grpSpPr>
          <a:xfrm>
            <a:off x="7467480" y="1371600"/>
            <a:ext cx="1218960" cy="2209680"/>
            <a:chOff x="7467480" y="1371600"/>
            <a:chExt cx="1218960" cy="2209680"/>
          </a:xfrm>
        </p:grpSpPr>
        <p:grpSp>
          <p:nvGrpSpPr>
            <p:cNvPr id="125" name="Group 12"/>
            <p:cNvGrpSpPr/>
            <p:nvPr/>
          </p:nvGrpSpPr>
          <p:grpSpPr>
            <a:xfrm>
              <a:off x="7467480" y="1541520"/>
              <a:ext cx="1218960" cy="2039760"/>
              <a:chOff x="7467480" y="1541520"/>
              <a:chExt cx="1218960" cy="2039760"/>
            </a:xfrm>
          </p:grpSpPr>
          <p:sp>
            <p:nvSpPr>
              <p:cNvPr id="126" name="Freeform 13"/>
              <p:cNvSpPr/>
              <p:nvPr/>
            </p:nvSpPr>
            <p:spPr>
              <a:xfrm>
                <a:off x="7856280" y="1654920"/>
                <a:ext cx="477360" cy="44532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45320"/>
                  <a:gd name="textAreaBottom" fmla="*/ 445680 h 445320"/>
                </a:gdLst>
                <a:ahLst/>
                <a:rect l="textAreaLeft" t="textAreaTop" r="textAreaRight" b="textAreaBottom"/>
                <a:pathLst>
                  <a:path w="691" h="706">
                    <a:moveTo>
                      <a:pt x="360" y="163"/>
                    </a:moveTo>
                    <a:lnTo>
                      <a:pt x="299" y="91"/>
                    </a:lnTo>
                    <a:lnTo>
                      <a:pt x="215" y="37"/>
                    </a:lnTo>
                    <a:lnTo>
                      <a:pt x="139" y="0"/>
                    </a:lnTo>
                    <a:lnTo>
                      <a:pt x="79" y="10"/>
                    </a:lnTo>
                    <a:lnTo>
                      <a:pt x="35" y="51"/>
                    </a:lnTo>
                    <a:lnTo>
                      <a:pt x="0" y="173"/>
                    </a:lnTo>
                    <a:lnTo>
                      <a:pt x="14" y="314"/>
                    </a:lnTo>
                    <a:lnTo>
                      <a:pt x="50" y="449"/>
                    </a:lnTo>
                    <a:lnTo>
                      <a:pt x="89" y="553"/>
                    </a:lnTo>
                    <a:lnTo>
                      <a:pt x="165" y="662"/>
                    </a:lnTo>
                    <a:lnTo>
                      <a:pt x="230" y="706"/>
                    </a:lnTo>
                    <a:lnTo>
                      <a:pt x="319" y="706"/>
                    </a:lnTo>
                    <a:lnTo>
                      <a:pt x="410" y="676"/>
                    </a:lnTo>
                    <a:lnTo>
                      <a:pt x="455" y="598"/>
                    </a:lnTo>
                    <a:lnTo>
                      <a:pt x="479" y="499"/>
                    </a:lnTo>
                    <a:lnTo>
                      <a:pt x="470" y="376"/>
                    </a:lnTo>
                    <a:lnTo>
                      <a:pt x="680" y="390"/>
                    </a:lnTo>
                    <a:lnTo>
                      <a:pt x="691" y="336"/>
                    </a:lnTo>
                    <a:lnTo>
                      <a:pt x="450" y="314"/>
                    </a:lnTo>
                    <a:lnTo>
                      <a:pt x="390" y="187"/>
                    </a:lnTo>
                    <a:lnTo>
                      <a:pt x="360" y="16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14"/>
              <p:cNvSpPr/>
              <p:nvPr/>
            </p:nvSpPr>
            <p:spPr>
              <a:xfrm>
                <a:off x="7467480" y="1541520"/>
                <a:ext cx="549360" cy="71424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14240"/>
                  <a:gd name="textAreaBottom" fmla="*/ 714600 h 714240"/>
                </a:gdLst>
                <a:ahLst/>
                <a:rect l="textAreaLeft" t="textAreaTop" r="textAreaRight" b="textAreaBottom"/>
                <a:pathLst>
                  <a:path w="795" h="1132">
                    <a:moveTo>
                      <a:pt x="464" y="27"/>
                    </a:moveTo>
                    <a:lnTo>
                      <a:pt x="564" y="0"/>
                    </a:lnTo>
                    <a:lnTo>
                      <a:pt x="644" y="5"/>
                    </a:lnTo>
                    <a:lnTo>
                      <a:pt x="704" y="45"/>
                    </a:lnTo>
                    <a:lnTo>
                      <a:pt x="745" y="109"/>
                    </a:lnTo>
                    <a:lnTo>
                      <a:pt x="730" y="176"/>
                    </a:lnTo>
                    <a:lnTo>
                      <a:pt x="674" y="176"/>
                    </a:lnTo>
                    <a:lnTo>
                      <a:pt x="689" y="122"/>
                    </a:lnTo>
                    <a:lnTo>
                      <a:pt x="644" y="73"/>
                    </a:lnTo>
                    <a:lnTo>
                      <a:pt x="600" y="55"/>
                    </a:lnTo>
                    <a:lnTo>
                      <a:pt x="524" y="73"/>
                    </a:lnTo>
                    <a:lnTo>
                      <a:pt x="555" y="127"/>
                    </a:lnTo>
                    <a:lnTo>
                      <a:pt x="564" y="176"/>
                    </a:lnTo>
                    <a:lnTo>
                      <a:pt x="555" y="218"/>
                    </a:lnTo>
                    <a:lnTo>
                      <a:pt x="479" y="236"/>
                    </a:lnTo>
                    <a:lnTo>
                      <a:pt x="399" y="222"/>
                    </a:lnTo>
                    <a:lnTo>
                      <a:pt x="384" y="190"/>
                    </a:lnTo>
                    <a:lnTo>
                      <a:pt x="299" y="276"/>
                    </a:lnTo>
                    <a:lnTo>
                      <a:pt x="249" y="371"/>
                    </a:lnTo>
                    <a:lnTo>
                      <a:pt x="180" y="493"/>
                    </a:lnTo>
                    <a:lnTo>
                      <a:pt x="135" y="602"/>
                    </a:lnTo>
                    <a:lnTo>
                      <a:pt x="115" y="706"/>
                    </a:lnTo>
                    <a:lnTo>
                      <a:pt x="130" y="761"/>
                    </a:lnTo>
                    <a:lnTo>
                      <a:pt x="210" y="829"/>
                    </a:lnTo>
                    <a:lnTo>
                      <a:pt x="375" y="887"/>
                    </a:lnTo>
                    <a:lnTo>
                      <a:pt x="464" y="914"/>
                    </a:lnTo>
                    <a:lnTo>
                      <a:pt x="555" y="928"/>
                    </a:lnTo>
                    <a:lnTo>
                      <a:pt x="689" y="978"/>
                    </a:lnTo>
                    <a:lnTo>
                      <a:pt x="789" y="1010"/>
                    </a:lnTo>
                    <a:lnTo>
                      <a:pt x="795" y="1072"/>
                    </a:lnTo>
                    <a:lnTo>
                      <a:pt x="745" y="1118"/>
                    </a:lnTo>
                    <a:lnTo>
                      <a:pt x="685" y="1132"/>
                    </a:lnTo>
                    <a:lnTo>
                      <a:pt x="594" y="1091"/>
                    </a:lnTo>
                    <a:lnTo>
                      <a:pt x="384" y="992"/>
                    </a:lnTo>
                    <a:lnTo>
                      <a:pt x="210" y="923"/>
                    </a:lnTo>
                    <a:lnTo>
                      <a:pt x="89" y="847"/>
                    </a:lnTo>
                    <a:lnTo>
                      <a:pt x="9" y="779"/>
                    </a:lnTo>
                    <a:lnTo>
                      <a:pt x="0" y="697"/>
                    </a:lnTo>
                    <a:lnTo>
                      <a:pt x="44" y="588"/>
                    </a:lnTo>
                    <a:lnTo>
                      <a:pt x="135" y="425"/>
                    </a:lnTo>
                    <a:lnTo>
                      <a:pt x="219" y="290"/>
                    </a:lnTo>
                    <a:lnTo>
                      <a:pt x="325" y="149"/>
                    </a:lnTo>
                    <a:lnTo>
                      <a:pt x="405" y="67"/>
                    </a:lnTo>
                    <a:lnTo>
                      <a:pt x="505" y="27"/>
                    </a:lnTo>
                    <a:lnTo>
                      <a:pt x="464" y="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15"/>
              <p:cNvSpPr/>
              <p:nvPr/>
            </p:nvSpPr>
            <p:spPr>
              <a:xfrm>
                <a:off x="7984800" y="2133360"/>
                <a:ext cx="288000" cy="67032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415" h="1062">
                    <a:moveTo>
                      <a:pt x="25" y="82"/>
                    </a:moveTo>
                    <a:lnTo>
                      <a:pt x="40" y="28"/>
                    </a:lnTo>
                    <a:lnTo>
                      <a:pt x="105" y="0"/>
                    </a:lnTo>
                    <a:lnTo>
                      <a:pt x="164" y="0"/>
                    </a:lnTo>
                    <a:lnTo>
                      <a:pt x="240" y="40"/>
                    </a:lnTo>
                    <a:lnTo>
                      <a:pt x="311" y="136"/>
                    </a:lnTo>
                    <a:lnTo>
                      <a:pt x="361" y="235"/>
                    </a:lnTo>
                    <a:lnTo>
                      <a:pt x="385" y="370"/>
                    </a:lnTo>
                    <a:lnTo>
                      <a:pt x="406" y="529"/>
                    </a:lnTo>
                    <a:lnTo>
                      <a:pt x="415" y="682"/>
                    </a:lnTo>
                    <a:lnTo>
                      <a:pt x="415" y="881"/>
                    </a:lnTo>
                    <a:lnTo>
                      <a:pt x="385" y="1003"/>
                    </a:lnTo>
                    <a:lnTo>
                      <a:pt x="330" y="1048"/>
                    </a:lnTo>
                    <a:lnTo>
                      <a:pt x="235" y="1062"/>
                    </a:lnTo>
                    <a:lnTo>
                      <a:pt x="136" y="1058"/>
                    </a:lnTo>
                    <a:lnTo>
                      <a:pt x="84" y="1003"/>
                    </a:lnTo>
                    <a:lnTo>
                      <a:pt x="55" y="909"/>
                    </a:lnTo>
                    <a:lnTo>
                      <a:pt x="30" y="814"/>
                    </a:lnTo>
                    <a:lnTo>
                      <a:pt x="10" y="642"/>
                    </a:lnTo>
                    <a:lnTo>
                      <a:pt x="0" y="448"/>
                    </a:lnTo>
                    <a:lnTo>
                      <a:pt x="0" y="221"/>
                    </a:lnTo>
                    <a:lnTo>
                      <a:pt x="25" y="122"/>
                    </a:lnTo>
                    <a:lnTo>
                      <a:pt x="25" y="8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16"/>
              <p:cNvSpPr/>
              <p:nvPr/>
            </p:nvSpPr>
            <p:spPr>
              <a:xfrm>
                <a:off x="8118000" y="2151000"/>
                <a:ext cx="439920" cy="51480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w="635" h="816">
                    <a:moveTo>
                      <a:pt x="35" y="0"/>
                    </a:moveTo>
                    <a:lnTo>
                      <a:pt x="165" y="14"/>
                    </a:lnTo>
                    <a:lnTo>
                      <a:pt x="300" y="36"/>
                    </a:lnTo>
                    <a:lnTo>
                      <a:pt x="440" y="109"/>
                    </a:lnTo>
                    <a:lnTo>
                      <a:pt x="540" y="163"/>
                    </a:lnTo>
                    <a:lnTo>
                      <a:pt x="605" y="241"/>
                    </a:lnTo>
                    <a:lnTo>
                      <a:pt x="635" y="285"/>
                    </a:lnTo>
                    <a:lnTo>
                      <a:pt x="575" y="418"/>
                    </a:lnTo>
                    <a:lnTo>
                      <a:pt x="479" y="498"/>
                    </a:lnTo>
                    <a:lnTo>
                      <a:pt x="365" y="557"/>
                    </a:lnTo>
                    <a:lnTo>
                      <a:pt x="304" y="593"/>
                    </a:lnTo>
                    <a:lnTo>
                      <a:pt x="200" y="611"/>
                    </a:lnTo>
                    <a:lnTo>
                      <a:pt x="195" y="647"/>
                    </a:lnTo>
                    <a:lnTo>
                      <a:pt x="275" y="679"/>
                    </a:lnTo>
                    <a:lnTo>
                      <a:pt x="390" y="707"/>
                    </a:lnTo>
                    <a:lnTo>
                      <a:pt x="499" y="761"/>
                    </a:lnTo>
                    <a:lnTo>
                      <a:pt x="455" y="802"/>
                    </a:lnTo>
                    <a:lnTo>
                      <a:pt x="410" y="816"/>
                    </a:lnTo>
                    <a:lnTo>
                      <a:pt x="345" y="756"/>
                    </a:lnTo>
                    <a:lnTo>
                      <a:pt x="245" y="720"/>
                    </a:lnTo>
                    <a:lnTo>
                      <a:pt x="165" y="693"/>
                    </a:lnTo>
                    <a:lnTo>
                      <a:pt x="165" y="639"/>
                    </a:lnTo>
                    <a:lnTo>
                      <a:pt x="180" y="581"/>
                    </a:lnTo>
                    <a:lnTo>
                      <a:pt x="230" y="557"/>
                    </a:lnTo>
                    <a:lnTo>
                      <a:pt x="390" y="498"/>
                    </a:lnTo>
                    <a:lnTo>
                      <a:pt x="479" y="408"/>
                    </a:lnTo>
                    <a:lnTo>
                      <a:pt x="544" y="313"/>
                    </a:lnTo>
                    <a:lnTo>
                      <a:pt x="529" y="267"/>
                    </a:lnTo>
                    <a:lnTo>
                      <a:pt x="479" y="213"/>
                    </a:lnTo>
                    <a:lnTo>
                      <a:pt x="360" y="136"/>
                    </a:lnTo>
                    <a:lnTo>
                      <a:pt x="215" y="109"/>
                    </a:lnTo>
                    <a:lnTo>
                      <a:pt x="120" y="104"/>
                    </a:lnTo>
                    <a:lnTo>
                      <a:pt x="35" y="104"/>
                    </a:lnTo>
                    <a:lnTo>
                      <a:pt x="0" y="5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7"/>
              <p:cNvSpPr/>
              <p:nvPr/>
            </p:nvSpPr>
            <p:spPr>
              <a:xfrm>
                <a:off x="8152560" y="2735280"/>
                <a:ext cx="533880" cy="831600"/>
              </a:xfrm>
              <a:custGeom>
                <a:avLst/>
                <a:gdLst>
                  <a:gd name="textAreaLeft" fmla="*/ 0 w 533880"/>
                  <a:gd name="textAreaRight" fmla="*/ 534240 w 533880"/>
                  <a:gd name="textAreaTop" fmla="*/ 0 h 831600"/>
                  <a:gd name="textAreaBottom" fmla="*/ 831960 h 831600"/>
                </a:gdLst>
                <a:ahLst/>
                <a:rect l="textAreaLeft" t="textAreaTop" r="textAreaRight" b="textAreaBottom"/>
                <a:pathLst>
                  <a:path w="772" h="1319">
                    <a:moveTo>
                      <a:pt x="89" y="0"/>
                    </a:moveTo>
                    <a:lnTo>
                      <a:pt x="20" y="0"/>
                    </a:lnTo>
                    <a:lnTo>
                      <a:pt x="0" y="95"/>
                    </a:lnTo>
                    <a:lnTo>
                      <a:pt x="50" y="151"/>
                    </a:lnTo>
                    <a:lnTo>
                      <a:pt x="210" y="282"/>
                    </a:lnTo>
                    <a:lnTo>
                      <a:pt x="351" y="449"/>
                    </a:lnTo>
                    <a:lnTo>
                      <a:pt x="442" y="621"/>
                    </a:lnTo>
                    <a:lnTo>
                      <a:pt x="455" y="734"/>
                    </a:lnTo>
                    <a:lnTo>
                      <a:pt x="451" y="816"/>
                    </a:lnTo>
                    <a:lnTo>
                      <a:pt x="411" y="1001"/>
                    </a:lnTo>
                    <a:lnTo>
                      <a:pt x="360" y="1152"/>
                    </a:lnTo>
                    <a:lnTo>
                      <a:pt x="316" y="1238"/>
                    </a:lnTo>
                    <a:lnTo>
                      <a:pt x="306" y="1292"/>
                    </a:lnTo>
                    <a:lnTo>
                      <a:pt x="351" y="1292"/>
                    </a:lnTo>
                    <a:lnTo>
                      <a:pt x="420" y="1274"/>
                    </a:lnTo>
                    <a:lnTo>
                      <a:pt x="442" y="1278"/>
                    </a:lnTo>
                    <a:lnTo>
                      <a:pt x="587" y="1287"/>
                    </a:lnTo>
                    <a:lnTo>
                      <a:pt x="697" y="1319"/>
                    </a:lnTo>
                    <a:lnTo>
                      <a:pt x="736" y="1301"/>
                    </a:lnTo>
                    <a:lnTo>
                      <a:pt x="772" y="1232"/>
                    </a:lnTo>
                    <a:lnTo>
                      <a:pt x="736" y="1196"/>
                    </a:lnTo>
                    <a:lnTo>
                      <a:pt x="572" y="1192"/>
                    </a:lnTo>
                    <a:lnTo>
                      <a:pt x="455" y="1206"/>
                    </a:lnTo>
                    <a:lnTo>
                      <a:pt x="396" y="1232"/>
                    </a:lnTo>
                    <a:lnTo>
                      <a:pt x="405" y="1170"/>
                    </a:lnTo>
                    <a:lnTo>
                      <a:pt x="466" y="1074"/>
                    </a:lnTo>
                    <a:lnTo>
                      <a:pt x="516" y="925"/>
                    </a:lnTo>
                    <a:lnTo>
                      <a:pt x="556" y="798"/>
                    </a:lnTo>
                    <a:lnTo>
                      <a:pt x="526" y="653"/>
                    </a:lnTo>
                    <a:lnTo>
                      <a:pt x="481" y="499"/>
                    </a:lnTo>
                    <a:lnTo>
                      <a:pt x="390" y="322"/>
                    </a:lnTo>
                    <a:lnTo>
                      <a:pt x="260" y="159"/>
                    </a:lnTo>
                    <a:lnTo>
                      <a:pt x="150" y="41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8"/>
              <p:cNvSpPr/>
              <p:nvPr/>
            </p:nvSpPr>
            <p:spPr>
              <a:xfrm>
                <a:off x="7817400" y="2733120"/>
                <a:ext cx="359640" cy="84816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848160"/>
                  <a:gd name="textAreaBottom" fmla="*/ 848520 h 848160"/>
                </a:gdLst>
                <a:ahLst/>
                <a:rect l="textAreaLeft" t="textAreaTop" r="textAreaRight" b="textAreaBottom"/>
                <a:pathLst>
                  <a:path w="520" h="1343">
                    <a:moveTo>
                      <a:pt x="360" y="0"/>
                    </a:moveTo>
                    <a:lnTo>
                      <a:pt x="295" y="126"/>
                    </a:lnTo>
                    <a:lnTo>
                      <a:pt x="250" y="311"/>
                    </a:lnTo>
                    <a:lnTo>
                      <a:pt x="195" y="516"/>
                    </a:lnTo>
                    <a:lnTo>
                      <a:pt x="145" y="724"/>
                    </a:lnTo>
                    <a:lnTo>
                      <a:pt x="145" y="800"/>
                    </a:lnTo>
                    <a:lnTo>
                      <a:pt x="195" y="936"/>
                    </a:lnTo>
                    <a:lnTo>
                      <a:pt x="265" y="1009"/>
                    </a:lnTo>
                    <a:lnTo>
                      <a:pt x="330" y="1099"/>
                    </a:lnTo>
                    <a:lnTo>
                      <a:pt x="375" y="1166"/>
                    </a:lnTo>
                    <a:lnTo>
                      <a:pt x="355" y="1198"/>
                    </a:lnTo>
                    <a:lnTo>
                      <a:pt x="241" y="1212"/>
                    </a:lnTo>
                    <a:lnTo>
                      <a:pt x="55" y="1239"/>
                    </a:lnTo>
                    <a:lnTo>
                      <a:pt x="0" y="1280"/>
                    </a:lnTo>
                    <a:lnTo>
                      <a:pt x="46" y="1317"/>
                    </a:lnTo>
                    <a:lnTo>
                      <a:pt x="150" y="1343"/>
                    </a:lnTo>
                    <a:lnTo>
                      <a:pt x="271" y="1289"/>
                    </a:lnTo>
                    <a:lnTo>
                      <a:pt x="360" y="1253"/>
                    </a:lnTo>
                    <a:lnTo>
                      <a:pt x="475" y="1239"/>
                    </a:lnTo>
                    <a:lnTo>
                      <a:pt x="520" y="1226"/>
                    </a:lnTo>
                    <a:lnTo>
                      <a:pt x="505" y="1180"/>
                    </a:lnTo>
                    <a:lnTo>
                      <a:pt x="375" y="1063"/>
                    </a:lnTo>
                    <a:lnTo>
                      <a:pt x="299" y="941"/>
                    </a:lnTo>
                    <a:lnTo>
                      <a:pt x="234" y="859"/>
                    </a:lnTo>
                    <a:lnTo>
                      <a:pt x="225" y="778"/>
                    </a:lnTo>
                    <a:lnTo>
                      <a:pt x="256" y="643"/>
                    </a:lnTo>
                    <a:lnTo>
                      <a:pt x="325" y="502"/>
                    </a:lnTo>
                    <a:lnTo>
                      <a:pt x="401" y="263"/>
                    </a:lnTo>
                    <a:lnTo>
                      <a:pt x="466" y="122"/>
                    </a:lnTo>
                    <a:lnTo>
                      <a:pt x="460" y="40"/>
                    </a:lnTo>
                    <a:lnTo>
                      <a:pt x="401" y="0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9"/>
            <p:cNvGrpSpPr/>
            <p:nvPr/>
          </p:nvGrpSpPr>
          <p:grpSpPr>
            <a:xfrm>
              <a:off x="8202600" y="1371600"/>
              <a:ext cx="219240" cy="250560"/>
              <a:chOff x="8202600" y="1371600"/>
              <a:chExt cx="219240" cy="250560"/>
            </a:xfrm>
          </p:grpSpPr>
          <p:sp>
            <p:nvSpPr>
              <p:cNvPr id="133" name="Freeform 20"/>
              <p:cNvSpPr/>
              <p:nvPr/>
            </p:nvSpPr>
            <p:spPr>
              <a:xfrm>
                <a:off x="8245440" y="1371600"/>
                <a:ext cx="176400" cy="17388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57" h="275">
                    <a:moveTo>
                      <a:pt x="31" y="12"/>
                    </a:moveTo>
                    <a:lnTo>
                      <a:pt x="100" y="0"/>
                    </a:lnTo>
                    <a:lnTo>
                      <a:pt x="167" y="4"/>
                    </a:lnTo>
                    <a:lnTo>
                      <a:pt x="227" y="30"/>
                    </a:lnTo>
                    <a:lnTo>
                      <a:pt x="257" y="81"/>
                    </a:lnTo>
                    <a:lnTo>
                      <a:pt x="257" y="121"/>
                    </a:lnTo>
                    <a:lnTo>
                      <a:pt x="227" y="175"/>
                    </a:lnTo>
                    <a:lnTo>
                      <a:pt x="176" y="207"/>
                    </a:lnTo>
                    <a:lnTo>
                      <a:pt x="100" y="207"/>
                    </a:lnTo>
                    <a:lnTo>
                      <a:pt x="55" y="234"/>
                    </a:lnTo>
                    <a:lnTo>
                      <a:pt x="40" y="275"/>
                    </a:lnTo>
                    <a:lnTo>
                      <a:pt x="0" y="262"/>
                    </a:lnTo>
                    <a:lnTo>
                      <a:pt x="15" y="207"/>
                    </a:lnTo>
                    <a:lnTo>
                      <a:pt x="70" y="175"/>
                    </a:lnTo>
                    <a:lnTo>
                      <a:pt x="160" y="167"/>
                    </a:lnTo>
                    <a:lnTo>
                      <a:pt x="197" y="135"/>
                    </a:lnTo>
                    <a:lnTo>
                      <a:pt x="206" y="85"/>
                    </a:lnTo>
                    <a:lnTo>
                      <a:pt x="167" y="40"/>
                    </a:lnTo>
                    <a:lnTo>
                      <a:pt x="106" y="40"/>
                    </a:lnTo>
                    <a:lnTo>
                      <a:pt x="40" y="54"/>
                    </a:lnTo>
                    <a:lnTo>
                      <a:pt x="15" y="40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21"/>
              <p:cNvSpPr/>
              <p:nvPr/>
            </p:nvSpPr>
            <p:spPr>
              <a:xfrm>
                <a:off x="8202600" y="1574280"/>
                <a:ext cx="54720" cy="478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80" h="76">
                    <a:moveTo>
                      <a:pt x="80" y="5"/>
                    </a:moveTo>
                    <a:lnTo>
                      <a:pt x="40" y="0"/>
                    </a:lnTo>
                    <a:lnTo>
                      <a:pt x="12" y="28"/>
                    </a:lnTo>
                    <a:lnTo>
                      <a:pt x="0" y="71"/>
                    </a:lnTo>
                    <a:lnTo>
                      <a:pt x="40" y="76"/>
                    </a:lnTo>
                    <a:lnTo>
                      <a:pt x="73" y="56"/>
                    </a:lnTo>
                    <a:lnTo>
                      <a:pt x="80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D7C-5770-45F4-9D11-666DF6B8D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npo000014"/>
          <p:cNvPicPr/>
          <p:nvPr/>
        </p:nvPicPr>
        <p:blipFill>
          <a:blip r:embed="rId1"/>
          <a:stretch/>
        </p:blipFill>
        <p:spPr>
          <a:xfrm>
            <a:off x="7086600" y="3733920"/>
            <a:ext cx="1969920" cy="25905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ercator Projection Metho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828440"/>
            <a:ext cx="8380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24000"/>
          </a:bodyPr>
          <a:p>
            <a:pPr marL="110520" indent="-11052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1569 by Flemish geograp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0520" indent="-11052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surface projected onto a cylin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0520" indent="-11052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linder tangent to the equ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0520" indent="-11052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orts areas – esp. at p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0520" indent="-11052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Appears the same siz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Green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0520" indent="-11052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ly more than 4 times lar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5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C161-B204-44A2-A924-6F5B0FC37B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3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rcator Projection Characterist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879560"/>
            <a:ext cx="807732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ion never includes p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circles appear as curved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 for the meridians and equ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npo000016"/>
          <p:cNvPicPr/>
          <p:nvPr/>
        </p:nvPicPr>
        <p:blipFill>
          <a:blip r:embed="rId4"/>
          <a:stretch/>
        </p:blipFill>
        <p:spPr>
          <a:xfrm>
            <a:off x="2471760" y="3646440"/>
            <a:ext cx="4648320" cy="28861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1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37:09Z</dcterms:created>
  <dc:creator>jan</dc:creator>
  <dc:description/>
  <dc:language>en-US</dc:language>
  <cp:lastModifiedBy>Cypherja</cp:lastModifiedBy>
  <dcterms:modified xsi:type="dcterms:W3CDTF">2010-10-01T11:11:48Z</dcterms:modified>
  <cp:revision>176</cp:revision>
  <dc:subject/>
  <dc:title>PowerPoint Presentation</dc:title>
</cp:coreProperties>
</file>