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D9AE-5975-45BB-97A1-FA0CA004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4F02-1817-46C2-ADA1-296ED72A1D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393-270E-4111-94F4-E297C02FC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3B5-D68C-488F-AA8C-406181182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9175-00EB-4257-AD5C-852D14403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E06-9C95-4C02-9545-4E23EC4B5E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C87-7C17-4DEB-B84E-5CDFC0B92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1ED9-50F6-495A-ABBC-55485E41DB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7D45-87DF-4111-B77F-C1ADEDD9D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818-E992-4F44-907B-A81315A7D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8D60-00FE-470C-A870-EE81411EE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C65-1E81-4CB1-8E55-1DFC5AA5C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5DC5-BF79-4CA4-B4BD-5BF417943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7660-C1FF-4BDD-B362-B9E6B1A7D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398-2FF6-41F6-81E3-1FCC51E86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A47C-777B-4631-B466-BBB6B4C8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A172-DB15-4200-BB76-ACC9490F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DF6A-1789-4F69-A1D9-DD8AD6A1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A88C-2C75-49C7-929A-74115AFE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FBC3-650B-4F03-93ED-9E48382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E4BF-6B66-46A6-A05A-E17A809E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431D-8F10-4E25-9CD3-5ADEE52C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170E-288E-4662-AB8E-5F6F7C1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0E97-BD54-483E-B235-54416A0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61DD-DD97-4F57-9ACA-EEE50C05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462-A30C-47B5-BA62-9FE72E1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6B43-7334-4E64-8ED6-B81C8CF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E00-84CE-4209-B925-54015E90F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DC8C-2A48-4292-AD53-60C93B49E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7: Preplan as much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s possible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ing to plan may be planning to f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minutes planning may save hours enrou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out of fuel almost always a failure to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aching unfamiliar harb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’t cover them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f” approach can cover most likely scen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6290-CEDE-447A-A238-3DC561858A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: Be open to data or information at variance with your understanding of the situ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680" y="2057040"/>
            <a:ext cx="8115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mental momen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form fixed ideas based on limited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formed, these ideas are difficult to dis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made on buoys conflicts with LOP on fixed A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ragedy at Honda” where Navy destroyers ignored early LORAN in favor of trusted DR and ran agr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reject conflicting information out of han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B8E5-D45D-484E-86B1-1E281E05D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9: Know and operat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ithin your limits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4520" y="1855440"/>
            <a:ext cx="857088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yoursel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hysical 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kill 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of your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of your cr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what else you might ne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or local knowled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tam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or special equi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6292800" y="1486080"/>
          <a:ext cx="2728800" cy="3886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92800" y="1486080"/>
                    <a:ext cx="2728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150"/>
                            </p:stCondLst>
                            <p:childTnLst>
                              <p:par>
                                <p:cTn id="4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3F2A-856D-4BA3-8129-77B089BD9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0: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intain a DR plot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important to emphasize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electronic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accurate, convenient and power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rs DR all but obso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a is still hostile to electron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redundancy can help, bu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 is still cheaper and, ultimately, more reli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po00000c"/>
          <p:cNvPicPr/>
          <p:nvPr/>
        </p:nvPicPr>
        <p:blipFill>
          <a:blip r:embed="rId7"/>
          <a:stretch/>
        </p:blipFill>
        <p:spPr>
          <a:xfrm>
            <a:off x="7791480" y="2362320"/>
            <a:ext cx="895320" cy="2327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86" name="Rectangle 15"/>
          <p:cNvSpPr/>
          <p:nvPr/>
        </p:nvSpPr>
        <p:spPr>
          <a:xfrm>
            <a:off x="914400" y="5181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tain a DR pl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400"/>
                            </p:stCondLst>
                            <p:childTnLst>
                              <p:par>
                                <p:cTn id="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375-A2B3-4A69-B149-65E39163E8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871640"/>
            <a:ext cx="77724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completed all 12 chapters of the Advanced Coastal Navigation 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npo00000f"/>
          <p:cNvPicPr/>
          <p:nvPr/>
        </p:nvPicPr>
        <p:blipFill>
          <a:blip r:embed="rId1"/>
          <a:stretch/>
        </p:blipFill>
        <p:spPr>
          <a:xfrm>
            <a:off x="4773600" y="3376440"/>
            <a:ext cx="3913200" cy="3024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93" name="Rectangle 5"/>
          <p:cNvSpPr/>
          <p:nvPr/>
        </p:nvSpPr>
        <p:spPr>
          <a:xfrm>
            <a:off x="914400" y="3429000"/>
            <a:ext cx="3657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ope the information you have gained will provide many hour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-free cruis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dvanc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Chapter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f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D441-AAC3-45B3-9C40-4FF219193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l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ow you have a working knowledge of coastal navigation essent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ime go beyond specific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hapter shares information on the practice and/or art of nav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so by presenting ten prin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C6B5-F34C-414F-B31C-696BFABA0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Object 0"/>
          <p:cNvGraphicFramePr/>
          <p:nvPr/>
        </p:nvGraphicFramePr>
        <p:xfrm>
          <a:off x="6662880" y="2514600"/>
          <a:ext cx="2328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2514600"/>
                    <a:ext cx="2328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: Pay attention to detail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ual attitude can lead competent navigators to make amaz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 the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-check courses and calcul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light characteristics at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-up electronics carefu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, etc., etc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st errors can have disastrous consequenc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08E-F4F7-456A-8496-76EFEFE84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: Practice is essenti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d can also be fun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practice to really learn nav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ften become complacent, especi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miliar wa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games to practice the 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e, by leg, for “Closest ETA” hon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vigate without visual cues by staying be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ff electron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at least some voyages 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to stretch your ski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6745320" y="4430880"/>
            <a:ext cx="1941480" cy="1969560"/>
            <a:chOff x="6745320" y="4430880"/>
            <a:chExt cx="1941480" cy="1969560"/>
          </a:xfrm>
        </p:grpSpPr>
        <p:grpSp>
          <p:nvGrpSpPr>
            <p:cNvPr id="113" name="Group 7"/>
            <p:cNvGrpSpPr/>
            <p:nvPr/>
          </p:nvGrpSpPr>
          <p:grpSpPr>
            <a:xfrm>
              <a:off x="6745320" y="4430880"/>
              <a:ext cx="1941480" cy="1969560"/>
              <a:chOff x="6745320" y="4430880"/>
              <a:chExt cx="1941480" cy="1969560"/>
            </a:xfrm>
          </p:grpSpPr>
          <p:grpSp>
            <p:nvGrpSpPr>
              <p:cNvPr id="114" name="Group 8"/>
              <p:cNvGrpSpPr/>
              <p:nvPr/>
            </p:nvGrpSpPr>
            <p:grpSpPr>
              <a:xfrm>
                <a:off x="7659720" y="4619520"/>
                <a:ext cx="1027080" cy="1780920"/>
                <a:chOff x="7659720" y="4619520"/>
                <a:chExt cx="1027080" cy="1780920"/>
              </a:xfrm>
            </p:grpSpPr>
            <p:sp>
              <p:nvSpPr>
                <p:cNvPr id="115" name="Freeform 9"/>
                <p:cNvSpPr/>
                <p:nvPr/>
              </p:nvSpPr>
              <p:spPr>
                <a:xfrm>
                  <a:off x="8039520" y="4855680"/>
                  <a:ext cx="350280" cy="306720"/>
                </a:xfrm>
                <a:custGeom>
                  <a:avLst/>
                  <a:gdLst>
                    <a:gd name="textAreaLeft" fmla="*/ 0 w 350280"/>
                    <a:gd name="textAreaRight" fmla="*/ 350640 w 350280"/>
                    <a:gd name="textAreaTop" fmla="*/ 0 h 306720"/>
                    <a:gd name="textAreaBottom" fmla="*/ 307080 h 306720"/>
                  </a:gdLst>
                  <a:ahLst/>
                  <a:rect l="textAreaLeft" t="textAreaTop" r="textAreaRight" b="textAreaBottom"/>
                  <a:pathLst>
                    <a:path w="442" h="387">
                      <a:moveTo>
                        <a:pt x="153" y="93"/>
                      </a:moveTo>
                      <a:lnTo>
                        <a:pt x="176" y="41"/>
                      </a:lnTo>
                      <a:lnTo>
                        <a:pt x="238" y="7"/>
                      </a:lnTo>
                      <a:lnTo>
                        <a:pt x="281" y="0"/>
                      </a:lnTo>
                      <a:lnTo>
                        <a:pt x="328" y="0"/>
                      </a:lnTo>
                      <a:lnTo>
                        <a:pt x="407" y="29"/>
                      </a:lnTo>
                      <a:lnTo>
                        <a:pt x="442" y="105"/>
                      </a:lnTo>
                      <a:lnTo>
                        <a:pt x="425" y="206"/>
                      </a:lnTo>
                      <a:lnTo>
                        <a:pt x="369" y="293"/>
                      </a:lnTo>
                      <a:lnTo>
                        <a:pt x="311" y="353"/>
                      </a:lnTo>
                      <a:lnTo>
                        <a:pt x="249" y="379"/>
                      </a:lnTo>
                      <a:lnTo>
                        <a:pt x="202" y="387"/>
                      </a:lnTo>
                      <a:lnTo>
                        <a:pt x="153" y="372"/>
                      </a:lnTo>
                      <a:lnTo>
                        <a:pt x="115" y="331"/>
                      </a:lnTo>
                      <a:lnTo>
                        <a:pt x="97" y="279"/>
                      </a:lnTo>
                      <a:lnTo>
                        <a:pt x="100" y="223"/>
                      </a:lnTo>
                      <a:lnTo>
                        <a:pt x="118" y="156"/>
                      </a:lnTo>
                      <a:lnTo>
                        <a:pt x="126" y="144"/>
                      </a:lnTo>
                      <a:lnTo>
                        <a:pt x="12" y="72"/>
                      </a:lnTo>
                      <a:lnTo>
                        <a:pt x="0" y="55"/>
                      </a:lnTo>
                      <a:lnTo>
                        <a:pt x="0" y="33"/>
                      </a:lnTo>
                      <a:lnTo>
                        <a:pt x="27" y="21"/>
                      </a:lnTo>
                      <a:lnTo>
                        <a:pt x="153" y="9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10"/>
                <p:cNvSpPr/>
                <p:nvPr/>
              </p:nvSpPr>
              <p:spPr>
                <a:xfrm>
                  <a:off x="8269560" y="5264280"/>
                  <a:ext cx="417240" cy="587520"/>
                </a:xfrm>
                <a:custGeom>
                  <a:avLst/>
                  <a:gdLst>
                    <a:gd name="textAreaLeft" fmla="*/ 0 w 417240"/>
                    <a:gd name="textAreaRight" fmla="*/ 417600 w 417240"/>
                    <a:gd name="textAreaTop" fmla="*/ 0 h 587520"/>
                    <a:gd name="textAreaBottom" fmla="*/ 587520 h 587520"/>
                  </a:gdLst>
                  <a:ahLst/>
                  <a:rect l="textAreaLeft" t="textAreaTop" r="textAreaRight" b="textAreaBottom"/>
                  <a:pathLst>
                    <a:path w="526" h="741">
                      <a:moveTo>
                        <a:pt x="64" y="12"/>
                      </a:moveTo>
                      <a:lnTo>
                        <a:pt x="186" y="43"/>
                      </a:lnTo>
                      <a:lnTo>
                        <a:pt x="317" y="120"/>
                      </a:lnTo>
                      <a:lnTo>
                        <a:pt x="393" y="187"/>
                      </a:lnTo>
                      <a:lnTo>
                        <a:pt x="471" y="267"/>
                      </a:lnTo>
                      <a:lnTo>
                        <a:pt x="509" y="324"/>
                      </a:lnTo>
                      <a:lnTo>
                        <a:pt x="526" y="401"/>
                      </a:lnTo>
                      <a:lnTo>
                        <a:pt x="515" y="433"/>
                      </a:lnTo>
                      <a:lnTo>
                        <a:pt x="474" y="473"/>
                      </a:lnTo>
                      <a:lnTo>
                        <a:pt x="375" y="498"/>
                      </a:lnTo>
                      <a:lnTo>
                        <a:pt x="271" y="512"/>
                      </a:lnTo>
                      <a:lnTo>
                        <a:pt x="213" y="517"/>
                      </a:lnTo>
                      <a:lnTo>
                        <a:pt x="230" y="553"/>
                      </a:lnTo>
                      <a:lnTo>
                        <a:pt x="291" y="613"/>
                      </a:lnTo>
                      <a:lnTo>
                        <a:pt x="343" y="649"/>
                      </a:lnTo>
                      <a:lnTo>
                        <a:pt x="401" y="685"/>
                      </a:lnTo>
                      <a:lnTo>
                        <a:pt x="410" y="719"/>
                      </a:lnTo>
                      <a:lnTo>
                        <a:pt x="384" y="741"/>
                      </a:lnTo>
                      <a:lnTo>
                        <a:pt x="340" y="726"/>
                      </a:lnTo>
                      <a:lnTo>
                        <a:pt x="247" y="639"/>
                      </a:lnTo>
                      <a:lnTo>
                        <a:pt x="201" y="591"/>
                      </a:lnTo>
                      <a:lnTo>
                        <a:pt x="169" y="517"/>
                      </a:lnTo>
                      <a:lnTo>
                        <a:pt x="178" y="490"/>
                      </a:lnTo>
                      <a:lnTo>
                        <a:pt x="227" y="481"/>
                      </a:lnTo>
                      <a:lnTo>
                        <a:pt x="314" y="476"/>
                      </a:lnTo>
                      <a:lnTo>
                        <a:pt x="396" y="459"/>
                      </a:lnTo>
                      <a:lnTo>
                        <a:pt x="439" y="437"/>
                      </a:lnTo>
                      <a:lnTo>
                        <a:pt x="471" y="404"/>
                      </a:lnTo>
                      <a:lnTo>
                        <a:pt x="471" y="372"/>
                      </a:lnTo>
                      <a:lnTo>
                        <a:pt x="457" y="317"/>
                      </a:lnTo>
                      <a:lnTo>
                        <a:pt x="422" y="281"/>
                      </a:lnTo>
                      <a:lnTo>
                        <a:pt x="393" y="242"/>
                      </a:lnTo>
                      <a:lnTo>
                        <a:pt x="349" y="214"/>
                      </a:lnTo>
                      <a:lnTo>
                        <a:pt x="291" y="166"/>
                      </a:lnTo>
                      <a:lnTo>
                        <a:pt x="221" y="129"/>
                      </a:lnTo>
                      <a:lnTo>
                        <a:pt x="157" y="113"/>
                      </a:lnTo>
                      <a:lnTo>
                        <a:pt x="79" y="101"/>
                      </a:lnTo>
                      <a:lnTo>
                        <a:pt x="30" y="84"/>
                      </a:lnTo>
                      <a:lnTo>
                        <a:pt x="0" y="55"/>
                      </a:lnTo>
                      <a:lnTo>
                        <a:pt x="0" y="14"/>
                      </a:lnTo>
                      <a:lnTo>
                        <a:pt x="30" y="0"/>
                      </a:lnTo>
                      <a:lnTo>
                        <a:pt x="88" y="12"/>
                      </a:lnTo>
                      <a:lnTo>
                        <a:pt x="96" y="14"/>
                      </a:lnTo>
                      <a:lnTo>
                        <a:pt x="64" y="12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1"/>
                <p:cNvSpPr/>
                <p:nvPr/>
              </p:nvSpPr>
              <p:spPr>
                <a:xfrm>
                  <a:off x="7659720" y="4619520"/>
                  <a:ext cx="483840" cy="666360"/>
                </a:xfrm>
                <a:custGeom>
                  <a:avLst/>
                  <a:gdLst>
                    <a:gd name="textAreaLeft" fmla="*/ 0 w 483840"/>
                    <a:gd name="textAreaRight" fmla="*/ 484200 w 48384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w="610" h="840">
                      <a:moveTo>
                        <a:pt x="558" y="722"/>
                      </a:moveTo>
                      <a:lnTo>
                        <a:pt x="604" y="760"/>
                      </a:lnTo>
                      <a:lnTo>
                        <a:pt x="610" y="797"/>
                      </a:lnTo>
                      <a:lnTo>
                        <a:pt x="593" y="833"/>
                      </a:lnTo>
                      <a:lnTo>
                        <a:pt x="543" y="840"/>
                      </a:lnTo>
                      <a:lnTo>
                        <a:pt x="479" y="768"/>
                      </a:lnTo>
                      <a:lnTo>
                        <a:pt x="453" y="707"/>
                      </a:lnTo>
                      <a:lnTo>
                        <a:pt x="404" y="630"/>
                      </a:lnTo>
                      <a:lnTo>
                        <a:pt x="357" y="543"/>
                      </a:lnTo>
                      <a:lnTo>
                        <a:pt x="314" y="471"/>
                      </a:lnTo>
                      <a:lnTo>
                        <a:pt x="253" y="381"/>
                      </a:lnTo>
                      <a:lnTo>
                        <a:pt x="177" y="297"/>
                      </a:lnTo>
                      <a:lnTo>
                        <a:pt x="116" y="224"/>
                      </a:lnTo>
                      <a:lnTo>
                        <a:pt x="87" y="203"/>
                      </a:lnTo>
                      <a:lnTo>
                        <a:pt x="61" y="203"/>
                      </a:lnTo>
                      <a:lnTo>
                        <a:pt x="20" y="188"/>
                      </a:lnTo>
                      <a:lnTo>
                        <a:pt x="9" y="157"/>
                      </a:lnTo>
                      <a:lnTo>
                        <a:pt x="0" y="101"/>
                      </a:lnTo>
                      <a:lnTo>
                        <a:pt x="9" y="48"/>
                      </a:lnTo>
                      <a:lnTo>
                        <a:pt x="29" y="14"/>
                      </a:lnTo>
                      <a:lnTo>
                        <a:pt x="55" y="0"/>
                      </a:lnTo>
                      <a:lnTo>
                        <a:pt x="90" y="19"/>
                      </a:lnTo>
                      <a:lnTo>
                        <a:pt x="107" y="7"/>
                      </a:lnTo>
                      <a:lnTo>
                        <a:pt x="122" y="34"/>
                      </a:lnTo>
                      <a:lnTo>
                        <a:pt x="134" y="101"/>
                      </a:lnTo>
                      <a:lnTo>
                        <a:pt x="125" y="135"/>
                      </a:lnTo>
                      <a:lnTo>
                        <a:pt x="131" y="188"/>
                      </a:lnTo>
                      <a:lnTo>
                        <a:pt x="160" y="224"/>
                      </a:lnTo>
                      <a:lnTo>
                        <a:pt x="229" y="302"/>
                      </a:lnTo>
                      <a:lnTo>
                        <a:pt x="282" y="355"/>
                      </a:lnTo>
                      <a:lnTo>
                        <a:pt x="334" y="420"/>
                      </a:lnTo>
                      <a:lnTo>
                        <a:pt x="366" y="463"/>
                      </a:lnTo>
                      <a:lnTo>
                        <a:pt x="430" y="533"/>
                      </a:lnTo>
                      <a:lnTo>
                        <a:pt x="479" y="616"/>
                      </a:lnTo>
                      <a:lnTo>
                        <a:pt x="526" y="710"/>
                      </a:lnTo>
                      <a:lnTo>
                        <a:pt x="558" y="722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2"/>
                <p:cNvSpPr/>
                <p:nvPr/>
              </p:nvSpPr>
              <p:spPr>
                <a:xfrm>
                  <a:off x="8025840" y="5187240"/>
                  <a:ext cx="297360" cy="609120"/>
                </a:xfrm>
                <a:custGeom>
                  <a:avLst/>
                  <a:gdLst>
                    <a:gd name="textAreaLeft" fmla="*/ 0 w 297360"/>
                    <a:gd name="textAreaRight" fmla="*/ 297720 w 297360"/>
                    <a:gd name="textAreaTop" fmla="*/ 0 h 609120"/>
                    <a:gd name="textAreaBottom" fmla="*/ 609480 h 609120"/>
                  </a:gdLst>
                  <a:ahLst/>
                  <a:rect l="textAreaLeft" t="textAreaTop" r="textAreaRight" b="textAreaBottom"/>
                  <a:pathLst>
                    <a:path w="375" h="768">
                      <a:moveTo>
                        <a:pt x="12" y="202"/>
                      </a:moveTo>
                      <a:lnTo>
                        <a:pt x="52" y="101"/>
                      </a:lnTo>
                      <a:lnTo>
                        <a:pt x="87" y="53"/>
                      </a:lnTo>
                      <a:lnTo>
                        <a:pt x="148" y="3"/>
                      </a:lnTo>
                      <a:lnTo>
                        <a:pt x="201" y="0"/>
                      </a:lnTo>
                      <a:lnTo>
                        <a:pt x="256" y="15"/>
                      </a:lnTo>
                      <a:lnTo>
                        <a:pt x="305" y="51"/>
                      </a:lnTo>
                      <a:lnTo>
                        <a:pt x="305" y="118"/>
                      </a:lnTo>
                      <a:lnTo>
                        <a:pt x="282" y="176"/>
                      </a:lnTo>
                      <a:lnTo>
                        <a:pt x="282" y="282"/>
                      </a:lnTo>
                      <a:lnTo>
                        <a:pt x="291" y="443"/>
                      </a:lnTo>
                      <a:lnTo>
                        <a:pt x="334" y="542"/>
                      </a:lnTo>
                      <a:lnTo>
                        <a:pt x="375" y="621"/>
                      </a:lnTo>
                      <a:lnTo>
                        <a:pt x="375" y="682"/>
                      </a:lnTo>
                      <a:lnTo>
                        <a:pt x="331" y="739"/>
                      </a:lnTo>
                      <a:lnTo>
                        <a:pt x="296" y="766"/>
                      </a:lnTo>
                      <a:lnTo>
                        <a:pt x="244" y="768"/>
                      </a:lnTo>
                      <a:lnTo>
                        <a:pt x="183" y="768"/>
                      </a:lnTo>
                      <a:lnTo>
                        <a:pt x="116" y="751"/>
                      </a:lnTo>
                      <a:lnTo>
                        <a:pt x="52" y="650"/>
                      </a:lnTo>
                      <a:lnTo>
                        <a:pt x="17" y="530"/>
                      </a:lnTo>
                      <a:lnTo>
                        <a:pt x="0" y="436"/>
                      </a:lnTo>
                      <a:lnTo>
                        <a:pt x="0" y="325"/>
                      </a:lnTo>
                      <a:lnTo>
                        <a:pt x="12" y="202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3"/>
                <p:cNvSpPr/>
                <p:nvPr/>
              </p:nvSpPr>
              <p:spPr>
                <a:xfrm>
                  <a:off x="8138520" y="5706360"/>
                  <a:ext cx="251280" cy="638640"/>
                </a:xfrm>
                <a:custGeom>
                  <a:avLst/>
                  <a:gdLst>
                    <a:gd name="textAreaLeft" fmla="*/ 0 w 251280"/>
                    <a:gd name="textAreaRight" fmla="*/ 251640 w 251280"/>
                    <a:gd name="textAreaTop" fmla="*/ 0 h 638640"/>
                    <a:gd name="textAreaBottom" fmla="*/ 638640 h 638640"/>
                  </a:gdLst>
                  <a:ahLst/>
                  <a:rect l="textAreaLeft" t="textAreaTop" r="textAreaRight" b="textAreaBottom"/>
                  <a:pathLst>
                    <a:path w="317" h="805">
                      <a:moveTo>
                        <a:pt x="174" y="14"/>
                      </a:moveTo>
                      <a:lnTo>
                        <a:pt x="134" y="0"/>
                      </a:lnTo>
                      <a:lnTo>
                        <a:pt x="96" y="19"/>
                      </a:lnTo>
                      <a:lnTo>
                        <a:pt x="73" y="87"/>
                      </a:lnTo>
                      <a:lnTo>
                        <a:pt x="96" y="196"/>
                      </a:lnTo>
                      <a:lnTo>
                        <a:pt x="134" y="254"/>
                      </a:lnTo>
                      <a:lnTo>
                        <a:pt x="174" y="355"/>
                      </a:lnTo>
                      <a:lnTo>
                        <a:pt x="195" y="406"/>
                      </a:lnTo>
                      <a:lnTo>
                        <a:pt x="195" y="471"/>
                      </a:lnTo>
                      <a:lnTo>
                        <a:pt x="142" y="536"/>
                      </a:lnTo>
                      <a:lnTo>
                        <a:pt x="70" y="606"/>
                      </a:lnTo>
                      <a:lnTo>
                        <a:pt x="26" y="643"/>
                      </a:lnTo>
                      <a:lnTo>
                        <a:pt x="0" y="672"/>
                      </a:lnTo>
                      <a:lnTo>
                        <a:pt x="0" y="703"/>
                      </a:lnTo>
                      <a:lnTo>
                        <a:pt x="29" y="708"/>
                      </a:lnTo>
                      <a:lnTo>
                        <a:pt x="99" y="723"/>
                      </a:lnTo>
                      <a:lnTo>
                        <a:pt x="201" y="766"/>
                      </a:lnTo>
                      <a:lnTo>
                        <a:pt x="230" y="797"/>
                      </a:lnTo>
                      <a:lnTo>
                        <a:pt x="270" y="805"/>
                      </a:lnTo>
                      <a:lnTo>
                        <a:pt x="317" y="768"/>
                      </a:lnTo>
                      <a:lnTo>
                        <a:pt x="288" y="752"/>
                      </a:lnTo>
                      <a:lnTo>
                        <a:pt x="177" y="718"/>
                      </a:lnTo>
                      <a:lnTo>
                        <a:pt x="105" y="701"/>
                      </a:lnTo>
                      <a:lnTo>
                        <a:pt x="52" y="681"/>
                      </a:lnTo>
                      <a:lnTo>
                        <a:pt x="52" y="674"/>
                      </a:lnTo>
                      <a:lnTo>
                        <a:pt x="61" y="657"/>
                      </a:lnTo>
                      <a:lnTo>
                        <a:pt x="96" y="623"/>
                      </a:lnTo>
                      <a:lnTo>
                        <a:pt x="195" y="551"/>
                      </a:lnTo>
                      <a:lnTo>
                        <a:pt x="253" y="490"/>
                      </a:lnTo>
                      <a:lnTo>
                        <a:pt x="265" y="447"/>
                      </a:lnTo>
                      <a:lnTo>
                        <a:pt x="256" y="384"/>
                      </a:lnTo>
                      <a:lnTo>
                        <a:pt x="230" y="333"/>
                      </a:lnTo>
                      <a:lnTo>
                        <a:pt x="195" y="261"/>
                      </a:lnTo>
                      <a:lnTo>
                        <a:pt x="183" y="186"/>
                      </a:lnTo>
                      <a:lnTo>
                        <a:pt x="183" y="113"/>
                      </a:lnTo>
                      <a:lnTo>
                        <a:pt x="183" y="48"/>
                      </a:lnTo>
                      <a:lnTo>
                        <a:pt x="174" y="14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14"/>
                <p:cNvSpPr/>
                <p:nvPr/>
              </p:nvSpPr>
              <p:spPr>
                <a:xfrm>
                  <a:off x="7985520" y="5710320"/>
                  <a:ext cx="205200" cy="690120"/>
                </a:xfrm>
                <a:custGeom>
                  <a:avLst/>
                  <a:gdLst>
                    <a:gd name="textAreaLeft" fmla="*/ 0 w 205200"/>
                    <a:gd name="textAreaRight" fmla="*/ 205560 w 205200"/>
                    <a:gd name="textAreaTop" fmla="*/ 0 h 690120"/>
                    <a:gd name="textAreaBottom" fmla="*/ 690480 h 690120"/>
                  </a:gdLst>
                  <a:ahLst/>
                  <a:rect l="textAreaLeft" t="textAreaTop" r="textAreaRight" b="textAreaBottom"/>
                  <a:pathLst>
                    <a:path w="259" h="870">
                      <a:moveTo>
                        <a:pt x="132" y="135"/>
                      </a:moveTo>
                      <a:lnTo>
                        <a:pt x="164" y="44"/>
                      </a:lnTo>
                      <a:lnTo>
                        <a:pt x="201" y="0"/>
                      </a:lnTo>
                      <a:lnTo>
                        <a:pt x="227" y="0"/>
                      </a:lnTo>
                      <a:lnTo>
                        <a:pt x="259" y="22"/>
                      </a:lnTo>
                      <a:lnTo>
                        <a:pt x="250" y="99"/>
                      </a:lnTo>
                      <a:lnTo>
                        <a:pt x="224" y="164"/>
                      </a:lnTo>
                      <a:lnTo>
                        <a:pt x="166" y="232"/>
                      </a:lnTo>
                      <a:lnTo>
                        <a:pt x="115" y="341"/>
                      </a:lnTo>
                      <a:lnTo>
                        <a:pt x="86" y="404"/>
                      </a:lnTo>
                      <a:lnTo>
                        <a:pt x="71" y="464"/>
                      </a:lnTo>
                      <a:lnTo>
                        <a:pt x="80" y="527"/>
                      </a:lnTo>
                      <a:lnTo>
                        <a:pt x="103" y="602"/>
                      </a:lnTo>
                      <a:lnTo>
                        <a:pt x="123" y="643"/>
                      </a:lnTo>
                      <a:lnTo>
                        <a:pt x="141" y="701"/>
                      </a:lnTo>
                      <a:lnTo>
                        <a:pt x="138" y="725"/>
                      </a:lnTo>
                      <a:lnTo>
                        <a:pt x="97" y="817"/>
                      </a:lnTo>
                      <a:lnTo>
                        <a:pt x="86" y="868"/>
                      </a:lnTo>
                      <a:lnTo>
                        <a:pt x="51" y="870"/>
                      </a:lnTo>
                      <a:lnTo>
                        <a:pt x="8" y="846"/>
                      </a:lnTo>
                      <a:lnTo>
                        <a:pt x="2" y="824"/>
                      </a:lnTo>
                      <a:lnTo>
                        <a:pt x="20" y="798"/>
                      </a:lnTo>
                      <a:lnTo>
                        <a:pt x="69" y="747"/>
                      </a:lnTo>
                      <a:lnTo>
                        <a:pt x="97" y="718"/>
                      </a:lnTo>
                      <a:lnTo>
                        <a:pt x="103" y="694"/>
                      </a:lnTo>
                      <a:lnTo>
                        <a:pt x="86" y="650"/>
                      </a:lnTo>
                      <a:lnTo>
                        <a:pt x="54" y="595"/>
                      </a:lnTo>
                      <a:lnTo>
                        <a:pt x="25" y="529"/>
                      </a:lnTo>
                      <a:lnTo>
                        <a:pt x="8" y="483"/>
                      </a:lnTo>
                      <a:lnTo>
                        <a:pt x="0" y="428"/>
                      </a:lnTo>
                      <a:lnTo>
                        <a:pt x="25" y="370"/>
                      </a:lnTo>
                      <a:lnTo>
                        <a:pt x="63" y="290"/>
                      </a:lnTo>
                      <a:lnTo>
                        <a:pt x="115" y="201"/>
                      </a:lnTo>
                      <a:lnTo>
                        <a:pt x="132" y="135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15"/>
              <p:cNvGrpSpPr/>
              <p:nvPr/>
            </p:nvGrpSpPr>
            <p:grpSpPr>
              <a:xfrm>
                <a:off x="6745320" y="4430880"/>
                <a:ext cx="1123560" cy="1962720"/>
                <a:chOff x="6745320" y="4430880"/>
                <a:chExt cx="1123560" cy="1962720"/>
              </a:xfrm>
            </p:grpSpPr>
            <p:sp>
              <p:nvSpPr>
                <p:cNvPr id="122" name="Freeform 16"/>
                <p:cNvSpPr/>
                <p:nvPr/>
              </p:nvSpPr>
              <p:spPr>
                <a:xfrm>
                  <a:off x="7286040" y="4885560"/>
                  <a:ext cx="224280" cy="320400"/>
                </a:xfrm>
                <a:custGeom>
                  <a:avLst/>
                  <a:gdLst>
                    <a:gd name="textAreaLeft" fmla="*/ 0 w 224280"/>
                    <a:gd name="textAreaRight" fmla="*/ 224640 w 224280"/>
                    <a:gd name="textAreaTop" fmla="*/ 0 h 320400"/>
                    <a:gd name="textAreaBottom" fmla="*/ 320760 h 320400"/>
                  </a:gdLst>
                  <a:ahLst/>
                  <a:rect l="textAreaLeft" t="textAreaTop" r="textAreaRight" b="textAreaBottom"/>
                  <a:pathLst>
                    <a:path w="283" h="404">
                      <a:moveTo>
                        <a:pt x="3" y="207"/>
                      </a:moveTo>
                      <a:lnTo>
                        <a:pt x="12" y="162"/>
                      </a:lnTo>
                      <a:lnTo>
                        <a:pt x="38" y="122"/>
                      </a:lnTo>
                      <a:lnTo>
                        <a:pt x="73" y="101"/>
                      </a:lnTo>
                      <a:lnTo>
                        <a:pt x="108" y="84"/>
                      </a:lnTo>
                      <a:lnTo>
                        <a:pt x="117" y="0"/>
                      </a:lnTo>
                      <a:lnTo>
                        <a:pt x="149" y="9"/>
                      </a:lnTo>
                      <a:lnTo>
                        <a:pt x="143" y="88"/>
                      </a:lnTo>
                      <a:lnTo>
                        <a:pt x="178" y="94"/>
                      </a:lnTo>
                      <a:lnTo>
                        <a:pt x="230" y="118"/>
                      </a:lnTo>
                      <a:lnTo>
                        <a:pt x="271" y="175"/>
                      </a:lnTo>
                      <a:lnTo>
                        <a:pt x="283" y="235"/>
                      </a:lnTo>
                      <a:lnTo>
                        <a:pt x="274" y="302"/>
                      </a:lnTo>
                      <a:lnTo>
                        <a:pt x="254" y="361"/>
                      </a:lnTo>
                      <a:lnTo>
                        <a:pt x="204" y="393"/>
                      </a:lnTo>
                      <a:lnTo>
                        <a:pt x="152" y="404"/>
                      </a:lnTo>
                      <a:lnTo>
                        <a:pt x="82" y="404"/>
                      </a:lnTo>
                      <a:lnTo>
                        <a:pt x="38" y="366"/>
                      </a:lnTo>
                      <a:lnTo>
                        <a:pt x="3" y="308"/>
                      </a:lnTo>
                      <a:lnTo>
                        <a:pt x="0" y="265"/>
                      </a:lnTo>
                      <a:lnTo>
                        <a:pt x="0" y="235"/>
                      </a:lnTo>
                      <a:lnTo>
                        <a:pt x="3" y="207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7"/>
                <p:cNvSpPr/>
                <p:nvPr/>
              </p:nvSpPr>
              <p:spPr>
                <a:xfrm>
                  <a:off x="7259040" y="5224320"/>
                  <a:ext cx="282960" cy="585360"/>
                </a:xfrm>
                <a:custGeom>
                  <a:avLst/>
                  <a:gdLst>
                    <a:gd name="textAreaLeft" fmla="*/ 0 w 282960"/>
                    <a:gd name="textAreaRight" fmla="*/ 283320 w 282960"/>
                    <a:gd name="textAreaTop" fmla="*/ 0 h 585360"/>
                    <a:gd name="textAreaBottom" fmla="*/ 585360 h 585360"/>
                  </a:gdLst>
                  <a:ahLst/>
                  <a:rect l="textAreaLeft" t="textAreaTop" r="textAreaRight" b="textAreaBottom"/>
                  <a:pathLst>
                    <a:path w="357" h="738">
                      <a:moveTo>
                        <a:pt x="133" y="12"/>
                      </a:moveTo>
                      <a:lnTo>
                        <a:pt x="174" y="0"/>
                      </a:lnTo>
                      <a:lnTo>
                        <a:pt x="221" y="7"/>
                      </a:lnTo>
                      <a:lnTo>
                        <a:pt x="279" y="48"/>
                      </a:lnTo>
                      <a:lnTo>
                        <a:pt x="325" y="130"/>
                      </a:lnTo>
                      <a:lnTo>
                        <a:pt x="348" y="210"/>
                      </a:lnTo>
                      <a:lnTo>
                        <a:pt x="357" y="304"/>
                      </a:lnTo>
                      <a:lnTo>
                        <a:pt x="348" y="405"/>
                      </a:lnTo>
                      <a:lnTo>
                        <a:pt x="305" y="535"/>
                      </a:lnTo>
                      <a:lnTo>
                        <a:pt x="290" y="543"/>
                      </a:lnTo>
                      <a:lnTo>
                        <a:pt x="226" y="651"/>
                      </a:lnTo>
                      <a:lnTo>
                        <a:pt x="194" y="714"/>
                      </a:lnTo>
                      <a:lnTo>
                        <a:pt x="142" y="736"/>
                      </a:lnTo>
                      <a:lnTo>
                        <a:pt x="64" y="738"/>
                      </a:lnTo>
                      <a:lnTo>
                        <a:pt x="3" y="714"/>
                      </a:lnTo>
                      <a:lnTo>
                        <a:pt x="0" y="666"/>
                      </a:lnTo>
                      <a:lnTo>
                        <a:pt x="26" y="601"/>
                      </a:lnTo>
                      <a:lnTo>
                        <a:pt x="43" y="562"/>
                      </a:lnTo>
                      <a:lnTo>
                        <a:pt x="70" y="519"/>
                      </a:lnTo>
                      <a:lnTo>
                        <a:pt x="87" y="475"/>
                      </a:lnTo>
                      <a:lnTo>
                        <a:pt x="96" y="405"/>
                      </a:lnTo>
                      <a:lnTo>
                        <a:pt x="78" y="326"/>
                      </a:lnTo>
                      <a:lnTo>
                        <a:pt x="61" y="260"/>
                      </a:lnTo>
                      <a:lnTo>
                        <a:pt x="46" y="210"/>
                      </a:lnTo>
                      <a:lnTo>
                        <a:pt x="46" y="128"/>
                      </a:lnTo>
                      <a:lnTo>
                        <a:pt x="55" y="92"/>
                      </a:lnTo>
                      <a:lnTo>
                        <a:pt x="78" y="43"/>
                      </a:lnTo>
                      <a:lnTo>
                        <a:pt x="131" y="12"/>
                      </a:lnTo>
                      <a:lnTo>
                        <a:pt x="131" y="14"/>
                      </a:lnTo>
                      <a:lnTo>
                        <a:pt x="133" y="12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18"/>
                <p:cNvSpPr/>
                <p:nvPr/>
              </p:nvSpPr>
              <p:spPr>
                <a:xfrm>
                  <a:off x="6745320" y="4670280"/>
                  <a:ext cx="571680" cy="700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700560"/>
                    <a:gd name="textAreaBottom" fmla="*/ 700560 h 700560"/>
                  </a:gdLst>
                  <a:ahLst/>
                  <a:rect l="textAreaLeft" t="textAreaTop" r="textAreaRight" b="textAreaBottom"/>
                  <a:pathLst>
                    <a:path w="721" h="883">
                      <a:moveTo>
                        <a:pt x="642" y="747"/>
                      </a:moveTo>
                      <a:lnTo>
                        <a:pt x="694" y="776"/>
                      </a:lnTo>
                      <a:lnTo>
                        <a:pt x="721" y="813"/>
                      </a:lnTo>
                      <a:lnTo>
                        <a:pt x="715" y="854"/>
                      </a:lnTo>
                      <a:lnTo>
                        <a:pt x="686" y="883"/>
                      </a:lnTo>
                      <a:lnTo>
                        <a:pt x="654" y="878"/>
                      </a:lnTo>
                      <a:lnTo>
                        <a:pt x="584" y="827"/>
                      </a:lnTo>
                      <a:lnTo>
                        <a:pt x="476" y="723"/>
                      </a:lnTo>
                      <a:lnTo>
                        <a:pt x="380" y="617"/>
                      </a:lnTo>
                      <a:lnTo>
                        <a:pt x="305" y="516"/>
                      </a:lnTo>
                      <a:lnTo>
                        <a:pt x="244" y="419"/>
                      </a:lnTo>
                      <a:lnTo>
                        <a:pt x="200" y="320"/>
                      </a:lnTo>
                      <a:lnTo>
                        <a:pt x="171" y="226"/>
                      </a:lnTo>
                      <a:lnTo>
                        <a:pt x="162" y="183"/>
                      </a:lnTo>
                      <a:lnTo>
                        <a:pt x="87" y="151"/>
                      </a:lnTo>
                      <a:lnTo>
                        <a:pt x="0" y="139"/>
                      </a:lnTo>
                      <a:lnTo>
                        <a:pt x="5" y="123"/>
                      </a:lnTo>
                      <a:lnTo>
                        <a:pt x="87" y="125"/>
                      </a:lnTo>
                      <a:lnTo>
                        <a:pt x="122" y="125"/>
                      </a:lnTo>
                      <a:lnTo>
                        <a:pt x="87" y="96"/>
                      </a:lnTo>
                      <a:lnTo>
                        <a:pt x="49" y="67"/>
                      </a:lnTo>
                      <a:lnTo>
                        <a:pt x="26" y="57"/>
                      </a:lnTo>
                      <a:lnTo>
                        <a:pt x="43" y="38"/>
                      </a:lnTo>
                      <a:lnTo>
                        <a:pt x="75" y="67"/>
                      </a:lnTo>
                      <a:lnTo>
                        <a:pt x="145" y="89"/>
                      </a:lnTo>
                      <a:lnTo>
                        <a:pt x="145" y="50"/>
                      </a:lnTo>
                      <a:lnTo>
                        <a:pt x="127" y="14"/>
                      </a:lnTo>
                      <a:lnTo>
                        <a:pt x="127" y="0"/>
                      </a:lnTo>
                      <a:lnTo>
                        <a:pt x="145" y="0"/>
                      </a:lnTo>
                      <a:lnTo>
                        <a:pt x="174" y="50"/>
                      </a:lnTo>
                      <a:lnTo>
                        <a:pt x="200" y="89"/>
                      </a:lnTo>
                      <a:lnTo>
                        <a:pt x="226" y="50"/>
                      </a:lnTo>
                      <a:lnTo>
                        <a:pt x="232" y="2"/>
                      </a:lnTo>
                      <a:lnTo>
                        <a:pt x="258" y="2"/>
                      </a:lnTo>
                      <a:lnTo>
                        <a:pt x="250" y="89"/>
                      </a:lnTo>
                      <a:lnTo>
                        <a:pt x="200" y="159"/>
                      </a:lnTo>
                      <a:lnTo>
                        <a:pt x="209" y="248"/>
                      </a:lnTo>
                      <a:lnTo>
                        <a:pt x="252" y="347"/>
                      </a:lnTo>
                      <a:lnTo>
                        <a:pt x="319" y="443"/>
                      </a:lnTo>
                      <a:lnTo>
                        <a:pt x="407" y="557"/>
                      </a:lnTo>
                      <a:lnTo>
                        <a:pt x="488" y="644"/>
                      </a:lnTo>
                      <a:lnTo>
                        <a:pt x="581" y="716"/>
                      </a:lnTo>
                      <a:lnTo>
                        <a:pt x="642" y="747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19"/>
                <p:cNvSpPr/>
                <p:nvPr/>
              </p:nvSpPr>
              <p:spPr>
                <a:xfrm>
                  <a:off x="7446240" y="4430880"/>
                  <a:ext cx="422640" cy="906840"/>
                </a:xfrm>
                <a:custGeom>
                  <a:avLst/>
                  <a:gdLst>
                    <a:gd name="textAreaLeft" fmla="*/ 0 w 422640"/>
                    <a:gd name="textAreaRight" fmla="*/ 423000 w 422640"/>
                    <a:gd name="textAreaTop" fmla="*/ 0 h 906840"/>
                    <a:gd name="textAreaBottom" fmla="*/ 907200 h 906840"/>
                  </a:gdLst>
                  <a:ahLst/>
                  <a:rect l="textAreaLeft" t="textAreaTop" r="textAreaRight" b="textAreaBottom"/>
                  <a:pathLst>
                    <a:path w="533" h="1143">
                      <a:moveTo>
                        <a:pt x="26" y="1058"/>
                      </a:moveTo>
                      <a:lnTo>
                        <a:pt x="79" y="990"/>
                      </a:lnTo>
                      <a:lnTo>
                        <a:pt x="163" y="882"/>
                      </a:lnTo>
                      <a:lnTo>
                        <a:pt x="201" y="780"/>
                      </a:lnTo>
                      <a:lnTo>
                        <a:pt x="250" y="613"/>
                      </a:lnTo>
                      <a:lnTo>
                        <a:pt x="294" y="469"/>
                      </a:lnTo>
                      <a:lnTo>
                        <a:pt x="312" y="345"/>
                      </a:lnTo>
                      <a:lnTo>
                        <a:pt x="341" y="203"/>
                      </a:lnTo>
                      <a:lnTo>
                        <a:pt x="332" y="145"/>
                      </a:lnTo>
                      <a:lnTo>
                        <a:pt x="280" y="99"/>
                      </a:lnTo>
                      <a:lnTo>
                        <a:pt x="250" y="50"/>
                      </a:lnTo>
                      <a:lnTo>
                        <a:pt x="271" y="29"/>
                      </a:lnTo>
                      <a:lnTo>
                        <a:pt x="294" y="70"/>
                      </a:lnTo>
                      <a:lnTo>
                        <a:pt x="332" y="92"/>
                      </a:lnTo>
                      <a:lnTo>
                        <a:pt x="332" y="58"/>
                      </a:lnTo>
                      <a:lnTo>
                        <a:pt x="332" y="0"/>
                      </a:lnTo>
                      <a:lnTo>
                        <a:pt x="349" y="0"/>
                      </a:lnTo>
                      <a:lnTo>
                        <a:pt x="364" y="58"/>
                      </a:lnTo>
                      <a:lnTo>
                        <a:pt x="376" y="87"/>
                      </a:lnTo>
                      <a:lnTo>
                        <a:pt x="419" y="43"/>
                      </a:lnTo>
                      <a:lnTo>
                        <a:pt x="437" y="0"/>
                      </a:lnTo>
                      <a:lnTo>
                        <a:pt x="463" y="19"/>
                      </a:lnTo>
                      <a:lnTo>
                        <a:pt x="437" y="65"/>
                      </a:lnTo>
                      <a:lnTo>
                        <a:pt x="411" y="108"/>
                      </a:lnTo>
                      <a:lnTo>
                        <a:pt x="486" y="94"/>
                      </a:lnTo>
                      <a:lnTo>
                        <a:pt x="524" y="72"/>
                      </a:lnTo>
                      <a:lnTo>
                        <a:pt x="533" y="87"/>
                      </a:lnTo>
                      <a:lnTo>
                        <a:pt x="495" y="113"/>
                      </a:lnTo>
                      <a:lnTo>
                        <a:pt x="451" y="128"/>
                      </a:lnTo>
                      <a:lnTo>
                        <a:pt x="408" y="159"/>
                      </a:lnTo>
                      <a:lnTo>
                        <a:pt x="382" y="215"/>
                      </a:lnTo>
                      <a:lnTo>
                        <a:pt x="355" y="311"/>
                      </a:lnTo>
                      <a:lnTo>
                        <a:pt x="329" y="464"/>
                      </a:lnTo>
                      <a:lnTo>
                        <a:pt x="303" y="587"/>
                      </a:lnTo>
                      <a:lnTo>
                        <a:pt x="271" y="703"/>
                      </a:lnTo>
                      <a:lnTo>
                        <a:pt x="233" y="831"/>
                      </a:lnTo>
                      <a:lnTo>
                        <a:pt x="189" y="947"/>
                      </a:lnTo>
                      <a:lnTo>
                        <a:pt x="128" y="1044"/>
                      </a:lnTo>
                      <a:lnTo>
                        <a:pt x="67" y="1114"/>
                      </a:lnTo>
                      <a:lnTo>
                        <a:pt x="23" y="1143"/>
                      </a:lnTo>
                      <a:lnTo>
                        <a:pt x="6" y="1128"/>
                      </a:lnTo>
                      <a:lnTo>
                        <a:pt x="0" y="1099"/>
                      </a:lnTo>
                      <a:lnTo>
                        <a:pt x="26" y="105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20"/>
                <p:cNvSpPr/>
                <p:nvPr/>
              </p:nvSpPr>
              <p:spPr>
                <a:xfrm>
                  <a:off x="6996240" y="5730480"/>
                  <a:ext cx="336960" cy="663120"/>
                </a:xfrm>
                <a:custGeom>
                  <a:avLst/>
                  <a:gdLst>
                    <a:gd name="textAreaLeft" fmla="*/ 0 w 336960"/>
                    <a:gd name="textAreaRight" fmla="*/ 337320 w 336960"/>
                    <a:gd name="textAreaTop" fmla="*/ 0 h 663120"/>
                    <a:gd name="textAreaBottom" fmla="*/ 663480 h 663120"/>
                  </a:gdLst>
                  <a:ahLst/>
                  <a:rect l="textAreaLeft" t="textAreaTop" r="textAreaRight" b="textAreaBottom"/>
                  <a:pathLst>
                    <a:path w="425" h="836">
                      <a:moveTo>
                        <a:pt x="267" y="121"/>
                      </a:moveTo>
                      <a:lnTo>
                        <a:pt x="305" y="70"/>
                      </a:lnTo>
                      <a:lnTo>
                        <a:pt x="363" y="0"/>
                      </a:lnTo>
                      <a:lnTo>
                        <a:pt x="419" y="7"/>
                      </a:lnTo>
                      <a:lnTo>
                        <a:pt x="425" y="63"/>
                      </a:lnTo>
                      <a:lnTo>
                        <a:pt x="407" y="94"/>
                      </a:lnTo>
                      <a:lnTo>
                        <a:pt x="372" y="130"/>
                      </a:lnTo>
                      <a:lnTo>
                        <a:pt x="302" y="181"/>
                      </a:lnTo>
                      <a:lnTo>
                        <a:pt x="250" y="231"/>
                      </a:lnTo>
                      <a:lnTo>
                        <a:pt x="224" y="275"/>
                      </a:lnTo>
                      <a:lnTo>
                        <a:pt x="197" y="330"/>
                      </a:lnTo>
                      <a:lnTo>
                        <a:pt x="206" y="403"/>
                      </a:lnTo>
                      <a:lnTo>
                        <a:pt x="253" y="448"/>
                      </a:lnTo>
                      <a:lnTo>
                        <a:pt x="288" y="518"/>
                      </a:lnTo>
                      <a:lnTo>
                        <a:pt x="302" y="593"/>
                      </a:lnTo>
                      <a:lnTo>
                        <a:pt x="311" y="684"/>
                      </a:lnTo>
                      <a:lnTo>
                        <a:pt x="296" y="771"/>
                      </a:lnTo>
                      <a:lnTo>
                        <a:pt x="253" y="793"/>
                      </a:lnTo>
                      <a:lnTo>
                        <a:pt x="206" y="786"/>
                      </a:lnTo>
                      <a:lnTo>
                        <a:pt x="136" y="800"/>
                      </a:lnTo>
                      <a:lnTo>
                        <a:pt x="66" y="836"/>
                      </a:lnTo>
                      <a:lnTo>
                        <a:pt x="32" y="829"/>
                      </a:lnTo>
                      <a:lnTo>
                        <a:pt x="0" y="800"/>
                      </a:lnTo>
                      <a:lnTo>
                        <a:pt x="14" y="786"/>
                      </a:lnTo>
                      <a:lnTo>
                        <a:pt x="52" y="774"/>
                      </a:lnTo>
                      <a:lnTo>
                        <a:pt x="139" y="757"/>
                      </a:lnTo>
                      <a:lnTo>
                        <a:pt x="218" y="757"/>
                      </a:lnTo>
                      <a:lnTo>
                        <a:pt x="244" y="757"/>
                      </a:lnTo>
                      <a:lnTo>
                        <a:pt x="261" y="735"/>
                      </a:lnTo>
                      <a:lnTo>
                        <a:pt x="270" y="692"/>
                      </a:lnTo>
                      <a:lnTo>
                        <a:pt x="259" y="605"/>
                      </a:lnTo>
                      <a:lnTo>
                        <a:pt x="232" y="521"/>
                      </a:lnTo>
                      <a:lnTo>
                        <a:pt x="192" y="475"/>
                      </a:lnTo>
                      <a:lnTo>
                        <a:pt x="154" y="431"/>
                      </a:lnTo>
                      <a:lnTo>
                        <a:pt x="130" y="369"/>
                      </a:lnTo>
                      <a:lnTo>
                        <a:pt x="136" y="304"/>
                      </a:lnTo>
                      <a:lnTo>
                        <a:pt x="165" y="239"/>
                      </a:lnTo>
                      <a:lnTo>
                        <a:pt x="215" y="181"/>
                      </a:lnTo>
                      <a:lnTo>
                        <a:pt x="267" y="12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21"/>
                <p:cNvSpPr/>
                <p:nvPr/>
              </p:nvSpPr>
              <p:spPr>
                <a:xfrm>
                  <a:off x="7323120" y="5745600"/>
                  <a:ext cx="288360" cy="64728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647280"/>
                    <a:gd name="textAreaBottom" fmla="*/ 647640 h 647280"/>
                  </a:gdLst>
                  <a:ahLst/>
                  <a:rect l="textAreaLeft" t="textAreaTop" r="textAreaRight" b="textAreaBottom"/>
                  <a:pathLst>
                    <a:path w="364" h="816">
                      <a:moveTo>
                        <a:pt x="149" y="130"/>
                      </a:moveTo>
                      <a:lnTo>
                        <a:pt x="67" y="99"/>
                      </a:lnTo>
                      <a:lnTo>
                        <a:pt x="18" y="72"/>
                      </a:lnTo>
                      <a:lnTo>
                        <a:pt x="0" y="34"/>
                      </a:lnTo>
                      <a:lnTo>
                        <a:pt x="27" y="7"/>
                      </a:lnTo>
                      <a:lnTo>
                        <a:pt x="85" y="0"/>
                      </a:lnTo>
                      <a:lnTo>
                        <a:pt x="129" y="12"/>
                      </a:lnTo>
                      <a:lnTo>
                        <a:pt x="216" y="84"/>
                      </a:lnTo>
                      <a:lnTo>
                        <a:pt x="295" y="142"/>
                      </a:lnTo>
                      <a:lnTo>
                        <a:pt x="338" y="208"/>
                      </a:lnTo>
                      <a:lnTo>
                        <a:pt x="350" y="258"/>
                      </a:lnTo>
                      <a:lnTo>
                        <a:pt x="364" y="319"/>
                      </a:lnTo>
                      <a:lnTo>
                        <a:pt x="356" y="389"/>
                      </a:lnTo>
                      <a:lnTo>
                        <a:pt x="295" y="471"/>
                      </a:lnTo>
                      <a:lnTo>
                        <a:pt x="242" y="529"/>
                      </a:lnTo>
                      <a:lnTo>
                        <a:pt x="193" y="599"/>
                      </a:lnTo>
                      <a:lnTo>
                        <a:pt x="155" y="635"/>
                      </a:lnTo>
                      <a:lnTo>
                        <a:pt x="123" y="671"/>
                      </a:lnTo>
                      <a:lnTo>
                        <a:pt x="123" y="693"/>
                      </a:lnTo>
                      <a:lnTo>
                        <a:pt x="155" y="700"/>
                      </a:lnTo>
                      <a:lnTo>
                        <a:pt x="219" y="710"/>
                      </a:lnTo>
                      <a:lnTo>
                        <a:pt x="286" y="732"/>
                      </a:lnTo>
                      <a:lnTo>
                        <a:pt x="341" y="773"/>
                      </a:lnTo>
                      <a:lnTo>
                        <a:pt x="330" y="797"/>
                      </a:lnTo>
                      <a:lnTo>
                        <a:pt x="280" y="816"/>
                      </a:lnTo>
                      <a:lnTo>
                        <a:pt x="242" y="797"/>
                      </a:lnTo>
                      <a:lnTo>
                        <a:pt x="201" y="760"/>
                      </a:lnTo>
                      <a:lnTo>
                        <a:pt x="155" y="739"/>
                      </a:lnTo>
                      <a:lnTo>
                        <a:pt x="114" y="729"/>
                      </a:lnTo>
                      <a:lnTo>
                        <a:pt x="79" y="724"/>
                      </a:lnTo>
                      <a:lnTo>
                        <a:pt x="50" y="717"/>
                      </a:lnTo>
                      <a:lnTo>
                        <a:pt x="41" y="707"/>
                      </a:lnTo>
                      <a:lnTo>
                        <a:pt x="44" y="686"/>
                      </a:lnTo>
                      <a:lnTo>
                        <a:pt x="97" y="642"/>
                      </a:lnTo>
                      <a:lnTo>
                        <a:pt x="184" y="563"/>
                      </a:lnTo>
                      <a:lnTo>
                        <a:pt x="260" y="456"/>
                      </a:lnTo>
                      <a:lnTo>
                        <a:pt x="289" y="403"/>
                      </a:lnTo>
                      <a:lnTo>
                        <a:pt x="306" y="345"/>
                      </a:lnTo>
                      <a:lnTo>
                        <a:pt x="303" y="273"/>
                      </a:lnTo>
                      <a:lnTo>
                        <a:pt x="271" y="215"/>
                      </a:lnTo>
                      <a:lnTo>
                        <a:pt x="225" y="167"/>
                      </a:lnTo>
                      <a:lnTo>
                        <a:pt x="149" y="13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Group 22"/>
            <p:cNvGrpSpPr/>
            <p:nvPr/>
          </p:nvGrpSpPr>
          <p:grpSpPr>
            <a:xfrm>
              <a:off x="7906320" y="4959000"/>
              <a:ext cx="660600" cy="856080"/>
              <a:chOff x="7906320" y="4959000"/>
              <a:chExt cx="660600" cy="856080"/>
            </a:xfrm>
          </p:grpSpPr>
          <p:sp>
            <p:nvSpPr>
              <p:cNvPr id="129" name="Freeform 23"/>
              <p:cNvSpPr/>
              <p:nvPr/>
            </p:nvSpPr>
            <p:spPr>
              <a:xfrm>
                <a:off x="7906320" y="4959000"/>
                <a:ext cx="660600" cy="856080"/>
              </a:xfrm>
              <a:custGeom>
                <a:avLst/>
                <a:gdLst>
                  <a:gd name="textAreaLeft" fmla="*/ 0 w 660600"/>
                  <a:gd name="textAreaRight" fmla="*/ 660600 w 660600"/>
                  <a:gd name="textAreaTop" fmla="*/ 0 h 856080"/>
                  <a:gd name="textAreaBottom" fmla="*/ 856440 h 856080"/>
                </a:gdLst>
                <a:ahLst/>
                <a:rect l="textAreaLeft" t="textAreaTop" r="textAreaRight" b="textAreaBottom"/>
                <a:pathLst>
                  <a:path w="833" h="1079">
                    <a:moveTo>
                      <a:pt x="122" y="0"/>
                    </a:moveTo>
                    <a:lnTo>
                      <a:pt x="72" y="82"/>
                    </a:lnTo>
                    <a:lnTo>
                      <a:pt x="43" y="152"/>
                    </a:lnTo>
                    <a:lnTo>
                      <a:pt x="17" y="227"/>
                    </a:lnTo>
                    <a:lnTo>
                      <a:pt x="0" y="285"/>
                    </a:lnTo>
                    <a:lnTo>
                      <a:pt x="20" y="369"/>
                    </a:lnTo>
                    <a:lnTo>
                      <a:pt x="81" y="420"/>
                    </a:lnTo>
                    <a:lnTo>
                      <a:pt x="131" y="470"/>
                    </a:lnTo>
                    <a:lnTo>
                      <a:pt x="113" y="603"/>
                    </a:lnTo>
                    <a:lnTo>
                      <a:pt x="87" y="784"/>
                    </a:lnTo>
                    <a:lnTo>
                      <a:pt x="107" y="977"/>
                    </a:lnTo>
                    <a:lnTo>
                      <a:pt x="133" y="1064"/>
                    </a:lnTo>
                    <a:lnTo>
                      <a:pt x="247" y="1035"/>
                    </a:lnTo>
                    <a:lnTo>
                      <a:pt x="326" y="1030"/>
                    </a:lnTo>
                    <a:lnTo>
                      <a:pt x="445" y="1035"/>
                    </a:lnTo>
                    <a:lnTo>
                      <a:pt x="550" y="1067"/>
                    </a:lnTo>
                    <a:lnTo>
                      <a:pt x="611" y="1079"/>
                    </a:lnTo>
                    <a:lnTo>
                      <a:pt x="611" y="1006"/>
                    </a:lnTo>
                    <a:lnTo>
                      <a:pt x="597" y="869"/>
                    </a:lnTo>
                    <a:lnTo>
                      <a:pt x="570" y="734"/>
                    </a:lnTo>
                    <a:lnTo>
                      <a:pt x="550" y="601"/>
                    </a:lnTo>
                    <a:lnTo>
                      <a:pt x="541" y="552"/>
                    </a:lnTo>
                    <a:lnTo>
                      <a:pt x="576" y="531"/>
                    </a:lnTo>
                    <a:lnTo>
                      <a:pt x="672" y="557"/>
                    </a:lnTo>
                    <a:lnTo>
                      <a:pt x="760" y="581"/>
                    </a:lnTo>
                    <a:lnTo>
                      <a:pt x="803" y="618"/>
                    </a:lnTo>
                    <a:lnTo>
                      <a:pt x="806" y="545"/>
                    </a:lnTo>
                    <a:lnTo>
                      <a:pt x="833" y="456"/>
                    </a:lnTo>
                    <a:lnTo>
                      <a:pt x="725" y="393"/>
                    </a:lnTo>
                    <a:lnTo>
                      <a:pt x="637" y="347"/>
                    </a:lnTo>
                    <a:lnTo>
                      <a:pt x="559" y="321"/>
                    </a:lnTo>
                    <a:lnTo>
                      <a:pt x="498" y="304"/>
                    </a:lnTo>
                    <a:lnTo>
                      <a:pt x="439" y="304"/>
                    </a:lnTo>
                    <a:lnTo>
                      <a:pt x="396" y="311"/>
                    </a:lnTo>
                    <a:lnTo>
                      <a:pt x="340" y="304"/>
                    </a:lnTo>
                    <a:lnTo>
                      <a:pt x="291" y="268"/>
                    </a:lnTo>
                    <a:lnTo>
                      <a:pt x="247" y="210"/>
                    </a:lnTo>
                    <a:lnTo>
                      <a:pt x="209" y="159"/>
                    </a:lnTo>
                    <a:lnTo>
                      <a:pt x="168" y="67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f8f8f8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" name="Group 24"/>
              <p:cNvGrpSpPr/>
              <p:nvPr/>
            </p:nvGrpSpPr>
            <p:grpSpPr>
              <a:xfrm>
                <a:off x="7944120" y="5009760"/>
                <a:ext cx="587160" cy="779400"/>
                <a:chOff x="7944120" y="5009760"/>
                <a:chExt cx="587160" cy="779400"/>
              </a:xfrm>
            </p:grpSpPr>
            <p:sp>
              <p:nvSpPr>
                <p:cNvPr id="131" name="Freeform 25"/>
                <p:cNvSpPr/>
                <p:nvPr/>
              </p:nvSpPr>
              <p:spPr>
                <a:xfrm>
                  <a:off x="7944120" y="5009760"/>
                  <a:ext cx="109080" cy="25920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259200"/>
                    <a:gd name="textAreaBottom" fmla="*/ 259560 h 259200"/>
                  </a:gdLst>
                  <a:ahLst/>
                  <a:rect l="textAreaLeft" t="textAreaTop" r="textAreaRight" b="textAreaBottom"/>
                  <a:pathLst>
                    <a:path w="138" h="327">
                      <a:moveTo>
                        <a:pt x="0" y="290"/>
                      </a:moveTo>
                      <a:lnTo>
                        <a:pt x="9" y="218"/>
                      </a:lnTo>
                      <a:lnTo>
                        <a:pt x="40" y="140"/>
                      </a:lnTo>
                      <a:lnTo>
                        <a:pt x="66" y="75"/>
                      </a:lnTo>
                      <a:lnTo>
                        <a:pt x="86" y="24"/>
                      </a:lnTo>
                      <a:lnTo>
                        <a:pt x="112" y="0"/>
                      </a:lnTo>
                      <a:lnTo>
                        <a:pt x="138" y="14"/>
                      </a:lnTo>
                      <a:lnTo>
                        <a:pt x="101" y="89"/>
                      </a:lnTo>
                      <a:lnTo>
                        <a:pt x="58" y="189"/>
                      </a:lnTo>
                      <a:lnTo>
                        <a:pt x="32" y="278"/>
                      </a:lnTo>
                      <a:lnTo>
                        <a:pt x="32" y="327"/>
                      </a:lnTo>
                      <a:lnTo>
                        <a:pt x="0" y="327"/>
                      </a:lnTo>
                      <a:lnTo>
                        <a:pt x="0" y="269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26"/>
                <p:cNvSpPr/>
                <p:nvPr/>
              </p:nvSpPr>
              <p:spPr>
                <a:xfrm>
                  <a:off x="7994520" y="5100840"/>
                  <a:ext cx="101520" cy="21888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28" h="276">
                      <a:moveTo>
                        <a:pt x="0" y="245"/>
                      </a:moveTo>
                      <a:lnTo>
                        <a:pt x="8" y="184"/>
                      </a:lnTo>
                      <a:lnTo>
                        <a:pt x="37" y="119"/>
                      </a:lnTo>
                      <a:lnTo>
                        <a:pt x="61" y="63"/>
                      </a:lnTo>
                      <a:lnTo>
                        <a:pt x="80" y="20"/>
                      </a:lnTo>
                      <a:lnTo>
                        <a:pt x="104" y="0"/>
                      </a:lnTo>
                      <a:lnTo>
                        <a:pt x="128" y="12"/>
                      </a:lnTo>
                      <a:lnTo>
                        <a:pt x="93" y="76"/>
                      </a:lnTo>
                      <a:lnTo>
                        <a:pt x="53" y="159"/>
                      </a:lnTo>
                      <a:lnTo>
                        <a:pt x="29" y="235"/>
                      </a:lnTo>
                      <a:lnTo>
                        <a:pt x="29" y="276"/>
                      </a:lnTo>
                      <a:lnTo>
                        <a:pt x="0" y="276"/>
                      </a:lnTo>
                      <a:lnTo>
                        <a:pt x="0" y="227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27"/>
                <p:cNvSpPr/>
                <p:nvPr/>
              </p:nvSpPr>
              <p:spPr>
                <a:xfrm>
                  <a:off x="8037360" y="5153760"/>
                  <a:ext cx="106200" cy="6285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628560"/>
                    <a:gd name="textAreaBottom" fmla="*/ 628920 h 628560"/>
                  </a:gdLst>
                  <a:ahLst/>
                  <a:rect l="textAreaLeft" t="textAreaTop" r="textAreaRight" b="textAreaBottom"/>
                  <a:pathLst>
                    <a:path w="134" h="792">
                      <a:moveTo>
                        <a:pt x="26" y="770"/>
                      </a:moveTo>
                      <a:lnTo>
                        <a:pt x="12" y="681"/>
                      </a:lnTo>
                      <a:lnTo>
                        <a:pt x="0" y="560"/>
                      </a:lnTo>
                      <a:lnTo>
                        <a:pt x="3" y="412"/>
                      </a:lnTo>
                      <a:lnTo>
                        <a:pt x="12" y="269"/>
                      </a:lnTo>
                      <a:lnTo>
                        <a:pt x="35" y="158"/>
                      </a:lnTo>
                      <a:lnTo>
                        <a:pt x="64" y="70"/>
                      </a:lnTo>
                      <a:lnTo>
                        <a:pt x="99" y="0"/>
                      </a:lnTo>
                      <a:lnTo>
                        <a:pt x="134" y="44"/>
                      </a:lnTo>
                      <a:lnTo>
                        <a:pt x="99" y="114"/>
                      </a:lnTo>
                      <a:lnTo>
                        <a:pt x="82" y="175"/>
                      </a:lnTo>
                      <a:lnTo>
                        <a:pt x="61" y="284"/>
                      </a:lnTo>
                      <a:lnTo>
                        <a:pt x="47" y="441"/>
                      </a:lnTo>
                      <a:lnTo>
                        <a:pt x="47" y="565"/>
                      </a:lnTo>
                      <a:lnTo>
                        <a:pt x="55" y="661"/>
                      </a:lnTo>
                      <a:lnTo>
                        <a:pt x="70" y="724"/>
                      </a:lnTo>
                      <a:lnTo>
                        <a:pt x="82" y="775"/>
                      </a:lnTo>
                      <a:lnTo>
                        <a:pt x="29" y="792"/>
                      </a:lnTo>
                      <a:lnTo>
                        <a:pt x="26" y="7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28"/>
                <p:cNvSpPr/>
                <p:nvPr/>
              </p:nvSpPr>
              <p:spPr>
                <a:xfrm>
                  <a:off x="8133480" y="5209560"/>
                  <a:ext cx="79920" cy="55836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558360"/>
                    <a:gd name="textAreaBottom" fmla="*/ 558720 h 558360"/>
                  </a:gdLst>
                  <a:ahLst/>
                  <a:rect l="textAreaLeft" t="textAreaTop" r="textAreaRight" b="textAreaBottom"/>
                  <a:pathLst>
                    <a:path w="101" h="704">
                      <a:moveTo>
                        <a:pt x="29" y="697"/>
                      </a:moveTo>
                      <a:lnTo>
                        <a:pt x="8" y="581"/>
                      </a:lnTo>
                      <a:lnTo>
                        <a:pt x="0" y="456"/>
                      </a:lnTo>
                      <a:lnTo>
                        <a:pt x="0" y="335"/>
                      </a:lnTo>
                      <a:lnTo>
                        <a:pt x="8" y="231"/>
                      </a:lnTo>
                      <a:lnTo>
                        <a:pt x="17" y="123"/>
                      </a:lnTo>
                      <a:lnTo>
                        <a:pt x="47" y="39"/>
                      </a:lnTo>
                      <a:lnTo>
                        <a:pt x="65" y="0"/>
                      </a:lnTo>
                      <a:lnTo>
                        <a:pt x="101" y="0"/>
                      </a:lnTo>
                      <a:lnTo>
                        <a:pt x="74" y="116"/>
                      </a:lnTo>
                      <a:lnTo>
                        <a:pt x="65" y="212"/>
                      </a:lnTo>
                      <a:lnTo>
                        <a:pt x="62" y="333"/>
                      </a:lnTo>
                      <a:lnTo>
                        <a:pt x="62" y="456"/>
                      </a:lnTo>
                      <a:lnTo>
                        <a:pt x="65" y="596"/>
                      </a:lnTo>
                      <a:lnTo>
                        <a:pt x="74" y="675"/>
                      </a:lnTo>
                      <a:lnTo>
                        <a:pt x="83" y="704"/>
                      </a:lnTo>
                      <a:lnTo>
                        <a:pt x="29" y="6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29"/>
                <p:cNvSpPr/>
                <p:nvPr/>
              </p:nvSpPr>
              <p:spPr>
                <a:xfrm>
                  <a:off x="8229600" y="5200560"/>
                  <a:ext cx="79920" cy="588600"/>
                </a:xfrm>
                <a:custGeom>
                  <a:avLst/>
                  <a:gdLst>
                    <a:gd name="textAreaLeft" fmla="*/ 0 w 79920"/>
                    <a:gd name="textAreaRight" fmla="*/ 80280 w 79920"/>
                    <a:gd name="textAreaTop" fmla="*/ 0 h 588600"/>
                    <a:gd name="textAreaBottom" fmla="*/ 588960 h 588600"/>
                  </a:gdLst>
                  <a:ahLst/>
                  <a:rect l="textAreaLeft" t="textAreaTop" r="textAreaRight" b="textAreaBottom"/>
                  <a:pathLst>
                    <a:path w="101" h="742">
                      <a:moveTo>
                        <a:pt x="35" y="708"/>
                      </a:moveTo>
                      <a:lnTo>
                        <a:pt x="11" y="578"/>
                      </a:lnTo>
                      <a:lnTo>
                        <a:pt x="2" y="453"/>
                      </a:lnTo>
                      <a:lnTo>
                        <a:pt x="0" y="325"/>
                      </a:lnTo>
                      <a:lnTo>
                        <a:pt x="0" y="179"/>
                      </a:lnTo>
                      <a:lnTo>
                        <a:pt x="17" y="77"/>
                      </a:lnTo>
                      <a:lnTo>
                        <a:pt x="26" y="5"/>
                      </a:lnTo>
                      <a:lnTo>
                        <a:pt x="71" y="0"/>
                      </a:lnTo>
                      <a:lnTo>
                        <a:pt x="62" y="70"/>
                      </a:lnTo>
                      <a:lnTo>
                        <a:pt x="44" y="188"/>
                      </a:lnTo>
                      <a:lnTo>
                        <a:pt x="47" y="301"/>
                      </a:lnTo>
                      <a:lnTo>
                        <a:pt x="62" y="453"/>
                      </a:lnTo>
                      <a:lnTo>
                        <a:pt x="74" y="583"/>
                      </a:lnTo>
                      <a:lnTo>
                        <a:pt x="89" y="655"/>
                      </a:lnTo>
                      <a:lnTo>
                        <a:pt x="101" y="742"/>
                      </a:lnTo>
                      <a:lnTo>
                        <a:pt x="35" y="7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0"/>
                <p:cNvSpPr/>
                <p:nvPr/>
              </p:nvSpPr>
              <p:spPr>
                <a:xfrm>
                  <a:off x="8310240" y="5215680"/>
                  <a:ext cx="53640" cy="18720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68" h="236">
                      <a:moveTo>
                        <a:pt x="18" y="0"/>
                      </a:moveTo>
                      <a:lnTo>
                        <a:pt x="0" y="68"/>
                      </a:lnTo>
                      <a:lnTo>
                        <a:pt x="0" y="134"/>
                      </a:lnTo>
                      <a:lnTo>
                        <a:pt x="9" y="212"/>
                      </a:lnTo>
                      <a:lnTo>
                        <a:pt x="18" y="236"/>
                      </a:lnTo>
                      <a:lnTo>
                        <a:pt x="63" y="190"/>
                      </a:lnTo>
                      <a:lnTo>
                        <a:pt x="45" y="117"/>
                      </a:lnTo>
                      <a:lnTo>
                        <a:pt x="51" y="44"/>
                      </a:lnTo>
                      <a:lnTo>
                        <a:pt x="68" y="1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1"/>
                <p:cNvSpPr/>
                <p:nvPr/>
              </p:nvSpPr>
              <p:spPr>
                <a:xfrm>
                  <a:off x="8398440" y="5245200"/>
                  <a:ext cx="55080" cy="14436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70" h="182">
                      <a:moveTo>
                        <a:pt x="18" y="0"/>
                      </a:moveTo>
                      <a:lnTo>
                        <a:pt x="0" y="61"/>
                      </a:lnTo>
                      <a:lnTo>
                        <a:pt x="0" y="124"/>
                      </a:lnTo>
                      <a:lnTo>
                        <a:pt x="18" y="170"/>
                      </a:lnTo>
                      <a:lnTo>
                        <a:pt x="70" y="182"/>
                      </a:lnTo>
                      <a:lnTo>
                        <a:pt x="50" y="139"/>
                      </a:lnTo>
                      <a:lnTo>
                        <a:pt x="53" y="73"/>
                      </a:lnTo>
                      <a:lnTo>
                        <a:pt x="70" y="2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2"/>
                <p:cNvSpPr/>
                <p:nvPr/>
              </p:nvSpPr>
              <p:spPr>
                <a:xfrm>
                  <a:off x="8488800" y="5292720"/>
                  <a:ext cx="42480" cy="1260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54" h="159">
                      <a:moveTo>
                        <a:pt x="12" y="0"/>
                      </a:moveTo>
                      <a:lnTo>
                        <a:pt x="0" y="34"/>
                      </a:lnTo>
                      <a:lnTo>
                        <a:pt x="0" y="95"/>
                      </a:lnTo>
                      <a:lnTo>
                        <a:pt x="8" y="144"/>
                      </a:lnTo>
                      <a:lnTo>
                        <a:pt x="54" y="159"/>
                      </a:lnTo>
                      <a:lnTo>
                        <a:pt x="35" y="110"/>
                      </a:lnTo>
                      <a:lnTo>
                        <a:pt x="35" y="58"/>
                      </a:lnTo>
                      <a:lnTo>
                        <a:pt x="46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5D5-D750-43F8-BAA3-89D97263B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: Do not rely on any one technique for determi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vessel’s posi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rdinal rule … use all the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check position from one source with other information at h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kinds of 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navigation method has an undetected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at crashes when everything seemed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method fails and navigator not able to begin backup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S fails, no DR plot started, little clue where you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9A8-DCD0-4A59-B003-61480BFE7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marL="73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4: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Be alert to anomalie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e unexpected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unexpected things happen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pected things don’t happ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ed unusual sounds and 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/hull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ed waves from a sh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your “sixth sens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s” like current pushing you into dan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60C-6E4C-4B13-A56B-83E8A1EB3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25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5: Emphasize routin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 times of stress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ming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s th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s you in better situation after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checklists.  (You won’t forget important thing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ed procedures, even if only marginally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DR.  (Even if only with notes in a log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6500880" y="1833480"/>
          <a:ext cx="2185920" cy="205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1833480"/>
                    <a:ext cx="21859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6293-DA23-4426-8F5B-25A4649E06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2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: Slow down or stop the vess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f necessar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d circumstances permi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ng running may simply ge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to the disaster fas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topp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ituations of limited visi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whenever in hazardous water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unsure of po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can give you advantage of sil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not to stop in a main chann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859440" y="2209680"/>
          <a:ext cx="1827360" cy="304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9440" y="2209680"/>
                    <a:ext cx="1827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3:10:30Z</dcterms:created>
  <dc:creator>jan</dc:creator>
  <dc:description>12/12/2001
Latest Revision January 11, 2002
The PowerPoint Project</dc:description>
  <dc:language>en-US</dc:language>
  <cp:lastModifiedBy>Cypherja</cp:lastModifiedBy>
  <cp:lastPrinted>2001-12-27T01:50:10Z</cp:lastPrinted>
  <dcterms:modified xsi:type="dcterms:W3CDTF">2010-10-01T11:11:55Z</dcterms:modified>
  <cp:revision>41</cp:revision>
  <dc:subject>America's Boating Course</dc:subject>
  <dc:title>Coastal Navigation Basic</dc:title>
</cp:coreProperties>
</file>