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D6C0-9622-4E1E-A9F0-1524B9531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B3B5-98D8-4251-96EE-6F7EBDD4A2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C4D8-A0FE-417A-9F8B-D49F539C68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36AD-7FE9-4B64-B7DC-77E566221F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8A29-8088-4EE8-A23E-4D9904765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8C51-A861-441A-8D97-2189FF140D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5FDA-7EDB-411A-A9C3-A6AB1B9FB9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5BC3-EF7F-420F-8336-EA2D9A316F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182F-CEBC-4C43-B940-BB00A32300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5612-8313-4D0D-B2D8-85D6A3C656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4799-7B63-4EF9-801F-98176596FB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7E0D-A256-408C-A905-1F05C381F1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2AA0-A39A-436E-9A13-0F2C42755E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BFF6-40EA-4FA7-88DB-C55C2412C2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D432-FCD4-46C5-AE0C-0C0AA79E2E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EC5C-59E6-4170-B494-9485CE7426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50A9-76EB-4A5A-B956-3F1A3369FA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97A9-3215-4C86-8971-F6160D86AA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7A0-7D4F-4E76-81E6-F7866F0872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49FC-3F9C-4FC2-9EDD-B872E938F7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7D74-FA8C-4AC2-92B7-D2C3720B54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EDA0-1278-44D5-A167-5EFD9FF6F0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7F94-E4CA-472C-8D0D-CFE3ADF9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5DFF-9392-47F8-94DE-071830DD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12CF-7541-4815-9C92-B832A732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500A-B331-445E-B25B-FEF59C55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5092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5B05-3B50-49D2-8D77-C35B5EE0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F247-C737-4C53-9EED-4779DF60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3C40-F959-4708-A548-7A4D29A4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9B4C-290B-4606-8F2D-563AF33A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5092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B628-583D-4359-962F-380F560D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81E8-9191-4AB0-BCBF-C221DE26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4319-A2EC-4DF2-85CE-8B317689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B1EF-C2B5-4B7B-88D0-CE8EE5C7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4" descr="3logo"/>
          <p:cNvPicPr/>
          <p:nvPr/>
        </p:nvPicPr>
        <p:blipFill>
          <a:blip r:embed="rId10"/>
          <a:stretch/>
        </p:blipFill>
        <p:spPr>
          <a:xfrm>
            <a:off x="214200" y="546120"/>
            <a:ext cx="70020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76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71E7-0277-4FB4-88C6-021FF59239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0456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914400" y="471600"/>
            <a:ext cx="7772400" cy="886320"/>
            <a:chOff x="914400" y="471600"/>
            <a:chExt cx="7772400" cy="886320"/>
          </a:xfrm>
        </p:grpSpPr>
        <p:pic>
          <p:nvPicPr>
            <p:cNvPr id="43" name="Picture 5" descr="RacingStripe copy"/>
            <p:cNvPicPr/>
            <p:nvPr/>
          </p:nvPicPr>
          <p:blipFill>
            <a:blip r:embed="rId3"/>
            <a:srcRect l="0" t="15805" r="0" b="15805"/>
            <a:stretch/>
          </p:blipFill>
          <p:spPr>
            <a:xfrm>
              <a:off x="914400" y="577800"/>
              <a:ext cx="1349280" cy="722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</p:pic>
        <p:sp>
          <p:nvSpPr>
            <p:cNvPr id="44" name="Text Box 6"/>
            <p:cNvSpPr/>
            <p:nvPr/>
          </p:nvSpPr>
          <p:spPr>
            <a:xfrm>
              <a:off x="914400" y="471600"/>
              <a:ext cx="7772400" cy="88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nited States Coast Guard</a:t>
              </a:r>
              <a:br>
                <a:rPr sz="28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.S. Coast Guard Auxili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5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952560" y="25146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information contained within this document is copyright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3981-031D-45D0-AD75-8073EB2EAA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560" y="1828800"/>
            <a:ext cx="544356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solve problems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- speed – dist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know two variable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solve for the thi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: solar or battery powered calcul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utical Slide Ru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6" name="Picture 6" descr="npo00001d"/>
          <p:cNvPicPr/>
          <p:nvPr/>
        </p:nvPicPr>
        <p:blipFill>
          <a:blip r:embed="rId4"/>
          <a:stretch/>
        </p:blipFill>
        <p:spPr>
          <a:xfrm>
            <a:off x="6019920" y="2362320"/>
            <a:ext cx="2620800" cy="26906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1412-455A-479B-86C2-CC1B007CDA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18 copy"/>
          <p:cNvPicPr/>
          <p:nvPr/>
        </p:nvPicPr>
        <p:blipFill>
          <a:blip r:embed="rId1"/>
          <a:stretch/>
        </p:blipFill>
        <p:spPr>
          <a:xfrm>
            <a:off x="5029200" y="3962520"/>
            <a:ext cx="2489040" cy="2514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npo00001f"/>
          <p:cNvPicPr/>
          <p:nvPr/>
        </p:nvPicPr>
        <p:blipFill>
          <a:blip r:embed="rId2"/>
          <a:stretch/>
        </p:blipFill>
        <p:spPr>
          <a:xfrm>
            <a:off x="5257800" y="1676520"/>
            <a:ext cx="2590920" cy="20113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inoculars an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and-held Compa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5600" y="1927080"/>
            <a:ext cx="42642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ocu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ng ATONS, Land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7 X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120" y="4191120"/>
            <a:ext cx="396252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-held Comp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bearings on ATONS or landmarks to establish L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3F28-7531-470E-845B-336ACBD4F6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th Sounder &amp; G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5600" y="1941120"/>
            <a:ext cx="5248440" cy="1778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th sound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prevent grou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 in position-fi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660760" y="4198680"/>
            <a:ext cx="5803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 fi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navigation-related comput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fishfinder"/>
          <p:cNvPicPr/>
          <p:nvPr/>
        </p:nvPicPr>
        <p:blipFill>
          <a:blip r:embed="rId7"/>
          <a:stretch/>
        </p:blipFill>
        <p:spPr>
          <a:xfrm>
            <a:off x="5410080" y="1676520"/>
            <a:ext cx="2409840" cy="2154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GarminGPS"/>
          <p:cNvPicPr/>
          <p:nvPr/>
        </p:nvPicPr>
        <p:blipFill>
          <a:blip r:embed="rId8"/>
          <a:stretch/>
        </p:blipFill>
        <p:spPr>
          <a:xfrm>
            <a:off x="1295280" y="3733920"/>
            <a:ext cx="1116000" cy="25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754F-72BE-4930-8705-B8A3044320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2052" descr="npo000021"/>
          <p:cNvPicPr/>
          <p:nvPr/>
        </p:nvPicPr>
        <p:blipFill>
          <a:blip r:embed="rId1"/>
          <a:stretch/>
        </p:blipFill>
        <p:spPr>
          <a:xfrm>
            <a:off x="4648320" y="1905120"/>
            <a:ext cx="4127400" cy="32385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xta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143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 use for celestial navig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useful for measuring horizontal and vertical ang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Distance off from vertical ang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00"/>
                            </p:stCondLst>
                            <p:childTnLst>
                              <p:par>
                                <p:cTn id="4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AA06-FEA4-403E-A577-F0D720873E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ther Too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2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Direction Fi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ran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cal Range 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892160"/>
            <a:ext cx="3924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-Tech St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a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cil sharpe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if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C1C1-9A34-4F93-A301-5BB1F109EA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081" descr="npo000023"/>
          <p:cNvPicPr/>
          <p:nvPr/>
        </p:nvPicPr>
        <p:blipFill>
          <a:blip r:embed="rId1"/>
          <a:stretch/>
        </p:blipFill>
        <p:spPr>
          <a:xfrm>
            <a:off x="5202360" y="1981080"/>
            <a:ext cx="3027240" cy="44197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ference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autical Chart NO. 1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387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nation of nautical cha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brev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900"/>
                            </p:stCondLst>
                            <p:childTnLst>
                              <p:par>
                                <p:cTn id="5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8522-5C0B-428D-9C16-99347CEE9D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3080" descr="npo000025"/>
          <p:cNvPicPr/>
          <p:nvPr/>
        </p:nvPicPr>
        <p:blipFill>
          <a:blip r:embed="rId1"/>
          <a:stretch/>
        </p:blipFill>
        <p:spPr>
          <a:xfrm>
            <a:off x="5084640" y="1676520"/>
            <a:ext cx="3373560" cy="4419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ference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ide &amp; Current Tabl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47280" y="1892160"/>
            <a:ext cx="400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ions of tidal ev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e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l cur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l current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950"/>
                            </p:stCondLst>
                            <p:childTnLst>
                              <p:par>
                                <p:cTn id="5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04C0-CA8A-4637-8FA5-1DDFEEEC21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7" descr="npo000027"/>
          <p:cNvPicPr/>
          <p:nvPr/>
        </p:nvPicPr>
        <p:blipFill>
          <a:blip r:embed="rId1"/>
          <a:stretch/>
        </p:blipFill>
        <p:spPr>
          <a:xfrm>
            <a:off x="6286680" y="1905120"/>
            <a:ext cx="2624040" cy="38034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01" name="Picture 8" descr="npo000029"/>
          <p:cNvPicPr/>
          <p:nvPr/>
        </p:nvPicPr>
        <p:blipFill>
          <a:blip r:embed="rId2"/>
          <a:stretch/>
        </p:blipFill>
        <p:spPr>
          <a:xfrm>
            <a:off x="3352680" y="1917720"/>
            <a:ext cx="2648160" cy="37782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ference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otices to Mariner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087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s and corre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zards to navi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914400" y="57913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ttp://www.navcen.uscg.go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900"/>
                            </p:stCondLst>
                            <p:childTnLst>
                              <p:par>
                                <p:cTn id="6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AC80-C40A-4917-BF09-2564079006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4" descr="npo00002b"/>
          <p:cNvPicPr/>
          <p:nvPr/>
        </p:nvPicPr>
        <p:blipFill>
          <a:blip r:embed="rId1"/>
          <a:stretch/>
        </p:blipFill>
        <p:spPr>
          <a:xfrm>
            <a:off x="4681440" y="2057400"/>
            <a:ext cx="4157640" cy="41911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ference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mputer Program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e &amp; tidal current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chart plo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yage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spcAft>
                <a:spcPts val="34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ssel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8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850"/>
                            </p:stCondLst>
                            <p:childTnLst>
                              <p:par>
                                <p:cTn id="6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4BCD-8192-466E-BC37-F4977FF7D6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ther Refer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ast Pil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descriptions and navigation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ice regarding waterw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1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ght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bular compilation of ATON location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escrip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1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uising gu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ly produced waterway descriptions and cruising ad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36240" y="1828440"/>
            <a:ext cx="70866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asic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oastal Navig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hapter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vigator’s Tools &amp;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D406-78FF-45B0-8808-A12331A08B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Your Most Important Too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80880" y="31240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PREPARATION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4BA3-ABEF-4822-9B4C-D633705806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d of Chapter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5" name="Picture 7" descr="eagle"/>
          <p:cNvPicPr/>
          <p:nvPr/>
        </p:nvPicPr>
        <p:blipFill>
          <a:blip r:embed="rId1"/>
          <a:stretch/>
        </p:blipFill>
        <p:spPr>
          <a:xfrm>
            <a:off x="1623960" y="2438280"/>
            <a:ext cx="6343560" cy="278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2EE0-BCC1-4501-8EB5-75060C8289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5" descr="npo00000d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60440" y="2209680"/>
            <a:ext cx="5080320" cy="35686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Navigator’s Tool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5EDD-D0AD-4C4A-BE6A-1C985D45BC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42600" y="1943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Quality Too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 the best quality you can aff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d, stamped steel perish quick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rine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tools, good care = long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Tech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right tool for the purp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 using the t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curacy Depends 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7634-FD63-406B-A3B2-F4F627548D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ott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straight l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angles with respect to longitu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Measure dir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ccording to personal p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F310-ABF7-4573-AFB9-F741A6849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1458000" y="1676520"/>
            <a:ext cx="6471720" cy="747720"/>
            <a:chOff x="1458000" y="1676520"/>
            <a:chExt cx="6471720" cy="747720"/>
          </a:xfrm>
        </p:grpSpPr>
        <p:pic>
          <p:nvPicPr>
            <p:cNvPr id="114" name="Picture 2050" descr="npo00000f"/>
            <p:cNvPicPr/>
            <p:nvPr/>
          </p:nvPicPr>
          <p:blipFill>
            <a:blip r:embed="rId1"/>
            <a:stretch/>
          </p:blipFill>
          <p:spPr>
            <a:xfrm>
              <a:off x="3200400" y="1676520"/>
              <a:ext cx="4729320" cy="74772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115" name="Text Box 4"/>
            <p:cNvSpPr/>
            <p:nvPr/>
          </p:nvSpPr>
          <p:spPr>
            <a:xfrm>
              <a:off x="1458000" y="1866960"/>
              <a:ext cx="15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rallel Ru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otting Too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17" name="Group 21"/>
          <p:cNvGrpSpPr/>
          <p:nvPr/>
        </p:nvGrpSpPr>
        <p:grpSpPr>
          <a:xfrm>
            <a:off x="78840" y="2695680"/>
            <a:ext cx="8739000" cy="3454200"/>
            <a:chOff x="78840" y="2695680"/>
            <a:chExt cx="8739000" cy="3454200"/>
          </a:xfrm>
        </p:grpSpPr>
        <p:pic>
          <p:nvPicPr>
            <p:cNvPr id="118" name="Picture 2062" descr="npo000011"/>
            <p:cNvPicPr/>
            <p:nvPr/>
          </p:nvPicPr>
          <p:blipFill>
            <a:blip r:embed="rId2"/>
            <a:stretch/>
          </p:blipFill>
          <p:spPr>
            <a:xfrm>
              <a:off x="2214720" y="2695680"/>
              <a:ext cx="5252760" cy="345420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119" name="Text Box 5"/>
            <p:cNvSpPr/>
            <p:nvPr/>
          </p:nvSpPr>
          <p:spPr>
            <a:xfrm>
              <a:off x="918000" y="550080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ragli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421920" y="312408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urse Plo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78840" y="458640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urse Protra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7545960" y="3962520"/>
              <a:ext cx="12718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-A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ra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830760" y="4643280"/>
              <a:ext cx="14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cta R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815400" y="373392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ragli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Compac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AC37-72CC-4DD9-87CC-F05E673A65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re Plotting Too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1863000" y="1447920"/>
            <a:ext cx="5832720" cy="1104840"/>
            <a:chOff x="1863000" y="1447920"/>
            <a:chExt cx="5832720" cy="1104840"/>
          </a:xfrm>
        </p:grpSpPr>
        <p:pic>
          <p:nvPicPr>
            <p:cNvPr id="130" name="Picture 3" descr="npo000013"/>
            <p:cNvPicPr/>
            <p:nvPr/>
          </p:nvPicPr>
          <p:blipFill>
            <a:blip r:embed="rId1"/>
            <a:stretch/>
          </p:blipFill>
          <p:spPr>
            <a:xfrm>
              <a:off x="4813200" y="1447920"/>
              <a:ext cx="2882520" cy="110484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131" name="Text Box 7"/>
            <p:cNvSpPr/>
            <p:nvPr/>
          </p:nvSpPr>
          <p:spPr>
            <a:xfrm>
              <a:off x="1863000" y="1801800"/>
              <a:ext cx="235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hart Protrac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Group 13"/>
          <p:cNvGrpSpPr/>
          <p:nvPr/>
        </p:nvGrpSpPr>
        <p:grpSpPr>
          <a:xfrm>
            <a:off x="1006560" y="2819520"/>
            <a:ext cx="7581960" cy="3454200"/>
            <a:chOff x="1006560" y="2819520"/>
            <a:chExt cx="7581960" cy="3454200"/>
          </a:xfrm>
        </p:grpSpPr>
        <p:pic>
          <p:nvPicPr>
            <p:cNvPr id="133" name="Picture 5" descr="npo000014"/>
            <p:cNvPicPr/>
            <p:nvPr/>
          </p:nvPicPr>
          <p:blipFill>
            <a:blip r:embed="rId2"/>
            <a:stretch/>
          </p:blipFill>
          <p:spPr>
            <a:xfrm>
              <a:off x="1006560" y="2819520"/>
              <a:ext cx="7581960" cy="345420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134" name="Text Box 8"/>
            <p:cNvSpPr/>
            <p:nvPr/>
          </p:nvSpPr>
          <p:spPr>
            <a:xfrm>
              <a:off x="1836720" y="3225960"/>
              <a:ext cx="173664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iple Parall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4180320" y="5267160"/>
              <a:ext cx="129924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tr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3420-A947-41B2-BA9B-AAF9E65F3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560" y="1828800"/>
            <a:ext cx="5360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r mark off distances on a ch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ed both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fting comp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for swinging an ar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viders &amp; Compa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41" name="Group 9"/>
          <p:cNvGrpSpPr/>
          <p:nvPr/>
        </p:nvGrpSpPr>
        <p:grpSpPr>
          <a:xfrm>
            <a:off x="5548320" y="2209680"/>
            <a:ext cx="3378240" cy="3200400"/>
            <a:chOff x="5548320" y="2209680"/>
            <a:chExt cx="3378240" cy="3200400"/>
          </a:xfrm>
        </p:grpSpPr>
        <p:pic>
          <p:nvPicPr>
            <p:cNvPr id="142" name="Picture 4" descr="npo000016"/>
            <p:cNvPicPr/>
            <p:nvPr/>
          </p:nvPicPr>
          <p:blipFill>
            <a:blip r:embed="rId6"/>
            <a:stretch/>
          </p:blipFill>
          <p:spPr>
            <a:xfrm>
              <a:off x="5548320" y="2209680"/>
              <a:ext cx="3378240" cy="320040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143" name="Text Box 7"/>
            <p:cNvSpPr/>
            <p:nvPr/>
          </p:nvSpPr>
          <p:spPr>
            <a:xfrm>
              <a:off x="7546680" y="378144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a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5717880" y="43974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250"/>
                            </p:stCondLst>
                            <p:childTnLst>
                              <p:par>
                                <p:cTn id="1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B130-A360-4356-B7AA-24D65C7748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4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99880" y="1906560"/>
            <a:ext cx="561024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able time piece essent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 reckoning navi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ning a search patte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light patter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 Hour display help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watch a useful fun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tch or Clo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0" name="Picture 5" descr="npo00001b"/>
          <p:cNvPicPr/>
          <p:nvPr/>
        </p:nvPicPr>
        <p:blipFill>
          <a:blip r:embed="rId7"/>
          <a:stretch/>
        </p:blipFill>
        <p:spPr>
          <a:xfrm>
            <a:off x="5881680" y="1905120"/>
            <a:ext cx="3033720" cy="36576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50"/>
                            </p:stCondLst>
                            <p:childTnLst>
                              <p:par>
                                <p:cTn id="2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37:09Z</dcterms:created>
  <dc:creator>jan</dc:creator>
  <dc:description/>
  <dc:language>en-US</dc:language>
  <cp:lastModifiedBy>Cypherja</cp:lastModifiedBy>
  <dcterms:modified xsi:type="dcterms:W3CDTF">2010-10-01T11:11:44Z</dcterms:modified>
  <cp:revision>105</cp:revision>
  <dc:subject/>
  <dc:title>PowerPoint Presentation</dc:title>
</cp:coreProperties>
</file>