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67FF-B09F-4106-AA11-3C3605D12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6E2F-DA34-45C8-89D2-4AD5D94DD0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1784-EE78-444F-951A-91440842B3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AC04-BD53-4EDF-AB28-5BD4A33924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331E-A42E-4663-9875-D8233DBA67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D5B5-7D69-431A-8CD4-AEE53729DE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90DE-B77E-48BD-996F-195EA31D6B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41EA-7742-44A7-97E6-9356477CFD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C60D-D94F-4DE1-8A7B-1D2D284532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EFEC-EDD4-4F50-B1B6-177EEBE798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5D14-541A-470E-8FB3-C621C44D0A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5BFC-A61D-4132-9C82-9B514DFD23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485A-751F-4CDE-B29F-1ADE2CD25C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15C1-2600-4E97-B15C-6A330598AD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9BD1-3140-400B-91AB-52DA5A1928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F502-C609-4323-B4FB-428C9A8986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0099-9070-43C1-9F38-FAE57FAB61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D778-54AD-4FF1-82E0-5179A3CC0A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BA88-982B-465C-8073-6AA33B68FE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DC57-0D98-4D66-B658-59B58C5711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035F-DFEF-4F20-9B70-12991A1FFA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2952-29A1-4464-826F-B1E639B596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EDEC-4AF5-4FA8-8367-0BC5D99397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94B5-F403-4508-AD51-DCD1ECEECD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EAEF-1B04-47ED-989E-9224B3A5A2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BFC2-A08D-46A7-AC7E-46353256B1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4D71C-F73E-4F3E-A288-F4BE843F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7866-1264-4D09-BD5A-0EF3A2A7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9F29-C11B-487A-A20C-14D5C7B3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DE19-4FFC-4856-B809-05D4B9D4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50920"/>
            <a:ext cx="777240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8E04-A48E-489C-B9A9-5819794A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6264-6ECC-40FB-A9CE-D5B0C0BF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04CA-2C8F-4879-B6AA-14206437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5F45-81F3-4985-9295-015695F4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50920"/>
            <a:ext cx="777240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CA27-6424-49CD-A125-9F3D4ADF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B465-28CC-4CAC-A456-C5C5826F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B1DC-2313-4C6B-A376-48FAA9C7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7651-DED9-42E6-A8F2-0F123833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" name="Picture 4" descr="3logo"/>
          <p:cNvPicPr/>
          <p:nvPr/>
        </p:nvPicPr>
        <p:blipFill>
          <a:blip r:embed="rId10"/>
          <a:stretch/>
        </p:blipFill>
        <p:spPr>
          <a:xfrm>
            <a:off x="214200" y="546120"/>
            <a:ext cx="700200" cy="70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764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09F2-A758-4CF4-ABE2-9BA067DAB0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0456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"/>
          <p:cNvGrpSpPr/>
          <p:nvPr/>
        </p:nvGrpSpPr>
        <p:grpSpPr>
          <a:xfrm>
            <a:off x="914400" y="471600"/>
            <a:ext cx="7772400" cy="886320"/>
            <a:chOff x="914400" y="471600"/>
            <a:chExt cx="7772400" cy="886320"/>
          </a:xfrm>
        </p:grpSpPr>
        <p:pic>
          <p:nvPicPr>
            <p:cNvPr id="43" name="Picture 5" descr="RacingStripe copy"/>
            <p:cNvPicPr/>
            <p:nvPr/>
          </p:nvPicPr>
          <p:blipFill>
            <a:blip r:embed="rId3"/>
            <a:srcRect l="0" t="15805" r="0" b="15805"/>
            <a:stretch/>
          </p:blipFill>
          <p:spPr>
            <a:xfrm>
              <a:off x="914400" y="577800"/>
              <a:ext cx="1349280" cy="722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</p:pic>
        <p:sp>
          <p:nvSpPr>
            <p:cNvPr id="44" name="Text Box 6"/>
            <p:cNvSpPr/>
            <p:nvPr/>
          </p:nvSpPr>
          <p:spPr>
            <a:xfrm>
              <a:off x="914400" y="471600"/>
              <a:ext cx="7772400" cy="88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nited States Coast Guard</a:t>
              </a:r>
              <a:br>
                <a:rPr sz="28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.S. Coast Guard Auxili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952560" y="251460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NOTIC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information contained within this document is copyright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© U.S. Coast Guard Auxili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 attempts to add, modify or delete information contained within this document shall be made.  If errors are discovered, please contact the U.S. Coast Guard Auxiliary’s National Training Departm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F192-9C3D-45EF-879F-BCD68F2D8F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4" descr="bd06177_"/>
          <p:cNvPicPr/>
          <p:nvPr/>
        </p:nvPicPr>
        <p:blipFill>
          <a:blip r:embed="rId1"/>
          <a:stretch/>
        </p:blipFill>
        <p:spPr>
          <a:xfrm>
            <a:off x="7238880" y="5119560"/>
            <a:ext cx="1600200" cy="14335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re DR Ter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1320" y="1879200"/>
            <a:ext cx="82674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urr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Has two compon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Direction TOWARDS which the curr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mov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rif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Speed in kts at which current is mov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 of Position 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- Bearing to an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d Position 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- An improved position based on DR po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A known po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7975-8061-46BE-BDE6-1CE7A4E39F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4" descr="sl00653_"/>
          <p:cNvPicPr/>
          <p:nvPr/>
        </p:nvPicPr>
        <p:blipFill>
          <a:blip r:embed="rId1"/>
          <a:stretch/>
        </p:blipFill>
        <p:spPr>
          <a:xfrm>
            <a:off x="7064280" y="3657600"/>
            <a:ext cx="1851120" cy="30481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urpose of a DR Plo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71320" y="184140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sailing (voyage planning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course and speed to ma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checkpoints and waypoint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1040" indent="-336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 fuel and other needed sto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1040" indent="-3366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: Fuel, time, and other para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underway to plot or follow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ual progress, (tactical plo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250"/>
                            </p:stCondLst>
                            <p:childTnLst>
                              <p:par>
                                <p:cTn id="3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D415-BA4B-460E-AD00-74299D8E2E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ments of DR Plo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320" y="1802880"/>
            <a:ext cx="82674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 is a solid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from a fix or point-of-depar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 or Hea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eled by 3 digit True or Magne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1040" indent="-3366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eded by “C” for ‘course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81040" indent="-3366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ed by “M” if magnet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“S” is beneath the course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11"/>
          <p:cNvGrpSpPr/>
          <p:nvPr/>
        </p:nvGrpSpPr>
        <p:grpSpPr>
          <a:xfrm>
            <a:off x="6477120" y="1484280"/>
            <a:ext cx="2209680" cy="1015920"/>
            <a:chOff x="6477120" y="1484280"/>
            <a:chExt cx="2209680" cy="1015920"/>
          </a:xfrm>
        </p:grpSpPr>
        <p:sp>
          <p:nvSpPr>
            <p:cNvPr id="283" name="Text Box 9"/>
            <p:cNvSpPr/>
            <p:nvPr/>
          </p:nvSpPr>
          <p:spPr>
            <a:xfrm>
              <a:off x="6477120" y="1484280"/>
              <a:ext cx="2209680" cy="101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 03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5.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10"/>
            <p:cNvSpPr/>
            <p:nvPr/>
          </p:nvSpPr>
          <p:spPr>
            <a:xfrm>
              <a:off x="6705720" y="2017800"/>
              <a:ext cx="1676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250"/>
                            </p:stCondLst>
                            <p:childTnLst>
                              <p:par>
                                <p:cTn id="4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506E-B684-4761-9183-FC27663983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2" descr="npo00000c"/>
          <p:cNvPicPr/>
          <p:nvPr/>
        </p:nvPicPr>
        <p:blipFill>
          <a:blip r:embed="rId1"/>
          <a:stretch/>
        </p:blipFill>
        <p:spPr>
          <a:xfrm>
            <a:off x="1701720" y="1447920"/>
            <a:ext cx="6175440" cy="47480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ndards of Preci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1B25-5C5B-4F89-9F2D-BC359FBDBD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lanning DR Plo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chart 1210TR for a Buzzards Bay voy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ing Point:  Buoy BR Qk Fl G at 13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se 360 Tr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6.1 kno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we plan the cruise to arrive at our terminus at Pasque Isla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83EB-E9E0-490F-B5E3-F67F7FC1AE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Picture 2" descr="npo00000e"/>
          <p:cNvPicPr/>
          <p:nvPr/>
        </p:nvPicPr>
        <p:blipFill>
          <a:blip r:embed="rId1"/>
          <a:stretch/>
        </p:blipFill>
        <p:spPr>
          <a:xfrm>
            <a:off x="1295280" y="1295280"/>
            <a:ext cx="6553440" cy="49150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299" name="Freeform 7"/>
          <p:cNvSpPr/>
          <p:nvPr/>
        </p:nvSpPr>
        <p:spPr>
          <a:xfrm>
            <a:off x="3232080" y="5116680"/>
            <a:ext cx="281160" cy="388800"/>
          </a:xfrm>
          <a:custGeom>
            <a:avLst/>
            <a:gdLst>
              <a:gd name="textAreaLeft" fmla="*/ 0 w 281160"/>
              <a:gd name="textAreaRight" fmla="*/ 281520 w 28116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46" h="343">
                <a:moveTo>
                  <a:pt x="0" y="343"/>
                </a:moveTo>
                <a:lnTo>
                  <a:pt x="246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Group 25"/>
          <p:cNvGrpSpPr/>
          <p:nvPr/>
        </p:nvGrpSpPr>
        <p:grpSpPr>
          <a:xfrm>
            <a:off x="2995560" y="1852560"/>
            <a:ext cx="3346200" cy="1492200"/>
            <a:chOff x="2995560" y="1852560"/>
            <a:chExt cx="3346200" cy="1492200"/>
          </a:xfrm>
        </p:grpSpPr>
        <p:sp>
          <p:nvSpPr>
            <p:cNvPr id="301" name="Freeform 4"/>
            <p:cNvSpPr/>
            <p:nvPr/>
          </p:nvSpPr>
          <p:spPr>
            <a:xfrm>
              <a:off x="2995560" y="1852560"/>
              <a:ext cx="3346200" cy="1492200"/>
            </a:xfrm>
            <a:custGeom>
              <a:avLst/>
              <a:gdLst>
                <a:gd name="textAreaLeft" fmla="*/ 0 w 3346200"/>
                <a:gd name="textAreaRight" fmla="*/ 3346560 w 3346200"/>
                <a:gd name="textAreaTop" fmla="*/ 0 h 1492200"/>
                <a:gd name="textAreaBottom" fmla="*/ 1492560 h 1492200"/>
              </a:gdLst>
              <a:ahLst/>
              <a:rect l="textAreaLeft" t="textAreaTop" r="textAreaRight" b="textAreaBottom"/>
              <a:pathLst>
                <a:path w="2941" h="1312">
                  <a:moveTo>
                    <a:pt x="0" y="1312"/>
                  </a:moveTo>
                  <a:lnTo>
                    <a:pt x="2941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Rectangle 8"/>
            <p:cNvSpPr/>
            <p:nvPr/>
          </p:nvSpPr>
          <p:spPr>
            <a:xfrm rot="20150400">
              <a:off x="3530520" y="2698920"/>
              <a:ext cx="838080" cy="495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Group 24"/>
          <p:cNvGrpSpPr/>
          <p:nvPr/>
        </p:nvGrpSpPr>
        <p:grpSpPr>
          <a:xfrm>
            <a:off x="2770200" y="3373560"/>
            <a:ext cx="436680" cy="1839960"/>
            <a:chOff x="2770200" y="3373560"/>
            <a:chExt cx="436680" cy="1839960"/>
          </a:xfrm>
        </p:grpSpPr>
        <p:sp>
          <p:nvSpPr>
            <p:cNvPr id="304" name="Freeform 3"/>
            <p:cNvSpPr/>
            <p:nvPr/>
          </p:nvSpPr>
          <p:spPr>
            <a:xfrm>
              <a:off x="2954520" y="3373560"/>
              <a:ext cx="14400" cy="1839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39960"/>
                <a:gd name="textAreaBottom" fmla="*/ 1840320 h 1839960"/>
              </a:gdLst>
              <a:ahLst/>
              <a:rect l="textAreaLeft" t="textAreaTop" r="textAreaRight" b="textAreaBottom"/>
              <a:pathLst>
                <a:path w="13" h="1618">
                  <a:moveTo>
                    <a:pt x="13" y="1618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>
              <a:off x="2770200" y="4408560"/>
              <a:ext cx="436680" cy="600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Group 26"/>
          <p:cNvGrpSpPr/>
          <p:nvPr/>
        </p:nvGrpSpPr>
        <p:grpSpPr>
          <a:xfrm>
            <a:off x="6263640" y="1866960"/>
            <a:ext cx="832320" cy="1017360"/>
            <a:chOff x="6263640" y="1866960"/>
            <a:chExt cx="832320" cy="1017360"/>
          </a:xfrm>
        </p:grpSpPr>
        <p:sp>
          <p:nvSpPr>
            <p:cNvPr id="307" name="Freeform 5"/>
            <p:cNvSpPr/>
            <p:nvPr/>
          </p:nvSpPr>
          <p:spPr>
            <a:xfrm>
              <a:off x="6342120" y="1866960"/>
              <a:ext cx="753840" cy="101736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w="662" h="895">
                  <a:moveTo>
                    <a:pt x="0" y="0"/>
                  </a:moveTo>
                  <a:lnTo>
                    <a:pt x="662" y="895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10"/>
            <p:cNvSpPr/>
            <p:nvPr/>
          </p:nvSpPr>
          <p:spPr>
            <a:xfrm rot="19363200">
              <a:off x="6411600" y="1955520"/>
              <a:ext cx="490320" cy="654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Group 31"/>
          <p:cNvGrpSpPr/>
          <p:nvPr/>
        </p:nvGrpSpPr>
        <p:grpSpPr>
          <a:xfrm>
            <a:off x="5241960" y="2868480"/>
            <a:ext cx="1873080" cy="1170000"/>
            <a:chOff x="5241960" y="2868480"/>
            <a:chExt cx="1873080" cy="1170000"/>
          </a:xfrm>
        </p:grpSpPr>
        <p:sp>
          <p:nvSpPr>
            <p:cNvPr id="310" name="Freeform 6"/>
            <p:cNvSpPr/>
            <p:nvPr/>
          </p:nvSpPr>
          <p:spPr>
            <a:xfrm>
              <a:off x="5241960" y="2868480"/>
              <a:ext cx="1873080" cy="1170000"/>
            </a:xfrm>
            <a:custGeom>
              <a:avLst/>
              <a:gdLst>
                <a:gd name="textAreaLeft" fmla="*/ 0 w 1873080"/>
                <a:gd name="textAreaRight" fmla="*/ 1873440 w 187308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3236" h="2022">
                  <a:moveTo>
                    <a:pt x="3236" y="0"/>
                  </a:moveTo>
                  <a:lnTo>
                    <a:pt x="0" y="202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11"/>
            <p:cNvSpPr/>
            <p:nvPr/>
          </p:nvSpPr>
          <p:spPr>
            <a:xfrm rot="19820400">
              <a:off x="5609880" y="3257280"/>
              <a:ext cx="838080" cy="495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Oval 13"/>
          <p:cNvSpPr/>
          <p:nvPr/>
        </p:nvSpPr>
        <p:spPr>
          <a:xfrm>
            <a:off x="5064120" y="3533760"/>
            <a:ext cx="436680" cy="711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 rot="16040400">
            <a:off x="2509560" y="4882680"/>
            <a:ext cx="436680" cy="84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Oval 15"/>
          <p:cNvSpPr/>
          <p:nvPr/>
        </p:nvSpPr>
        <p:spPr>
          <a:xfrm rot="417000">
            <a:off x="3370320" y="4572000"/>
            <a:ext cx="436680" cy="709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Oval 16"/>
          <p:cNvSpPr/>
          <p:nvPr/>
        </p:nvSpPr>
        <p:spPr>
          <a:xfrm rot="3127200">
            <a:off x="7001280" y="2305440"/>
            <a:ext cx="438120" cy="709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Oval 17"/>
          <p:cNvSpPr/>
          <p:nvPr/>
        </p:nvSpPr>
        <p:spPr>
          <a:xfrm rot="3444000">
            <a:off x="6237000" y="1322280"/>
            <a:ext cx="436320" cy="709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Oval 18"/>
          <p:cNvSpPr/>
          <p:nvPr/>
        </p:nvSpPr>
        <p:spPr>
          <a:xfrm>
            <a:off x="2714760" y="2824200"/>
            <a:ext cx="438120" cy="709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Group 30"/>
          <p:cNvGrpSpPr/>
          <p:nvPr/>
        </p:nvGrpSpPr>
        <p:grpSpPr>
          <a:xfrm>
            <a:off x="3481560" y="4029120"/>
            <a:ext cx="1776240" cy="1109520"/>
            <a:chOff x="3481560" y="4029120"/>
            <a:chExt cx="1776240" cy="1109520"/>
          </a:xfrm>
        </p:grpSpPr>
        <p:sp>
          <p:nvSpPr>
            <p:cNvPr id="319" name="Rectangle 12"/>
            <p:cNvSpPr/>
            <p:nvPr/>
          </p:nvSpPr>
          <p:spPr>
            <a:xfrm rot="19500000">
              <a:off x="4016520" y="4397040"/>
              <a:ext cx="777600" cy="4539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Freeform 28"/>
            <p:cNvSpPr/>
            <p:nvPr/>
          </p:nvSpPr>
          <p:spPr>
            <a:xfrm>
              <a:off x="3481560" y="4029120"/>
              <a:ext cx="1776240" cy="1109520"/>
            </a:xfrm>
            <a:custGeom>
              <a:avLst/>
              <a:gdLst>
                <a:gd name="textAreaLeft" fmla="*/ 0 w 1776240"/>
                <a:gd name="textAreaRight" fmla="*/ 1776600 w 177624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3236" h="2022">
                  <a:moveTo>
                    <a:pt x="3236" y="0"/>
                  </a:moveTo>
                  <a:lnTo>
                    <a:pt x="0" y="202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lanning DR Plo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0C09-81C2-4EB9-9788-D03537CF7D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Group 47"/>
          <p:cNvGrpSpPr/>
          <p:nvPr/>
        </p:nvGrpSpPr>
        <p:grpSpPr>
          <a:xfrm>
            <a:off x="6940080" y="3446640"/>
            <a:ext cx="1800360" cy="2819160"/>
            <a:chOff x="6940080" y="3446640"/>
            <a:chExt cx="1800360" cy="2819160"/>
          </a:xfrm>
        </p:grpSpPr>
        <p:sp>
          <p:nvSpPr>
            <p:cNvPr id="326" name="Freeform 7"/>
            <p:cNvSpPr/>
            <p:nvPr/>
          </p:nvSpPr>
          <p:spPr>
            <a:xfrm flipH="1">
              <a:off x="8430480" y="3660840"/>
              <a:ext cx="65160" cy="255600"/>
            </a:xfrm>
            <a:custGeom>
              <a:avLst/>
              <a:gdLst>
                <a:gd name="textAreaLeft" fmla="*/ -360 w 65160"/>
                <a:gd name="textAreaRight" fmla="*/ 65160 w 651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00" h="191">
                  <a:moveTo>
                    <a:pt x="0" y="30"/>
                  </a:moveTo>
                  <a:lnTo>
                    <a:pt x="32" y="0"/>
                  </a:lnTo>
                  <a:lnTo>
                    <a:pt x="87" y="0"/>
                  </a:lnTo>
                  <a:lnTo>
                    <a:pt x="100" y="43"/>
                  </a:lnTo>
                  <a:lnTo>
                    <a:pt x="96" y="174"/>
                  </a:lnTo>
                  <a:lnTo>
                    <a:pt x="59" y="191"/>
                  </a:lnTo>
                  <a:lnTo>
                    <a:pt x="3" y="165"/>
                  </a:lnTo>
                  <a:lnTo>
                    <a:pt x="0" y="7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8"/>
            <p:cNvSpPr/>
            <p:nvPr/>
          </p:nvSpPr>
          <p:spPr>
            <a:xfrm flipH="1">
              <a:off x="7987680" y="3584520"/>
              <a:ext cx="96840" cy="36684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44" h="275">
                  <a:moveTo>
                    <a:pt x="16" y="75"/>
                  </a:moveTo>
                  <a:lnTo>
                    <a:pt x="19" y="22"/>
                  </a:lnTo>
                  <a:lnTo>
                    <a:pt x="55" y="0"/>
                  </a:lnTo>
                  <a:lnTo>
                    <a:pt x="110" y="7"/>
                  </a:lnTo>
                  <a:lnTo>
                    <a:pt x="144" y="36"/>
                  </a:lnTo>
                  <a:lnTo>
                    <a:pt x="128" y="255"/>
                  </a:lnTo>
                  <a:lnTo>
                    <a:pt x="65" y="275"/>
                  </a:lnTo>
                  <a:lnTo>
                    <a:pt x="0" y="248"/>
                  </a:lnTo>
                  <a:lnTo>
                    <a:pt x="16" y="75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Freeform 9"/>
            <p:cNvSpPr/>
            <p:nvPr/>
          </p:nvSpPr>
          <p:spPr>
            <a:xfrm flipH="1">
              <a:off x="7569360" y="3571920"/>
              <a:ext cx="87120" cy="39852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31" h="298">
                  <a:moveTo>
                    <a:pt x="3" y="30"/>
                  </a:moveTo>
                  <a:lnTo>
                    <a:pt x="36" y="0"/>
                  </a:lnTo>
                  <a:lnTo>
                    <a:pt x="101" y="0"/>
                  </a:lnTo>
                  <a:lnTo>
                    <a:pt x="131" y="32"/>
                  </a:lnTo>
                  <a:lnTo>
                    <a:pt x="128" y="278"/>
                  </a:lnTo>
                  <a:lnTo>
                    <a:pt x="55" y="298"/>
                  </a:lnTo>
                  <a:lnTo>
                    <a:pt x="0" y="271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Freeform 10"/>
            <p:cNvSpPr/>
            <p:nvPr/>
          </p:nvSpPr>
          <p:spPr>
            <a:xfrm flipH="1">
              <a:off x="6952680" y="3484440"/>
              <a:ext cx="88920" cy="574920"/>
            </a:xfrm>
            <a:custGeom>
              <a:avLst/>
              <a:gdLst>
                <a:gd name="textAreaLeft" fmla="*/ -360 w 88920"/>
                <a:gd name="textAreaRight" fmla="*/ 88920 w 88920"/>
                <a:gd name="textAreaTop" fmla="*/ 0 h 574920"/>
                <a:gd name="textAreaBottom" fmla="*/ 575280 h 574920"/>
              </a:gdLst>
              <a:ahLst/>
              <a:rect l="textAreaLeft" t="textAreaTop" r="textAreaRight" b="textAreaBottom"/>
              <a:pathLst>
                <a:path w="132" h="430">
                  <a:moveTo>
                    <a:pt x="9" y="32"/>
                  </a:moveTo>
                  <a:lnTo>
                    <a:pt x="45" y="0"/>
                  </a:lnTo>
                  <a:lnTo>
                    <a:pt x="110" y="0"/>
                  </a:lnTo>
                  <a:lnTo>
                    <a:pt x="132" y="54"/>
                  </a:lnTo>
                  <a:lnTo>
                    <a:pt x="120" y="390"/>
                  </a:lnTo>
                  <a:lnTo>
                    <a:pt x="68" y="430"/>
                  </a:lnTo>
                  <a:lnTo>
                    <a:pt x="0" y="384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Freeform 11"/>
            <p:cNvSpPr/>
            <p:nvPr/>
          </p:nvSpPr>
          <p:spPr>
            <a:xfrm flipH="1">
              <a:off x="8072280" y="3672000"/>
              <a:ext cx="363600" cy="222120"/>
            </a:xfrm>
            <a:custGeom>
              <a:avLst/>
              <a:gdLst>
                <a:gd name="textAreaLeft" fmla="*/ 360 w 363600"/>
                <a:gd name="textAreaRight" fmla="*/ 364320 w 3636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544" h="166">
                  <a:moveTo>
                    <a:pt x="0" y="23"/>
                  </a:moveTo>
                  <a:lnTo>
                    <a:pt x="544" y="0"/>
                  </a:lnTo>
                  <a:lnTo>
                    <a:pt x="536" y="166"/>
                  </a:lnTo>
                  <a:lnTo>
                    <a:pt x="0" y="16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Freeform 12"/>
            <p:cNvSpPr/>
            <p:nvPr/>
          </p:nvSpPr>
          <p:spPr>
            <a:xfrm flipH="1">
              <a:off x="7647840" y="3622680"/>
              <a:ext cx="353880" cy="303120"/>
            </a:xfrm>
            <a:custGeom>
              <a:avLst/>
              <a:gdLst>
                <a:gd name="textAreaLeft" fmla="*/ -360 w 353880"/>
                <a:gd name="textAreaRight" fmla="*/ 353880 w 3538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530" h="227">
                  <a:moveTo>
                    <a:pt x="22" y="20"/>
                  </a:moveTo>
                  <a:lnTo>
                    <a:pt x="530" y="0"/>
                  </a:lnTo>
                  <a:lnTo>
                    <a:pt x="522" y="227"/>
                  </a:lnTo>
                  <a:lnTo>
                    <a:pt x="0" y="219"/>
                  </a:lnTo>
                  <a:lnTo>
                    <a:pt x="22" y="2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Freeform 13"/>
            <p:cNvSpPr/>
            <p:nvPr/>
          </p:nvSpPr>
          <p:spPr>
            <a:xfrm flipH="1">
              <a:off x="7034040" y="3533760"/>
              <a:ext cx="540000" cy="485640"/>
            </a:xfrm>
            <a:custGeom>
              <a:avLst/>
              <a:gdLst>
                <a:gd name="textAreaLeft" fmla="*/ 360 w 540000"/>
                <a:gd name="textAreaRight" fmla="*/ 540720 w 5400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807" h="364">
                  <a:moveTo>
                    <a:pt x="11" y="55"/>
                  </a:moveTo>
                  <a:lnTo>
                    <a:pt x="807" y="0"/>
                  </a:lnTo>
                  <a:lnTo>
                    <a:pt x="793" y="364"/>
                  </a:lnTo>
                  <a:lnTo>
                    <a:pt x="0" y="300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 flipH="1">
              <a:off x="8416080" y="3643200"/>
              <a:ext cx="73080" cy="287280"/>
            </a:xfrm>
            <a:custGeom>
              <a:avLst/>
              <a:gdLst>
                <a:gd name="textAreaLeft" fmla="*/ -360 w 73080"/>
                <a:gd name="textAreaRight" fmla="*/ 73080 w 730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11" h="216">
                  <a:moveTo>
                    <a:pt x="19" y="60"/>
                  </a:moveTo>
                  <a:lnTo>
                    <a:pt x="10" y="38"/>
                  </a:lnTo>
                  <a:lnTo>
                    <a:pt x="38" y="27"/>
                  </a:lnTo>
                  <a:lnTo>
                    <a:pt x="57" y="36"/>
                  </a:lnTo>
                  <a:lnTo>
                    <a:pt x="67" y="51"/>
                  </a:lnTo>
                  <a:lnTo>
                    <a:pt x="67" y="166"/>
                  </a:lnTo>
                  <a:lnTo>
                    <a:pt x="54" y="186"/>
                  </a:lnTo>
                  <a:lnTo>
                    <a:pt x="19" y="181"/>
                  </a:lnTo>
                  <a:lnTo>
                    <a:pt x="7" y="166"/>
                  </a:lnTo>
                  <a:lnTo>
                    <a:pt x="7" y="193"/>
                  </a:lnTo>
                  <a:lnTo>
                    <a:pt x="26" y="208"/>
                  </a:lnTo>
                  <a:lnTo>
                    <a:pt x="54" y="216"/>
                  </a:lnTo>
                  <a:lnTo>
                    <a:pt x="85" y="208"/>
                  </a:lnTo>
                  <a:lnTo>
                    <a:pt x="101" y="181"/>
                  </a:lnTo>
                  <a:lnTo>
                    <a:pt x="111" y="156"/>
                  </a:lnTo>
                  <a:lnTo>
                    <a:pt x="104" y="45"/>
                  </a:lnTo>
                  <a:lnTo>
                    <a:pt x="95" y="23"/>
                  </a:lnTo>
                  <a:lnTo>
                    <a:pt x="73" y="0"/>
                  </a:lnTo>
                  <a:lnTo>
                    <a:pt x="44" y="0"/>
                  </a:lnTo>
                  <a:lnTo>
                    <a:pt x="16" y="5"/>
                  </a:lnTo>
                  <a:lnTo>
                    <a:pt x="0" y="23"/>
                  </a:lnTo>
                  <a:lnTo>
                    <a:pt x="19" y="6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 flipH="1">
              <a:off x="8447040" y="3652920"/>
              <a:ext cx="60480" cy="263520"/>
            </a:xfrm>
            <a:custGeom>
              <a:avLst/>
              <a:gdLst>
                <a:gd name="textAreaLeft" fmla="*/ 360 w 60480"/>
                <a:gd name="textAreaRight" fmla="*/ 61200 w 604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90" h="198">
                  <a:moveTo>
                    <a:pt x="49" y="0"/>
                  </a:moveTo>
                  <a:lnTo>
                    <a:pt x="13" y="15"/>
                  </a:lnTo>
                  <a:lnTo>
                    <a:pt x="0" y="45"/>
                  </a:lnTo>
                  <a:lnTo>
                    <a:pt x="10" y="130"/>
                  </a:lnTo>
                  <a:lnTo>
                    <a:pt x="13" y="175"/>
                  </a:lnTo>
                  <a:lnTo>
                    <a:pt x="29" y="190"/>
                  </a:lnTo>
                  <a:lnTo>
                    <a:pt x="59" y="198"/>
                  </a:lnTo>
                  <a:lnTo>
                    <a:pt x="90" y="198"/>
                  </a:lnTo>
                  <a:lnTo>
                    <a:pt x="49" y="172"/>
                  </a:lnTo>
                  <a:lnTo>
                    <a:pt x="38" y="137"/>
                  </a:lnTo>
                  <a:lnTo>
                    <a:pt x="41" y="45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Freeform 18"/>
            <p:cNvSpPr/>
            <p:nvPr/>
          </p:nvSpPr>
          <p:spPr>
            <a:xfrm flipH="1">
              <a:off x="7977960" y="3571920"/>
              <a:ext cx="111240" cy="401760"/>
            </a:xfrm>
            <a:custGeom>
              <a:avLst/>
              <a:gdLst>
                <a:gd name="textAreaLeft" fmla="*/ -360 w 111240"/>
                <a:gd name="textAreaRight" fmla="*/ 111240 w 1112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67" h="301">
                  <a:moveTo>
                    <a:pt x="36" y="24"/>
                  </a:moveTo>
                  <a:lnTo>
                    <a:pt x="51" y="6"/>
                  </a:lnTo>
                  <a:lnTo>
                    <a:pt x="87" y="0"/>
                  </a:lnTo>
                  <a:lnTo>
                    <a:pt x="123" y="6"/>
                  </a:lnTo>
                  <a:lnTo>
                    <a:pt x="158" y="21"/>
                  </a:lnTo>
                  <a:lnTo>
                    <a:pt x="167" y="54"/>
                  </a:lnTo>
                  <a:lnTo>
                    <a:pt x="161" y="241"/>
                  </a:lnTo>
                  <a:lnTo>
                    <a:pt x="150" y="286"/>
                  </a:lnTo>
                  <a:lnTo>
                    <a:pt x="107" y="301"/>
                  </a:lnTo>
                  <a:lnTo>
                    <a:pt x="60" y="301"/>
                  </a:lnTo>
                  <a:lnTo>
                    <a:pt x="27" y="286"/>
                  </a:lnTo>
                  <a:lnTo>
                    <a:pt x="0" y="261"/>
                  </a:lnTo>
                  <a:lnTo>
                    <a:pt x="0" y="241"/>
                  </a:lnTo>
                  <a:lnTo>
                    <a:pt x="33" y="256"/>
                  </a:lnTo>
                  <a:lnTo>
                    <a:pt x="70" y="268"/>
                  </a:lnTo>
                  <a:lnTo>
                    <a:pt x="98" y="256"/>
                  </a:lnTo>
                  <a:lnTo>
                    <a:pt x="123" y="241"/>
                  </a:lnTo>
                  <a:lnTo>
                    <a:pt x="126" y="194"/>
                  </a:lnTo>
                  <a:lnTo>
                    <a:pt x="126" y="45"/>
                  </a:lnTo>
                  <a:lnTo>
                    <a:pt x="104" y="30"/>
                  </a:lnTo>
                  <a:lnTo>
                    <a:pt x="71" y="32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Freeform 19"/>
            <p:cNvSpPr/>
            <p:nvPr/>
          </p:nvSpPr>
          <p:spPr>
            <a:xfrm flipH="1">
              <a:off x="8021520" y="3575160"/>
              <a:ext cx="68400" cy="369720"/>
            </a:xfrm>
            <a:custGeom>
              <a:avLst/>
              <a:gdLst>
                <a:gd name="textAreaLeft" fmla="*/ 360 w 68400"/>
                <a:gd name="textAreaRight" fmla="*/ 69120 w 6840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01" h="277">
                  <a:moveTo>
                    <a:pt x="10" y="37"/>
                  </a:moveTo>
                  <a:lnTo>
                    <a:pt x="29" y="15"/>
                  </a:lnTo>
                  <a:lnTo>
                    <a:pt x="66" y="0"/>
                  </a:lnTo>
                  <a:lnTo>
                    <a:pt x="101" y="13"/>
                  </a:lnTo>
                  <a:lnTo>
                    <a:pt x="54" y="37"/>
                  </a:lnTo>
                  <a:lnTo>
                    <a:pt x="44" y="61"/>
                  </a:lnTo>
                  <a:lnTo>
                    <a:pt x="38" y="237"/>
                  </a:lnTo>
                  <a:lnTo>
                    <a:pt x="47" y="259"/>
                  </a:lnTo>
                  <a:lnTo>
                    <a:pt x="82" y="277"/>
                  </a:lnTo>
                  <a:lnTo>
                    <a:pt x="16" y="267"/>
                  </a:lnTo>
                  <a:lnTo>
                    <a:pt x="0" y="244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21"/>
            <p:cNvSpPr/>
            <p:nvPr/>
          </p:nvSpPr>
          <p:spPr>
            <a:xfrm flipH="1">
              <a:off x="7555680" y="3543480"/>
              <a:ext cx="111240" cy="452160"/>
            </a:xfrm>
            <a:custGeom>
              <a:avLst/>
              <a:gdLst>
                <a:gd name="textAreaLeft" fmla="*/ -360 w 111240"/>
                <a:gd name="textAreaRight" fmla="*/ 111240 w 11124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67" h="338">
                  <a:moveTo>
                    <a:pt x="36" y="27"/>
                  </a:moveTo>
                  <a:lnTo>
                    <a:pt x="50" y="8"/>
                  </a:lnTo>
                  <a:lnTo>
                    <a:pt x="86" y="0"/>
                  </a:lnTo>
                  <a:lnTo>
                    <a:pt x="123" y="8"/>
                  </a:lnTo>
                  <a:lnTo>
                    <a:pt x="157" y="25"/>
                  </a:lnTo>
                  <a:lnTo>
                    <a:pt x="167" y="62"/>
                  </a:lnTo>
                  <a:lnTo>
                    <a:pt x="161" y="271"/>
                  </a:lnTo>
                  <a:lnTo>
                    <a:pt x="150" y="322"/>
                  </a:lnTo>
                  <a:lnTo>
                    <a:pt x="107" y="338"/>
                  </a:lnTo>
                  <a:lnTo>
                    <a:pt x="60" y="338"/>
                  </a:lnTo>
                  <a:lnTo>
                    <a:pt x="27" y="322"/>
                  </a:lnTo>
                  <a:lnTo>
                    <a:pt x="0" y="293"/>
                  </a:lnTo>
                  <a:lnTo>
                    <a:pt x="0" y="271"/>
                  </a:lnTo>
                  <a:lnTo>
                    <a:pt x="33" y="288"/>
                  </a:lnTo>
                  <a:lnTo>
                    <a:pt x="69" y="301"/>
                  </a:lnTo>
                  <a:lnTo>
                    <a:pt x="98" y="288"/>
                  </a:lnTo>
                  <a:lnTo>
                    <a:pt x="123" y="271"/>
                  </a:lnTo>
                  <a:lnTo>
                    <a:pt x="126" y="218"/>
                  </a:lnTo>
                  <a:lnTo>
                    <a:pt x="126" y="51"/>
                  </a:lnTo>
                  <a:lnTo>
                    <a:pt x="104" y="33"/>
                  </a:lnTo>
                  <a:lnTo>
                    <a:pt x="71" y="37"/>
                  </a:lnTo>
                  <a:lnTo>
                    <a:pt x="36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Freeform 22"/>
            <p:cNvSpPr/>
            <p:nvPr/>
          </p:nvSpPr>
          <p:spPr>
            <a:xfrm flipH="1">
              <a:off x="7600320" y="3544920"/>
              <a:ext cx="66600" cy="41904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01" h="314">
                  <a:moveTo>
                    <a:pt x="9" y="43"/>
                  </a:moveTo>
                  <a:lnTo>
                    <a:pt x="28" y="17"/>
                  </a:lnTo>
                  <a:lnTo>
                    <a:pt x="66" y="0"/>
                  </a:lnTo>
                  <a:lnTo>
                    <a:pt x="101" y="14"/>
                  </a:lnTo>
                  <a:lnTo>
                    <a:pt x="53" y="43"/>
                  </a:lnTo>
                  <a:lnTo>
                    <a:pt x="44" y="69"/>
                  </a:lnTo>
                  <a:lnTo>
                    <a:pt x="38" y="269"/>
                  </a:lnTo>
                  <a:lnTo>
                    <a:pt x="47" y="295"/>
                  </a:lnTo>
                  <a:lnTo>
                    <a:pt x="82" y="314"/>
                  </a:lnTo>
                  <a:lnTo>
                    <a:pt x="15" y="303"/>
                  </a:lnTo>
                  <a:lnTo>
                    <a:pt x="0" y="27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Freeform 24"/>
            <p:cNvSpPr/>
            <p:nvPr/>
          </p:nvSpPr>
          <p:spPr>
            <a:xfrm flipH="1">
              <a:off x="6939720" y="3446640"/>
              <a:ext cx="112680" cy="64116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167" h="481">
                  <a:moveTo>
                    <a:pt x="36" y="40"/>
                  </a:moveTo>
                  <a:lnTo>
                    <a:pt x="50" y="13"/>
                  </a:lnTo>
                  <a:lnTo>
                    <a:pt x="87" y="0"/>
                  </a:lnTo>
                  <a:lnTo>
                    <a:pt x="123" y="13"/>
                  </a:lnTo>
                  <a:lnTo>
                    <a:pt x="158" y="36"/>
                  </a:lnTo>
                  <a:lnTo>
                    <a:pt x="167" y="88"/>
                  </a:lnTo>
                  <a:lnTo>
                    <a:pt x="161" y="385"/>
                  </a:lnTo>
                  <a:lnTo>
                    <a:pt x="150" y="458"/>
                  </a:lnTo>
                  <a:lnTo>
                    <a:pt x="107" y="481"/>
                  </a:lnTo>
                  <a:lnTo>
                    <a:pt x="60" y="481"/>
                  </a:lnTo>
                  <a:lnTo>
                    <a:pt x="27" y="458"/>
                  </a:lnTo>
                  <a:lnTo>
                    <a:pt x="0" y="418"/>
                  </a:lnTo>
                  <a:lnTo>
                    <a:pt x="0" y="385"/>
                  </a:lnTo>
                  <a:lnTo>
                    <a:pt x="33" y="410"/>
                  </a:lnTo>
                  <a:lnTo>
                    <a:pt x="69" y="429"/>
                  </a:lnTo>
                  <a:lnTo>
                    <a:pt x="98" y="410"/>
                  </a:lnTo>
                  <a:lnTo>
                    <a:pt x="123" y="385"/>
                  </a:lnTo>
                  <a:lnTo>
                    <a:pt x="126" y="310"/>
                  </a:lnTo>
                  <a:lnTo>
                    <a:pt x="126" y="72"/>
                  </a:lnTo>
                  <a:lnTo>
                    <a:pt x="104" y="48"/>
                  </a:lnTo>
                  <a:lnTo>
                    <a:pt x="71" y="52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Freeform 25"/>
            <p:cNvSpPr/>
            <p:nvPr/>
          </p:nvSpPr>
          <p:spPr>
            <a:xfrm flipH="1">
              <a:off x="6985800" y="3451320"/>
              <a:ext cx="66600" cy="59364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1" h="445">
                  <a:moveTo>
                    <a:pt x="9" y="60"/>
                  </a:moveTo>
                  <a:lnTo>
                    <a:pt x="28" y="25"/>
                  </a:lnTo>
                  <a:lnTo>
                    <a:pt x="66" y="0"/>
                  </a:lnTo>
                  <a:lnTo>
                    <a:pt x="101" y="21"/>
                  </a:lnTo>
                  <a:lnTo>
                    <a:pt x="54" y="60"/>
                  </a:lnTo>
                  <a:lnTo>
                    <a:pt x="44" y="96"/>
                  </a:lnTo>
                  <a:lnTo>
                    <a:pt x="38" y="381"/>
                  </a:lnTo>
                  <a:lnTo>
                    <a:pt x="47" y="418"/>
                  </a:lnTo>
                  <a:lnTo>
                    <a:pt x="82" y="445"/>
                  </a:lnTo>
                  <a:lnTo>
                    <a:pt x="16" y="429"/>
                  </a:lnTo>
                  <a:lnTo>
                    <a:pt x="0" y="393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Freeform 27"/>
            <p:cNvSpPr/>
            <p:nvPr/>
          </p:nvSpPr>
          <p:spPr>
            <a:xfrm flipH="1">
              <a:off x="7020720" y="3498840"/>
              <a:ext cx="561960" cy="13644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40" h="102">
                  <a:moveTo>
                    <a:pt x="0" y="70"/>
                  </a:moveTo>
                  <a:lnTo>
                    <a:pt x="840" y="0"/>
                  </a:lnTo>
                  <a:lnTo>
                    <a:pt x="822" y="46"/>
                  </a:lnTo>
                  <a:lnTo>
                    <a:pt x="15" y="102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Freeform 28"/>
            <p:cNvSpPr/>
            <p:nvPr/>
          </p:nvSpPr>
          <p:spPr>
            <a:xfrm flipH="1">
              <a:off x="7020000" y="3908520"/>
              <a:ext cx="558720" cy="129960"/>
            </a:xfrm>
            <a:custGeom>
              <a:avLst/>
              <a:gdLst>
                <a:gd name="textAreaLeft" fmla="*/ 360 w 558720"/>
                <a:gd name="textAreaRight" fmla="*/ 559440 w 5587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838" h="97">
                  <a:moveTo>
                    <a:pt x="0" y="0"/>
                  </a:moveTo>
                  <a:lnTo>
                    <a:pt x="820" y="56"/>
                  </a:lnTo>
                  <a:lnTo>
                    <a:pt x="838" y="97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Freeform 29"/>
            <p:cNvSpPr/>
            <p:nvPr/>
          </p:nvSpPr>
          <p:spPr>
            <a:xfrm flipH="1">
              <a:off x="7642080" y="3594240"/>
              <a:ext cx="355680" cy="82440"/>
            </a:xfrm>
            <a:custGeom>
              <a:avLst/>
              <a:gdLst>
                <a:gd name="textAreaLeft" fmla="*/ 360 w 355680"/>
                <a:gd name="textAreaRight" fmla="*/ 356400 w 35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32" h="61">
                  <a:moveTo>
                    <a:pt x="11" y="26"/>
                  </a:moveTo>
                  <a:lnTo>
                    <a:pt x="525" y="0"/>
                  </a:lnTo>
                  <a:lnTo>
                    <a:pt x="532" y="50"/>
                  </a:lnTo>
                  <a:lnTo>
                    <a:pt x="0" y="61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Freeform 30"/>
            <p:cNvSpPr/>
            <p:nvPr/>
          </p:nvSpPr>
          <p:spPr>
            <a:xfrm flipH="1">
              <a:off x="7647840" y="3881520"/>
              <a:ext cx="358920" cy="69840"/>
            </a:xfrm>
            <a:custGeom>
              <a:avLst/>
              <a:gdLst>
                <a:gd name="textAreaLeft" fmla="*/ -360 w 358920"/>
                <a:gd name="textAreaRight" fmla="*/ 358920 w 358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8" h="52">
                  <a:moveTo>
                    <a:pt x="14" y="0"/>
                  </a:moveTo>
                  <a:lnTo>
                    <a:pt x="530" y="10"/>
                  </a:lnTo>
                  <a:lnTo>
                    <a:pt x="538" y="52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Freeform 31"/>
            <p:cNvSpPr/>
            <p:nvPr/>
          </p:nvSpPr>
          <p:spPr>
            <a:xfrm flipH="1">
              <a:off x="8066880" y="3652920"/>
              <a:ext cx="366840" cy="77760"/>
            </a:xfrm>
            <a:custGeom>
              <a:avLst/>
              <a:gdLst>
                <a:gd name="textAreaLeft" fmla="*/ -360 w 366840"/>
                <a:gd name="textAreaRight" fmla="*/ 366840 w 366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549" h="59">
                  <a:moveTo>
                    <a:pt x="8" y="26"/>
                  </a:moveTo>
                  <a:lnTo>
                    <a:pt x="549" y="0"/>
                  </a:lnTo>
                  <a:lnTo>
                    <a:pt x="535" y="41"/>
                  </a:lnTo>
                  <a:lnTo>
                    <a:pt x="0" y="59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Freeform 32"/>
            <p:cNvSpPr/>
            <p:nvPr/>
          </p:nvSpPr>
          <p:spPr>
            <a:xfrm flipH="1">
              <a:off x="8072280" y="3852720"/>
              <a:ext cx="378000" cy="60480"/>
            </a:xfrm>
            <a:custGeom>
              <a:avLst/>
              <a:gdLst>
                <a:gd name="textAreaLeft" fmla="*/ 360 w 378000"/>
                <a:gd name="textAreaRight" fmla="*/ 378720 w 3780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568" h="46">
                  <a:moveTo>
                    <a:pt x="25" y="7"/>
                  </a:moveTo>
                  <a:lnTo>
                    <a:pt x="564" y="0"/>
                  </a:lnTo>
                  <a:lnTo>
                    <a:pt x="568" y="46"/>
                  </a:lnTo>
                  <a:lnTo>
                    <a:pt x="0" y="39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Freeform 35"/>
            <p:cNvSpPr/>
            <p:nvPr/>
          </p:nvSpPr>
          <p:spPr>
            <a:xfrm flipH="1">
              <a:off x="8381160" y="3505320"/>
              <a:ext cx="358920" cy="574560"/>
            </a:xfrm>
            <a:custGeom>
              <a:avLst/>
              <a:gdLst>
                <a:gd name="textAreaLeft" fmla="*/ -360 w 358920"/>
                <a:gd name="textAreaRight" fmla="*/ 358920 w 3589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538" h="430">
                  <a:moveTo>
                    <a:pt x="366" y="217"/>
                  </a:moveTo>
                  <a:lnTo>
                    <a:pt x="342" y="165"/>
                  </a:lnTo>
                  <a:lnTo>
                    <a:pt x="317" y="114"/>
                  </a:lnTo>
                  <a:lnTo>
                    <a:pt x="282" y="59"/>
                  </a:lnTo>
                  <a:lnTo>
                    <a:pt x="249" y="25"/>
                  </a:lnTo>
                  <a:lnTo>
                    <a:pt x="214" y="7"/>
                  </a:lnTo>
                  <a:lnTo>
                    <a:pt x="170" y="0"/>
                  </a:lnTo>
                  <a:lnTo>
                    <a:pt x="121" y="0"/>
                  </a:lnTo>
                  <a:lnTo>
                    <a:pt x="79" y="10"/>
                  </a:lnTo>
                  <a:lnTo>
                    <a:pt x="42" y="40"/>
                  </a:lnTo>
                  <a:lnTo>
                    <a:pt x="17" y="81"/>
                  </a:lnTo>
                  <a:lnTo>
                    <a:pt x="0" y="126"/>
                  </a:lnTo>
                  <a:lnTo>
                    <a:pt x="0" y="177"/>
                  </a:lnTo>
                  <a:lnTo>
                    <a:pt x="17" y="245"/>
                  </a:lnTo>
                  <a:lnTo>
                    <a:pt x="50" y="310"/>
                  </a:lnTo>
                  <a:lnTo>
                    <a:pt x="85" y="354"/>
                  </a:lnTo>
                  <a:lnTo>
                    <a:pt x="131" y="391"/>
                  </a:lnTo>
                  <a:lnTo>
                    <a:pt x="189" y="423"/>
                  </a:lnTo>
                  <a:lnTo>
                    <a:pt x="246" y="430"/>
                  </a:lnTo>
                  <a:lnTo>
                    <a:pt x="289" y="430"/>
                  </a:lnTo>
                  <a:lnTo>
                    <a:pt x="323" y="421"/>
                  </a:lnTo>
                  <a:lnTo>
                    <a:pt x="342" y="399"/>
                  </a:lnTo>
                  <a:lnTo>
                    <a:pt x="367" y="369"/>
                  </a:lnTo>
                  <a:lnTo>
                    <a:pt x="377" y="317"/>
                  </a:lnTo>
                  <a:lnTo>
                    <a:pt x="382" y="275"/>
                  </a:lnTo>
                  <a:lnTo>
                    <a:pt x="442" y="303"/>
                  </a:lnTo>
                  <a:lnTo>
                    <a:pt x="517" y="317"/>
                  </a:lnTo>
                  <a:lnTo>
                    <a:pt x="538" y="295"/>
                  </a:lnTo>
                  <a:lnTo>
                    <a:pt x="535" y="266"/>
                  </a:lnTo>
                  <a:lnTo>
                    <a:pt x="470" y="245"/>
                  </a:lnTo>
                  <a:lnTo>
                    <a:pt x="402" y="236"/>
                  </a:lnTo>
                  <a:lnTo>
                    <a:pt x="366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Freeform 36"/>
            <p:cNvSpPr/>
            <p:nvPr/>
          </p:nvSpPr>
          <p:spPr>
            <a:xfrm flipH="1">
              <a:off x="8324280" y="4151160"/>
              <a:ext cx="315720" cy="962280"/>
            </a:xfrm>
            <a:custGeom>
              <a:avLst/>
              <a:gdLst>
                <a:gd name="textAreaLeft" fmla="*/ -360 w 315720"/>
                <a:gd name="textAreaRight" fmla="*/ 315720 w 315720"/>
                <a:gd name="textAreaTop" fmla="*/ 0 h 962280"/>
                <a:gd name="textAreaBottom" fmla="*/ 962640 h 962280"/>
              </a:gdLst>
              <a:ahLst/>
              <a:rect l="textAreaLeft" t="textAreaTop" r="textAreaRight" b="textAreaBottom"/>
              <a:pathLst>
                <a:path w="471" h="721">
                  <a:moveTo>
                    <a:pt x="96" y="15"/>
                  </a:moveTo>
                  <a:lnTo>
                    <a:pt x="173" y="0"/>
                  </a:lnTo>
                  <a:lnTo>
                    <a:pt x="233" y="5"/>
                  </a:lnTo>
                  <a:lnTo>
                    <a:pt x="266" y="19"/>
                  </a:lnTo>
                  <a:lnTo>
                    <a:pt x="326" y="63"/>
                  </a:lnTo>
                  <a:lnTo>
                    <a:pt x="366" y="115"/>
                  </a:lnTo>
                  <a:lnTo>
                    <a:pt x="394" y="165"/>
                  </a:lnTo>
                  <a:lnTo>
                    <a:pt x="426" y="234"/>
                  </a:lnTo>
                  <a:lnTo>
                    <a:pt x="454" y="306"/>
                  </a:lnTo>
                  <a:lnTo>
                    <a:pt x="471" y="400"/>
                  </a:lnTo>
                  <a:lnTo>
                    <a:pt x="468" y="465"/>
                  </a:lnTo>
                  <a:lnTo>
                    <a:pt x="460" y="534"/>
                  </a:lnTo>
                  <a:lnTo>
                    <a:pt x="437" y="590"/>
                  </a:lnTo>
                  <a:lnTo>
                    <a:pt x="411" y="634"/>
                  </a:lnTo>
                  <a:lnTo>
                    <a:pt x="366" y="675"/>
                  </a:lnTo>
                  <a:lnTo>
                    <a:pt x="307" y="705"/>
                  </a:lnTo>
                  <a:lnTo>
                    <a:pt x="241" y="719"/>
                  </a:lnTo>
                  <a:lnTo>
                    <a:pt x="173" y="721"/>
                  </a:lnTo>
                  <a:lnTo>
                    <a:pt x="110" y="706"/>
                  </a:lnTo>
                  <a:lnTo>
                    <a:pt x="77" y="685"/>
                  </a:lnTo>
                  <a:lnTo>
                    <a:pt x="42" y="649"/>
                  </a:lnTo>
                  <a:lnTo>
                    <a:pt x="28" y="605"/>
                  </a:lnTo>
                  <a:lnTo>
                    <a:pt x="25" y="559"/>
                  </a:lnTo>
                  <a:lnTo>
                    <a:pt x="28" y="505"/>
                  </a:lnTo>
                  <a:lnTo>
                    <a:pt x="60" y="460"/>
                  </a:lnTo>
                  <a:lnTo>
                    <a:pt x="93" y="409"/>
                  </a:lnTo>
                  <a:lnTo>
                    <a:pt x="110" y="378"/>
                  </a:lnTo>
                  <a:lnTo>
                    <a:pt x="102" y="328"/>
                  </a:lnTo>
                  <a:lnTo>
                    <a:pt x="79" y="293"/>
                  </a:lnTo>
                  <a:lnTo>
                    <a:pt x="45" y="256"/>
                  </a:lnTo>
                  <a:lnTo>
                    <a:pt x="11" y="205"/>
                  </a:lnTo>
                  <a:lnTo>
                    <a:pt x="0" y="153"/>
                  </a:lnTo>
                  <a:lnTo>
                    <a:pt x="8" y="102"/>
                  </a:lnTo>
                  <a:lnTo>
                    <a:pt x="28" y="63"/>
                  </a:lnTo>
                  <a:lnTo>
                    <a:pt x="60" y="37"/>
                  </a:lnTo>
                  <a:lnTo>
                    <a:pt x="96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Freeform 37"/>
            <p:cNvSpPr/>
            <p:nvPr/>
          </p:nvSpPr>
          <p:spPr>
            <a:xfrm flipH="1">
              <a:off x="7819200" y="3716280"/>
              <a:ext cx="752760" cy="677880"/>
            </a:xfrm>
            <a:custGeom>
              <a:avLst/>
              <a:gdLst>
                <a:gd name="textAreaLeft" fmla="*/ -360 w 752760"/>
                <a:gd name="textAreaRight" fmla="*/ 752760 w 75276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1128" h="508">
                  <a:moveTo>
                    <a:pt x="64" y="368"/>
                  </a:moveTo>
                  <a:lnTo>
                    <a:pt x="31" y="378"/>
                  </a:lnTo>
                  <a:lnTo>
                    <a:pt x="0" y="415"/>
                  </a:lnTo>
                  <a:lnTo>
                    <a:pt x="17" y="452"/>
                  </a:lnTo>
                  <a:lnTo>
                    <a:pt x="80" y="480"/>
                  </a:lnTo>
                  <a:lnTo>
                    <a:pt x="198" y="502"/>
                  </a:lnTo>
                  <a:lnTo>
                    <a:pt x="303" y="508"/>
                  </a:lnTo>
                  <a:lnTo>
                    <a:pt x="452" y="496"/>
                  </a:lnTo>
                  <a:lnTo>
                    <a:pt x="579" y="480"/>
                  </a:lnTo>
                  <a:lnTo>
                    <a:pt x="621" y="480"/>
                  </a:lnTo>
                  <a:lnTo>
                    <a:pt x="651" y="467"/>
                  </a:lnTo>
                  <a:lnTo>
                    <a:pt x="680" y="427"/>
                  </a:lnTo>
                  <a:lnTo>
                    <a:pt x="730" y="360"/>
                  </a:lnTo>
                  <a:lnTo>
                    <a:pt x="795" y="312"/>
                  </a:lnTo>
                  <a:lnTo>
                    <a:pt x="864" y="253"/>
                  </a:lnTo>
                  <a:lnTo>
                    <a:pt x="921" y="216"/>
                  </a:lnTo>
                  <a:lnTo>
                    <a:pt x="982" y="186"/>
                  </a:lnTo>
                  <a:lnTo>
                    <a:pt x="1055" y="171"/>
                  </a:lnTo>
                  <a:lnTo>
                    <a:pt x="1094" y="157"/>
                  </a:lnTo>
                  <a:lnTo>
                    <a:pt x="1128" y="133"/>
                  </a:lnTo>
                  <a:lnTo>
                    <a:pt x="1113" y="98"/>
                  </a:lnTo>
                  <a:lnTo>
                    <a:pt x="1063" y="89"/>
                  </a:lnTo>
                  <a:lnTo>
                    <a:pt x="1023" y="74"/>
                  </a:lnTo>
                  <a:lnTo>
                    <a:pt x="1012" y="31"/>
                  </a:lnTo>
                  <a:lnTo>
                    <a:pt x="982" y="0"/>
                  </a:lnTo>
                  <a:lnTo>
                    <a:pt x="946" y="15"/>
                  </a:lnTo>
                  <a:lnTo>
                    <a:pt x="948" y="68"/>
                  </a:lnTo>
                  <a:lnTo>
                    <a:pt x="982" y="111"/>
                  </a:lnTo>
                  <a:lnTo>
                    <a:pt x="965" y="135"/>
                  </a:lnTo>
                  <a:lnTo>
                    <a:pt x="907" y="176"/>
                  </a:lnTo>
                  <a:lnTo>
                    <a:pt x="814" y="223"/>
                  </a:lnTo>
                  <a:lnTo>
                    <a:pt x="713" y="282"/>
                  </a:lnTo>
                  <a:lnTo>
                    <a:pt x="643" y="338"/>
                  </a:lnTo>
                  <a:lnTo>
                    <a:pt x="596" y="390"/>
                  </a:lnTo>
                  <a:lnTo>
                    <a:pt x="563" y="400"/>
                  </a:lnTo>
                  <a:lnTo>
                    <a:pt x="492" y="405"/>
                  </a:lnTo>
                  <a:lnTo>
                    <a:pt x="361" y="408"/>
                  </a:lnTo>
                  <a:lnTo>
                    <a:pt x="252" y="408"/>
                  </a:lnTo>
                  <a:lnTo>
                    <a:pt x="159" y="393"/>
                  </a:lnTo>
                  <a:lnTo>
                    <a:pt x="64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Freeform 38"/>
            <p:cNvSpPr/>
            <p:nvPr/>
          </p:nvSpPr>
          <p:spPr>
            <a:xfrm flipH="1">
              <a:off x="8147160" y="3584520"/>
              <a:ext cx="396720" cy="831960"/>
            </a:xfrm>
            <a:custGeom>
              <a:avLst/>
              <a:gdLst>
                <a:gd name="textAreaLeft" fmla="*/ 360 w 396720"/>
                <a:gd name="textAreaRight" fmla="*/ 397440 w 396720"/>
                <a:gd name="textAreaTop" fmla="*/ 0 h 831960"/>
                <a:gd name="textAreaBottom" fmla="*/ 832320 h 831960"/>
              </a:gdLst>
              <a:ahLst/>
              <a:rect l="textAreaLeft" t="textAreaTop" r="textAreaRight" b="textAreaBottom"/>
              <a:pathLst>
                <a:path w="593" h="623">
                  <a:moveTo>
                    <a:pt x="51" y="445"/>
                  </a:moveTo>
                  <a:lnTo>
                    <a:pt x="7" y="455"/>
                  </a:lnTo>
                  <a:lnTo>
                    <a:pt x="0" y="489"/>
                  </a:lnTo>
                  <a:lnTo>
                    <a:pt x="33" y="536"/>
                  </a:lnTo>
                  <a:lnTo>
                    <a:pt x="101" y="570"/>
                  </a:lnTo>
                  <a:lnTo>
                    <a:pt x="179" y="601"/>
                  </a:lnTo>
                  <a:lnTo>
                    <a:pt x="294" y="623"/>
                  </a:lnTo>
                  <a:lnTo>
                    <a:pt x="432" y="623"/>
                  </a:lnTo>
                  <a:lnTo>
                    <a:pt x="466" y="621"/>
                  </a:lnTo>
                  <a:lnTo>
                    <a:pt x="475" y="555"/>
                  </a:lnTo>
                  <a:lnTo>
                    <a:pt x="489" y="467"/>
                  </a:lnTo>
                  <a:lnTo>
                    <a:pt x="492" y="367"/>
                  </a:lnTo>
                  <a:lnTo>
                    <a:pt x="497" y="312"/>
                  </a:lnTo>
                  <a:lnTo>
                    <a:pt x="508" y="269"/>
                  </a:lnTo>
                  <a:lnTo>
                    <a:pt x="540" y="247"/>
                  </a:lnTo>
                  <a:lnTo>
                    <a:pt x="593" y="234"/>
                  </a:lnTo>
                  <a:lnTo>
                    <a:pt x="590" y="210"/>
                  </a:lnTo>
                  <a:lnTo>
                    <a:pt x="500" y="210"/>
                  </a:lnTo>
                  <a:lnTo>
                    <a:pt x="480" y="162"/>
                  </a:lnTo>
                  <a:lnTo>
                    <a:pt x="455" y="132"/>
                  </a:lnTo>
                  <a:lnTo>
                    <a:pt x="450" y="93"/>
                  </a:lnTo>
                  <a:lnTo>
                    <a:pt x="472" y="59"/>
                  </a:lnTo>
                  <a:lnTo>
                    <a:pt x="508" y="51"/>
                  </a:lnTo>
                  <a:lnTo>
                    <a:pt x="518" y="27"/>
                  </a:lnTo>
                  <a:lnTo>
                    <a:pt x="472" y="6"/>
                  </a:lnTo>
                  <a:lnTo>
                    <a:pt x="412" y="0"/>
                  </a:lnTo>
                  <a:lnTo>
                    <a:pt x="379" y="15"/>
                  </a:lnTo>
                  <a:lnTo>
                    <a:pt x="354" y="59"/>
                  </a:lnTo>
                  <a:lnTo>
                    <a:pt x="336" y="88"/>
                  </a:lnTo>
                  <a:lnTo>
                    <a:pt x="347" y="132"/>
                  </a:lnTo>
                  <a:lnTo>
                    <a:pt x="365" y="175"/>
                  </a:lnTo>
                  <a:lnTo>
                    <a:pt x="407" y="218"/>
                  </a:lnTo>
                  <a:lnTo>
                    <a:pt x="447" y="243"/>
                  </a:lnTo>
                  <a:lnTo>
                    <a:pt x="450" y="293"/>
                  </a:lnTo>
                  <a:lnTo>
                    <a:pt x="440" y="389"/>
                  </a:lnTo>
                  <a:lnTo>
                    <a:pt x="429" y="462"/>
                  </a:lnTo>
                  <a:lnTo>
                    <a:pt x="398" y="533"/>
                  </a:lnTo>
                  <a:lnTo>
                    <a:pt x="382" y="540"/>
                  </a:lnTo>
                  <a:lnTo>
                    <a:pt x="294" y="533"/>
                  </a:lnTo>
                  <a:lnTo>
                    <a:pt x="212" y="514"/>
                  </a:lnTo>
                  <a:lnTo>
                    <a:pt x="161" y="484"/>
                  </a:lnTo>
                  <a:lnTo>
                    <a:pt x="108" y="462"/>
                  </a:lnTo>
                  <a:lnTo>
                    <a:pt x="51" y="4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Freeform 39"/>
            <p:cNvSpPr/>
            <p:nvPr/>
          </p:nvSpPr>
          <p:spPr>
            <a:xfrm flipH="1">
              <a:off x="8321760" y="4878360"/>
              <a:ext cx="279360" cy="1387440"/>
            </a:xfrm>
            <a:custGeom>
              <a:avLst/>
              <a:gdLst>
                <a:gd name="textAreaLeft" fmla="*/ 360 w 279360"/>
                <a:gd name="textAreaRight" fmla="*/ 280080 w 279360"/>
                <a:gd name="textAreaTop" fmla="*/ 0 h 1387440"/>
                <a:gd name="textAreaBottom" fmla="*/ 1387800 h 1387440"/>
              </a:gdLst>
              <a:ahLst/>
              <a:rect l="textAreaLeft" t="textAreaTop" r="textAreaRight" b="textAreaBottom"/>
              <a:pathLst>
                <a:path w="416" h="1039">
                  <a:moveTo>
                    <a:pt x="25" y="138"/>
                  </a:moveTo>
                  <a:lnTo>
                    <a:pt x="14" y="85"/>
                  </a:lnTo>
                  <a:lnTo>
                    <a:pt x="25" y="34"/>
                  </a:lnTo>
                  <a:lnTo>
                    <a:pt x="67" y="0"/>
                  </a:lnTo>
                  <a:lnTo>
                    <a:pt x="116" y="12"/>
                  </a:lnTo>
                  <a:lnTo>
                    <a:pt x="162" y="56"/>
                  </a:lnTo>
                  <a:lnTo>
                    <a:pt x="176" y="129"/>
                  </a:lnTo>
                  <a:lnTo>
                    <a:pt x="187" y="245"/>
                  </a:lnTo>
                  <a:lnTo>
                    <a:pt x="186" y="349"/>
                  </a:lnTo>
                  <a:lnTo>
                    <a:pt x="170" y="450"/>
                  </a:lnTo>
                  <a:lnTo>
                    <a:pt x="154" y="560"/>
                  </a:lnTo>
                  <a:lnTo>
                    <a:pt x="127" y="645"/>
                  </a:lnTo>
                  <a:lnTo>
                    <a:pt x="116" y="696"/>
                  </a:lnTo>
                  <a:lnTo>
                    <a:pt x="112" y="785"/>
                  </a:lnTo>
                  <a:lnTo>
                    <a:pt x="126" y="844"/>
                  </a:lnTo>
                  <a:lnTo>
                    <a:pt x="151" y="885"/>
                  </a:lnTo>
                  <a:lnTo>
                    <a:pt x="186" y="907"/>
                  </a:lnTo>
                  <a:lnTo>
                    <a:pt x="254" y="935"/>
                  </a:lnTo>
                  <a:lnTo>
                    <a:pt x="348" y="952"/>
                  </a:lnTo>
                  <a:lnTo>
                    <a:pt x="394" y="960"/>
                  </a:lnTo>
                  <a:lnTo>
                    <a:pt x="416" y="979"/>
                  </a:lnTo>
                  <a:lnTo>
                    <a:pt x="408" y="993"/>
                  </a:lnTo>
                  <a:lnTo>
                    <a:pt x="381" y="1008"/>
                  </a:lnTo>
                  <a:lnTo>
                    <a:pt x="321" y="1037"/>
                  </a:lnTo>
                  <a:lnTo>
                    <a:pt x="262" y="1039"/>
                  </a:lnTo>
                  <a:lnTo>
                    <a:pt x="230" y="1030"/>
                  </a:lnTo>
                  <a:lnTo>
                    <a:pt x="202" y="1001"/>
                  </a:lnTo>
                  <a:lnTo>
                    <a:pt x="151" y="971"/>
                  </a:lnTo>
                  <a:lnTo>
                    <a:pt x="67" y="945"/>
                  </a:lnTo>
                  <a:lnTo>
                    <a:pt x="39" y="942"/>
                  </a:lnTo>
                  <a:lnTo>
                    <a:pt x="8" y="935"/>
                  </a:lnTo>
                  <a:lnTo>
                    <a:pt x="0" y="913"/>
                  </a:lnTo>
                  <a:lnTo>
                    <a:pt x="0" y="879"/>
                  </a:lnTo>
                  <a:lnTo>
                    <a:pt x="17" y="848"/>
                  </a:lnTo>
                  <a:lnTo>
                    <a:pt x="42" y="813"/>
                  </a:lnTo>
                  <a:lnTo>
                    <a:pt x="52" y="727"/>
                  </a:lnTo>
                  <a:lnTo>
                    <a:pt x="49" y="624"/>
                  </a:lnTo>
                  <a:lnTo>
                    <a:pt x="56" y="550"/>
                  </a:lnTo>
                  <a:lnTo>
                    <a:pt x="67" y="479"/>
                  </a:lnTo>
                  <a:lnTo>
                    <a:pt x="66" y="415"/>
                  </a:lnTo>
                  <a:lnTo>
                    <a:pt x="52" y="324"/>
                  </a:lnTo>
                  <a:lnTo>
                    <a:pt x="39" y="255"/>
                  </a:lnTo>
                  <a:lnTo>
                    <a:pt x="42" y="182"/>
                  </a:lnTo>
                  <a:lnTo>
                    <a:pt x="25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Freeform 40"/>
            <p:cNvSpPr/>
            <p:nvPr/>
          </p:nvSpPr>
          <p:spPr>
            <a:xfrm flipH="1">
              <a:off x="8189280" y="4894200"/>
              <a:ext cx="315720" cy="1217520"/>
            </a:xfrm>
            <a:custGeom>
              <a:avLst/>
              <a:gdLst>
                <a:gd name="textAreaLeft" fmla="*/ -360 w 315720"/>
                <a:gd name="textAreaRight" fmla="*/ 315720 w 3157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473" h="912">
                  <a:moveTo>
                    <a:pt x="102" y="0"/>
                  </a:moveTo>
                  <a:lnTo>
                    <a:pt x="170" y="60"/>
                  </a:lnTo>
                  <a:lnTo>
                    <a:pt x="209" y="123"/>
                  </a:lnTo>
                  <a:lnTo>
                    <a:pt x="243" y="196"/>
                  </a:lnTo>
                  <a:lnTo>
                    <a:pt x="269" y="284"/>
                  </a:lnTo>
                  <a:lnTo>
                    <a:pt x="280" y="374"/>
                  </a:lnTo>
                  <a:lnTo>
                    <a:pt x="271" y="459"/>
                  </a:lnTo>
                  <a:lnTo>
                    <a:pt x="260" y="547"/>
                  </a:lnTo>
                  <a:lnTo>
                    <a:pt x="246" y="633"/>
                  </a:lnTo>
                  <a:lnTo>
                    <a:pt x="220" y="716"/>
                  </a:lnTo>
                  <a:lnTo>
                    <a:pt x="217" y="767"/>
                  </a:lnTo>
                  <a:lnTo>
                    <a:pt x="227" y="793"/>
                  </a:lnTo>
                  <a:lnTo>
                    <a:pt x="277" y="803"/>
                  </a:lnTo>
                  <a:lnTo>
                    <a:pt x="355" y="811"/>
                  </a:lnTo>
                  <a:lnTo>
                    <a:pt x="441" y="833"/>
                  </a:lnTo>
                  <a:lnTo>
                    <a:pt x="456" y="852"/>
                  </a:lnTo>
                  <a:lnTo>
                    <a:pt x="473" y="896"/>
                  </a:lnTo>
                  <a:lnTo>
                    <a:pt x="465" y="910"/>
                  </a:lnTo>
                  <a:lnTo>
                    <a:pt x="430" y="912"/>
                  </a:lnTo>
                  <a:lnTo>
                    <a:pt x="356" y="897"/>
                  </a:lnTo>
                  <a:lnTo>
                    <a:pt x="285" y="868"/>
                  </a:lnTo>
                  <a:lnTo>
                    <a:pt x="213" y="862"/>
                  </a:lnTo>
                  <a:lnTo>
                    <a:pt x="170" y="859"/>
                  </a:lnTo>
                  <a:lnTo>
                    <a:pt x="124" y="844"/>
                  </a:lnTo>
                  <a:lnTo>
                    <a:pt x="116" y="818"/>
                  </a:lnTo>
                  <a:lnTo>
                    <a:pt x="124" y="786"/>
                  </a:lnTo>
                  <a:lnTo>
                    <a:pt x="153" y="742"/>
                  </a:lnTo>
                  <a:lnTo>
                    <a:pt x="178" y="692"/>
                  </a:lnTo>
                  <a:lnTo>
                    <a:pt x="192" y="578"/>
                  </a:lnTo>
                  <a:lnTo>
                    <a:pt x="192" y="497"/>
                  </a:lnTo>
                  <a:lnTo>
                    <a:pt x="192" y="437"/>
                  </a:lnTo>
                  <a:lnTo>
                    <a:pt x="187" y="374"/>
                  </a:lnTo>
                  <a:lnTo>
                    <a:pt x="170" y="321"/>
                  </a:lnTo>
                  <a:lnTo>
                    <a:pt x="149" y="258"/>
                  </a:lnTo>
                  <a:lnTo>
                    <a:pt x="102" y="196"/>
                  </a:lnTo>
                  <a:lnTo>
                    <a:pt x="64" y="148"/>
                  </a:lnTo>
                  <a:lnTo>
                    <a:pt x="17" y="88"/>
                  </a:lnTo>
                  <a:lnTo>
                    <a:pt x="0" y="47"/>
                  </a:lnTo>
                  <a:lnTo>
                    <a:pt x="17" y="7"/>
                  </a:lnTo>
                  <a:lnTo>
                    <a:pt x="5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actical DR Plo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71320" y="1765080"/>
            <a:ext cx="82674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d as you g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s actual progress through fi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s actual starting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s actual fi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reflects near-term plan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updated after each f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150"/>
                            </p:stCondLst>
                            <p:childTnLst>
                              <p:par>
                                <p:cTn id="5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4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BFFC-254B-4044-B935-00349FFF81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Date Placeholder 5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ooter Placeholder 6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8" name="Picture 1026" descr="npo000011"/>
          <p:cNvPicPr/>
          <p:nvPr/>
        </p:nvPicPr>
        <p:blipFill>
          <a:blip r:embed="rId1"/>
          <a:stretch/>
        </p:blipFill>
        <p:spPr>
          <a:xfrm>
            <a:off x="5418000" y="1467000"/>
            <a:ext cx="3573720" cy="47037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actical DR Plo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arted Block Island 14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oy “3” FL G 2.5 se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rse 024, Speed 4 kno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1615 we take 3 bear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stle buoy R2 bearing 349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dy Pt light bearing 227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oy R2 Fl R, bearing 321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new position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begin the new DR Pl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Oval 7"/>
          <p:cNvSpPr/>
          <p:nvPr/>
        </p:nvSpPr>
        <p:spPr>
          <a:xfrm>
            <a:off x="5470560" y="4619520"/>
            <a:ext cx="156960" cy="157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Oval 8"/>
          <p:cNvSpPr/>
          <p:nvPr/>
        </p:nvSpPr>
        <p:spPr>
          <a:xfrm>
            <a:off x="7415280" y="2151000"/>
            <a:ext cx="156960" cy="157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Oval 9"/>
          <p:cNvSpPr/>
          <p:nvPr/>
        </p:nvSpPr>
        <p:spPr>
          <a:xfrm>
            <a:off x="6381720" y="1463760"/>
            <a:ext cx="157320" cy="156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Line 10"/>
          <p:cNvSpPr/>
          <p:nvPr/>
        </p:nvSpPr>
        <p:spPr>
          <a:xfrm flipV="1">
            <a:off x="5927760" y="2314080"/>
            <a:ext cx="2338200" cy="21099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7446960" y="1962000"/>
            <a:ext cx="385920" cy="1828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Line 12"/>
          <p:cNvSpPr/>
          <p:nvPr/>
        </p:nvSpPr>
        <p:spPr>
          <a:xfrm>
            <a:off x="6461280" y="1523880"/>
            <a:ext cx="1790640" cy="20671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Group 26"/>
          <p:cNvGrpSpPr/>
          <p:nvPr/>
        </p:nvGrpSpPr>
        <p:grpSpPr>
          <a:xfrm>
            <a:off x="7572240" y="1796760"/>
            <a:ext cx="573120" cy="1159200"/>
            <a:chOff x="7572240" y="1796760"/>
            <a:chExt cx="573120" cy="1159200"/>
          </a:xfrm>
        </p:grpSpPr>
        <p:sp>
          <p:nvSpPr>
            <p:cNvPr id="368" name="Line 16"/>
            <p:cNvSpPr/>
            <p:nvPr/>
          </p:nvSpPr>
          <p:spPr>
            <a:xfrm flipV="1">
              <a:off x="7653240" y="1796760"/>
              <a:ext cx="492120" cy="1028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Oval 17"/>
            <p:cNvSpPr/>
            <p:nvPr/>
          </p:nvSpPr>
          <p:spPr>
            <a:xfrm>
              <a:off x="7572240" y="2798640"/>
              <a:ext cx="157320" cy="1573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Line 19"/>
          <p:cNvSpPr/>
          <p:nvPr/>
        </p:nvSpPr>
        <p:spPr>
          <a:xfrm flipV="1">
            <a:off x="6048360" y="3306240"/>
            <a:ext cx="1157400" cy="257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Oval 24"/>
          <p:cNvSpPr/>
          <p:nvPr/>
        </p:nvSpPr>
        <p:spPr>
          <a:xfrm>
            <a:off x="5943600" y="5829480"/>
            <a:ext cx="152280" cy="152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150"/>
                            </p:stCondLst>
                            <p:childTnLst>
                              <p:par>
                                <p:cTn id="6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77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6" dur="770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8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0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77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2" dur="770" fill="hold"/>
                                        <p:tgtEl>
                                          <p:spTgt spid="3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4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6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77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770" fill="hold"/>
                                        <p:tgtEl>
                                          <p:spTgt spid="3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6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8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77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4" dur="770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6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8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77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0" dur="770" fill="hold"/>
                                        <p:tgtEl>
                                          <p:spTgt spid="3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2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4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77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0" dur="770" fill="hold"/>
                                        <p:tgtEl>
                                          <p:spTgt spid="3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2" dur="77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4" dur="77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77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6" dur="770" fill="hold"/>
                                        <p:tgtEl>
                                          <p:spTgt spid="3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8" dur="77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77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6" dur="770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8" dur="77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0" dur="77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77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2" dur="770" fill="hold"/>
                                        <p:tgtEl>
                                          <p:spTgt spid="3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4" dur="77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6" dur="77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C8E1-D94D-4A46-9427-F18230F6E1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Group 7"/>
          <p:cNvGrpSpPr/>
          <p:nvPr/>
        </p:nvGrpSpPr>
        <p:grpSpPr>
          <a:xfrm>
            <a:off x="7718400" y="3733920"/>
            <a:ext cx="1120320" cy="2895480"/>
            <a:chOff x="7718400" y="3733920"/>
            <a:chExt cx="1120320" cy="2895480"/>
          </a:xfrm>
        </p:grpSpPr>
        <p:sp>
          <p:nvSpPr>
            <p:cNvPr id="376" name="Freeform 8"/>
            <p:cNvSpPr/>
            <p:nvPr/>
          </p:nvSpPr>
          <p:spPr>
            <a:xfrm flipH="1">
              <a:off x="8251560" y="3931920"/>
              <a:ext cx="205560" cy="310320"/>
            </a:xfrm>
            <a:custGeom>
              <a:avLst/>
              <a:gdLst>
                <a:gd name="textAreaLeft" fmla="*/ -360 w 205560"/>
                <a:gd name="textAreaRight" fmla="*/ 205560 w 20556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167" h="504">
                  <a:moveTo>
                    <a:pt x="54" y="457"/>
                  </a:moveTo>
                  <a:lnTo>
                    <a:pt x="56" y="375"/>
                  </a:lnTo>
                  <a:lnTo>
                    <a:pt x="45" y="312"/>
                  </a:lnTo>
                  <a:lnTo>
                    <a:pt x="25" y="259"/>
                  </a:lnTo>
                  <a:lnTo>
                    <a:pt x="0" y="177"/>
                  </a:lnTo>
                  <a:lnTo>
                    <a:pt x="2" y="124"/>
                  </a:lnTo>
                  <a:lnTo>
                    <a:pt x="19" y="57"/>
                  </a:lnTo>
                  <a:lnTo>
                    <a:pt x="50" y="14"/>
                  </a:lnTo>
                  <a:lnTo>
                    <a:pt x="78" y="0"/>
                  </a:lnTo>
                  <a:lnTo>
                    <a:pt x="107" y="10"/>
                  </a:lnTo>
                  <a:lnTo>
                    <a:pt x="126" y="29"/>
                  </a:lnTo>
                  <a:lnTo>
                    <a:pt x="152" y="67"/>
                  </a:lnTo>
                  <a:lnTo>
                    <a:pt x="167" y="124"/>
                  </a:lnTo>
                  <a:lnTo>
                    <a:pt x="161" y="183"/>
                  </a:lnTo>
                  <a:lnTo>
                    <a:pt x="141" y="234"/>
                  </a:lnTo>
                  <a:lnTo>
                    <a:pt x="113" y="316"/>
                  </a:lnTo>
                  <a:lnTo>
                    <a:pt x="107" y="375"/>
                  </a:lnTo>
                  <a:lnTo>
                    <a:pt x="110" y="423"/>
                  </a:lnTo>
                  <a:lnTo>
                    <a:pt x="96" y="470"/>
                  </a:lnTo>
                  <a:lnTo>
                    <a:pt x="82" y="504"/>
                  </a:lnTo>
                  <a:lnTo>
                    <a:pt x="54" y="457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Freeform 9"/>
            <p:cNvSpPr/>
            <p:nvPr/>
          </p:nvSpPr>
          <p:spPr>
            <a:xfrm flipH="1">
              <a:off x="8528040" y="3915000"/>
              <a:ext cx="149760" cy="60120"/>
            </a:xfrm>
            <a:custGeom>
              <a:avLst/>
              <a:gdLst>
                <a:gd name="textAreaLeft" fmla="*/ 360 w 149760"/>
                <a:gd name="textAreaRight" fmla="*/ 150480 w 1497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2" h="97">
                  <a:moveTo>
                    <a:pt x="122" y="97"/>
                  </a:moveTo>
                  <a:lnTo>
                    <a:pt x="20" y="66"/>
                  </a:lnTo>
                  <a:lnTo>
                    <a:pt x="0" y="32"/>
                  </a:lnTo>
                  <a:lnTo>
                    <a:pt x="8" y="4"/>
                  </a:lnTo>
                  <a:lnTo>
                    <a:pt x="31" y="0"/>
                  </a:lnTo>
                  <a:lnTo>
                    <a:pt x="122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Freeform 10"/>
            <p:cNvSpPr/>
            <p:nvPr/>
          </p:nvSpPr>
          <p:spPr>
            <a:xfrm flipH="1">
              <a:off x="8461440" y="3759840"/>
              <a:ext cx="66240" cy="98280"/>
            </a:xfrm>
            <a:custGeom>
              <a:avLst/>
              <a:gdLst>
                <a:gd name="textAreaLeft" fmla="*/ 360 w 66240"/>
                <a:gd name="textAreaRight" fmla="*/ 66960 w 662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4" h="160">
                  <a:moveTo>
                    <a:pt x="54" y="160"/>
                  </a:moveTo>
                  <a:lnTo>
                    <a:pt x="0" y="59"/>
                  </a:lnTo>
                  <a:lnTo>
                    <a:pt x="5" y="15"/>
                  </a:lnTo>
                  <a:lnTo>
                    <a:pt x="31" y="0"/>
                  </a:lnTo>
                  <a:lnTo>
                    <a:pt x="46" y="30"/>
                  </a:lnTo>
                  <a:lnTo>
                    <a:pt x="54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Freeform 11"/>
            <p:cNvSpPr/>
            <p:nvPr/>
          </p:nvSpPr>
          <p:spPr>
            <a:xfrm flipH="1">
              <a:off x="8259120" y="3733920"/>
              <a:ext cx="56520" cy="118080"/>
            </a:xfrm>
            <a:custGeom>
              <a:avLst/>
              <a:gdLst>
                <a:gd name="textAreaLeft" fmla="*/ -360 w 56520"/>
                <a:gd name="textAreaRight" fmla="*/ 56520 w 5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6" h="192">
                  <a:moveTo>
                    <a:pt x="7" y="192"/>
                  </a:moveTo>
                  <a:lnTo>
                    <a:pt x="0" y="50"/>
                  </a:lnTo>
                  <a:lnTo>
                    <a:pt x="25" y="0"/>
                  </a:lnTo>
                  <a:lnTo>
                    <a:pt x="46" y="21"/>
                  </a:lnTo>
                  <a:lnTo>
                    <a:pt x="43" y="59"/>
                  </a:lnTo>
                  <a:lnTo>
                    <a:pt x="7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Freeform 12"/>
            <p:cNvSpPr/>
            <p:nvPr/>
          </p:nvSpPr>
          <p:spPr>
            <a:xfrm flipH="1">
              <a:off x="8065080" y="3825000"/>
              <a:ext cx="135000" cy="73440"/>
            </a:xfrm>
            <a:custGeom>
              <a:avLst/>
              <a:gdLst>
                <a:gd name="textAreaLeft" fmla="*/ -360 w 135000"/>
                <a:gd name="textAreaRight" fmla="*/ 135000 w 13500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10" h="120">
                  <a:moveTo>
                    <a:pt x="0" y="120"/>
                  </a:moveTo>
                  <a:lnTo>
                    <a:pt x="82" y="0"/>
                  </a:lnTo>
                  <a:lnTo>
                    <a:pt x="110" y="23"/>
                  </a:lnTo>
                  <a:lnTo>
                    <a:pt x="108" y="63"/>
                  </a:lnTo>
                  <a:lnTo>
                    <a:pt x="93" y="82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Freeform 13"/>
            <p:cNvSpPr/>
            <p:nvPr/>
          </p:nvSpPr>
          <p:spPr>
            <a:xfrm flipH="1">
              <a:off x="8074080" y="4355280"/>
              <a:ext cx="563040" cy="473760"/>
            </a:xfrm>
            <a:custGeom>
              <a:avLst/>
              <a:gdLst>
                <a:gd name="textAreaLeft" fmla="*/ 360 w 563040"/>
                <a:gd name="textAreaRight" fmla="*/ 563760 w 56304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458" h="770">
                  <a:moveTo>
                    <a:pt x="299" y="222"/>
                  </a:moveTo>
                  <a:lnTo>
                    <a:pt x="243" y="78"/>
                  </a:lnTo>
                  <a:lnTo>
                    <a:pt x="186" y="0"/>
                  </a:lnTo>
                  <a:lnTo>
                    <a:pt x="119" y="0"/>
                  </a:lnTo>
                  <a:lnTo>
                    <a:pt x="45" y="49"/>
                  </a:lnTo>
                  <a:lnTo>
                    <a:pt x="12" y="135"/>
                  </a:lnTo>
                  <a:lnTo>
                    <a:pt x="0" y="251"/>
                  </a:lnTo>
                  <a:lnTo>
                    <a:pt x="12" y="405"/>
                  </a:lnTo>
                  <a:lnTo>
                    <a:pt x="56" y="578"/>
                  </a:lnTo>
                  <a:lnTo>
                    <a:pt x="136" y="694"/>
                  </a:lnTo>
                  <a:lnTo>
                    <a:pt x="197" y="751"/>
                  </a:lnTo>
                  <a:lnTo>
                    <a:pt x="260" y="770"/>
                  </a:lnTo>
                  <a:lnTo>
                    <a:pt x="310" y="741"/>
                  </a:lnTo>
                  <a:lnTo>
                    <a:pt x="338" y="694"/>
                  </a:lnTo>
                  <a:lnTo>
                    <a:pt x="356" y="578"/>
                  </a:lnTo>
                  <a:lnTo>
                    <a:pt x="351" y="443"/>
                  </a:lnTo>
                  <a:lnTo>
                    <a:pt x="333" y="329"/>
                  </a:lnTo>
                  <a:lnTo>
                    <a:pt x="446" y="222"/>
                  </a:lnTo>
                  <a:lnTo>
                    <a:pt x="458" y="175"/>
                  </a:lnTo>
                  <a:lnTo>
                    <a:pt x="446" y="154"/>
                  </a:lnTo>
                  <a:lnTo>
                    <a:pt x="322" y="279"/>
                  </a:lnTo>
                  <a:lnTo>
                    <a:pt x="299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 flipH="1">
              <a:off x="7731720" y="3906360"/>
              <a:ext cx="501480" cy="1058400"/>
            </a:xfrm>
            <a:custGeom>
              <a:avLst/>
              <a:gdLst>
                <a:gd name="textAreaLeft" fmla="*/ -360 w 501480"/>
                <a:gd name="textAreaRight" fmla="*/ 501480 w 501480"/>
                <a:gd name="textAreaTop" fmla="*/ 0 h 1058400"/>
                <a:gd name="textAreaBottom" fmla="*/ 1058760 h 1058400"/>
              </a:gdLst>
              <a:ahLst/>
              <a:rect l="textAreaLeft" t="textAreaTop" r="textAreaRight" b="textAreaBottom"/>
              <a:pathLst>
                <a:path w="408" h="1720">
                  <a:moveTo>
                    <a:pt x="113" y="1452"/>
                  </a:moveTo>
                  <a:lnTo>
                    <a:pt x="40" y="1547"/>
                  </a:lnTo>
                  <a:lnTo>
                    <a:pt x="17" y="1578"/>
                  </a:lnTo>
                  <a:lnTo>
                    <a:pt x="0" y="1644"/>
                  </a:lnTo>
                  <a:lnTo>
                    <a:pt x="23" y="1711"/>
                  </a:lnTo>
                  <a:lnTo>
                    <a:pt x="45" y="1720"/>
                  </a:lnTo>
                  <a:lnTo>
                    <a:pt x="113" y="1682"/>
                  </a:lnTo>
                  <a:lnTo>
                    <a:pt x="215" y="1547"/>
                  </a:lnTo>
                  <a:lnTo>
                    <a:pt x="306" y="1386"/>
                  </a:lnTo>
                  <a:lnTo>
                    <a:pt x="402" y="1201"/>
                  </a:lnTo>
                  <a:lnTo>
                    <a:pt x="408" y="1125"/>
                  </a:lnTo>
                  <a:lnTo>
                    <a:pt x="408" y="914"/>
                  </a:lnTo>
                  <a:lnTo>
                    <a:pt x="380" y="587"/>
                  </a:lnTo>
                  <a:lnTo>
                    <a:pt x="397" y="395"/>
                  </a:lnTo>
                  <a:lnTo>
                    <a:pt x="408" y="317"/>
                  </a:lnTo>
                  <a:lnTo>
                    <a:pt x="391" y="279"/>
                  </a:lnTo>
                  <a:lnTo>
                    <a:pt x="351" y="241"/>
                  </a:lnTo>
                  <a:lnTo>
                    <a:pt x="323" y="213"/>
                  </a:lnTo>
                  <a:lnTo>
                    <a:pt x="339" y="40"/>
                  </a:lnTo>
                  <a:lnTo>
                    <a:pt x="328" y="0"/>
                  </a:lnTo>
                  <a:lnTo>
                    <a:pt x="306" y="11"/>
                  </a:lnTo>
                  <a:lnTo>
                    <a:pt x="295" y="232"/>
                  </a:lnTo>
                  <a:lnTo>
                    <a:pt x="283" y="289"/>
                  </a:lnTo>
                  <a:lnTo>
                    <a:pt x="278" y="327"/>
                  </a:lnTo>
                  <a:lnTo>
                    <a:pt x="232" y="298"/>
                  </a:lnTo>
                  <a:lnTo>
                    <a:pt x="198" y="298"/>
                  </a:lnTo>
                  <a:lnTo>
                    <a:pt x="198" y="336"/>
                  </a:lnTo>
                  <a:lnTo>
                    <a:pt x="221" y="367"/>
                  </a:lnTo>
                  <a:lnTo>
                    <a:pt x="261" y="367"/>
                  </a:lnTo>
                  <a:lnTo>
                    <a:pt x="289" y="405"/>
                  </a:lnTo>
                  <a:lnTo>
                    <a:pt x="311" y="471"/>
                  </a:lnTo>
                  <a:lnTo>
                    <a:pt x="334" y="578"/>
                  </a:lnTo>
                  <a:lnTo>
                    <a:pt x="351" y="789"/>
                  </a:lnTo>
                  <a:lnTo>
                    <a:pt x="351" y="981"/>
                  </a:lnTo>
                  <a:lnTo>
                    <a:pt x="339" y="1135"/>
                  </a:lnTo>
                  <a:lnTo>
                    <a:pt x="317" y="1201"/>
                  </a:lnTo>
                  <a:lnTo>
                    <a:pt x="238" y="1298"/>
                  </a:lnTo>
                  <a:lnTo>
                    <a:pt x="153" y="1386"/>
                  </a:lnTo>
                  <a:lnTo>
                    <a:pt x="113" y="14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 flipH="1">
              <a:off x="8385840" y="4883760"/>
              <a:ext cx="452520" cy="639000"/>
            </a:xfrm>
            <a:custGeom>
              <a:avLst/>
              <a:gdLst>
                <a:gd name="textAreaLeft" fmla="*/ -360 w 452520"/>
                <a:gd name="textAreaRight" fmla="*/ 452520 w 452520"/>
                <a:gd name="textAreaTop" fmla="*/ 0 h 639000"/>
                <a:gd name="textAreaBottom" fmla="*/ 639360 h 639000"/>
              </a:gdLst>
              <a:ahLst/>
              <a:rect l="textAreaLeft" t="textAreaTop" r="textAreaRight" b="textAreaBottom"/>
              <a:pathLst>
                <a:path w="368" h="1038">
                  <a:moveTo>
                    <a:pt x="368" y="29"/>
                  </a:moveTo>
                  <a:lnTo>
                    <a:pt x="328" y="0"/>
                  </a:lnTo>
                  <a:lnTo>
                    <a:pt x="243" y="10"/>
                  </a:lnTo>
                  <a:lnTo>
                    <a:pt x="169" y="107"/>
                  </a:lnTo>
                  <a:lnTo>
                    <a:pt x="62" y="308"/>
                  </a:lnTo>
                  <a:lnTo>
                    <a:pt x="6" y="472"/>
                  </a:lnTo>
                  <a:lnTo>
                    <a:pt x="0" y="529"/>
                  </a:lnTo>
                  <a:lnTo>
                    <a:pt x="28" y="635"/>
                  </a:lnTo>
                  <a:lnTo>
                    <a:pt x="90" y="683"/>
                  </a:lnTo>
                  <a:lnTo>
                    <a:pt x="169" y="740"/>
                  </a:lnTo>
                  <a:lnTo>
                    <a:pt x="232" y="768"/>
                  </a:lnTo>
                  <a:lnTo>
                    <a:pt x="260" y="818"/>
                  </a:lnTo>
                  <a:lnTo>
                    <a:pt x="243" y="884"/>
                  </a:lnTo>
                  <a:lnTo>
                    <a:pt x="198" y="962"/>
                  </a:lnTo>
                  <a:lnTo>
                    <a:pt x="141" y="972"/>
                  </a:lnTo>
                  <a:lnTo>
                    <a:pt x="102" y="941"/>
                  </a:lnTo>
                  <a:lnTo>
                    <a:pt x="78" y="972"/>
                  </a:lnTo>
                  <a:lnTo>
                    <a:pt x="84" y="1010"/>
                  </a:lnTo>
                  <a:lnTo>
                    <a:pt x="130" y="1038"/>
                  </a:lnTo>
                  <a:lnTo>
                    <a:pt x="198" y="1038"/>
                  </a:lnTo>
                  <a:lnTo>
                    <a:pt x="260" y="1010"/>
                  </a:lnTo>
                  <a:lnTo>
                    <a:pt x="294" y="972"/>
                  </a:lnTo>
                  <a:lnTo>
                    <a:pt x="317" y="903"/>
                  </a:lnTo>
                  <a:lnTo>
                    <a:pt x="328" y="827"/>
                  </a:lnTo>
                  <a:lnTo>
                    <a:pt x="300" y="759"/>
                  </a:lnTo>
                  <a:lnTo>
                    <a:pt x="232" y="711"/>
                  </a:lnTo>
                  <a:lnTo>
                    <a:pt x="152" y="673"/>
                  </a:lnTo>
                  <a:lnTo>
                    <a:pt x="84" y="607"/>
                  </a:lnTo>
                  <a:lnTo>
                    <a:pt x="67" y="548"/>
                  </a:lnTo>
                  <a:lnTo>
                    <a:pt x="78" y="443"/>
                  </a:lnTo>
                  <a:lnTo>
                    <a:pt x="130" y="308"/>
                  </a:lnTo>
                  <a:lnTo>
                    <a:pt x="192" y="230"/>
                  </a:lnTo>
                  <a:lnTo>
                    <a:pt x="289" y="173"/>
                  </a:lnTo>
                  <a:lnTo>
                    <a:pt x="368" y="145"/>
                  </a:lnTo>
                  <a:lnTo>
                    <a:pt x="368" y="67"/>
                  </a:lnTo>
                  <a:lnTo>
                    <a:pt x="3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 flipH="1">
              <a:off x="8044920" y="4853880"/>
              <a:ext cx="424440" cy="786600"/>
            </a:xfrm>
            <a:custGeom>
              <a:avLst/>
              <a:gdLst>
                <a:gd name="textAreaLeft" fmla="*/ -360 w 424440"/>
                <a:gd name="textAreaRight" fmla="*/ 424440 w 42444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345" h="1277">
                  <a:moveTo>
                    <a:pt x="300" y="403"/>
                  </a:moveTo>
                  <a:lnTo>
                    <a:pt x="265" y="163"/>
                  </a:lnTo>
                  <a:lnTo>
                    <a:pt x="226" y="47"/>
                  </a:lnTo>
                  <a:lnTo>
                    <a:pt x="141" y="0"/>
                  </a:lnTo>
                  <a:lnTo>
                    <a:pt x="56" y="19"/>
                  </a:lnTo>
                  <a:lnTo>
                    <a:pt x="17" y="144"/>
                  </a:lnTo>
                  <a:lnTo>
                    <a:pt x="22" y="298"/>
                  </a:lnTo>
                  <a:lnTo>
                    <a:pt x="45" y="547"/>
                  </a:lnTo>
                  <a:lnTo>
                    <a:pt x="45" y="768"/>
                  </a:lnTo>
                  <a:lnTo>
                    <a:pt x="17" y="960"/>
                  </a:lnTo>
                  <a:lnTo>
                    <a:pt x="0" y="1066"/>
                  </a:lnTo>
                  <a:lnTo>
                    <a:pt x="11" y="1161"/>
                  </a:lnTo>
                  <a:lnTo>
                    <a:pt x="50" y="1211"/>
                  </a:lnTo>
                  <a:lnTo>
                    <a:pt x="102" y="1258"/>
                  </a:lnTo>
                  <a:lnTo>
                    <a:pt x="152" y="1277"/>
                  </a:lnTo>
                  <a:lnTo>
                    <a:pt x="215" y="1277"/>
                  </a:lnTo>
                  <a:lnTo>
                    <a:pt x="289" y="1180"/>
                  </a:lnTo>
                  <a:lnTo>
                    <a:pt x="345" y="979"/>
                  </a:lnTo>
                  <a:lnTo>
                    <a:pt x="339" y="796"/>
                  </a:lnTo>
                  <a:lnTo>
                    <a:pt x="305" y="585"/>
                  </a:lnTo>
                  <a:lnTo>
                    <a:pt x="300" y="4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 flipH="1">
              <a:off x="8274600" y="5493240"/>
              <a:ext cx="321840" cy="1136160"/>
            </a:xfrm>
            <a:custGeom>
              <a:avLst/>
              <a:gdLst>
                <a:gd name="textAreaLeft" fmla="*/ 360 w 321840"/>
                <a:gd name="textAreaRight" fmla="*/ 322560 w 32184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262" h="1846">
                  <a:moveTo>
                    <a:pt x="249" y="28"/>
                  </a:moveTo>
                  <a:lnTo>
                    <a:pt x="182" y="0"/>
                  </a:lnTo>
                  <a:lnTo>
                    <a:pt x="142" y="28"/>
                  </a:lnTo>
                  <a:lnTo>
                    <a:pt x="125" y="123"/>
                  </a:lnTo>
                  <a:lnTo>
                    <a:pt x="142" y="652"/>
                  </a:lnTo>
                  <a:lnTo>
                    <a:pt x="142" y="778"/>
                  </a:lnTo>
                  <a:lnTo>
                    <a:pt x="120" y="1009"/>
                  </a:lnTo>
                  <a:lnTo>
                    <a:pt x="114" y="1278"/>
                  </a:lnTo>
                  <a:lnTo>
                    <a:pt x="125" y="1413"/>
                  </a:lnTo>
                  <a:lnTo>
                    <a:pt x="114" y="1489"/>
                  </a:lnTo>
                  <a:lnTo>
                    <a:pt x="35" y="1605"/>
                  </a:lnTo>
                  <a:lnTo>
                    <a:pt x="0" y="1749"/>
                  </a:lnTo>
                  <a:lnTo>
                    <a:pt x="7" y="1797"/>
                  </a:lnTo>
                  <a:lnTo>
                    <a:pt x="68" y="1846"/>
                  </a:lnTo>
                  <a:lnTo>
                    <a:pt x="85" y="1825"/>
                  </a:lnTo>
                  <a:lnTo>
                    <a:pt x="92" y="1740"/>
                  </a:lnTo>
                  <a:lnTo>
                    <a:pt x="108" y="1614"/>
                  </a:lnTo>
                  <a:lnTo>
                    <a:pt x="136" y="1557"/>
                  </a:lnTo>
                  <a:lnTo>
                    <a:pt x="170" y="1519"/>
                  </a:lnTo>
                  <a:lnTo>
                    <a:pt x="199" y="1470"/>
                  </a:lnTo>
                  <a:lnTo>
                    <a:pt x="205" y="1432"/>
                  </a:lnTo>
                  <a:lnTo>
                    <a:pt x="188" y="1384"/>
                  </a:lnTo>
                  <a:lnTo>
                    <a:pt x="170" y="1356"/>
                  </a:lnTo>
                  <a:lnTo>
                    <a:pt x="159" y="1240"/>
                  </a:lnTo>
                  <a:lnTo>
                    <a:pt x="170" y="998"/>
                  </a:lnTo>
                  <a:lnTo>
                    <a:pt x="210" y="720"/>
                  </a:lnTo>
                  <a:lnTo>
                    <a:pt x="249" y="498"/>
                  </a:lnTo>
                  <a:lnTo>
                    <a:pt x="262" y="230"/>
                  </a:lnTo>
                  <a:lnTo>
                    <a:pt x="249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 flipH="1">
              <a:off x="7718040" y="5493240"/>
              <a:ext cx="528840" cy="958680"/>
            </a:xfrm>
            <a:custGeom>
              <a:avLst/>
              <a:gdLst>
                <a:gd name="textAreaLeft" fmla="*/ -360 w 528840"/>
                <a:gd name="textAreaRight" fmla="*/ 528840 w 52884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430" h="1557">
                  <a:moveTo>
                    <a:pt x="141" y="230"/>
                  </a:moveTo>
                  <a:lnTo>
                    <a:pt x="130" y="76"/>
                  </a:lnTo>
                  <a:lnTo>
                    <a:pt x="80" y="0"/>
                  </a:lnTo>
                  <a:lnTo>
                    <a:pt x="6" y="9"/>
                  </a:lnTo>
                  <a:lnTo>
                    <a:pt x="0" y="76"/>
                  </a:lnTo>
                  <a:lnTo>
                    <a:pt x="6" y="220"/>
                  </a:lnTo>
                  <a:lnTo>
                    <a:pt x="45" y="441"/>
                  </a:lnTo>
                  <a:lnTo>
                    <a:pt x="74" y="605"/>
                  </a:lnTo>
                  <a:lnTo>
                    <a:pt x="108" y="825"/>
                  </a:lnTo>
                  <a:lnTo>
                    <a:pt x="119" y="1017"/>
                  </a:lnTo>
                  <a:lnTo>
                    <a:pt x="119" y="1171"/>
                  </a:lnTo>
                  <a:lnTo>
                    <a:pt x="102" y="1287"/>
                  </a:lnTo>
                  <a:lnTo>
                    <a:pt x="85" y="1325"/>
                  </a:lnTo>
                  <a:lnTo>
                    <a:pt x="85" y="1363"/>
                  </a:lnTo>
                  <a:lnTo>
                    <a:pt x="108" y="1422"/>
                  </a:lnTo>
                  <a:lnTo>
                    <a:pt x="147" y="1441"/>
                  </a:lnTo>
                  <a:lnTo>
                    <a:pt x="209" y="1441"/>
                  </a:lnTo>
                  <a:lnTo>
                    <a:pt x="322" y="1489"/>
                  </a:lnTo>
                  <a:lnTo>
                    <a:pt x="356" y="1557"/>
                  </a:lnTo>
                  <a:lnTo>
                    <a:pt x="408" y="1517"/>
                  </a:lnTo>
                  <a:lnTo>
                    <a:pt x="430" y="1422"/>
                  </a:lnTo>
                  <a:lnTo>
                    <a:pt x="408" y="1384"/>
                  </a:lnTo>
                  <a:lnTo>
                    <a:pt x="311" y="1363"/>
                  </a:lnTo>
                  <a:lnTo>
                    <a:pt x="204" y="1363"/>
                  </a:lnTo>
                  <a:lnTo>
                    <a:pt x="158" y="1354"/>
                  </a:lnTo>
                  <a:lnTo>
                    <a:pt x="147" y="1297"/>
                  </a:lnTo>
                  <a:lnTo>
                    <a:pt x="158" y="1190"/>
                  </a:lnTo>
                  <a:lnTo>
                    <a:pt x="165" y="1008"/>
                  </a:lnTo>
                  <a:lnTo>
                    <a:pt x="152" y="806"/>
                  </a:lnTo>
                  <a:lnTo>
                    <a:pt x="136" y="538"/>
                  </a:lnTo>
                  <a:lnTo>
                    <a:pt x="141" y="306"/>
                  </a:lnTo>
                  <a:lnTo>
                    <a:pt x="141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mportant!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rting a New D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71320" y="185436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110000"/>
              </a:lnSpc>
              <a:spcBef>
                <a:spcPts val="40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1615 we plotted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10000"/>
              </a:lnSpc>
              <a:spcBef>
                <a:spcPts val="4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ives an accurate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10000"/>
              </a:lnSpc>
              <a:spcBef>
                <a:spcPts val="40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or a running FIX), you start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700"/>
                            </p:stCondLst>
                            <p:childTnLst>
                              <p:par>
                                <p:cTn id="7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CC90-5281-4BFE-9309-96556063D1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Group 4"/>
          <p:cNvGrpSpPr/>
          <p:nvPr/>
        </p:nvGrpSpPr>
        <p:grpSpPr>
          <a:xfrm>
            <a:off x="1303200" y="1338120"/>
            <a:ext cx="6983280" cy="5005440"/>
            <a:chOff x="1303200" y="1338120"/>
            <a:chExt cx="6983280" cy="5005440"/>
          </a:xfrm>
        </p:grpSpPr>
        <p:pic>
          <p:nvPicPr>
            <p:cNvPr id="393" name="Picture 2" descr="npo000013"/>
            <p:cNvPicPr/>
            <p:nvPr/>
          </p:nvPicPr>
          <p:blipFill>
            <a:blip r:embed="rId1"/>
            <a:stretch/>
          </p:blipFill>
          <p:spPr>
            <a:xfrm>
              <a:off x="1303200" y="1338120"/>
              <a:ext cx="6983280" cy="5005440"/>
            </a:xfrm>
            <a:prstGeom prst="rect">
              <a:avLst/>
            </a:prstGeom>
            <a:ln w="57240">
              <a:solidFill>
                <a:srgbClr val="a50021"/>
              </a:solidFill>
              <a:miter/>
            </a:ln>
          </p:spPr>
        </p:pic>
        <p:sp>
          <p:nvSpPr>
            <p:cNvPr id="394" name="Rectangle 3"/>
            <p:cNvSpPr/>
            <p:nvPr/>
          </p:nvSpPr>
          <p:spPr>
            <a:xfrm flipV="1">
              <a:off x="6598800" y="6052320"/>
              <a:ext cx="349560" cy="2905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ules for DR Plo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Chapter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ad Reck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asic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oastal Navigation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DB33-FAA2-4E25-9DD0-FCE9629758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9" name="Picture 4" descr="bd09278_"/>
          <p:cNvPicPr/>
          <p:nvPr/>
        </p:nvPicPr>
        <p:blipFill>
          <a:blip r:embed="rId1"/>
          <a:stretch/>
        </p:blipFill>
        <p:spPr>
          <a:xfrm>
            <a:off x="6141960" y="3809880"/>
            <a:ext cx="2697120" cy="27432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eping A Lo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71320" y="1879200"/>
            <a:ext cx="82674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ip’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g is a matter of tas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g should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1040" indent="-336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ss, Magnetic, 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1040" indent="-336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PM, ST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 and 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9350-B91B-439B-83A0-7138585DF6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Speed times Time divided by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 = ST/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Distance times 60 divided by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 = 60D/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i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Distance times 60 divided by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 = 60D/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lculatin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ime, Speed &amp; Dista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93D8-0566-4606-AB2A-F3DDC6BEDA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 Calcul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10 kts, run time 20 min; compute dista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ST/60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10x20/60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3.3 n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to destination 12 mi, time enroute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 min; compute spe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60D/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60x12/40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18.0 k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uising at 15 kts, distance to destination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 mi; compute time to destin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60D/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60x12/15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48 m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87FA-40FD-44B2-A714-E33CB13816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eed Tab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15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d runs made out &amp; back on measured course at multiple RP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spcBef>
                <a:spcPts val="15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5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’d spee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d a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RP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10" descr=""/>
          <p:cNvPicPr/>
          <p:nvPr/>
        </p:nvPicPr>
        <p:blipFill>
          <a:blip r:embed="rId3"/>
          <a:stretch/>
        </p:blipFill>
        <p:spPr>
          <a:xfrm>
            <a:off x="3924360" y="2755800"/>
            <a:ext cx="4991040" cy="36450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950"/>
                            </p:stCondLst>
                            <p:childTnLst>
                              <p:par>
                                <p:cTn id="9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D0B8-B161-4666-A942-0D964E1A4D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eed Curv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2" name="Picture 8" descr="CH5-24"/>
          <p:cNvPicPr/>
          <p:nvPr/>
        </p:nvPicPr>
        <p:blipFill>
          <a:blip r:embed="rId1"/>
          <a:stretch/>
        </p:blipFill>
        <p:spPr>
          <a:xfrm>
            <a:off x="3886200" y="2459160"/>
            <a:ext cx="5029200" cy="3941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 table data plotted in graphical form for easier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A434-1999-446F-946A-46B2B66F18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endshow"/>
          </p:cNvPr>
          <p:cNvSpPr/>
          <p:nvPr/>
        </p:nvSpPr>
        <p:spPr>
          <a:xfrm>
            <a:off x="8381880" y="533520"/>
            <a:ext cx="76320" cy="7596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02" y="1400"/>
                </a:lnTo>
                <a:lnTo>
                  <a:pt x="1400" y="140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02" y="20200"/>
                </a:lnTo>
                <a:lnTo>
                  <a:pt x="20302" y="140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2" y="2020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AutoShape 6">
            <a:hlinkClick r:id="" action="ppaction://hlinkshowjump?jump=endshow"/>
          </p:cNvPr>
          <p:cNvSpPr/>
          <p:nvPr/>
        </p:nvSpPr>
        <p:spPr>
          <a:xfrm>
            <a:off x="8381880" y="762120"/>
            <a:ext cx="76320" cy="7596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02" y="1400"/>
                </a:lnTo>
                <a:lnTo>
                  <a:pt x="1400" y="140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02" y="20200"/>
                </a:lnTo>
                <a:lnTo>
                  <a:pt x="20302" y="140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2" y="2020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15920" y="250920"/>
            <a:ext cx="75456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d Chapter 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0" name="Picture 10" descr="eagle"/>
          <p:cNvPicPr/>
          <p:nvPr/>
        </p:nvPicPr>
        <p:blipFill>
          <a:blip r:embed="rId1"/>
          <a:stretch/>
        </p:blipFill>
        <p:spPr>
          <a:xfrm>
            <a:off x="1400040" y="2239920"/>
            <a:ext cx="6343920" cy="278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EF42-7C34-408C-977B-6AF36DD96A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6257880" y="3994200"/>
            <a:ext cx="2733840" cy="2482920"/>
            <a:chOff x="6257880" y="3994200"/>
            <a:chExt cx="2733840" cy="2482920"/>
          </a:xfrm>
        </p:grpSpPr>
        <p:sp>
          <p:nvSpPr>
            <p:cNvPr id="99" name="Freeform 7"/>
            <p:cNvSpPr/>
            <p:nvPr/>
          </p:nvSpPr>
          <p:spPr>
            <a:xfrm>
              <a:off x="6257880" y="3994200"/>
              <a:ext cx="2733840" cy="2482920"/>
            </a:xfrm>
            <a:custGeom>
              <a:avLst/>
              <a:gdLst>
                <a:gd name="textAreaLeft" fmla="*/ 0 w 2733840"/>
                <a:gd name="textAreaRight" fmla="*/ 2734200 w 2733840"/>
                <a:gd name="textAreaTop" fmla="*/ 0 h 2482920"/>
                <a:gd name="textAreaBottom" fmla="*/ 2483280 h 2482920"/>
              </a:gdLst>
              <a:ahLst/>
              <a:rect l="textAreaLeft" t="textAreaTop" r="textAreaRight" b="textAreaBottom"/>
              <a:pathLst>
                <a:path w="3443" h="3127">
                  <a:moveTo>
                    <a:pt x="709" y="2354"/>
                  </a:moveTo>
                  <a:lnTo>
                    <a:pt x="720" y="2357"/>
                  </a:lnTo>
                  <a:lnTo>
                    <a:pt x="731" y="2360"/>
                  </a:lnTo>
                  <a:lnTo>
                    <a:pt x="743" y="2365"/>
                  </a:lnTo>
                  <a:lnTo>
                    <a:pt x="756" y="2368"/>
                  </a:lnTo>
                  <a:lnTo>
                    <a:pt x="770" y="2371"/>
                  </a:lnTo>
                  <a:lnTo>
                    <a:pt x="783" y="2374"/>
                  </a:lnTo>
                  <a:lnTo>
                    <a:pt x="795" y="2376"/>
                  </a:lnTo>
                  <a:lnTo>
                    <a:pt x="808" y="2377"/>
                  </a:lnTo>
                  <a:lnTo>
                    <a:pt x="681" y="2607"/>
                  </a:lnTo>
                  <a:lnTo>
                    <a:pt x="672" y="2620"/>
                  </a:lnTo>
                  <a:lnTo>
                    <a:pt x="674" y="2634"/>
                  </a:lnTo>
                  <a:lnTo>
                    <a:pt x="679" y="2647"/>
                  </a:lnTo>
                  <a:lnTo>
                    <a:pt x="675" y="2659"/>
                  </a:lnTo>
                  <a:lnTo>
                    <a:pt x="681" y="2686"/>
                  </a:lnTo>
                  <a:lnTo>
                    <a:pt x="688" y="2713"/>
                  </a:lnTo>
                  <a:lnTo>
                    <a:pt x="690" y="2740"/>
                  </a:lnTo>
                  <a:lnTo>
                    <a:pt x="686" y="2769"/>
                  </a:lnTo>
                  <a:lnTo>
                    <a:pt x="684" y="2786"/>
                  </a:lnTo>
                  <a:lnTo>
                    <a:pt x="681" y="2805"/>
                  </a:lnTo>
                  <a:lnTo>
                    <a:pt x="674" y="2821"/>
                  </a:lnTo>
                  <a:lnTo>
                    <a:pt x="661" y="2834"/>
                  </a:lnTo>
                  <a:lnTo>
                    <a:pt x="640" y="2845"/>
                  </a:lnTo>
                  <a:lnTo>
                    <a:pt x="614" y="2853"/>
                  </a:lnTo>
                  <a:lnTo>
                    <a:pt x="589" y="2861"/>
                  </a:lnTo>
                  <a:lnTo>
                    <a:pt x="562" y="2864"/>
                  </a:lnTo>
                  <a:lnTo>
                    <a:pt x="536" y="2866"/>
                  </a:lnTo>
                  <a:lnTo>
                    <a:pt x="509" y="2864"/>
                  </a:lnTo>
                  <a:lnTo>
                    <a:pt x="482" y="2861"/>
                  </a:lnTo>
                  <a:lnTo>
                    <a:pt x="457" y="2853"/>
                  </a:lnTo>
                  <a:lnTo>
                    <a:pt x="450" y="2848"/>
                  </a:lnTo>
                  <a:lnTo>
                    <a:pt x="439" y="2842"/>
                  </a:lnTo>
                  <a:lnTo>
                    <a:pt x="430" y="2839"/>
                  </a:lnTo>
                  <a:lnTo>
                    <a:pt x="421" y="2834"/>
                  </a:lnTo>
                  <a:lnTo>
                    <a:pt x="412" y="2829"/>
                  </a:lnTo>
                  <a:lnTo>
                    <a:pt x="405" y="2824"/>
                  </a:lnTo>
                  <a:lnTo>
                    <a:pt x="401" y="2820"/>
                  </a:lnTo>
                  <a:lnTo>
                    <a:pt x="398" y="2813"/>
                  </a:lnTo>
                  <a:lnTo>
                    <a:pt x="389" y="2807"/>
                  </a:lnTo>
                  <a:lnTo>
                    <a:pt x="381" y="2799"/>
                  </a:lnTo>
                  <a:lnTo>
                    <a:pt x="376" y="2791"/>
                  </a:lnTo>
                  <a:lnTo>
                    <a:pt x="369" y="2783"/>
                  </a:lnTo>
                  <a:lnTo>
                    <a:pt x="369" y="2755"/>
                  </a:lnTo>
                  <a:lnTo>
                    <a:pt x="371" y="2724"/>
                  </a:lnTo>
                  <a:lnTo>
                    <a:pt x="367" y="2696"/>
                  </a:lnTo>
                  <a:lnTo>
                    <a:pt x="353" y="2672"/>
                  </a:lnTo>
                  <a:lnTo>
                    <a:pt x="351" y="2644"/>
                  </a:lnTo>
                  <a:lnTo>
                    <a:pt x="342" y="2626"/>
                  </a:lnTo>
                  <a:lnTo>
                    <a:pt x="331" y="2612"/>
                  </a:lnTo>
                  <a:lnTo>
                    <a:pt x="322" y="2590"/>
                  </a:lnTo>
                  <a:lnTo>
                    <a:pt x="322" y="2547"/>
                  </a:lnTo>
                  <a:lnTo>
                    <a:pt x="324" y="2539"/>
                  </a:lnTo>
                  <a:lnTo>
                    <a:pt x="329" y="2531"/>
                  </a:lnTo>
                  <a:lnTo>
                    <a:pt x="337" y="2525"/>
                  </a:lnTo>
                  <a:lnTo>
                    <a:pt x="346" y="2518"/>
                  </a:lnTo>
                  <a:lnTo>
                    <a:pt x="351" y="2514"/>
                  </a:lnTo>
                  <a:lnTo>
                    <a:pt x="353" y="2507"/>
                  </a:lnTo>
                  <a:lnTo>
                    <a:pt x="349" y="2499"/>
                  </a:lnTo>
                  <a:lnTo>
                    <a:pt x="338" y="2490"/>
                  </a:lnTo>
                  <a:lnTo>
                    <a:pt x="329" y="2491"/>
                  </a:lnTo>
                  <a:lnTo>
                    <a:pt x="322" y="2495"/>
                  </a:lnTo>
                  <a:lnTo>
                    <a:pt x="315" y="2499"/>
                  </a:lnTo>
                  <a:lnTo>
                    <a:pt x="308" y="2504"/>
                  </a:lnTo>
                  <a:lnTo>
                    <a:pt x="303" y="2509"/>
                  </a:lnTo>
                  <a:lnTo>
                    <a:pt x="295" y="2512"/>
                  </a:lnTo>
                  <a:lnTo>
                    <a:pt x="288" y="2515"/>
                  </a:lnTo>
                  <a:lnTo>
                    <a:pt x="281" y="2517"/>
                  </a:lnTo>
                  <a:lnTo>
                    <a:pt x="268" y="2525"/>
                  </a:lnTo>
                  <a:lnTo>
                    <a:pt x="254" y="2530"/>
                  </a:lnTo>
                  <a:lnTo>
                    <a:pt x="240" y="2534"/>
                  </a:lnTo>
                  <a:lnTo>
                    <a:pt x="231" y="2544"/>
                  </a:lnTo>
                  <a:lnTo>
                    <a:pt x="218" y="2558"/>
                  </a:lnTo>
                  <a:lnTo>
                    <a:pt x="204" y="2572"/>
                  </a:lnTo>
                  <a:lnTo>
                    <a:pt x="186" y="2585"/>
                  </a:lnTo>
                  <a:lnTo>
                    <a:pt x="168" y="2596"/>
                  </a:lnTo>
                  <a:lnTo>
                    <a:pt x="147" y="2606"/>
                  </a:lnTo>
                  <a:lnTo>
                    <a:pt x="125" y="2612"/>
                  </a:lnTo>
                  <a:lnTo>
                    <a:pt x="102" y="2617"/>
                  </a:lnTo>
                  <a:lnTo>
                    <a:pt x="77" y="2618"/>
                  </a:lnTo>
                  <a:lnTo>
                    <a:pt x="66" y="2621"/>
                  </a:lnTo>
                  <a:lnTo>
                    <a:pt x="57" y="2620"/>
                  </a:lnTo>
                  <a:lnTo>
                    <a:pt x="50" y="2617"/>
                  </a:lnTo>
                  <a:lnTo>
                    <a:pt x="44" y="2610"/>
                  </a:lnTo>
                  <a:lnTo>
                    <a:pt x="39" y="2604"/>
                  </a:lnTo>
                  <a:lnTo>
                    <a:pt x="32" y="2599"/>
                  </a:lnTo>
                  <a:lnTo>
                    <a:pt x="25" y="2596"/>
                  </a:lnTo>
                  <a:lnTo>
                    <a:pt x="14" y="2594"/>
                  </a:lnTo>
                  <a:lnTo>
                    <a:pt x="5" y="2579"/>
                  </a:lnTo>
                  <a:lnTo>
                    <a:pt x="0" y="2561"/>
                  </a:lnTo>
                  <a:lnTo>
                    <a:pt x="0" y="2541"/>
                  </a:lnTo>
                  <a:lnTo>
                    <a:pt x="1" y="2522"/>
                  </a:lnTo>
                  <a:lnTo>
                    <a:pt x="18" y="2498"/>
                  </a:lnTo>
                  <a:lnTo>
                    <a:pt x="37" y="2477"/>
                  </a:lnTo>
                  <a:lnTo>
                    <a:pt x="59" y="2458"/>
                  </a:lnTo>
                  <a:lnTo>
                    <a:pt x="84" y="2441"/>
                  </a:lnTo>
                  <a:lnTo>
                    <a:pt x="111" y="2426"/>
                  </a:lnTo>
                  <a:lnTo>
                    <a:pt x="139" y="2412"/>
                  </a:lnTo>
                  <a:lnTo>
                    <a:pt x="170" y="2400"/>
                  </a:lnTo>
                  <a:lnTo>
                    <a:pt x="200" y="2387"/>
                  </a:lnTo>
                  <a:lnTo>
                    <a:pt x="202" y="2382"/>
                  </a:lnTo>
                  <a:lnTo>
                    <a:pt x="209" y="2381"/>
                  </a:lnTo>
                  <a:lnTo>
                    <a:pt x="215" y="2379"/>
                  </a:lnTo>
                  <a:lnTo>
                    <a:pt x="220" y="2377"/>
                  </a:lnTo>
                  <a:lnTo>
                    <a:pt x="234" y="2368"/>
                  </a:lnTo>
                  <a:lnTo>
                    <a:pt x="249" y="2358"/>
                  </a:lnTo>
                  <a:lnTo>
                    <a:pt x="263" y="2349"/>
                  </a:lnTo>
                  <a:lnTo>
                    <a:pt x="277" y="2341"/>
                  </a:lnTo>
                  <a:lnTo>
                    <a:pt x="292" y="2333"/>
                  </a:lnTo>
                  <a:lnTo>
                    <a:pt x="308" y="2325"/>
                  </a:lnTo>
                  <a:lnTo>
                    <a:pt x="322" y="2317"/>
                  </a:lnTo>
                  <a:lnTo>
                    <a:pt x="337" y="2309"/>
                  </a:lnTo>
                  <a:lnTo>
                    <a:pt x="328" y="2295"/>
                  </a:lnTo>
                  <a:lnTo>
                    <a:pt x="315" y="2281"/>
                  </a:lnTo>
                  <a:lnTo>
                    <a:pt x="303" y="2268"/>
                  </a:lnTo>
                  <a:lnTo>
                    <a:pt x="295" y="2254"/>
                  </a:lnTo>
                  <a:lnTo>
                    <a:pt x="295" y="2241"/>
                  </a:lnTo>
                  <a:lnTo>
                    <a:pt x="295" y="2230"/>
                  </a:lnTo>
                  <a:lnTo>
                    <a:pt x="294" y="2219"/>
                  </a:lnTo>
                  <a:lnTo>
                    <a:pt x="292" y="2208"/>
                  </a:lnTo>
                  <a:lnTo>
                    <a:pt x="295" y="2200"/>
                  </a:lnTo>
                  <a:lnTo>
                    <a:pt x="304" y="2193"/>
                  </a:lnTo>
                  <a:lnTo>
                    <a:pt x="313" y="2189"/>
                  </a:lnTo>
                  <a:lnTo>
                    <a:pt x="326" y="2187"/>
                  </a:lnTo>
                  <a:lnTo>
                    <a:pt x="329" y="2160"/>
                  </a:lnTo>
                  <a:lnTo>
                    <a:pt x="324" y="2130"/>
                  </a:lnTo>
                  <a:lnTo>
                    <a:pt x="322" y="2102"/>
                  </a:lnTo>
                  <a:lnTo>
                    <a:pt x="335" y="2078"/>
                  </a:lnTo>
                  <a:lnTo>
                    <a:pt x="410" y="2049"/>
                  </a:lnTo>
                  <a:lnTo>
                    <a:pt x="489" y="2054"/>
                  </a:lnTo>
                  <a:lnTo>
                    <a:pt x="493" y="2059"/>
                  </a:lnTo>
                  <a:lnTo>
                    <a:pt x="500" y="2064"/>
                  </a:lnTo>
                  <a:lnTo>
                    <a:pt x="505" y="2067"/>
                  </a:lnTo>
                  <a:lnTo>
                    <a:pt x="514" y="2068"/>
                  </a:lnTo>
                  <a:lnTo>
                    <a:pt x="512" y="2057"/>
                  </a:lnTo>
                  <a:lnTo>
                    <a:pt x="503" y="2049"/>
                  </a:lnTo>
                  <a:lnTo>
                    <a:pt x="493" y="2040"/>
                  </a:lnTo>
                  <a:lnTo>
                    <a:pt x="487" y="2027"/>
                  </a:lnTo>
                  <a:lnTo>
                    <a:pt x="489" y="1997"/>
                  </a:lnTo>
                  <a:lnTo>
                    <a:pt x="480" y="1968"/>
                  </a:lnTo>
                  <a:lnTo>
                    <a:pt x="469" y="1940"/>
                  </a:lnTo>
                  <a:lnTo>
                    <a:pt x="464" y="1907"/>
                  </a:lnTo>
                  <a:lnTo>
                    <a:pt x="460" y="1907"/>
                  </a:lnTo>
                  <a:lnTo>
                    <a:pt x="464" y="1900"/>
                  </a:lnTo>
                  <a:lnTo>
                    <a:pt x="460" y="1892"/>
                  </a:lnTo>
                  <a:lnTo>
                    <a:pt x="458" y="1883"/>
                  </a:lnTo>
                  <a:lnTo>
                    <a:pt x="457" y="1872"/>
                  </a:lnTo>
                  <a:lnTo>
                    <a:pt x="453" y="1865"/>
                  </a:lnTo>
                  <a:lnTo>
                    <a:pt x="417" y="1857"/>
                  </a:lnTo>
                  <a:lnTo>
                    <a:pt x="383" y="1861"/>
                  </a:lnTo>
                  <a:lnTo>
                    <a:pt x="351" y="1870"/>
                  </a:lnTo>
                  <a:lnTo>
                    <a:pt x="319" y="1884"/>
                  </a:lnTo>
                  <a:lnTo>
                    <a:pt x="286" y="1897"/>
                  </a:lnTo>
                  <a:lnTo>
                    <a:pt x="254" y="1907"/>
                  </a:lnTo>
                  <a:lnTo>
                    <a:pt x="222" y="1907"/>
                  </a:lnTo>
                  <a:lnTo>
                    <a:pt x="186" y="1894"/>
                  </a:lnTo>
                  <a:lnTo>
                    <a:pt x="177" y="1881"/>
                  </a:lnTo>
                  <a:lnTo>
                    <a:pt x="173" y="1873"/>
                  </a:lnTo>
                  <a:lnTo>
                    <a:pt x="177" y="1864"/>
                  </a:lnTo>
                  <a:lnTo>
                    <a:pt x="184" y="1850"/>
                  </a:lnTo>
                  <a:lnTo>
                    <a:pt x="204" y="1835"/>
                  </a:lnTo>
                  <a:lnTo>
                    <a:pt x="227" y="1826"/>
                  </a:lnTo>
                  <a:lnTo>
                    <a:pt x="252" y="1821"/>
                  </a:lnTo>
                  <a:lnTo>
                    <a:pt x="279" y="1819"/>
                  </a:lnTo>
                  <a:lnTo>
                    <a:pt x="308" y="1819"/>
                  </a:lnTo>
                  <a:lnTo>
                    <a:pt x="337" y="1821"/>
                  </a:lnTo>
                  <a:lnTo>
                    <a:pt x="363" y="1821"/>
                  </a:lnTo>
                  <a:lnTo>
                    <a:pt x="390" y="1819"/>
                  </a:lnTo>
                  <a:lnTo>
                    <a:pt x="396" y="1813"/>
                  </a:lnTo>
                  <a:lnTo>
                    <a:pt x="403" y="1807"/>
                  </a:lnTo>
                  <a:lnTo>
                    <a:pt x="414" y="1802"/>
                  </a:lnTo>
                  <a:lnTo>
                    <a:pt x="423" y="1799"/>
                  </a:lnTo>
                  <a:lnTo>
                    <a:pt x="432" y="1792"/>
                  </a:lnTo>
                  <a:lnTo>
                    <a:pt x="439" y="1788"/>
                  </a:lnTo>
                  <a:lnTo>
                    <a:pt x="442" y="1780"/>
                  </a:lnTo>
                  <a:lnTo>
                    <a:pt x="441" y="1769"/>
                  </a:lnTo>
                  <a:lnTo>
                    <a:pt x="428" y="1682"/>
                  </a:lnTo>
                  <a:lnTo>
                    <a:pt x="430" y="1675"/>
                  </a:lnTo>
                  <a:lnTo>
                    <a:pt x="430" y="1667"/>
                  </a:lnTo>
                  <a:lnTo>
                    <a:pt x="428" y="1659"/>
                  </a:lnTo>
                  <a:lnTo>
                    <a:pt x="430" y="1653"/>
                  </a:lnTo>
                  <a:lnTo>
                    <a:pt x="433" y="1623"/>
                  </a:lnTo>
                  <a:lnTo>
                    <a:pt x="435" y="1591"/>
                  </a:lnTo>
                  <a:lnTo>
                    <a:pt x="437" y="1558"/>
                  </a:lnTo>
                  <a:lnTo>
                    <a:pt x="441" y="1523"/>
                  </a:lnTo>
                  <a:lnTo>
                    <a:pt x="446" y="1509"/>
                  </a:lnTo>
                  <a:lnTo>
                    <a:pt x="450" y="1493"/>
                  </a:lnTo>
                  <a:lnTo>
                    <a:pt x="450" y="1477"/>
                  </a:lnTo>
                  <a:lnTo>
                    <a:pt x="453" y="1460"/>
                  </a:lnTo>
                  <a:lnTo>
                    <a:pt x="467" y="1422"/>
                  </a:lnTo>
                  <a:lnTo>
                    <a:pt x="478" y="1384"/>
                  </a:lnTo>
                  <a:lnTo>
                    <a:pt x="487" y="1347"/>
                  </a:lnTo>
                  <a:lnTo>
                    <a:pt x="501" y="1309"/>
                  </a:lnTo>
                  <a:lnTo>
                    <a:pt x="509" y="1296"/>
                  </a:lnTo>
                  <a:lnTo>
                    <a:pt x="512" y="1282"/>
                  </a:lnTo>
                  <a:lnTo>
                    <a:pt x="518" y="1269"/>
                  </a:lnTo>
                  <a:lnTo>
                    <a:pt x="527" y="1258"/>
                  </a:lnTo>
                  <a:lnTo>
                    <a:pt x="530" y="1246"/>
                  </a:lnTo>
                  <a:lnTo>
                    <a:pt x="537" y="1235"/>
                  </a:lnTo>
                  <a:lnTo>
                    <a:pt x="546" y="1223"/>
                  </a:lnTo>
                  <a:lnTo>
                    <a:pt x="553" y="1211"/>
                  </a:lnTo>
                  <a:lnTo>
                    <a:pt x="559" y="1200"/>
                  </a:lnTo>
                  <a:lnTo>
                    <a:pt x="561" y="1189"/>
                  </a:lnTo>
                  <a:lnTo>
                    <a:pt x="557" y="1177"/>
                  </a:lnTo>
                  <a:lnTo>
                    <a:pt x="545" y="1165"/>
                  </a:lnTo>
                  <a:lnTo>
                    <a:pt x="534" y="1158"/>
                  </a:lnTo>
                  <a:lnTo>
                    <a:pt x="519" y="1155"/>
                  </a:lnTo>
                  <a:lnTo>
                    <a:pt x="505" y="1152"/>
                  </a:lnTo>
                  <a:lnTo>
                    <a:pt x="494" y="1144"/>
                  </a:lnTo>
                  <a:lnTo>
                    <a:pt x="482" y="1143"/>
                  </a:lnTo>
                  <a:lnTo>
                    <a:pt x="467" y="1139"/>
                  </a:lnTo>
                  <a:lnTo>
                    <a:pt x="455" y="1135"/>
                  </a:lnTo>
                  <a:lnTo>
                    <a:pt x="444" y="1130"/>
                  </a:lnTo>
                  <a:lnTo>
                    <a:pt x="432" y="1124"/>
                  </a:lnTo>
                  <a:lnTo>
                    <a:pt x="419" y="1119"/>
                  </a:lnTo>
                  <a:lnTo>
                    <a:pt x="408" y="1112"/>
                  </a:lnTo>
                  <a:lnTo>
                    <a:pt x="398" y="1106"/>
                  </a:lnTo>
                  <a:lnTo>
                    <a:pt x="389" y="1097"/>
                  </a:lnTo>
                  <a:lnTo>
                    <a:pt x="378" y="1087"/>
                  </a:lnTo>
                  <a:lnTo>
                    <a:pt x="365" y="1078"/>
                  </a:lnTo>
                  <a:lnTo>
                    <a:pt x="356" y="1068"/>
                  </a:lnTo>
                  <a:lnTo>
                    <a:pt x="347" y="1057"/>
                  </a:lnTo>
                  <a:lnTo>
                    <a:pt x="342" y="1046"/>
                  </a:lnTo>
                  <a:lnTo>
                    <a:pt x="342" y="1033"/>
                  </a:lnTo>
                  <a:lnTo>
                    <a:pt x="346" y="1019"/>
                  </a:lnTo>
                  <a:lnTo>
                    <a:pt x="367" y="1019"/>
                  </a:lnTo>
                  <a:lnTo>
                    <a:pt x="389" y="1022"/>
                  </a:lnTo>
                  <a:lnTo>
                    <a:pt x="410" y="1027"/>
                  </a:lnTo>
                  <a:lnTo>
                    <a:pt x="430" y="1033"/>
                  </a:lnTo>
                  <a:lnTo>
                    <a:pt x="450" y="1043"/>
                  </a:lnTo>
                  <a:lnTo>
                    <a:pt x="467" y="1052"/>
                  </a:lnTo>
                  <a:lnTo>
                    <a:pt x="485" y="1063"/>
                  </a:lnTo>
                  <a:lnTo>
                    <a:pt x="500" y="1074"/>
                  </a:lnTo>
                  <a:lnTo>
                    <a:pt x="510" y="1081"/>
                  </a:lnTo>
                  <a:lnTo>
                    <a:pt x="521" y="1089"/>
                  </a:lnTo>
                  <a:lnTo>
                    <a:pt x="530" y="1097"/>
                  </a:lnTo>
                  <a:lnTo>
                    <a:pt x="539" y="1106"/>
                  </a:lnTo>
                  <a:lnTo>
                    <a:pt x="550" y="1116"/>
                  </a:lnTo>
                  <a:lnTo>
                    <a:pt x="561" y="1124"/>
                  </a:lnTo>
                  <a:lnTo>
                    <a:pt x="573" y="1127"/>
                  </a:lnTo>
                  <a:lnTo>
                    <a:pt x="589" y="1128"/>
                  </a:lnTo>
                  <a:lnTo>
                    <a:pt x="596" y="1131"/>
                  </a:lnTo>
                  <a:lnTo>
                    <a:pt x="604" y="1128"/>
                  </a:lnTo>
                  <a:lnTo>
                    <a:pt x="611" y="1122"/>
                  </a:lnTo>
                  <a:lnTo>
                    <a:pt x="616" y="1117"/>
                  </a:lnTo>
                  <a:lnTo>
                    <a:pt x="797" y="1230"/>
                  </a:lnTo>
                  <a:lnTo>
                    <a:pt x="797" y="1233"/>
                  </a:lnTo>
                  <a:lnTo>
                    <a:pt x="801" y="1235"/>
                  </a:lnTo>
                  <a:lnTo>
                    <a:pt x="804" y="1236"/>
                  </a:lnTo>
                  <a:lnTo>
                    <a:pt x="808" y="1236"/>
                  </a:lnTo>
                  <a:lnTo>
                    <a:pt x="821" y="1247"/>
                  </a:lnTo>
                  <a:lnTo>
                    <a:pt x="831" y="1257"/>
                  </a:lnTo>
                  <a:lnTo>
                    <a:pt x="838" y="1268"/>
                  </a:lnTo>
                  <a:lnTo>
                    <a:pt x="838" y="1284"/>
                  </a:lnTo>
                  <a:lnTo>
                    <a:pt x="847" y="1287"/>
                  </a:lnTo>
                  <a:lnTo>
                    <a:pt x="856" y="1292"/>
                  </a:lnTo>
                  <a:lnTo>
                    <a:pt x="864" y="1296"/>
                  </a:lnTo>
                  <a:lnTo>
                    <a:pt x="871" y="1301"/>
                  </a:lnTo>
                  <a:lnTo>
                    <a:pt x="878" y="1307"/>
                  </a:lnTo>
                  <a:lnTo>
                    <a:pt x="887" y="1311"/>
                  </a:lnTo>
                  <a:lnTo>
                    <a:pt x="896" y="1314"/>
                  </a:lnTo>
                  <a:lnTo>
                    <a:pt x="907" y="1315"/>
                  </a:lnTo>
                  <a:lnTo>
                    <a:pt x="923" y="1326"/>
                  </a:lnTo>
                  <a:lnTo>
                    <a:pt x="941" y="1336"/>
                  </a:lnTo>
                  <a:lnTo>
                    <a:pt x="959" y="1344"/>
                  </a:lnTo>
                  <a:lnTo>
                    <a:pt x="977" y="1353"/>
                  </a:lnTo>
                  <a:lnTo>
                    <a:pt x="994" y="1361"/>
                  </a:lnTo>
                  <a:lnTo>
                    <a:pt x="1011" y="1372"/>
                  </a:lnTo>
                  <a:lnTo>
                    <a:pt x="1025" y="1385"/>
                  </a:lnTo>
                  <a:lnTo>
                    <a:pt x="1036" y="1401"/>
                  </a:lnTo>
                  <a:lnTo>
                    <a:pt x="1041" y="1395"/>
                  </a:lnTo>
                  <a:lnTo>
                    <a:pt x="1052" y="1393"/>
                  </a:lnTo>
                  <a:lnTo>
                    <a:pt x="1063" y="1395"/>
                  </a:lnTo>
                  <a:lnTo>
                    <a:pt x="1075" y="1396"/>
                  </a:lnTo>
                  <a:lnTo>
                    <a:pt x="1082" y="1403"/>
                  </a:lnTo>
                  <a:lnTo>
                    <a:pt x="1088" y="1414"/>
                  </a:lnTo>
                  <a:lnTo>
                    <a:pt x="1091" y="1423"/>
                  </a:lnTo>
                  <a:lnTo>
                    <a:pt x="1089" y="1433"/>
                  </a:lnTo>
                  <a:lnTo>
                    <a:pt x="1097" y="1433"/>
                  </a:lnTo>
                  <a:lnTo>
                    <a:pt x="1109" y="1428"/>
                  </a:lnTo>
                  <a:lnTo>
                    <a:pt x="1122" y="1428"/>
                  </a:lnTo>
                  <a:lnTo>
                    <a:pt x="1132" y="1431"/>
                  </a:lnTo>
                  <a:lnTo>
                    <a:pt x="1143" y="1437"/>
                  </a:lnTo>
                  <a:lnTo>
                    <a:pt x="1152" y="1445"/>
                  </a:lnTo>
                  <a:lnTo>
                    <a:pt x="1163" y="1452"/>
                  </a:lnTo>
                  <a:lnTo>
                    <a:pt x="1174" y="1456"/>
                  </a:lnTo>
                  <a:lnTo>
                    <a:pt x="1184" y="1458"/>
                  </a:lnTo>
                  <a:lnTo>
                    <a:pt x="1143" y="1545"/>
                  </a:lnTo>
                  <a:lnTo>
                    <a:pt x="1055" y="1490"/>
                  </a:lnTo>
                  <a:lnTo>
                    <a:pt x="1059" y="1477"/>
                  </a:lnTo>
                  <a:lnTo>
                    <a:pt x="1052" y="1475"/>
                  </a:lnTo>
                  <a:lnTo>
                    <a:pt x="1043" y="1477"/>
                  </a:lnTo>
                  <a:lnTo>
                    <a:pt x="1036" y="1479"/>
                  </a:lnTo>
                  <a:lnTo>
                    <a:pt x="1025" y="1479"/>
                  </a:lnTo>
                  <a:lnTo>
                    <a:pt x="1014" y="1472"/>
                  </a:lnTo>
                  <a:lnTo>
                    <a:pt x="1011" y="1461"/>
                  </a:lnTo>
                  <a:lnTo>
                    <a:pt x="1009" y="1450"/>
                  </a:lnTo>
                  <a:lnTo>
                    <a:pt x="1007" y="1439"/>
                  </a:lnTo>
                  <a:lnTo>
                    <a:pt x="982" y="1437"/>
                  </a:lnTo>
                  <a:lnTo>
                    <a:pt x="960" y="1429"/>
                  </a:lnTo>
                  <a:lnTo>
                    <a:pt x="939" y="1420"/>
                  </a:lnTo>
                  <a:lnTo>
                    <a:pt x="921" y="1406"/>
                  </a:lnTo>
                  <a:lnTo>
                    <a:pt x="903" y="1391"/>
                  </a:lnTo>
                  <a:lnTo>
                    <a:pt x="887" y="1376"/>
                  </a:lnTo>
                  <a:lnTo>
                    <a:pt x="869" y="1360"/>
                  </a:lnTo>
                  <a:lnTo>
                    <a:pt x="851" y="1345"/>
                  </a:lnTo>
                  <a:lnTo>
                    <a:pt x="840" y="1334"/>
                  </a:lnTo>
                  <a:lnTo>
                    <a:pt x="826" y="1328"/>
                  </a:lnTo>
                  <a:lnTo>
                    <a:pt x="812" y="1328"/>
                  </a:lnTo>
                  <a:lnTo>
                    <a:pt x="797" y="1330"/>
                  </a:lnTo>
                  <a:lnTo>
                    <a:pt x="783" y="1331"/>
                  </a:lnTo>
                  <a:lnTo>
                    <a:pt x="769" y="1330"/>
                  </a:lnTo>
                  <a:lnTo>
                    <a:pt x="754" y="1326"/>
                  </a:lnTo>
                  <a:lnTo>
                    <a:pt x="742" y="1315"/>
                  </a:lnTo>
                  <a:lnTo>
                    <a:pt x="733" y="1323"/>
                  </a:lnTo>
                  <a:lnTo>
                    <a:pt x="731" y="1334"/>
                  </a:lnTo>
                  <a:lnTo>
                    <a:pt x="729" y="1347"/>
                  </a:lnTo>
                  <a:lnTo>
                    <a:pt x="726" y="1357"/>
                  </a:lnTo>
                  <a:lnTo>
                    <a:pt x="715" y="1371"/>
                  </a:lnTo>
                  <a:lnTo>
                    <a:pt x="711" y="1388"/>
                  </a:lnTo>
                  <a:lnTo>
                    <a:pt x="708" y="1407"/>
                  </a:lnTo>
                  <a:lnTo>
                    <a:pt x="700" y="1423"/>
                  </a:lnTo>
                  <a:lnTo>
                    <a:pt x="697" y="1425"/>
                  </a:lnTo>
                  <a:lnTo>
                    <a:pt x="695" y="1426"/>
                  </a:lnTo>
                  <a:lnTo>
                    <a:pt x="693" y="1431"/>
                  </a:lnTo>
                  <a:lnTo>
                    <a:pt x="693" y="1434"/>
                  </a:lnTo>
                  <a:lnTo>
                    <a:pt x="684" y="1471"/>
                  </a:lnTo>
                  <a:lnTo>
                    <a:pt x="674" y="1506"/>
                  </a:lnTo>
                  <a:lnTo>
                    <a:pt x="666" y="1539"/>
                  </a:lnTo>
                  <a:lnTo>
                    <a:pt x="666" y="1578"/>
                  </a:lnTo>
                  <a:lnTo>
                    <a:pt x="663" y="1593"/>
                  </a:lnTo>
                  <a:lnTo>
                    <a:pt x="663" y="1609"/>
                  </a:lnTo>
                  <a:lnTo>
                    <a:pt x="665" y="1623"/>
                  </a:lnTo>
                  <a:lnTo>
                    <a:pt x="665" y="1636"/>
                  </a:lnTo>
                  <a:lnTo>
                    <a:pt x="663" y="1636"/>
                  </a:lnTo>
                  <a:lnTo>
                    <a:pt x="661" y="1653"/>
                  </a:lnTo>
                  <a:lnTo>
                    <a:pt x="666" y="1669"/>
                  </a:lnTo>
                  <a:lnTo>
                    <a:pt x="666" y="1678"/>
                  </a:lnTo>
                  <a:lnTo>
                    <a:pt x="666" y="1689"/>
                  </a:lnTo>
                  <a:lnTo>
                    <a:pt x="666" y="1708"/>
                  </a:lnTo>
                  <a:lnTo>
                    <a:pt x="670" y="1715"/>
                  </a:lnTo>
                  <a:lnTo>
                    <a:pt x="675" y="1718"/>
                  </a:lnTo>
                  <a:lnTo>
                    <a:pt x="683" y="1718"/>
                  </a:lnTo>
                  <a:lnTo>
                    <a:pt x="690" y="1716"/>
                  </a:lnTo>
                  <a:lnTo>
                    <a:pt x="699" y="1715"/>
                  </a:lnTo>
                  <a:lnTo>
                    <a:pt x="708" y="1713"/>
                  </a:lnTo>
                  <a:lnTo>
                    <a:pt x="715" y="1713"/>
                  </a:lnTo>
                  <a:lnTo>
                    <a:pt x="722" y="1716"/>
                  </a:lnTo>
                  <a:lnTo>
                    <a:pt x="729" y="1723"/>
                  </a:lnTo>
                  <a:lnTo>
                    <a:pt x="735" y="1726"/>
                  </a:lnTo>
                  <a:lnTo>
                    <a:pt x="743" y="1726"/>
                  </a:lnTo>
                  <a:lnTo>
                    <a:pt x="751" y="1724"/>
                  </a:lnTo>
                  <a:lnTo>
                    <a:pt x="760" y="1723"/>
                  </a:lnTo>
                  <a:lnTo>
                    <a:pt x="767" y="1721"/>
                  </a:lnTo>
                  <a:lnTo>
                    <a:pt x="776" y="1720"/>
                  </a:lnTo>
                  <a:lnTo>
                    <a:pt x="785" y="1720"/>
                  </a:lnTo>
                  <a:lnTo>
                    <a:pt x="790" y="1715"/>
                  </a:lnTo>
                  <a:lnTo>
                    <a:pt x="799" y="1715"/>
                  </a:lnTo>
                  <a:lnTo>
                    <a:pt x="806" y="1716"/>
                  </a:lnTo>
                  <a:lnTo>
                    <a:pt x="812" y="1721"/>
                  </a:lnTo>
                  <a:lnTo>
                    <a:pt x="810" y="1723"/>
                  </a:lnTo>
                  <a:lnTo>
                    <a:pt x="810" y="1723"/>
                  </a:lnTo>
                  <a:lnTo>
                    <a:pt x="808" y="1724"/>
                  </a:lnTo>
                  <a:lnTo>
                    <a:pt x="806" y="1724"/>
                  </a:lnTo>
                  <a:lnTo>
                    <a:pt x="819" y="1721"/>
                  </a:lnTo>
                  <a:lnTo>
                    <a:pt x="804" y="1715"/>
                  </a:lnTo>
                  <a:lnTo>
                    <a:pt x="812" y="1712"/>
                  </a:lnTo>
                  <a:lnTo>
                    <a:pt x="821" y="1708"/>
                  </a:lnTo>
                  <a:lnTo>
                    <a:pt x="830" y="1705"/>
                  </a:lnTo>
                  <a:lnTo>
                    <a:pt x="840" y="1702"/>
                  </a:lnTo>
                  <a:lnTo>
                    <a:pt x="849" y="1701"/>
                  </a:lnTo>
                  <a:lnTo>
                    <a:pt x="856" y="1697"/>
                  </a:lnTo>
                  <a:lnTo>
                    <a:pt x="865" y="1693"/>
                  </a:lnTo>
                  <a:lnTo>
                    <a:pt x="871" y="1689"/>
                  </a:lnTo>
                  <a:lnTo>
                    <a:pt x="880" y="1688"/>
                  </a:lnTo>
                  <a:lnTo>
                    <a:pt x="887" y="1686"/>
                  </a:lnTo>
                  <a:lnTo>
                    <a:pt x="896" y="1685"/>
                  </a:lnTo>
                  <a:lnTo>
                    <a:pt x="907" y="1685"/>
                  </a:lnTo>
                  <a:lnTo>
                    <a:pt x="916" y="1685"/>
                  </a:lnTo>
                  <a:lnTo>
                    <a:pt x="925" y="1686"/>
                  </a:lnTo>
                  <a:lnTo>
                    <a:pt x="932" y="1688"/>
                  </a:lnTo>
                  <a:lnTo>
                    <a:pt x="941" y="1691"/>
                  </a:lnTo>
                  <a:lnTo>
                    <a:pt x="950" y="1688"/>
                  </a:lnTo>
                  <a:lnTo>
                    <a:pt x="953" y="1680"/>
                  </a:lnTo>
                  <a:lnTo>
                    <a:pt x="955" y="1670"/>
                  </a:lnTo>
                  <a:lnTo>
                    <a:pt x="962" y="1664"/>
                  </a:lnTo>
                  <a:lnTo>
                    <a:pt x="969" y="1664"/>
                  </a:lnTo>
                  <a:lnTo>
                    <a:pt x="977" y="1662"/>
                  </a:lnTo>
                  <a:lnTo>
                    <a:pt x="984" y="1662"/>
                  </a:lnTo>
                  <a:lnTo>
                    <a:pt x="991" y="1662"/>
                  </a:lnTo>
                  <a:lnTo>
                    <a:pt x="998" y="1662"/>
                  </a:lnTo>
                  <a:lnTo>
                    <a:pt x="1005" y="1664"/>
                  </a:lnTo>
                  <a:lnTo>
                    <a:pt x="1011" y="1666"/>
                  </a:lnTo>
                  <a:lnTo>
                    <a:pt x="1016" y="1669"/>
                  </a:lnTo>
                  <a:lnTo>
                    <a:pt x="1023" y="1658"/>
                  </a:lnTo>
                  <a:lnTo>
                    <a:pt x="1034" y="1650"/>
                  </a:lnTo>
                  <a:lnTo>
                    <a:pt x="1048" y="1643"/>
                  </a:lnTo>
                  <a:lnTo>
                    <a:pt x="1066" y="1640"/>
                  </a:lnTo>
                  <a:lnTo>
                    <a:pt x="1084" y="1639"/>
                  </a:lnTo>
                  <a:lnTo>
                    <a:pt x="1100" y="1636"/>
                  </a:lnTo>
                  <a:lnTo>
                    <a:pt x="1116" y="1632"/>
                  </a:lnTo>
                  <a:lnTo>
                    <a:pt x="1129" y="1628"/>
                  </a:lnTo>
                  <a:lnTo>
                    <a:pt x="1136" y="1753"/>
                  </a:lnTo>
                  <a:lnTo>
                    <a:pt x="1131" y="1734"/>
                  </a:lnTo>
                  <a:lnTo>
                    <a:pt x="1120" y="1724"/>
                  </a:lnTo>
                  <a:lnTo>
                    <a:pt x="1106" y="1723"/>
                  </a:lnTo>
                  <a:lnTo>
                    <a:pt x="1088" y="1726"/>
                  </a:lnTo>
                  <a:lnTo>
                    <a:pt x="1070" y="1731"/>
                  </a:lnTo>
                  <a:lnTo>
                    <a:pt x="1052" y="1732"/>
                  </a:lnTo>
                  <a:lnTo>
                    <a:pt x="1039" y="1727"/>
                  </a:lnTo>
                  <a:lnTo>
                    <a:pt x="1032" y="1713"/>
                  </a:lnTo>
                  <a:lnTo>
                    <a:pt x="1032" y="1718"/>
                  </a:lnTo>
                  <a:lnTo>
                    <a:pt x="1023" y="1729"/>
                  </a:lnTo>
                  <a:lnTo>
                    <a:pt x="1011" y="1737"/>
                  </a:lnTo>
                  <a:lnTo>
                    <a:pt x="996" y="1742"/>
                  </a:lnTo>
                  <a:lnTo>
                    <a:pt x="980" y="1745"/>
                  </a:lnTo>
                  <a:lnTo>
                    <a:pt x="975" y="1742"/>
                  </a:lnTo>
                  <a:lnTo>
                    <a:pt x="969" y="1737"/>
                  </a:lnTo>
                  <a:lnTo>
                    <a:pt x="966" y="1734"/>
                  </a:lnTo>
                  <a:lnTo>
                    <a:pt x="962" y="1734"/>
                  </a:lnTo>
                  <a:lnTo>
                    <a:pt x="955" y="1746"/>
                  </a:lnTo>
                  <a:lnTo>
                    <a:pt x="944" y="1754"/>
                  </a:lnTo>
                  <a:lnTo>
                    <a:pt x="932" y="1759"/>
                  </a:lnTo>
                  <a:lnTo>
                    <a:pt x="916" y="1762"/>
                  </a:lnTo>
                  <a:lnTo>
                    <a:pt x="899" y="1764"/>
                  </a:lnTo>
                  <a:lnTo>
                    <a:pt x="883" y="1766"/>
                  </a:lnTo>
                  <a:lnTo>
                    <a:pt x="867" y="1769"/>
                  </a:lnTo>
                  <a:lnTo>
                    <a:pt x="853" y="1772"/>
                  </a:lnTo>
                  <a:lnTo>
                    <a:pt x="840" y="1770"/>
                  </a:lnTo>
                  <a:lnTo>
                    <a:pt x="828" y="1772"/>
                  </a:lnTo>
                  <a:lnTo>
                    <a:pt x="815" y="1773"/>
                  </a:lnTo>
                  <a:lnTo>
                    <a:pt x="803" y="1775"/>
                  </a:lnTo>
                  <a:lnTo>
                    <a:pt x="790" y="1778"/>
                  </a:lnTo>
                  <a:lnTo>
                    <a:pt x="778" y="1780"/>
                  </a:lnTo>
                  <a:lnTo>
                    <a:pt x="765" y="1780"/>
                  </a:lnTo>
                  <a:lnTo>
                    <a:pt x="754" y="1780"/>
                  </a:lnTo>
                  <a:lnTo>
                    <a:pt x="754" y="1794"/>
                  </a:lnTo>
                  <a:lnTo>
                    <a:pt x="747" y="1802"/>
                  </a:lnTo>
                  <a:lnTo>
                    <a:pt x="736" y="1808"/>
                  </a:lnTo>
                  <a:lnTo>
                    <a:pt x="724" y="1811"/>
                  </a:lnTo>
                  <a:lnTo>
                    <a:pt x="711" y="1815"/>
                  </a:lnTo>
                  <a:lnTo>
                    <a:pt x="702" y="1821"/>
                  </a:lnTo>
                  <a:lnTo>
                    <a:pt x="697" y="1830"/>
                  </a:lnTo>
                  <a:lnTo>
                    <a:pt x="699" y="1845"/>
                  </a:lnTo>
                  <a:lnTo>
                    <a:pt x="702" y="1867"/>
                  </a:lnTo>
                  <a:lnTo>
                    <a:pt x="709" y="1884"/>
                  </a:lnTo>
                  <a:lnTo>
                    <a:pt x="718" y="1902"/>
                  </a:lnTo>
                  <a:lnTo>
                    <a:pt x="727" y="1921"/>
                  </a:lnTo>
                  <a:lnTo>
                    <a:pt x="731" y="1934"/>
                  </a:lnTo>
                  <a:lnTo>
                    <a:pt x="736" y="1945"/>
                  </a:lnTo>
                  <a:lnTo>
                    <a:pt x="742" y="1956"/>
                  </a:lnTo>
                  <a:lnTo>
                    <a:pt x="751" y="1967"/>
                  </a:lnTo>
                  <a:lnTo>
                    <a:pt x="758" y="1978"/>
                  </a:lnTo>
                  <a:lnTo>
                    <a:pt x="767" y="1989"/>
                  </a:lnTo>
                  <a:lnTo>
                    <a:pt x="774" y="2000"/>
                  </a:lnTo>
                  <a:lnTo>
                    <a:pt x="781" y="2011"/>
                  </a:lnTo>
                  <a:lnTo>
                    <a:pt x="788" y="2013"/>
                  </a:lnTo>
                  <a:lnTo>
                    <a:pt x="797" y="2006"/>
                  </a:lnTo>
                  <a:lnTo>
                    <a:pt x="808" y="1999"/>
                  </a:lnTo>
                  <a:lnTo>
                    <a:pt x="822" y="1997"/>
                  </a:lnTo>
                  <a:lnTo>
                    <a:pt x="864" y="2106"/>
                  </a:lnTo>
                  <a:lnTo>
                    <a:pt x="873" y="2111"/>
                  </a:lnTo>
                  <a:lnTo>
                    <a:pt x="882" y="2116"/>
                  </a:lnTo>
                  <a:lnTo>
                    <a:pt x="887" y="2121"/>
                  </a:lnTo>
                  <a:lnTo>
                    <a:pt x="894" y="2127"/>
                  </a:lnTo>
                  <a:lnTo>
                    <a:pt x="901" y="2132"/>
                  </a:lnTo>
                  <a:lnTo>
                    <a:pt x="908" y="2136"/>
                  </a:lnTo>
                  <a:lnTo>
                    <a:pt x="917" y="2140"/>
                  </a:lnTo>
                  <a:lnTo>
                    <a:pt x="926" y="2143"/>
                  </a:lnTo>
                  <a:lnTo>
                    <a:pt x="930" y="2136"/>
                  </a:lnTo>
                  <a:lnTo>
                    <a:pt x="941" y="2132"/>
                  </a:lnTo>
                  <a:lnTo>
                    <a:pt x="953" y="2125"/>
                  </a:lnTo>
                  <a:lnTo>
                    <a:pt x="966" y="2122"/>
                  </a:lnTo>
                  <a:lnTo>
                    <a:pt x="978" y="2125"/>
                  </a:lnTo>
                  <a:lnTo>
                    <a:pt x="1028" y="2160"/>
                  </a:lnTo>
                  <a:lnTo>
                    <a:pt x="1030" y="2167"/>
                  </a:lnTo>
                  <a:lnTo>
                    <a:pt x="1032" y="2176"/>
                  </a:lnTo>
                  <a:lnTo>
                    <a:pt x="1032" y="2187"/>
                  </a:lnTo>
                  <a:lnTo>
                    <a:pt x="1025" y="2193"/>
                  </a:lnTo>
                  <a:lnTo>
                    <a:pt x="1030" y="2205"/>
                  </a:lnTo>
                  <a:lnTo>
                    <a:pt x="1037" y="2214"/>
                  </a:lnTo>
                  <a:lnTo>
                    <a:pt x="1048" y="2222"/>
                  </a:lnTo>
                  <a:lnTo>
                    <a:pt x="1061" y="2227"/>
                  </a:lnTo>
                  <a:lnTo>
                    <a:pt x="1073" y="2233"/>
                  </a:lnTo>
                  <a:lnTo>
                    <a:pt x="1086" y="2238"/>
                  </a:lnTo>
                  <a:lnTo>
                    <a:pt x="1098" y="2243"/>
                  </a:lnTo>
                  <a:lnTo>
                    <a:pt x="1109" y="2247"/>
                  </a:lnTo>
                  <a:lnTo>
                    <a:pt x="1115" y="2208"/>
                  </a:lnTo>
                  <a:lnTo>
                    <a:pt x="1118" y="2167"/>
                  </a:lnTo>
                  <a:lnTo>
                    <a:pt x="1124" y="2124"/>
                  </a:lnTo>
                  <a:lnTo>
                    <a:pt x="1131" y="2083"/>
                  </a:lnTo>
                  <a:lnTo>
                    <a:pt x="1132" y="2083"/>
                  </a:lnTo>
                  <a:lnTo>
                    <a:pt x="1132" y="2079"/>
                  </a:lnTo>
                  <a:lnTo>
                    <a:pt x="1134" y="2060"/>
                  </a:lnTo>
                  <a:lnTo>
                    <a:pt x="1138" y="2044"/>
                  </a:lnTo>
                  <a:lnTo>
                    <a:pt x="1141" y="2033"/>
                  </a:lnTo>
                  <a:lnTo>
                    <a:pt x="1138" y="2022"/>
                  </a:lnTo>
                  <a:lnTo>
                    <a:pt x="1124" y="2040"/>
                  </a:lnTo>
                  <a:lnTo>
                    <a:pt x="1109" y="2056"/>
                  </a:lnTo>
                  <a:lnTo>
                    <a:pt x="1095" y="2073"/>
                  </a:lnTo>
                  <a:lnTo>
                    <a:pt x="1080" y="2090"/>
                  </a:lnTo>
                  <a:lnTo>
                    <a:pt x="1066" y="2106"/>
                  </a:lnTo>
                  <a:lnTo>
                    <a:pt x="1054" y="2124"/>
                  </a:lnTo>
                  <a:lnTo>
                    <a:pt x="1041" y="2143"/>
                  </a:lnTo>
                  <a:lnTo>
                    <a:pt x="1028" y="2160"/>
                  </a:lnTo>
                  <a:lnTo>
                    <a:pt x="978" y="2125"/>
                  </a:lnTo>
                  <a:lnTo>
                    <a:pt x="993" y="2113"/>
                  </a:lnTo>
                  <a:lnTo>
                    <a:pt x="1003" y="2097"/>
                  </a:lnTo>
                  <a:lnTo>
                    <a:pt x="1012" y="2079"/>
                  </a:lnTo>
                  <a:lnTo>
                    <a:pt x="1021" y="2062"/>
                  </a:lnTo>
                  <a:lnTo>
                    <a:pt x="1027" y="2051"/>
                  </a:lnTo>
                  <a:lnTo>
                    <a:pt x="1032" y="2037"/>
                  </a:lnTo>
                  <a:lnTo>
                    <a:pt x="1037" y="2025"/>
                  </a:lnTo>
                  <a:lnTo>
                    <a:pt x="1041" y="2018"/>
                  </a:lnTo>
                  <a:lnTo>
                    <a:pt x="1050" y="2011"/>
                  </a:lnTo>
                  <a:lnTo>
                    <a:pt x="1054" y="2003"/>
                  </a:lnTo>
                  <a:lnTo>
                    <a:pt x="1055" y="1995"/>
                  </a:lnTo>
                  <a:lnTo>
                    <a:pt x="1059" y="1986"/>
                  </a:lnTo>
                  <a:lnTo>
                    <a:pt x="1063" y="1976"/>
                  </a:lnTo>
                  <a:lnTo>
                    <a:pt x="1072" y="1968"/>
                  </a:lnTo>
                  <a:lnTo>
                    <a:pt x="1082" y="1962"/>
                  </a:lnTo>
                  <a:lnTo>
                    <a:pt x="1093" y="1956"/>
                  </a:lnTo>
                  <a:lnTo>
                    <a:pt x="1102" y="1949"/>
                  </a:lnTo>
                  <a:lnTo>
                    <a:pt x="1107" y="1943"/>
                  </a:lnTo>
                  <a:lnTo>
                    <a:pt x="1109" y="1935"/>
                  </a:lnTo>
                  <a:lnTo>
                    <a:pt x="1104" y="1924"/>
                  </a:lnTo>
                  <a:lnTo>
                    <a:pt x="1104" y="1911"/>
                  </a:lnTo>
                  <a:lnTo>
                    <a:pt x="1113" y="1905"/>
                  </a:lnTo>
                  <a:lnTo>
                    <a:pt x="1125" y="1900"/>
                  </a:lnTo>
                  <a:lnTo>
                    <a:pt x="1136" y="1894"/>
                  </a:lnTo>
                  <a:lnTo>
                    <a:pt x="1134" y="1889"/>
                  </a:lnTo>
                  <a:lnTo>
                    <a:pt x="1131" y="1886"/>
                  </a:lnTo>
                  <a:lnTo>
                    <a:pt x="1129" y="1883"/>
                  </a:lnTo>
                  <a:lnTo>
                    <a:pt x="1132" y="1880"/>
                  </a:lnTo>
                  <a:lnTo>
                    <a:pt x="1131" y="1867"/>
                  </a:lnTo>
                  <a:lnTo>
                    <a:pt x="1106" y="1892"/>
                  </a:lnTo>
                  <a:lnTo>
                    <a:pt x="1080" y="1916"/>
                  </a:lnTo>
                  <a:lnTo>
                    <a:pt x="1054" y="1938"/>
                  </a:lnTo>
                  <a:lnTo>
                    <a:pt x="1025" y="1960"/>
                  </a:lnTo>
                  <a:lnTo>
                    <a:pt x="998" y="1983"/>
                  </a:lnTo>
                  <a:lnTo>
                    <a:pt x="969" y="2006"/>
                  </a:lnTo>
                  <a:lnTo>
                    <a:pt x="942" y="2029"/>
                  </a:lnTo>
                  <a:lnTo>
                    <a:pt x="917" y="2054"/>
                  </a:lnTo>
                  <a:lnTo>
                    <a:pt x="914" y="2062"/>
                  </a:lnTo>
                  <a:lnTo>
                    <a:pt x="907" y="2070"/>
                  </a:lnTo>
                  <a:lnTo>
                    <a:pt x="899" y="2076"/>
                  </a:lnTo>
                  <a:lnTo>
                    <a:pt x="890" y="2083"/>
                  </a:lnTo>
                  <a:lnTo>
                    <a:pt x="883" y="2087"/>
                  </a:lnTo>
                  <a:lnTo>
                    <a:pt x="876" y="2094"/>
                  </a:lnTo>
                  <a:lnTo>
                    <a:pt x="869" y="2100"/>
                  </a:lnTo>
                  <a:lnTo>
                    <a:pt x="864" y="2106"/>
                  </a:lnTo>
                  <a:lnTo>
                    <a:pt x="822" y="1997"/>
                  </a:lnTo>
                  <a:lnTo>
                    <a:pt x="856" y="1975"/>
                  </a:lnTo>
                  <a:lnTo>
                    <a:pt x="889" y="1953"/>
                  </a:lnTo>
                  <a:lnTo>
                    <a:pt x="919" y="1929"/>
                  </a:lnTo>
                  <a:lnTo>
                    <a:pt x="950" y="1905"/>
                  </a:lnTo>
                  <a:lnTo>
                    <a:pt x="980" y="1880"/>
                  </a:lnTo>
                  <a:lnTo>
                    <a:pt x="1011" y="1857"/>
                  </a:lnTo>
                  <a:lnTo>
                    <a:pt x="1043" y="1834"/>
                  </a:lnTo>
                  <a:lnTo>
                    <a:pt x="1079" y="1813"/>
                  </a:lnTo>
                  <a:lnTo>
                    <a:pt x="1084" y="1805"/>
                  </a:lnTo>
                  <a:lnTo>
                    <a:pt x="1093" y="1797"/>
                  </a:lnTo>
                  <a:lnTo>
                    <a:pt x="1100" y="1789"/>
                  </a:lnTo>
                  <a:lnTo>
                    <a:pt x="1109" y="1783"/>
                  </a:lnTo>
                  <a:lnTo>
                    <a:pt x="1116" y="1777"/>
                  </a:lnTo>
                  <a:lnTo>
                    <a:pt x="1125" y="1769"/>
                  </a:lnTo>
                  <a:lnTo>
                    <a:pt x="1131" y="1761"/>
                  </a:lnTo>
                  <a:lnTo>
                    <a:pt x="1136" y="1753"/>
                  </a:lnTo>
                  <a:lnTo>
                    <a:pt x="1129" y="1628"/>
                  </a:lnTo>
                  <a:lnTo>
                    <a:pt x="1127" y="1605"/>
                  </a:lnTo>
                  <a:lnTo>
                    <a:pt x="1131" y="1583"/>
                  </a:lnTo>
                  <a:lnTo>
                    <a:pt x="1136" y="1564"/>
                  </a:lnTo>
                  <a:lnTo>
                    <a:pt x="1143" y="1545"/>
                  </a:lnTo>
                  <a:lnTo>
                    <a:pt x="1184" y="1458"/>
                  </a:lnTo>
                  <a:lnTo>
                    <a:pt x="1193" y="1441"/>
                  </a:lnTo>
                  <a:lnTo>
                    <a:pt x="1210" y="1433"/>
                  </a:lnTo>
                  <a:lnTo>
                    <a:pt x="1226" y="1425"/>
                  </a:lnTo>
                  <a:lnTo>
                    <a:pt x="1235" y="1410"/>
                  </a:lnTo>
                  <a:lnTo>
                    <a:pt x="1335" y="1374"/>
                  </a:lnTo>
                  <a:lnTo>
                    <a:pt x="1339" y="1384"/>
                  </a:lnTo>
                  <a:lnTo>
                    <a:pt x="1346" y="1388"/>
                  </a:lnTo>
                  <a:lnTo>
                    <a:pt x="1357" y="1390"/>
                  </a:lnTo>
                  <a:lnTo>
                    <a:pt x="1369" y="1391"/>
                  </a:lnTo>
                  <a:lnTo>
                    <a:pt x="1382" y="1391"/>
                  </a:lnTo>
                  <a:lnTo>
                    <a:pt x="1394" y="1393"/>
                  </a:lnTo>
                  <a:lnTo>
                    <a:pt x="1405" y="1396"/>
                  </a:lnTo>
                  <a:lnTo>
                    <a:pt x="1414" y="1404"/>
                  </a:lnTo>
                  <a:lnTo>
                    <a:pt x="1520" y="1439"/>
                  </a:lnTo>
                  <a:lnTo>
                    <a:pt x="1504" y="1450"/>
                  </a:lnTo>
                  <a:lnTo>
                    <a:pt x="1500" y="1460"/>
                  </a:lnTo>
                  <a:lnTo>
                    <a:pt x="1504" y="1469"/>
                  </a:lnTo>
                  <a:lnTo>
                    <a:pt x="1512" y="1477"/>
                  </a:lnTo>
                  <a:lnTo>
                    <a:pt x="1523" y="1487"/>
                  </a:lnTo>
                  <a:lnTo>
                    <a:pt x="1532" y="1494"/>
                  </a:lnTo>
                  <a:lnTo>
                    <a:pt x="1539" y="1506"/>
                  </a:lnTo>
                  <a:lnTo>
                    <a:pt x="1541" y="1518"/>
                  </a:lnTo>
                  <a:lnTo>
                    <a:pt x="1557" y="1520"/>
                  </a:lnTo>
                  <a:lnTo>
                    <a:pt x="1575" y="1520"/>
                  </a:lnTo>
                  <a:lnTo>
                    <a:pt x="1591" y="1523"/>
                  </a:lnTo>
                  <a:lnTo>
                    <a:pt x="1607" y="1526"/>
                  </a:lnTo>
                  <a:lnTo>
                    <a:pt x="1622" y="1531"/>
                  </a:lnTo>
                  <a:lnTo>
                    <a:pt x="1636" y="1537"/>
                  </a:lnTo>
                  <a:lnTo>
                    <a:pt x="1649" y="1544"/>
                  </a:lnTo>
                  <a:lnTo>
                    <a:pt x="1661" y="1553"/>
                  </a:lnTo>
                  <a:lnTo>
                    <a:pt x="1674" y="1553"/>
                  </a:lnTo>
                  <a:lnTo>
                    <a:pt x="1686" y="1552"/>
                  </a:lnTo>
                  <a:lnTo>
                    <a:pt x="1699" y="1550"/>
                  </a:lnTo>
                  <a:lnTo>
                    <a:pt x="1713" y="1552"/>
                  </a:lnTo>
                  <a:lnTo>
                    <a:pt x="1733" y="1536"/>
                  </a:lnTo>
                  <a:lnTo>
                    <a:pt x="1754" y="1526"/>
                  </a:lnTo>
                  <a:lnTo>
                    <a:pt x="1776" y="1521"/>
                  </a:lnTo>
                  <a:lnTo>
                    <a:pt x="1801" y="1520"/>
                  </a:lnTo>
                  <a:lnTo>
                    <a:pt x="1824" y="1518"/>
                  </a:lnTo>
                  <a:lnTo>
                    <a:pt x="1849" y="1518"/>
                  </a:lnTo>
                  <a:lnTo>
                    <a:pt x="1873" y="1517"/>
                  </a:lnTo>
                  <a:lnTo>
                    <a:pt x="1896" y="1512"/>
                  </a:lnTo>
                  <a:lnTo>
                    <a:pt x="1907" y="1509"/>
                  </a:lnTo>
                  <a:lnTo>
                    <a:pt x="1919" y="1506"/>
                  </a:lnTo>
                  <a:lnTo>
                    <a:pt x="1934" y="1502"/>
                  </a:lnTo>
                  <a:lnTo>
                    <a:pt x="1946" y="1499"/>
                  </a:lnTo>
                  <a:lnTo>
                    <a:pt x="1959" y="1496"/>
                  </a:lnTo>
                  <a:lnTo>
                    <a:pt x="1968" y="1490"/>
                  </a:lnTo>
                  <a:lnTo>
                    <a:pt x="1975" y="1480"/>
                  </a:lnTo>
                  <a:lnTo>
                    <a:pt x="1977" y="1468"/>
                  </a:lnTo>
                  <a:lnTo>
                    <a:pt x="1977" y="1534"/>
                  </a:lnTo>
                  <a:lnTo>
                    <a:pt x="1966" y="1536"/>
                  </a:lnTo>
                  <a:lnTo>
                    <a:pt x="1955" y="1537"/>
                  </a:lnTo>
                  <a:lnTo>
                    <a:pt x="1944" y="1540"/>
                  </a:lnTo>
                  <a:lnTo>
                    <a:pt x="1936" y="1544"/>
                  </a:lnTo>
                  <a:lnTo>
                    <a:pt x="1925" y="1548"/>
                  </a:lnTo>
                  <a:lnTo>
                    <a:pt x="1918" y="1553"/>
                  </a:lnTo>
                  <a:lnTo>
                    <a:pt x="1910" y="1558"/>
                  </a:lnTo>
                  <a:lnTo>
                    <a:pt x="1903" y="1564"/>
                  </a:lnTo>
                  <a:lnTo>
                    <a:pt x="1884" y="1572"/>
                  </a:lnTo>
                  <a:lnTo>
                    <a:pt x="1864" y="1583"/>
                  </a:lnTo>
                  <a:lnTo>
                    <a:pt x="1846" y="1594"/>
                  </a:lnTo>
                  <a:lnTo>
                    <a:pt x="1828" y="1605"/>
                  </a:lnTo>
                  <a:lnTo>
                    <a:pt x="1808" y="1615"/>
                  </a:lnTo>
                  <a:lnTo>
                    <a:pt x="1789" y="1621"/>
                  </a:lnTo>
                  <a:lnTo>
                    <a:pt x="1767" y="1621"/>
                  </a:lnTo>
                  <a:lnTo>
                    <a:pt x="1744" y="1617"/>
                  </a:lnTo>
                  <a:lnTo>
                    <a:pt x="1737" y="1620"/>
                  </a:lnTo>
                  <a:lnTo>
                    <a:pt x="1731" y="1624"/>
                  </a:lnTo>
                  <a:lnTo>
                    <a:pt x="1728" y="1631"/>
                  </a:lnTo>
                  <a:lnTo>
                    <a:pt x="1728" y="1637"/>
                  </a:lnTo>
                  <a:lnTo>
                    <a:pt x="1746" y="1651"/>
                  </a:lnTo>
                  <a:lnTo>
                    <a:pt x="1767" y="1662"/>
                  </a:lnTo>
                  <a:lnTo>
                    <a:pt x="1789" y="1672"/>
                  </a:lnTo>
                  <a:lnTo>
                    <a:pt x="1812" y="1680"/>
                  </a:lnTo>
                  <a:lnTo>
                    <a:pt x="1835" y="1688"/>
                  </a:lnTo>
                  <a:lnTo>
                    <a:pt x="1858" y="1696"/>
                  </a:lnTo>
                  <a:lnTo>
                    <a:pt x="1882" y="1704"/>
                  </a:lnTo>
                  <a:lnTo>
                    <a:pt x="1901" y="1713"/>
                  </a:lnTo>
                  <a:lnTo>
                    <a:pt x="1907" y="1710"/>
                  </a:lnTo>
                  <a:lnTo>
                    <a:pt x="1916" y="1688"/>
                  </a:lnTo>
                  <a:lnTo>
                    <a:pt x="1927" y="1666"/>
                  </a:lnTo>
                  <a:lnTo>
                    <a:pt x="1941" y="1645"/>
                  </a:lnTo>
                  <a:lnTo>
                    <a:pt x="1957" y="1624"/>
                  </a:lnTo>
                  <a:lnTo>
                    <a:pt x="1964" y="1613"/>
                  </a:lnTo>
                  <a:lnTo>
                    <a:pt x="1971" y="1604"/>
                  </a:lnTo>
                  <a:lnTo>
                    <a:pt x="1979" y="1594"/>
                  </a:lnTo>
                  <a:lnTo>
                    <a:pt x="1988" y="1585"/>
                  </a:lnTo>
                  <a:lnTo>
                    <a:pt x="1995" y="1575"/>
                  </a:lnTo>
                  <a:lnTo>
                    <a:pt x="2002" y="1566"/>
                  </a:lnTo>
                  <a:lnTo>
                    <a:pt x="2009" y="1556"/>
                  </a:lnTo>
                  <a:lnTo>
                    <a:pt x="2014" y="1545"/>
                  </a:lnTo>
                  <a:lnTo>
                    <a:pt x="2002" y="1545"/>
                  </a:lnTo>
                  <a:lnTo>
                    <a:pt x="1991" y="1545"/>
                  </a:lnTo>
                  <a:lnTo>
                    <a:pt x="1982" y="1542"/>
                  </a:lnTo>
                  <a:lnTo>
                    <a:pt x="1977" y="1534"/>
                  </a:lnTo>
                  <a:lnTo>
                    <a:pt x="1977" y="1468"/>
                  </a:lnTo>
                  <a:lnTo>
                    <a:pt x="1964" y="1468"/>
                  </a:lnTo>
                  <a:lnTo>
                    <a:pt x="1952" y="1468"/>
                  </a:lnTo>
                  <a:lnTo>
                    <a:pt x="1939" y="1469"/>
                  </a:lnTo>
                  <a:lnTo>
                    <a:pt x="1927" y="1472"/>
                  </a:lnTo>
                  <a:lnTo>
                    <a:pt x="1914" y="1474"/>
                  </a:lnTo>
                  <a:lnTo>
                    <a:pt x="1903" y="1475"/>
                  </a:lnTo>
                  <a:lnTo>
                    <a:pt x="1891" y="1477"/>
                  </a:lnTo>
                  <a:lnTo>
                    <a:pt x="1878" y="1475"/>
                  </a:lnTo>
                  <a:lnTo>
                    <a:pt x="1862" y="1482"/>
                  </a:lnTo>
                  <a:lnTo>
                    <a:pt x="1846" y="1487"/>
                  </a:lnTo>
                  <a:lnTo>
                    <a:pt x="1828" y="1493"/>
                  </a:lnTo>
                  <a:lnTo>
                    <a:pt x="1812" y="1498"/>
                  </a:lnTo>
                  <a:lnTo>
                    <a:pt x="1794" y="1502"/>
                  </a:lnTo>
                  <a:lnTo>
                    <a:pt x="1776" y="1507"/>
                  </a:lnTo>
                  <a:lnTo>
                    <a:pt x="1760" y="1512"/>
                  </a:lnTo>
                  <a:lnTo>
                    <a:pt x="1744" y="1518"/>
                  </a:lnTo>
                  <a:lnTo>
                    <a:pt x="1735" y="1517"/>
                  </a:lnTo>
                  <a:lnTo>
                    <a:pt x="1728" y="1510"/>
                  </a:lnTo>
                  <a:lnTo>
                    <a:pt x="1720" y="1502"/>
                  </a:lnTo>
                  <a:lnTo>
                    <a:pt x="1719" y="1494"/>
                  </a:lnTo>
                  <a:lnTo>
                    <a:pt x="1713" y="1482"/>
                  </a:lnTo>
                  <a:lnTo>
                    <a:pt x="1711" y="1466"/>
                  </a:lnTo>
                  <a:lnTo>
                    <a:pt x="1713" y="1450"/>
                  </a:lnTo>
                  <a:lnTo>
                    <a:pt x="1719" y="1436"/>
                  </a:lnTo>
                  <a:lnTo>
                    <a:pt x="1724" y="1426"/>
                  </a:lnTo>
                  <a:lnTo>
                    <a:pt x="1731" y="1415"/>
                  </a:lnTo>
                  <a:lnTo>
                    <a:pt x="1737" y="1406"/>
                  </a:lnTo>
                  <a:lnTo>
                    <a:pt x="1744" y="1395"/>
                  </a:lnTo>
                  <a:lnTo>
                    <a:pt x="1751" y="1385"/>
                  </a:lnTo>
                  <a:lnTo>
                    <a:pt x="1758" y="1377"/>
                  </a:lnTo>
                  <a:lnTo>
                    <a:pt x="1767" y="1368"/>
                  </a:lnTo>
                  <a:lnTo>
                    <a:pt x="1778" y="1360"/>
                  </a:lnTo>
                  <a:lnTo>
                    <a:pt x="1790" y="1342"/>
                  </a:lnTo>
                  <a:lnTo>
                    <a:pt x="1805" y="1328"/>
                  </a:lnTo>
                  <a:lnTo>
                    <a:pt x="1821" y="1314"/>
                  </a:lnTo>
                  <a:lnTo>
                    <a:pt x="1839" y="1303"/>
                  </a:lnTo>
                  <a:lnTo>
                    <a:pt x="1855" y="1292"/>
                  </a:lnTo>
                  <a:lnTo>
                    <a:pt x="1873" y="1279"/>
                  </a:lnTo>
                  <a:lnTo>
                    <a:pt x="1889" y="1266"/>
                  </a:lnTo>
                  <a:lnTo>
                    <a:pt x="1901" y="1250"/>
                  </a:lnTo>
                  <a:lnTo>
                    <a:pt x="1898" y="1241"/>
                  </a:lnTo>
                  <a:lnTo>
                    <a:pt x="1892" y="1230"/>
                  </a:lnTo>
                  <a:lnTo>
                    <a:pt x="1885" y="1222"/>
                  </a:lnTo>
                  <a:lnTo>
                    <a:pt x="1875" y="1217"/>
                  </a:lnTo>
                  <a:lnTo>
                    <a:pt x="1866" y="1203"/>
                  </a:lnTo>
                  <a:lnTo>
                    <a:pt x="1855" y="1189"/>
                  </a:lnTo>
                  <a:lnTo>
                    <a:pt x="1842" y="1176"/>
                  </a:lnTo>
                  <a:lnTo>
                    <a:pt x="1828" y="1163"/>
                  </a:lnTo>
                  <a:lnTo>
                    <a:pt x="1814" y="1151"/>
                  </a:lnTo>
                  <a:lnTo>
                    <a:pt x="1799" y="1139"/>
                  </a:lnTo>
                  <a:lnTo>
                    <a:pt x="1783" y="1128"/>
                  </a:lnTo>
                  <a:lnTo>
                    <a:pt x="1769" y="1119"/>
                  </a:lnTo>
                  <a:lnTo>
                    <a:pt x="1756" y="1125"/>
                  </a:lnTo>
                  <a:lnTo>
                    <a:pt x="1749" y="1136"/>
                  </a:lnTo>
                  <a:lnTo>
                    <a:pt x="1742" y="1149"/>
                  </a:lnTo>
                  <a:lnTo>
                    <a:pt x="1731" y="1158"/>
                  </a:lnTo>
                  <a:lnTo>
                    <a:pt x="1724" y="1162"/>
                  </a:lnTo>
                  <a:lnTo>
                    <a:pt x="1722" y="1157"/>
                  </a:lnTo>
                  <a:lnTo>
                    <a:pt x="1717" y="1151"/>
                  </a:lnTo>
                  <a:lnTo>
                    <a:pt x="1708" y="1149"/>
                  </a:lnTo>
                  <a:lnTo>
                    <a:pt x="1704" y="1152"/>
                  </a:lnTo>
                  <a:lnTo>
                    <a:pt x="1699" y="1155"/>
                  </a:lnTo>
                  <a:lnTo>
                    <a:pt x="1695" y="1160"/>
                  </a:lnTo>
                  <a:lnTo>
                    <a:pt x="1695" y="1166"/>
                  </a:lnTo>
                  <a:lnTo>
                    <a:pt x="1686" y="1181"/>
                  </a:lnTo>
                  <a:lnTo>
                    <a:pt x="1677" y="1196"/>
                  </a:lnTo>
                  <a:lnTo>
                    <a:pt x="1668" y="1212"/>
                  </a:lnTo>
                  <a:lnTo>
                    <a:pt x="1661" y="1228"/>
                  </a:lnTo>
                  <a:lnTo>
                    <a:pt x="1654" y="1244"/>
                  </a:lnTo>
                  <a:lnTo>
                    <a:pt x="1647" y="1260"/>
                  </a:lnTo>
                  <a:lnTo>
                    <a:pt x="1640" y="1276"/>
                  </a:lnTo>
                  <a:lnTo>
                    <a:pt x="1633" y="1292"/>
                  </a:lnTo>
                  <a:lnTo>
                    <a:pt x="1629" y="1301"/>
                  </a:lnTo>
                  <a:lnTo>
                    <a:pt x="1622" y="1307"/>
                  </a:lnTo>
                  <a:lnTo>
                    <a:pt x="1613" y="1315"/>
                  </a:lnTo>
                  <a:lnTo>
                    <a:pt x="1611" y="1325"/>
                  </a:lnTo>
                  <a:lnTo>
                    <a:pt x="1590" y="1338"/>
                  </a:lnTo>
                  <a:lnTo>
                    <a:pt x="1584" y="1355"/>
                  </a:lnTo>
                  <a:lnTo>
                    <a:pt x="1577" y="1376"/>
                  </a:lnTo>
                  <a:lnTo>
                    <a:pt x="1561" y="1391"/>
                  </a:lnTo>
                  <a:lnTo>
                    <a:pt x="1547" y="1398"/>
                  </a:lnTo>
                  <a:lnTo>
                    <a:pt x="1541" y="1414"/>
                  </a:lnTo>
                  <a:lnTo>
                    <a:pt x="1536" y="1429"/>
                  </a:lnTo>
                  <a:lnTo>
                    <a:pt x="1520" y="1439"/>
                  </a:lnTo>
                  <a:lnTo>
                    <a:pt x="1414" y="1404"/>
                  </a:lnTo>
                  <a:lnTo>
                    <a:pt x="1428" y="1398"/>
                  </a:lnTo>
                  <a:lnTo>
                    <a:pt x="1441" y="1390"/>
                  </a:lnTo>
                  <a:lnTo>
                    <a:pt x="1453" y="1380"/>
                  </a:lnTo>
                  <a:lnTo>
                    <a:pt x="1464" y="1371"/>
                  </a:lnTo>
                  <a:lnTo>
                    <a:pt x="1473" y="1360"/>
                  </a:lnTo>
                  <a:lnTo>
                    <a:pt x="1482" y="1349"/>
                  </a:lnTo>
                  <a:lnTo>
                    <a:pt x="1489" y="1338"/>
                  </a:lnTo>
                  <a:lnTo>
                    <a:pt x="1493" y="1326"/>
                  </a:lnTo>
                  <a:lnTo>
                    <a:pt x="1498" y="1319"/>
                  </a:lnTo>
                  <a:lnTo>
                    <a:pt x="1507" y="1312"/>
                  </a:lnTo>
                  <a:lnTo>
                    <a:pt x="1518" y="1311"/>
                  </a:lnTo>
                  <a:lnTo>
                    <a:pt x="1530" y="1311"/>
                  </a:lnTo>
                  <a:lnTo>
                    <a:pt x="1530" y="1293"/>
                  </a:lnTo>
                  <a:lnTo>
                    <a:pt x="1547" y="1273"/>
                  </a:lnTo>
                  <a:lnTo>
                    <a:pt x="1564" y="1250"/>
                  </a:lnTo>
                  <a:lnTo>
                    <a:pt x="1582" y="1230"/>
                  </a:lnTo>
                  <a:lnTo>
                    <a:pt x="1600" y="1208"/>
                  </a:lnTo>
                  <a:lnTo>
                    <a:pt x="1618" y="1187"/>
                  </a:lnTo>
                  <a:lnTo>
                    <a:pt x="1636" y="1166"/>
                  </a:lnTo>
                  <a:lnTo>
                    <a:pt x="1656" y="1146"/>
                  </a:lnTo>
                  <a:lnTo>
                    <a:pt x="1674" y="1125"/>
                  </a:lnTo>
                  <a:lnTo>
                    <a:pt x="1672" y="1122"/>
                  </a:lnTo>
                  <a:lnTo>
                    <a:pt x="1668" y="1120"/>
                  </a:lnTo>
                  <a:lnTo>
                    <a:pt x="1665" y="1119"/>
                  </a:lnTo>
                  <a:lnTo>
                    <a:pt x="1661" y="1116"/>
                  </a:lnTo>
                  <a:lnTo>
                    <a:pt x="1665" y="1101"/>
                  </a:lnTo>
                  <a:lnTo>
                    <a:pt x="1672" y="1087"/>
                  </a:lnTo>
                  <a:lnTo>
                    <a:pt x="1681" y="1076"/>
                  </a:lnTo>
                  <a:lnTo>
                    <a:pt x="1686" y="1065"/>
                  </a:lnTo>
                  <a:lnTo>
                    <a:pt x="1674" y="1055"/>
                  </a:lnTo>
                  <a:lnTo>
                    <a:pt x="1661" y="1049"/>
                  </a:lnTo>
                  <a:lnTo>
                    <a:pt x="1649" y="1043"/>
                  </a:lnTo>
                  <a:lnTo>
                    <a:pt x="1634" y="1033"/>
                  </a:lnTo>
                  <a:lnTo>
                    <a:pt x="1602" y="1024"/>
                  </a:lnTo>
                  <a:lnTo>
                    <a:pt x="1570" y="1014"/>
                  </a:lnTo>
                  <a:lnTo>
                    <a:pt x="1539" y="1005"/>
                  </a:lnTo>
                  <a:lnTo>
                    <a:pt x="1507" y="994"/>
                  </a:lnTo>
                  <a:lnTo>
                    <a:pt x="1473" y="986"/>
                  </a:lnTo>
                  <a:lnTo>
                    <a:pt x="1441" y="978"/>
                  </a:lnTo>
                  <a:lnTo>
                    <a:pt x="1405" y="973"/>
                  </a:lnTo>
                  <a:lnTo>
                    <a:pt x="1369" y="971"/>
                  </a:lnTo>
                  <a:lnTo>
                    <a:pt x="1355" y="973"/>
                  </a:lnTo>
                  <a:lnTo>
                    <a:pt x="1340" y="975"/>
                  </a:lnTo>
                  <a:lnTo>
                    <a:pt x="1328" y="976"/>
                  </a:lnTo>
                  <a:lnTo>
                    <a:pt x="1314" y="978"/>
                  </a:lnTo>
                  <a:lnTo>
                    <a:pt x="1299" y="979"/>
                  </a:lnTo>
                  <a:lnTo>
                    <a:pt x="1285" y="979"/>
                  </a:lnTo>
                  <a:lnTo>
                    <a:pt x="1270" y="981"/>
                  </a:lnTo>
                  <a:lnTo>
                    <a:pt x="1256" y="981"/>
                  </a:lnTo>
                  <a:lnTo>
                    <a:pt x="1249" y="998"/>
                  </a:lnTo>
                  <a:lnTo>
                    <a:pt x="1253" y="1014"/>
                  </a:lnTo>
                  <a:lnTo>
                    <a:pt x="1251" y="1028"/>
                  </a:lnTo>
                  <a:lnTo>
                    <a:pt x="1233" y="1038"/>
                  </a:lnTo>
                  <a:lnTo>
                    <a:pt x="1242" y="1055"/>
                  </a:lnTo>
                  <a:lnTo>
                    <a:pt x="1247" y="1076"/>
                  </a:lnTo>
                  <a:lnTo>
                    <a:pt x="1254" y="1095"/>
                  </a:lnTo>
                  <a:lnTo>
                    <a:pt x="1263" y="1111"/>
                  </a:lnTo>
                  <a:lnTo>
                    <a:pt x="1263" y="1131"/>
                  </a:lnTo>
                  <a:lnTo>
                    <a:pt x="1272" y="1149"/>
                  </a:lnTo>
                  <a:lnTo>
                    <a:pt x="1281" y="1165"/>
                  </a:lnTo>
                  <a:lnTo>
                    <a:pt x="1285" y="1184"/>
                  </a:lnTo>
                  <a:lnTo>
                    <a:pt x="1288" y="1206"/>
                  </a:lnTo>
                  <a:lnTo>
                    <a:pt x="1296" y="1225"/>
                  </a:lnTo>
                  <a:lnTo>
                    <a:pt x="1299" y="1244"/>
                  </a:lnTo>
                  <a:lnTo>
                    <a:pt x="1288" y="1265"/>
                  </a:lnTo>
                  <a:lnTo>
                    <a:pt x="1292" y="1266"/>
                  </a:lnTo>
                  <a:lnTo>
                    <a:pt x="1296" y="1269"/>
                  </a:lnTo>
                  <a:lnTo>
                    <a:pt x="1301" y="1273"/>
                  </a:lnTo>
                  <a:lnTo>
                    <a:pt x="1306" y="1274"/>
                  </a:lnTo>
                  <a:lnTo>
                    <a:pt x="1312" y="1284"/>
                  </a:lnTo>
                  <a:lnTo>
                    <a:pt x="1314" y="1295"/>
                  </a:lnTo>
                  <a:lnTo>
                    <a:pt x="1314" y="1306"/>
                  </a:lnTo>
                  <a:lnTo>
                    <a:pt x="1308" y="1315"/>
                  </a:lnTo>
                  <a:lnTo>
                    <a:pt x="1324" y="1328"/>
                  </a:lnTo>
                  <a:lnTo>
                    <a:pt x="1330" y="1341"/>
                  </a:lnTo>
                  <a:lnTo>
                    <a:pt x="1331" y="1357"/>
                  </a:lnTo>
                  <a:lnTo>
                    <a:pt x="1335" y="1374"/>
                  </a:lnTo>
                  <a:lnTo>
                    <a:pt x="1235" y="1410"/>
                  </a:lnTo>
                  <a:lnTo>
                    <a:pt x="1233" y="1393"/>
                  </a:lnTo>
                  <a:lnTo>
                    <a:pt x="1229" y="1371"/>
                  </a:lnTo>
                  <a:lnTo>
                    <a:pt x="1226" y="1352"/>
                  </a:lnTo>
                  <a:lnTo>
                    <a:pt x="1224" y="1338"/>
                  </a:lnTo>
                  <a:lnTo>
                    <a:pt x="1233" y="1326"/>
                  </a:lnTo>
                  <a:lnTo>
                    <a:pt x="1227" y="1319"/>
                  </a:lnTo>
                  <a:lnTo>
                    <a:pt x="1220" y="1309"/>
                  </a:lnTo>
                  <a:lnTo>
                    <a:pt x="1217" y="1295"/>
                  </a:lnTo>
                  <a:lnTo>
                    <a:pt x="1226" y="1271"/>
                  </a:lnTo>
                  <a:lnTo>
                    <a:pt x="1219" y="1247"/>
                  </a:lnTo>
                  <a:lnTo>
                    <a:pt x="1208" y="1220"/>
                  </a:lnTo>
                  <a:lnTo>
                    <a:pt x="1204" y="1192"/>
                  </a:lnTo>
                  <a:lnTo>
                    <a:pt x="1204" y="1187"/>
                  </a:lnTo>
                  <a:lnTo>
                    <a:pt x="1201" y="1185"/>
                  </a:lnTo>
                  <a:lnTo>
                    <a:pt x="1197" y="1182"/>
                  </a:lnTo>
                  <a:lnTo>
                    <a:pt x="1201" y="1179"/>
                  </a:lnTo>
                  <a:lnTo>
                    <a:pt x="1201" y="1179"/>
                  </a:lnTo>
                  <a:lnTo>
                    <a:pt x="1202" y="1181"/>
                  </a:lnTo>
                  <a:lnTo>
                    <a:pt x="1202" y="1181"/>
                  </a:lnTo>
                  <a:lnTo>
                    <a:pt x="1202" y="1182"/>
                  </a:lnTo>
                  <a:lnTo>
                    <a:pt x="1199" y="1147"/>
                  </a:lnTo>
                  <a:lnTo>
                    <a:pt x="1197" y="1114"/>
                  </a:lnTo>
                  <a:lnTo>
                    <a:pt x="1197" y="1082"/>
                  </a:lnTo>
                  <a:lnTo>
                    <a:pt x="1192" y="1047"/>
                  </a:lnTo>
                  <a:lnTo>
                    <a:pt x="1163" y="1041"/>
                  </a:lnTo>
                  <a:lnTo>
                    <a:pt x="1161" y="1035"/>
                  </a:lnTo>
                  <a:lnTo>
                    <a:pt x="1159" y="1028"/>
                  </a:lnTo>
                  <a:lnTo>
                    <a:pt x="1158" y="1024"/>
                  </a:lnTo>
                  <a:lnTo>
                    <a:pt x="1159" y="1017"/>
                  </a:lnTo>
                  <a:lnTo>
                    <a:pt x="1156" y="1011"/>
                  </a:lnTo>
                  <a:lnTo>
                    <a:pt x="1152" y="1006"/>
                  </a:lnTo>
                  <a:lnTo>
                    <a:pt x="1147" y="1002"/>
                  </a:lnTo>
                  <a:lnTo>
                    <a:pt x="1140" y="1000"/>
                  </a:lnTo>
                  <a:lnTo>
                    <a:pt x="1116" y="1009"/>
                  </a:lnTo>
                  <a:lnTo>
                    <a:pt x="1091" y="1021"/>
                  </a:lnTo>
                  <a:lnTo>
                    <a:pt x="1068" y="1032"/>
                  </a:lnTo>
                  <a:lnTo>
                    <a:pt x="1043" y="1043"/>
                  </a:lnTo>
                  <a:lnTo>
                    <a:pt x="1020" y="1054"/>
                  </a:lnTo>
                  <a:lnTo>
                    <a:pt x="996" y="1066"/>
                  </a:lnTo>
                  <a:lnTo>
                    <a:pt x="973" y="1081"/>
                  </a:lnTo>
                  <a:lnTo>
                    <a:pt x="950" y="1093"/>
                  </a:lnTo>
                  <a:lnTo>
                    <a:pt x="928" y="1109"/>
                  </a:lnTo>
                  <a:lnTo>
                    <a:pt x="907" y="1124"/>
                  </a:lnTo>
                  <a:lnTo>
                    <a:pt x="885" y="1139"/>
                  </a:lnTo>
                  <a:lnTo>
                    <a:pt x="865" y="1157"/>
                  </a:lnTo>
                  <a:lnTo>
                    <a:pt x="847" y="1173"/>
                  </a:lnTo>
                  <a:lnTo>
                    <a:pt x="830" y="1192"/>
                  </a:lnTo>
                  <a:lnTo>
                    <a:pt x="812" y="1211"/>
                  </a:lnTo>
                  <a:lnTo>
                    <a:pt x="797" y="1230"/>
                  </a:lnTo>
                  <a:lnTo>
                    <a:pt x="616" y="1117"/>
                  </a:lnTo>
                  <a:lnTo>
                    <a:pt x="632" y="1093"/>
                  </a:lnTo>
                  <a:lnTo>
                    <a:pt x="654" y="1071"/>
                  </a:lnTo>
                  <a:lnTo>
                    <a:pt x="677" y="1047"/>
                  </a:lnTo>
                  <a:lnTo>
                    <a:pt x="702" y="1024"/>
                  </a:lnTo>
                  <a:lnTo>
                    <a:pt x="731" y="1002"/>
                  </a:lnTo>
                  <a:lnTo>
                    <a:pt x="760" y="979"/>
                  </a:lnTo>
                  <a:lnTo>
                    <a:pt x="788" y="959"/>
                  </a:lnTo>
                  <a:lnTo>
                    <a:pt x="819" y="938"/>
                  </a:lnTo>
                  <a:lnTo>
                    <a:pt x="849" y="919"/>
                  </a:lnTo>
                  <a:lnTo>
                    <a:pt x="880" y="900"/>
                  </a:lnTo>
                  <a:lnTo>
                    <a:pt x="908" y="884"/>
                  </a:lnTo>
                  <a:lnTo>
                    <a:pt x="935" y="868"/>
                  </a:lnTo>
                  <a:lnTo>
                    <a:pt x="959" y="856"/>
                  </a:lnTo>
                  <a:lnTo>
                    <a:pt x="982" y="845"/>
                  </a:lnTo>
                  <a:lnTo>
                    <a:pt x="1000" y="835"/>
                  </a:lnTo>
                  <a:lnTo>
                    <a:pt x="1016" y="829"/>
                  </a:lnTo>
                  <a:lnTo>
                    <a:pt x="1028" y="826"/>
                  </a:lnTo>
                  <a:lnTo>
                    <a:pt x="1039" y="822"/>
                  </a:lnTo>
                  <a:lnTo>
                    <a:pt x="1050" y="819"/>
                  </a:lnTo>
                  <a:lnTo>
                    <a:pt x="1061" y="818"/>
                  </a:lnTo>
                  <a:lnTo>
                    <a:pt x="1072" y="816"/>
                  </a:lnTo>
                  <a:lnTo>
                    <a:pt x="1082" y="813"/>
                  </a:lnTo>
                  <a:lnTo>
                    <a:pt x="1093" y="808"/>
                  </a:lnTo>
                  <a:lnTo>
                    <a:pt x="1104" y="803"/>
                  </a:lnTo>
                  <a:lnTo>
                    <a:pt x="1111" y="802"/>
                  </a:lnTo>
                  <a:lnTo>
                    <a:pt x="1116" y="799"/>
                  </a:lnTo>
                  <a:lnTo>
                    <a:pt x="1120" y="795"/>
                  </a:lnTo>
                  <a:lnTo>
                    <a:pt x="1122" y="791"/>
                  </a:lnTo>
                  <a:lnTo>
                    <a:pt x="1215" y="781"/>
                  </a:lnTo>
                  <a:lnTo>
                    <a:pt x="1253" y="778"/>
                  </a:lnTo>
                  <a:lnTo>
                    <a:pt x="1290" y="778"/>
                  </a:lnTo>
                  <a:lnTo>
                    <a:pt x="1330" y="778"/>
                  </a:lnTo>
                  <a:lnTo>
                    <a:pt x="1367" y="780"/>
                  </a:lnTo>
                  <a:lnTo>
                    <a:pt x="1407" y="781"/>
                  </a:lnTo>
                  <a:lnTo>
                    <a:pt x="1444" y="786"/>
                  </a:lnTo>
                  <a:lnTo>
                    <a:pt x="1484" y="791"/>
                  </a:lnTo>
                  <a:lnTo>
                    <a:pt x="1521" y="797"/>
                  </a:lnTo>
                  <a:lnTo>
                    <a:pt x="1559" y="805"/>
                  </a:lnTo>
                  <a:lnTo>
                    <a:pt x="1597" y="813"/>
                  </a:lnTo>
                  <a:lnTo>
                    <a:pt x="1633" y="822"/>
                  </a:lnTo>
                  <a:lnTo>
                    <a:pt x="1668" y="833"/>
                  </a:lnTo>
                  <a:lnTo>
                    <a:pt x="1704" y="845"/>
                  </a:lnTo>
                  <a:lnTo>
                    <a:pt x="1738" y="857"/>
                  </a:lnTo>
                  <a:lnTo>
                    <a:pt x="1772" y="872"/>
                  </a:lnTo>
                  <a:lnTo>
                    <a:pt x="1805" y="886"/>
                  </a:lnTo>
                  <a:lnTo>
                    <a:pt x="1808" y="876"/>
                  </a:lnTo>
                  <a:lnTo>
                    <a:pt x="1799" y="867"/>
                  </a:lnTo>
                  <a:lnTo>
                    <a:pt x="1789" y="856"/>
                  </a:lnTo>
                  <a:lnTo>
                    <a:pt x="1789" y="840"/>
                  </a:lnTo>
                  <a:lnTo>
                    <a:pt x="1905" y="967"/>
                  </a:lnTo>
                  <a:lnTo>
                    <a:pt x="1930" y="981"/>
                  </a:lnTo>
                  <a:lnTo>
                    <a:pt x="1952" y="997"/>
                  </a:lnTo>
                  <a:lnTo>
                    <a:pt x="1970" y="1016"/>
                  </a:lnTo>
                  <a:lnTo>
                    <a:pt x="1988" y="1035"/>
                  </a:lnTo>
                  <a:lnTo>
                    <a:pt x="2004" y="1054"/>
                  </a:lnTo>
                  <a:lnTo>
                    <a:pt x="2022" y="1073"/>
                  </a:lnTo>
                  <a:lnTo>
                    <a:pt x="2039" y="1092"/>
                  </a:lnTo>
                  <a:lnTo>
                    <a:pt x="2059" y="1108"/>
                  </a:lnTo>
                  <a:lnTo>
                    <a:pt x="2075" y="1100"/>
                  </a:lnTo>
                  <a:lnTo>
                    <a:pt x="2086" y="1086"/>
                  </a:lnTo>
                  <a:lnTo>
                    <a:pt x="2095" y="1071"/>
                  </a:lnTo>
                  <a:lnTo>
                    <a:pt x="2108" y="1060"/>
                  </a:lnTo>
                  <a:lnTo>
                    <a:pt x="2108" y="1052"/>
                  </a:lnTo>
                  <a:lnTo>
                    <a:pt x="2111" y="1047"/>
                  </a:lnTo>
                  <a:lnTo>
                    <a:pt x="2115" y="1041"/>
                  </a:lnTo>
                  <a:lnTo>
                    <a:pt x="2120" y="1035"/>
                  </a:lnTo>
                  <a:lnTo>
                    <a:pt x="2111" y="1028"/>
                  </a:lnTo>
                  <a:lnTo>
                    <a:pt x="2102" y="1022"/>
                  </a:lnTo>
                  <a:lnTo>
                    <a:pt x="2093" y="1017"/>
                  </a:lnTo>
                  <a:lnTo>
                    <a:pt x="2083" y="1014"/>
                  </a:lnTo>
                  <a:lnTo>
                    <a:pt x="2074" y="1017"/>
                  </a:lnTo>
                  <a:lnTo>
                    <a:pt x="2066" y="1021"/>
                  </a:lnTo>
                  <a:lnTo>
                    <a:pt x="2057" y="1024"/>
                  </a:lnTo>
                  <a:lnTo>
                    <a:pt x="2048" y="1027"/>
                  </a:lnTo>
                  <a:lnTo>
                    <a:pt x="2041" y="1030"/>
                  </a:lnTo>
                  <a:lnTo>
                    <a:pt x="2032" y="1032"/>
                  </a:lnTo>
                  <a:lnTo>
                    <a:pt x="2023" y="1035"/>
                  </a:lnTo>
                  <a:lnTo>
                    <a:pt x="2014" y="1036"/>
                  </a:lnTo>
                  <a:lnTo>
                    <a:pt x="2014" y="1019"/>
                  </a:lnTo>
                  <a:lnTo>
                    <a:pt x="2013" y="1000"/>
                  </a:lnTo>
                  <a:lnTo>
                    <a:pt x="2016" y="982"/>
                  </a:lnTo>
                  <a:lnTo>
                    <a:pt x="2025" y="968"/>
                  </a:lnTo>
                  <a:lnTo>
                    <a:pt x="2079" y="816"/>
                  </a:lnTo>
                  <a:lnTo>
                    <a:pt x="2088" y="811"/>
                  </a:lnTo>
                  <a:lnTo>
                    <a:pt x="2095" y="805"/>
                  </a:lnTo>
                  <a:lnTo>
                    <a:pt x="2102" y="797"/>
                  </a:lnTo>
                  <a:lnTo>
                    <a:pt x="2109" y="791"/>
                  </a:lnTo>
                  <a:lnTo>
                    <a:pt x="2115" y="781"/>
                  </a:lnTo>
                  <a:lnTo>
                    <a:pt x="2122" y="776"/>
                  </a:lnTo>
                  <a:lnTo>
                    <a:pt x="2129" y="776"/>
                  </a:lnTo>
                  <a:lnTo>
                    <a:pt x="2136" y="778"/>
                  </a:lnTo>
                  <a:lnTo>
                    <a:pt x="2143" y="781"/>
                  </a:lnTo>
                  <a:lnTo>
                    <a:pt x="2152" y="784"/>
                  </a:lnTo>
                  <a:lnTo>
                    <a:pt x="2161" y="786"/>
                  </a:lnTo>
                  <a:lnTo>
                    <a:pt x="2170" y="784"/>
                  </a:lnTo>
                  <a:lnTo>
                    <a:pt x="2176" y="789"/>
                  </a:lnTo>
                  <a:lnTo>
                    <a:pt x="2183" y="794"/>
                  </a:lnTo>
                  <a:lnTo>
                    <a:pt x="2186" y="802"/>
                  </a:lnTo>
                  <a:lnTo>
                    <a:pt x="2185" y="810"/>
                  </a:lnTo>
                  <a:lnTo>
                    <a:pt x="2204" y="811"/>
                  </a:lnTo>
                  <a:lnTo>
                    <a:pt x="2203" y="818"/>
                  </a:lnTo>
                  <a:lnTo>
                    <a:pt x="2206" y="821"/>
                  </a:lnTo>
                  <a:lnTo>
                    <a:pt x="2212" y="824"/>
                  </a:lnTo>
                  <a:lnTo>
                    <a:pt x="2215" y="827"/>
                  </a:lnTo>
                  <a:lnTo>
                    <a:pt x="2222" y="811"/>
                  </a:lnTo>
                  <a:lnTo>
                    <a:pt x="2228" y="791"/>
                  </a:lnTo>
                  <a:lnTo>
                    <a:pt x="2231" y="770"/>
                  </a:lnTo>
                  <a:lnTo>
                    <a:pt x="2238" y="751"/>
                  </a:lnTo>
                  <a:lnTo>
                    <a:pt x="2249" y="742"/>
                  </a:lnTo>
                  <a:lnTo>
                    <a:pt x="2255" y="727"/>
                  </a:lnTo>
                  <a:lnTo>
                    <a:pt x="2258" y="715"/>
                  </a:lnTo>
                  <a:lnTo>
                    <a:pt x="2269" y="704"/>
                  </a:lnTo>
                  <a:lnTo>
                    <a:pt x="2273" y="691"/>
                  </a:lnTo>
                  <a:lnTo>
                    <a:pt x="2285" y="681"/>
                  </a:lnTo>
                  <a:lnTo>
                    <a:pt x="2294" y="672"/>
                  </a:lnTo>
                  <a:lnTo>
                    <a:pt x="2296" y="658"/>
                  </a:lnTo>
                  <a:lnTo>
                    <a:pt x="2260" y="656"/>
                  </a:lnTo>
                  <a:lnTo>
                    <a:pt x="2246" y="662"/>
                  </a:lnTo>
                  <a:lnTo>
                    <a:pt x="2229" y="667"/>
                  </a:lnTo>
                  <a:lnTo>
                    <a:pt x="2213" y="672"/>
                  </a:lnTo>
                  <a:lnTo>
                    <a:pt x="2195" y="675"/>
                  </a:lnTo>
                  <a:lnTo>
                    <a:pt x="2178" y="680"/>
                  </a:lnTo>
                  <a:lnTo>
                    <a:pt x="2160" y="685"/>
                  </a:lnTo>
                  <a:lnTo>
                    <a:pt x="2143" y="691"/>
                  </a:lnTo>
                  <a:lnTo>
                    <a:pt x="2126" y="699"/>
                  </a:lnTo>
                  <a:lnTo>
                    <a:pt x="2122" y="694"/>
                  </a:lnTo>
                  <a:lnTo>
                    <a:pt x="2118" y="697"/>
                  </a:lnTo>
                  <a:lnTo>
                    <a:pt x="2115" y="700"/>
                  </a:lnTo>
                  <a:lnTo>
                    <a:pt x="2109" y="702"/>
                  </a:lnTo>
                  <a:lnTo>
                    <a:pt x="2104" y="704"/>
                  </a:lnTo>
                  <a:lnTo>
                    <a:pt x="2097" y="704"/>
                  </a:lnTo>
                  <a:lnTo>
                    <a:pt x="2090" y="702"/>
                  </a:lnTo>
                  <a:lnTo>
                    <a:pt x="2084" y="699"/>
                  </a:lnTo>
                  <a:lnTo>
                    <a:pt x="2077" y="705"/>
                  </a:lnTo>
                  <a:lnTo>
                    <a:pt x="2070" y="708"/>
                  </a:lnTo>
                  <a:lnTo>
                    <a:pt x="2061" y="710"/>
                  </a:lnTo>
                  <a:lnTo>
                    <a:pt x="2050" y="710"/>
                  </a:lnTo>
                  <a:lnTo>
                    <a:pt x="2041" y="710"/>
                  </a:lnTo>
                  <a:lnTo>
                    <a:pt x="2031" y="708"/>
                  </a:lnTo>
                  <a:lnTo>
                    <a:pt x="2020" y="710"/>
                  </a:lnTo>
                  <a:lnTo>
                    <a:pt x="2009" y="713"/>
                  </a:lnTo>
                  <a:lnTo>
                    <a:pt x="2009" y="718"/>
                  </a:lnTo>
                  <a:lnTo>
                    <a:pt x="2009" y="723"/>
                  </a:lnTo>
                  <a:lnTo>
                    <a:pt x="2011" y="727"/>
                  </a:lnTo>
                  <a:lnTo>
                    <a:pt x="2014" y="732"/>
                  </a:lnTo>
                  <a:lnTo>
                    <a:pt x="2031" y="735"/>
                  </a:lnTo>
                  <a:lnTo>
                    <a:pt x="2043" y="742"/>
                  </a:lnTo>
                  <a:lnTo>
                    <a:pt x="2054" y="751"/>
                  </a:lnTo>
                  <a:lnTo>
                    <a:pt x="2066" y="759"/>
                  </a:lnTo>
                  <a:lnTo>
                    <a:pt x="2072" y="772"/>
                  </a:lnTo>
                  <a:lnTo>
                    <a:pt x="2077" y="786"/>
                  </a:lnTo>
                  <a:lnTo>
                    <a:pt x="2079" y="802"/>
                  </a:lnTo>
                  <a:lnTo>
                    <a:pt x="2079" y="816"/>
                  </a:lnTo>
                  <a:lnTo>
                    <a:pt x="2025" y="968"/>
                  </a:lnTo>
                  <a:lnTo>
                    <a:pt x="2011" y="965"/>
                  </a:lnTo>
                  <a:lnTo>
                    <a:pt x="1995" y="965"/>
                  </a:lnTo>
                  <a:lnTo>
                    <a:pt x="1979" y="965"/>
                  </a:lnTo>
                  <a:lnTo>
                    <a:pt x="1962" y="965"/>
                  </a:lnTo>
                  <a:lnTo>
                    <a:pt x="1946" y="967"/>
                  </a:lnTo>
                  <a:lnTo>
                    <a:pt x="1930" y="967"/>
                  </a:lnTo>
                  <a:lnTo>
                    <a:pt x="1918" y="967"/>
                  </a:lnTo>
                  <a:lnTo>
                    <a:pt x="1905" y="967"/>
                  </a:lnTo>
                  <a:lnTo>
                    <a:pt x="1789" y="840"/>
                  </a:lnTo>
                  <a:lnTo>
                    <a:pt x="1796" y="824"/>
                  </a:lnTo>
                  <a:lnTo>
                    <a:pt x="1812" y="813"/>
                  </a:lnTo>
                  <a:lnTo>
                    <a:pt x="1823" y="800"/>
                  </a:lnTo>
                  <a:lnTo>
                    <a:pt x="1817" y="778"/>
                  </a:lnTo>
                  <a:lnTo>
                    <a:pt x="1823" y="765"/>
                  </a:lnTo>
                  <a:lnTo>
                    <a:pt x="1837" y="759"/>
                  </a:lnTo>
                  <a:lnTo>
                    <a:pt x="1853" y="757"/>
                  </a:lnTo>
                  <a:lnTo>
                    <a:pt x="1869" y="754"/>
                  </a:lnTo>
                  <a:lnTo>
                    <a:pt x="1869" y="742"/>
                  </a:lnTo>
                  <a:lnTo>
                    <a:pt x="1876" y="735"/>
                  </a:lnTo>
                  <a:lnTo>
                    <a:pt x="1885" y="729"/>
                  </a:lnTo>
                  <a:lnTo>
                    <a:pt x="1889" y="721"/>
                  </a:lnTo>
                  <a:lnTo>
                    <a:pt x="1880" y="721"/>
                  </a:lnTo>
                  <a:lnTo>
                    <a:pt x="1869" y="726"/>
                  </a:lnTo>
                  <a:lnTo>
                    <a:pt x="1858" y="732"/>
                  </a:lnTo>
                  <a:lnTo>
                    <a:pt x="1844" y="737"/>
                  </a:lnTo>
                  <a:lnTo>
                    <a:pt x="1830" y="735"/>
                  </a:lnTo>
                  <a:lnTo>
                    <a:pt x="1817" y="723"/>
                  </a:lnTo>
                  <a:lnTo>
                    <a:pt x="1803" y="718"/>
                  </a:lnTo>
                  <a:lnTo>
                    <a:pt x="1790" y="719"/>
                  </a:lnTo>
                  <a:lnTo>
                    <a:pt x="1776" y="723"/>
                  </a:lnTo>
                  <a:lnTo>
                    <a:pt x="1763" y="729"/>
                  </a:lnTo>
                  <a:lnTo>
                    <a:pt x="1749" y="735"/>
                  </a:lnTo>
                  <a:lnTo>
                    <a:pt x="1737" y="740"/>
                  </a:lnTo>
                  <a:lnTo>
                    <a:pt x="1722" y="742"/>
                  </a:lnTo>
                  <a:lnTo>
                    <a:pt x="1694" y="745"/>
                  </a:lnTo>
                  <a:lnTo>
                    <a:pt x="1665" y="746"/>
                  </a:lnTo>
                  <a:lnTo>
                    <a:pt x="1636" y="746"/>
                  </a:lnTo>
                  <a:lnTo>
                    <a:pt x="1607" y="745"/>
                  </a:lnTo>
                  <a:lnTo>
                    <a:pt x="1577" y="743"/>
                  </a:lnTo>
                  <a:lnTo>
                    <a:pt x="1550" y="742"/>
                  </a:lnTo>
                  <a:lnTo>
                    <a:pt x="1523" y="740"/>
                  </a:lnTo>
                  <a:lnTo>
                    <a:pt x="1496" y="737"/>
                  </a:lnTo>
                  <a:lnTo>
                    <a:pt x="1495" y="743"/>
                  </a:lnTo>
                  <a:lnTo>
                    <a:pt x="1495" y="749"/>
                  </a:lnTo>
                  <a:lnTo>
                    <a:pt x="1493" y="756"/>
                  </a:lnTo>
                  <a:lnTo>
                    <a:pt x="1487" y="759"/>
                  </a:lnTo>
                  <a:lnTo>
                    <a:pt x="1480" y="764"/>
                  </a:lnTo>
                  <a:lnTo>
                    <a:pt x="1473" y="767"/>
                  </a:lnTo>
                  <a:lnTo>
                    <a:pt x="1466" y="772"/>
                  </a:lnTo>
                  <a:lnTo>
                    <a:pt x="1457" y="773"/>
                  </a:lnTo>
                  <a:lnTo>
                    <a:pt x="1448" y="775"/>
                  </a:lnTo>
                  <a:lnTo>
                    <a:pt x="1439" y="775"/>
                  </a:lnTo>
                  <a:lnTo>
                    <a:pt x="1430" y="772"/>
                  </a:lnTo>
                  <a:lnTo>
                    <a:pt x="1423" y="765"/>
                  </a:lnTo>
                  <a:lnTo>
                    <a:pt x="1419" y="757"/>
                  </a:lnTo>
                  <a:lnTo>
                    <a:pt x="1414" y="754"/>
                  </a:lnTo>
                  <a:lnTo>
                    <a:pt x="1407" y="751"/>
                  </a:lnTo>
                  <a:lnTo>
                    <a:pt x="1398" y="749"/>
                  </a:lnTo>
                  <a:lnTo>
                    <a:pt x="1389" y="749"/>
                  </a:lnTo>
                  <a:lnTo>
                    <a:pt x="1380" y="748"/>
                  </a:lnTo>
                  <a:lnTo>
                    <a:pt x="1373" y="745"/>
                  </a:lnTo>
                  <a:lnTo>
                    <a:pt x="1367" y="738"/>
                  </a:lnTo>
                  <a:lnTo>
                    <a:pt x="1362" y="727"/>
                  </a:lnTo>
                  <a:lnTo>
                    <a:pt x="1349" y="723"/>
                  </a:lnTo>
                  <a:lnTo>
                    <a:pt x="1333" y="723"/>
                  </a:lnTo>
                  <a:lnTo>
                    <a:pt x="1317" y="723"/>
                  </a:lnTo>
                  <a:lnTo>
                    <a:pt x="1303" y="730"/>
                  </a:lnTo>
                  <a:lnTo>
                    <a:pt x="1287" y="734"/>
                  </a:lnTo>
                  <a:lnTo>
                    <a:pt x="1269" y="735"/>
                  </a:lnTo>
                  <a:lnTo>
                    <a:pt x="1251" y="737"/>
                  </a:lnTo>
                  <a:lnTo>
                    <a:pt x="1235" y="737"/>
                  </a:lnTo>
                  <a:lnTo>
                    <a:pt x="1219" y="742"/>
                  </a:lnTo>
                  <a:lnTo>
                    <a:pt x="1202" y="748"/>
                  </a:lnTo>
                  <a:lnTo>
                    <a:pt x="1190" y="761"/>
                  </a:lnTo>
                  <a:lnTo>
                    <a:pt x="1192" y="769"/>
                  </a:lnTo>
                  <a:lnTo>
                    <a:pt x="1197" y="775"/>
                  </a:lnTo>
                  <a:lnTo>
                    <a:pt x="1204" y="781"/>
                  </a:lnTo>
                  <a:lnTo>
                    <a:pt x="1215" y="781"/>
                  </a:lnTo>
                  <a:lnTo>
                    <a:pt x="1122" y="791"/>
                  </a:lnTo>
                  <a:lnTo>
                    <a:pt x="1116" y="780"/>
                  </a:lnTo>
                  <a:lnTo>
                    <a:pt x="1109" y="773"/>
                  </a:lnTo>
                  <a:lnTo>
                    <a:pt x="1100" y="769"/>
                  </a:lnTo>
                  <a:lnTo>
                    <a:pt x="1089" y="767"/>
                  </a:lnTo>
                  <a:lnTo>
                    <a:pt x="1077" y="765"/>
                  </a:lnTo>
                  <a:lnTo>
                    <a:pt x="1066" y="764"/>
                  </a:lnTo>
                  <a:lnTo>
                    <a:pt x="1055" y="761"/>
                  </a:lnTo>
                  <a:lnTo>
                    <a:pt x="1045" y="754"/>
                  </a:lnTo>
                  <a:lnTo>
                    <a:pt x="1037" y="742"/>
                  </a:lnTo>
                  <a:lnTo>
                    <a:pt x="1030" y="727"/>
                  </a:lnTo>
                  <a:lnTo>
                    <a:pt x="1021" y="718"/>
                  </a:lnTo>
                  <a:lnTo>
                    <a:pt x="1005" y="710"/>
                  </a:lnTo>
                  <a:lnTo>
                    <a:pt x="1000" y="689"/>
                  </a:lnTo>
                  <a:lnTo>
                    <a:pt x="991" y="672"/>
                  </a:lnTo>
                  <a:lnTo>
                    <a:pt x="982" y="654"/>
                  </a:lnTo>
                  <a:lnTo>
                    <a:pt x="975" y="637"/>
                  </a:lnTo>
                  <a:lnTo>
                    <a:pt x="977" y="637"/>
                  </a:lnTo>
                  <a:lnTo>
                    <a:pt x="975" y="632"/>
                  </a:lnTo>
                  <a:lnTo>
                    <a:pt x="977" y="627"/>
                  </a:lnTo>
                  <a:lnTo>
                    <a:pt x="980" y="621"/>
                  </a:lnTo>
                  <a:lnTo>
                    <a:pt x="982" y="615"/>
                  </a:lnTo>
                  <a:lnTo>
                    <a:pt x="991" y="612"/>
                  </a:lnTo>
                  <a:lnTo>
                    <a:pt x="993" y="605"/>
                  </a:lnTo>
                  <a:lnTo>
                    <a:pt x="989" y="597"/>
                  </a:lnTo>
                  <a:lnTo>
                    <a:pt x="985" y="593"/>
                  </a:lnTo>
                  <a:lnTo>
                    <a:pt x="980" y="583"/>
                  </a:lnTo>
                  <a:lnTo>
                    <a:pt x="984" y="574"/>
                  </a:lnTo>
                  <a:lnTo>
                    <a:pt x="989" y="564"/>
                  </a:lnTo>
                  <a:lnTo>
                    <a:pt x="993" y="555"/>
                  </a:lnTo>
                  <a:lnTo>
                    <a:pt x="1002" y="550"/>
                  </a:lnTo>
                  <a:lnTo>
                    <a:pt x="1012" y="548"/>
                  </a:lnTo>
                  <a:lnTo>
                    <a:pt x="1021" y="548"/>
                  </a:lnTo>
                  <a:lnTo>
                    <a:pt x="1030" y="548"/>
                  </a:lnTo>
                  <a:lnTo>
                    <a:pt x="1039" y="548"/>
                  </a:lnTo>
                  <a:lnTo>
                    <a:pt x="1050" y="548"/>
                  </a:lnTo>
                  <a:lnTo>
                    <a:pt x="1059" y="547"/>
                  </a:lnTo>
                  <a:lnTo>
                    <a:pt x="1068" y="543"/>
                  </a:lnTo>
                  <a:lnTo>
                    <a:pt x="1063" y="539"/>
                  </a:lnTo>
                  <a:lnTo>
                    <a:pt x="1061" y="531"/>
                  </a:lnTo>
                  <a:lnTo>
                    <a:pt x="1063" y="523"/>
                  </a:lnTo>
                  <a:lnTo>
                    <a:pt x="1068" y="518"/>
                  </a:lnTo>
                  <a:lnTo>
                    <a:pt x="1079" y="509"/>
                  </a:lnTo>
                  <a:lnTo>
                    <a:pt x="1091" y="504"/>
                  </a:lnTo>
                  <a:lnTo>
                    <a:pt x="1106" y="502"/>
                  </a:lnTo>
                  <a:lnTo>
                    <a:pt x="1122" y="502"/>
                  </a:lnTo>
                  <a:lnTo>
                    <a:pt x="1138" y="504"/>
                  </a:lnTo>
                  <a:lnTo>
                    <a:pt x="1152" y="505"/>
                  </a:lnTo>
                  <a:lnTo>
                    <a:pt x="1167" y="505"/>
                  </a:lnTo>
                  <a:lnTo>
                    <a:pt x="1179" y="504"/>
                  </a:lnTo>
                  <a:lnTo>
                    <a:pt x="1193" y="512"/>
                  </a:lnTo>
                  <a:lnTo>
                    <a:pt x="1206" y="524"/>
                  </a:lnTo>
                  <a:lnTo>
                    <a:pt x="1219" y="537"/>
                  </a:lnTo>
                  <a:lnTo>
                    <a:pt x="1229" y="545"/>
                  </a:lnTo>
                  <a:lnTo>
                    <a:pt x="1231" y="551"/>
                  </a:lnTo>
                  <a:lnTo>
                    <a:pt x="1238" y="556"/>
                  </a:lnTo>
                  <a:lnTo>
                    <a:pt x="1245" y="558"/>
                  </a:lnTo>
                  <a:lnTo>
                    <a:pt x="1253" y="562"/>
                  </a:lnTo>
                  <a:lnTo>
                    <a:pt x="1265" y="564"/>
                  </a:lnTo>
                  <a:lnTo>
                    <a:pt x="1276" y="561"/>
                  </a:lnTo>
                  <a:lnTo>
                    <a:pt x="1287" y="559"/>
                  </a:lnTo>
                  <a:lnTo>
                    <a:pt x="1297" y="562"/>
                  </a:lnTo>
                  <a:lnTo>
                    <a:pt x="1299" y="551"/>
                  </a:lnTo>
                  <a:lnTo>
                    <a:pt x="1305" y="539"/>
                  </a:lnTo>
                  <a:lnTo>
                    <a:pt x="1312" y="528"/>
                  </a:lnTo>
                  <a:lnTo>
                    <a:pt x="1319" y="516"/>
                  </a:lnTo>
                  <a:lnTo>
                    <a:pt x="1335" y="516"/>
                  </a:lnTo>
                  <a:lnTo>
                    <a:pt x="1351" y="512"/>
                  </a:lnTo>
                  <a:lnTo>
                    <a:pt x="1369" y="505"/>
                  </a:lnTo>
                  <a:lnTo>
                    <a:pt x="1387" y="501"/>
                  </a:lnTo>
                  <a:lnTo>
                    <a:pt x="1403" y="497"/>
                  </a:lnTo>
                  <a:lnTo>
                    <a:pt x="1417" y="497"/>
                  </a:lnTo>
                  <a:lnTo>
                    <a:pt x="1428" y="507"/>
                  </a:lnTo>
                  <a:lnTo>
                    <a:pt x="1435" y="524"/>
                  </a:lnTo>
                  <a:lnTo>
                    <a:pt x="1435" y="529"/>
                  </a:lnTo>
                  <a:lnTo>
                    <a:pt x="1432" y="532"/>
                  </a:lnTo>
                  <a:lnTo>
                    <a:pt x="1428" y="536"/>
                  </a:lnTo>
                  <a:lnTo>
                    <a:pt x="1430" y="542"/>
                  </a:lnTo>
                  <a:lnTo>
                    <a:pt x="1444" y="540"/>
                  </a:lnTo>
                  <a:lnTo>
                    <a:pt x="1452" y="532"/>
                  </a:lnTo>
                  <a:lnTo>
                    <a:pt x="1459" y="528"/>
                  </a:lnTo>
                  <a:lnTo>
                    <a:pt x="1473" y="534"/>
                  </a:lnTo>
                  <a:lnTo>
                    <a:pt x="1500" y="532"/>
                  </a:lnTo>
                  <a:lnTo>
                    <a:pt x="1527" y="528"/>
                  </a:lnTo>
                  <a:lnTo>
                    <a:pt x="1550" y="520"/>
                  </a:lnTo>
                  <a:lnTo>
                    <a:pt x="1575" y="510"/>
                  </a:lnTo>
                  <a:lnTo>
                    <a:pt x="1599" y="502"/>
                  </a:lnTo>
                  <a:lnTo>
                    <a:pt x="1625" y="496"/>
                  </a:lnTo>
                  <a:lnTo>
                    <a:pt x="1654" y="494"/>
                  </a:lnTo>
                  <a:lnTo>
                    <a:pt x="1685" y="499"/>
                  </a:lnTo>
                  <a:lnTo>
                    <a:pt x="1701" y="496"/>
                  </a:lnTo>
                  <a:lnTo>
                    <a:pt x="1715" y="494"/>
                  </a:lnTo>
                  <a:lnTo>
                    <a:pt x="1731" y="493"/>
                  </a:lnTo>
                  <a:lnTo>
                    <a:pt x="1746" y="491"/>
                  </a:lnTo>
                  <a:lnTo>
                    <a:pt x="1758" y="490"/>
                  </a:lnTo>
                  <a:lnTo>
                    <a:pt x="1772" y="485"/>
                  </a:lnTo>
                  <a:lnTo>
                    <a:pt x="1783" y="478"/>
                  </a:lnTo>
                  <a:lnTo>
                    <a:pt x="1796" y="469"/>
                  </a:lnTo>
                  <a:lnTo>
                    <a:pt x="1796" y="456"/>
                  </a:lnTo>
                  <a:lnTo>
                    <a:pt x="1803" y="448"/>
                  </a:lnTo>
                  <a:lnTo>
                    <a:pt x="1814" y="442"/>
                  </a:lnTo>
                  <a:lnTo>
                    <a:pt x="1826" y="437"/>
                  </a:lnTo>
                  <a:lnTo>
                    <a:pt x="1837" y="440"/>
                  </a:lnTo>
                  <a:lnTo>
                    <a:pt x="1846" y="442"/>
                  </a:lnTo>
                  <a:lnTo>
                    <a:pt x="1855" y="444"/>
                  </a:lnTo>
                  <a:lnTo>
                    <a:pt x="1866" y="444"/>
                  </a:lnTo>
                  <a:lnTo>
                    <a:pt x="1875" y="445"/>
                  </a:lnTo>
                  <a:lnTo>
                    <a:pt x="1884" y="447"/>
                  </a:lnTo>
                  <a:lnTo>
                    <a:pt x="1892" y="450"/>
                  </a:lnTo>
                  <a:lnTo>
                    <a:pt x="1903" y="453"/>
                  </a:lnTo>
                  <a:lnTo>
                    <a:pt x="1912" y="448"/>
                  </a:lnTo>
                  <a:lnTo>
                    <a:pt x="1919" y="442"/>
                  </a:lnTo>
                  <a:lnTo>
                    <a:pt x="1927" y="436"/>
                  </a:lnTo>
                  <a:lnTo>
                    <a:pt x="1936" y="431"/>
                  </a:lnTo>
                  <a:lnTo>
                    <a:pt x="1943" y="426"/>
                  </a:lnTo>
                  <a:lnTo>
                    <a:pt x="1952" y="423"/>
                  </a:lnTo>
                  <a:lnTo>
                    <a:pt x="1962" y="421"/>
                  </a:lnTo>
                  <a:lnTo>
                    <a:pt x="1977" y="423"/>
                  </a:lnTo>
                  <a:lnTo>
                    <a:pt x="1977" y="428"/>
                  </a:lnTo>
                  <a:lnTo>
                    <a:pt x="1979" y="431"/>
                  </a:lnTo>
                  <a:lnTo>
                    <a:pt x="1984" y="432"/>
                  </a:lnTo>
                  <a:lnTo>
                    <a:pt x="1988" y="434"/>
                  </a:lnTo>
                  <a:lnTo>
                    <a:pt x="2014" y="434"/>
                  </a:lnTo>
                  <a:lnTo>
                    <a:pt x="2039" y="432"/>
                  </a:lnTo>
                  <a:lnTo>
                    <a:pt x="2063" y="429"/>
                  </a:lnTo>
                  <a:lnTo>
                    <a:pt x="2086" y="423"/>
                  </a:lnTo>
                  <a:lnTo>
                    <a:pt x="2109" y="418"/>
                  </a:lnTo>
                  <a:lnTo>
                    <a:pt x="2133" y="410"/>
                  </a:lnTo>
                  <a:lnTo>
                    <a:pt x="2154" y="402"/>
                  </a:lnTo>
                  <a:lnTo>
                    <a:pt x="2178" y="394"/>
                  </a:lnTo>
                  <a:lnTo>
                    <a:pt x="2188" y="385"/>
                  </a:lnTo>
                  <a:lnTo>
                    <a:pt x="2170" y="375"/>
                  </a:lnTo>
                  <a:lnTo>
                    <a:pt x="2154" y="363"/>
                  </a:lnTo>
                  <a:lnTo>
                    <a:pt x="2140" y="352"/>
                  </a:lnTo>
                  <a:lnTo>
                    <a:pt x="2126" y="337"/>
                  </a:lnTo>
                  <a:lnTo>
                    <a:pt x="2113" y="323"/>
                  </a:lnTo>
                  <a:lnTo>
                    <a:pt x="2102" y="309"/>
                  </a:lnTo>
                  <a:lnTo>
                    <a:pt x="2093" y="293"/>
                  </a:lnTo>
                  <a:lnTo>
                    <a:pt x="2084" y="277"/>
                  </a:lnTo>
                  <a:lnTo>
                    <a:pt x="2077" y="263"/>
                  </a:lnTo>
                  <a:lnTo>
                    <a:pt x="2077" y="250"/>
                  </a:lnTo>
                  <a:lnTo>
                    <a:pt x="2079" y="238"/>
                  </a:lnTo>
                  <a:lnTo>
                    <a:pt x="2086" y="225"/>
                  </a:lnTo>
                  <a:lnTo>
                    <a:pt x="2093" y="214"/>
                  </a:lnTo>
                  <a:lnTo>
                    <a:pt x="2104" y="203"/>
                  </a:lnTo>
                  <a:lnTo>
                    <a:pt x="2113" y="192"/>
                  </a:lnTo>
                  <a:lnTo>
                    <a:pt x="2122" y="182"/>
                  </a:lnTo>
                  <a:lnTo>
                    <a:pt x="2122" y="174"/>
                  </a:lnTo>
                  <a:lnTo>
                    <a:pt x="2126" y="168"/>
                  </a:lnTo>
                  <a:lnTo>
                    <a:pt x="2131" y="165"/>
                  </a:lnTo>
                  <a:lnTo>
                    <a:pt x="2134" y="160"/>
                  </a:lnTo>
                  <a:lnTo>
                    <a:pt x="2134" y="142"/>
                  </a:lnTo>
                  <a:lnTo>
                    <a:pt x="2133" y="127"/>
                  </a:lnTo>
                  <a:lnTo>
                    <a:pt x="2126" y="114"/>
                  </a:lnTo>
                  <a:lnTo>
                    <a:pt x="2115" y="103"/>
                  </a:lnTo>
                  <a:lnTo>
                    <a:pt x="2109" y="101"/>
                  </a:lnTo>
                  <a:lnTo>
                    <a:pt x="2108" y="93"/>
                  </a:lnTo>
                  <a:lnTo>
                    <a:pt x="2108" y="87"/>
                  </a:lnTo>
                  <a:lnTo>
                    <a:pt x="2104" y="84"/>
                  </a:lnTo>
                  <a:lnTo>
                    <a:pt x="2108" y="76"/>
                  </a:lnTo>
                  <a:lnTo>
                    <a:pt x="2113" y="66"/>
                  </a:lnTo>
                  <a:lnTo>
                    <a:pt x="2122" y="62"/>
                  </a:lnTo>
                  <a:lnTo>
                    <a:pt x="2133" y="66"/>
                  </a:lnTo>
                  <a:lnTo>
                    <a:pt x="2147" y="89"/>
                  </a:lnTo>
                  <a:lnTo>
                    <a:pt x="2161" y="108"/>
                  </a:lnTo>
                  <a:lnTo>
                    <a:pt x="2172" y="130"/>
                  </a:lnTo>
                  <a:lnTo>
                    <a:pt x="2183" y="154"/>
                  </a:lnTo>
                  <a:lnTo>
                    <a:pt x="2178" y="168"/>
                  </a:lnTo>
                  <a:lnTo>
                    <a:pt x="2174" y="184"/>
                  </a:lnTo>
                  <a:lnTo>
                    <a:pt x="2172" y="201"/>
                  </a:lnTo>
                  <a:lnTo>
                    <a:pt x="2170" y="218"/>
                  </a:lnTo>
                  <a:lnTo>
                    <a:pt x="2176" y="225"/>
                  </a:lnTo>
                  <a:lnTo>
                    <a:pt x="2178" y="233"/>
                  </a:lnTo>
                  <a:lnTo>
                    <a:pt x="2179" y="242"/>
                  </a:lnTo>
                  <a:lnTo>
                    <a:pt x="2183" y="250"/>
                  </a:lnTo>
                  <a:lnTo>
                    <a:pt x="2190" y="260"/>
                  </a:lnTo>
                  <a:lnTo>
                    <a:pt x="2197" y="268"/>
                  </a:lnTo>
                  <a:lnTo>
                    <a:pt x="2208" y="274"/>
                  </a:lnTo>
                  <a:lnTo>
                    <a:pt x="2219" y="280"/>
                  </a:lnTo>
                  <a:lnTo>
                    <a:pt x="2229" y="287"/>
                  </a:lnTo>
                  <a:lnTo>
                    <a:pt x="2238" y="295"/>
                  </a:lnTo>
                  <a:lnTo>
                    <a:pt x="2244" y="303"/>
                  </a:lnTo>
                  <a:lnTo>
                    <a:pt x="2247" y="315"/>
                  </a:lnTo>
                  <a:lnTo>
                    <a:pt x="2292" y="352"/>
                  </a:lnTo>
                  <a:lnTo>
                    <a:pt x="2303" y="352"/>
                  </a:lnTo>
                  <a:lnTo>
                    <a:pt x="2316" y="352"/>
                  </a:lnTo>
                  <a:lnTo>
                    <a:pt x="2328" y="352"/>
                  </a:lnTo>
                  <a:lnTo>
                    <a:pt x="2341" y="350"/>
                  </a:lnTo>
                  <a:lnTo>
                    <a:pt x="2353" y="347"/>
                  </a:lnTo>
                  <a:lnTo>
                    <a:pt x="2362" y="344"/>
                  </a:lnTo>
                  <a:lnTo>
                    <a:pt x="2371" y="337"/>
                  </a:lnTo>
                  <a:lnTo>
                    <a:pt x="2376" y="328"/>
                  </a:lnTo>
                  <a:lnTo>
                    <a:pt x="2382" y="304"/>
                  </a:lnTo>
                  <a:lnTo>
                    <a:pt x="2387" y="280"/>
                  </a:lnTo>
                  <a:lnTo>
                    <a:pt x="2391" y="258"/>
                  </a:lnTo>
                  <a:lnTo>
                    <a:pt x="2393" y="231"/>
                  </a:lnTo>
                  <a:lnTo>
                    <a:pt x="2382" y="215"/>
                  </a:lnTo>
                  <a:lnTo>
                    <a:pt x="2371" y="201"/>
                  </a:lnTo>
                  <a:lnTo>
                    <a:pt x="2362" y="185"/>
                  </a:lnTo>
                  <a:lnTo>
                    <a:pt x="2359" y="168"/>
                  </a:lnTo>
                  <a:lnTo>
                    <a:pt x="2362" y="166"/>
                  </a:lnTo>
                  <a:lnTo>
                    <a:pt x="2368" y="166"/>
                  </a:lnTo>
                  <a:lnTo>
                    <a:pt x="2371" y="166"/>
                  </a:lnTo>
                  <a:lnTo>
                    <a:pt x="2376" y="166"/>
                  </a:lnTo>
                  <a:lnTo>
                    <a:pt x="2382" y="173"/>
                  </a:lnTo>
                  <a:lnTo>
                    <a:pt x="2384" y="180"/>
                  </a:lnTo>
                  <a:lnTo>
                    <a:pt x="2387" y="188"/>
                  </a:lnTo>
                  <a:lnTo>
                    <a:pt x="2396" y="192"/>
                  </a:lnTo>
                  <a:lnTo>
                    <a:pt x="2405" y="203"/>
                  </a:lnTo>
                  <a:lnTo>
                    <a:pt x="2412" y="214"/>
                  </a:lnTo>
                  <a:lnTo>
                    <a:pt x="2418" y="226"/>
                  </a:lnTo>
                  <a:lnTo>
                    <a:pt x="2425" y="238"/>
                  </a:lnTo>
                  <a:lnTo>
                    <a:pt x="2432" y="249"/>
                  </a:lnTo>
                  <a:lnTo>
                    <a:pt x="2437" y="261"/>
                  </a:lnTo>
                  <a:lnTo>
                    <a:pt x="2445" y="272"/>
                  </a:lnTo>
                  <a:lnTo>
                    <a:pt x="2454" y="283"/>
                  </a:lnTo>
                  <a:lnTo>
                    <a:pt x="2455" y="299"/>
                  </a:lnTo>
                  <a:lnTo>
                    <a:pt x="2457" y="315"/>
                  </a:lnTo>
                  <a:lnTo>
                    <a:pt x="2464" y="328"/>
                  </a:lnTo>
                  <a:lnTo>
                    <a:pt x="2480" y="331"/>
                  </a:lnTo>
                  <a:lnTo>
                    <a:pt x="2500" y="341"/>
                  </a:lnTo>
                  <a:lnTo>
                    <a:pt x="2522" y="348"/>
                  </a:lnTo>
                  <a:lnTo>
                    <a:pt x="2541" y="358"/>
                  </a:lnTo>
                  <a:lnTo>
                    <a:pt x="2563" y="364"/>
                  </a:lnTo>
                  <a:lnTo>
                    <a:pt x="2583" y="372"/>
                  </a:lnTo>
                  <a:lnTo>
                    <a:pt x="2604" y="379"/>
                  </a:lnTo>
                  <a:lnTo>
                    <a:pt x="2626" y="383"/>
                  </a:lnTo>
                  <a:lnTo>
                    <a:pt x="2647" y="388"/>
                  </a:lnTo>
                  <a:lnTo>
                    <a:pt x="2653" y="383"/>
                  </a:lnTo>
                  <a:lnTo>
                    <a:pt x="2654" y="379"/>
                  </a:lnTo>
                  <a:lnTo>
                    <a:pt x="2656" y="374"/>
                  </a:lnTo>
                  <a:lnTo>
                    <a:pt x="2656" y="369"/>
                  </a:lnTo>
                  <a:lnTo>
                    <a:pt x="2665" y="369"/>
                  </a:lnTo>
                  <a:lnTo>
                    <a:pt x="2676" y="369"/>
                  </a:lnTo>
                  <a:lnTo>
                    <a:pt x="2687" y="367"/>
                  </a:lnTo>
                  <a:lnTo>
                    <a:pt x="2697" y="366"/>
                  </a:lnTo>
                  <a:lnTo>
                    <a:pt x="2706" y="364"/>
                  </a:lnTo>
                  <a:lnTo>
                    <a:pt x="2715" y="360"/>
                  </a:lnTo>
                  <a:lnTo>
                    <a:pt x="2722" y="353"/>
                  </a:lnTo>
                  <a:lnTo>
                    <a:pt x="2726" y="344"/>
                  </a:lnTo>
                  <a:lnTo>
                    <a:pt x="2731" y="342"/>
                  </a:lnTo>
                  <a:lnTo>
                    <a:pt x="2739" y="342"/>
                  </a:lnTo>
                  <a:lnTo>
                    <a:pt x="2746" y="344"/>
                  </a:lnTo>
                  <a:lnTo>
                    <a:pt x="2753" y="344"/>
                  </a:lnTo>
                  <a:lnTo>
                    <a:pt x="2758" y="353"/>
                  </a:lnTo>
                  <a:lnTo>
                    <a:pt x="2764" y="364"/>
                  </a:lnTo>
                  <a:lnTo>
                    <a:pt x="2769" y="374"/>
                  </a:lnTo>
                  <a:lnTo>
                    <a:pt x="2778" y="380"/>
                  </a:lnTo>
                  <a:lnTo>
                    <a:pt x="2783" y="360"/>
                  </a:lnTo>
                  <a:lnTo>
                    <a:pt x="2791" y="339"/>
                  </a:lnTo>
                  <a:lnTo>
                    <a:pt x="2796" y="322"/>
                  </a:lnTo>
                  <a:lnTo>
                    <a:pt x="2801" y="303"/>
                  </a:lnTo>
                  <a:lnTo>
                    <a:pt x="2789" y="306"/>
                  </a:lnTo>
                  <a:lnTo>
                    <a:pt x="2778" y="306"/>
                  </a:lnTo>
                  <a:lnTo>
                    <a:pt x="2767" y="306"/>
                  </a:lnTo>
                  <a:lnTo>
                    <a:pt x="2756" y="304"/>
                  </a:lnTo>
                  <a:lnTo>
                    <a:pt x="2748" y="303"/>
                  </a:lnTo>
                  <a:lnTo>
                    <a:pt x="2737" y="301"/>
                  </a:lnTo>
                  <a:lnTo>
                    <a:pt x="2724" y="299"/>
                  </a:lnTo>
                  <a:lnTo>
                    <a:pt x="2712" y="298"/>
                  </a:lnTo>
                  <a:lnTo>
                    <a:pt x="2694" y="299"/>
                  </a:lnTo>
                  <a:lnTo>
                    <a:pt x="2676" y="301"/>
                  </a:lnTo>
                  <a:lnTo>
                    <a:pt x="2658" y="299"/>
                  </a:lnTo>
                  <a:lnTo>
                    <a:pt x="2640" y="298"/>
                  </a:lnTo>
                  <a:lnTo>
                    <a:pt x="2622" y="293"/>
                  </a:lnTo>
                  <a:lnTo>
                    <a:pt x="2604" y="288"/>
                  </a:lnTo>
                  <a:lnTo>
                    <a:pt x="2588" y="282"/>
                  </a:lnTo>
                  <a:lnTo>
                    <a:pt x="2574" y="274"/>
                  </a:lnTo>
                  <a:lnTo>
                    <a:pt x="2565" y="264"/>
                  </a:lnTo>
                  <a:lnTo>
                    <a:pt x="2558" y="255"/>
                  </a:lnTo>
                  <a:lnTo>
                    <a:pt x="2550" y="245"/>
                  </a:lnTo>
                  <a:lnTo>
                    <a:pt x="2545" y="236"/>
                  </a:lnTo>
                  <a:lnTo>
                    <a:pt x="2538" y="226"/>
                  </a:lnTo>
                  <a:lnTo>
                    <a:pt x="2531" y="218"/>
                  </a:lnTo>
                  <a:lnTo>
                    <a:pt x="2522" y="211"/>
                  </a:lnTo>
                  <a:lnTo>
                    <a:pt x="2511" y="204"/>
                  </a:lnTo>
                  <a:lnTo>
                    <a:pt x="2523" y="193"/>
                  </a:lnTo>
                  <a:lnTo>
                    <a:pt x="2547" y="187"/>
                  </a:lnTo>
                  <a:lnTo>
                    <a:pt x="2572" y="184"/>
                  </a:lnTo>
                  <a:lnTo>
                    <a:pt x="2595" y="182"/>
                  </a:lnTo>
                  <a:lnTo>
                    <a:pt x="2618" y="180"/>
                  </a:lnTo>
                  <a:lnTo>
                    <a:pt x="2640" y="177"/>
                  </a:lnTo>
                  <a:lnTo>
                    <a:pt x="2661" y="173"/>
                  </a:lnTo>
                  <a:lnTo>
                    <a:pt x="2681" y="163"/>
                  </a:lnTo>
                  <a:lnTo>
                    <a:pt x="2699" y="150"/>
                  </a:lnTo>
                  <a:lnTo>
                    <a:pt x="2717" y="141"/>
                  </a:lnTo>
                  <a:lnTo>
                    <a:pt x="2735" y="133"/>
                  </a:lnTo>
                  <a:lnTo>
                    <a:pt x="2753" y="125"/>
                  </a:lnTo>
                  <a:lnTo>
                    <a:pt x="2773" y="119"/>
                  </a:lnTo>
                  <a:lnTo>
                    <a:pt x="2792" y="112"/>
                  </a:lnTo>
                  <a:lnTo>
                    <a:pt x="2812" y="108"/>
                  </a:lnTo>
                  <a:lnTo>
                    <a:pt x="2834" y="103"/>
                  </a:lnTo>
                  <a:lnTo>
                    <a:pt x="2857" y="100"/>
                  </a:lnTo>
                  <a:lnTo>
                    <a:pt x="2864" y="93"/>
                  </a:lnTo>
                  <a:lnTo>
                    <a:pt x="2875" y="89"/>
                  </a:lnTo>
                  <a:lnTo>
                    <a:pt x="2884" y="82"/>
                  </a:lnTo>
                  <a:lnTo>
                    <a:pt x="2887" y="74"/>
                  </a:lnTo>
                  <a:lnTo>
                    <a:pt x="2893" y="69"/>
                  </a:lnTo>
                  <a:lnTo>
                    <a:pt x="2898" y="63"/>
                  </a:lnTo>
                  <a:lnTo>
                    <a:pt x="2902" y="55"/>
                  </a:lnTo>
                  <a:lnTo>
                    <a:pt x="2900" y="47"/>
                  </a:lnTo>
                  <a:lnTo>
                    <a:pt x="2920" y="38"/>
                  </a:lnTo>
                  <a:lnTo>
                    <a:pt x="2938" y="30"/>
                  </a:lnTo>
                  <a:lnTo>
                    <a:pt x="2955" y="20"/>
                  </a:lnTo>
                  <a:lnTo>
                    <a:pt x="2973" y="12"/>
                  </a:lnTo>
                  <a:lnTo>
                    <a:pt x="2993" y="6"/>
                  </a:lnTo>
                  <a:lnTo>
                    <a:pt x="3013" y="1"/>
                  </a:lnTo>
                  <a:lnTo>
                    <a:pt x="3033" y="0"/>
                  </a:lnTo>
                  <a:lnTo>
                    <a:pt x="3056" y="0"/>
                  </a:lnTo>
                  <a:lnTo>
                    <a:pt x="3077" y="5"/>
                  </a:lnTo>
                  <a:lnTo>
                    <a:pt x="3102" y="6"/>
                  </a:lnTo>
                  <a:lnTo>
                    <a:pt x="3129" y="8"/>
                  </a:lnTo>
                  <a:lnTo>
                    <a:pt x="3154" y="11"/>
                  </a:lnTo>
                  <a:lnTo>
                    <a:pt x="3178" y="16"/>
                  </a:lnTo>
                  <a:lnTo>
                    <a:pt x="3199" y="24"/>
                  </a:lnTo>
                  <a:lnTo>
                    <a:pt x="3215" y="36"/>
                  </a:lnTo>
                  <a:lnTo>
                    <a:pt x="3228" y="55"/>
                  </a:lnTo>
                  <a:lnTo>
                    <a:pt x="3235" y="62"/>
                  </a:lnTo>
                  <a:lnTo>
                    <a:pt x="3240" y="68"/>
                  </a:lnTo>
                  <a:lnTo>
                    <a:pt x="3244" y="76"/>
                  </a:lnTo>
                  <a:lnTo>
                    <a:pt x="3249" y="84"/>
                  </a:lnTo>
                  <a:lnTo>
                    <a:pt x="3258" y="89"/>
                  </a:lnTo>
                  <a:lnTo>
                    <a:pt x="3269" y="95"/>
                  </a:lnTo>
                  <a:lnTo>
                    <a:pt x="3280" y="101"/>
                  </a:lnTo>
                  <a:lnTo>
                    <a:pt x="3289" y="108"/>
                  </a:lnTo>
                  <a:lnTo>
                    <a:pt x="3298" y="115"/>
                  </a:lnTo>
                  <a:lnTo>
                    <a:pt x="3307" y="122"/>
                  </a:lnTo>
                  <a:lnTo>
                    <a:pt x="3312" y="130"/>
                  </a:lnTo>
                  <a:lnTo>
                    <a:pt x="3318" y="138"/>
                  </a:lnTo>
                  <a:lnTo>
                    <a:pt x="3328" y="152"/>
                  </a:lnTo>
                  <a:lnTo>
                    <a:pt x="3337" y="169"/>
                  </a:lnTo>
                  <a:lnTo>
                    <a:pt x="3343" y="187"/>
                  </a:lnTo>
                  <a:lnTo>
                    <a:pt x="3344" y="206"/>
                  </a:lnTo>
                  <a:lnTo>
                    <a:pt x="3339" y="217"/>
                  </a:lnTo>
                  <a:lnTo>
                    <a:pt x="3334" y="226"/>
                  </a:lnTo>
                  <a:lnTo>
                    <a:pt x="3327" y="234"/>
                  </a:lnTo>
                  <a:lnTo>
                    <a:pt x="3318" y="242"/>
                  </a:lnTo>
                  <a:lnTo>
                    <a:pt x="3309" y="249"/>
                  </a:lnTo>
                  <a:lnTo>
                    <a:pt x="3298" y="255"/>
                  </a:lnTo>
                  <a:lnTo>
                    <a:pt x="3287" y="260"/>
                  </a:lnTo>
                  <a:lnTo>
                    <a:pt x="3275" y="264"/>
                  </a:lnTo>
                  <a:lnTo>
                    <a:pt x="3275" y="303"/>
                  </a:lnTo>
                  <a:lnTo>
                    <a:pt x="3266" y="303"/>
                  </a:lnTo>
                  <a:lnTo>
                    <a:pt x="3257" y="304"/>
                  </a:lnTo>
                  <a:lnTo>
                    <a:pt x="3248" y="306"/>
                  </a:lnTo>
                  <a:lnTo>
                    <a:pt x="3237" y="310"/>
                  </a:lnTo>
                  <a:lnTo>
                    <a:pt x="3244" y="329"/>
                  </a:lnTo>
                  <a:lnTo>
                    <a:pt x="3242" y="348"/>
                  </a:lnTo>
                  <a:lnTo>
                    <a:pt x="3239" y="367"/>
                  </a:lnTo>
                  <a:lnTo>
                    <a:pt x="3242" y="387"/>
                  </a:lnTo>
                  <a:lnTo>
                    <a:pt x="3237" y="393"/>
                  </a:lnTo>
                  <a:lnTo>
                    <a:pt x="3230" y="396"/>
                  </a:lnTo>
                  <a:lnTo>
                    <a:pt x="3221" y="396"/>
                  </a:lnTo>
                  <a:lnTo>
                    <a:pt x="3212" y="396"/>
                  </a:lnTo>
                  <a:lnTo>
                    <a:pt x="3203" y="398"/>
                  </a:lnTo>
                  <a:lnTo>
                    <a:pt x="3199" y="401"/>
                  </a:lnTo>
                  <a:lnTo>
                    <a:pt x="3196" y="407"/>
                  </a:lnTo>
                  <a:lnTo>
                    <a:pt x="3199" y="418"/>
                  </a:lnTo>
                  <a:lnTo>
                    <a:pt x="3210" y="425"/>
                  </a:lnTo>
                  <a:lnTo>
                    <a:pt x="3219" y="432"/>
                  </a:lnTo>
                  <a:lnTo>
                    <a:pt x="3224" y="440"/>
                  </a:lnTo>
                  <a:lnTo>
                    <a:pt x="3224" y="451"/>
                  </a:lnTo>
                  <a:lnTo>
                    <a:pt x="3230" y="458"/>
                  </a:lnTo>
                  <a:lnTo>
                    <a:pt x="3232" y="466"/>
                  </a:lnTo>
                  <a:lnTo>
                    <a:pt x="3232" y="475"/>
                  </a:lnTo>
                  <a:lnTo>
                    <a:pt x="3232" y="483"/>
                  </a:lnTo>
                  <a:lnTo>
                    <a:pt x="3223" y="497"/>
                  </a:lnTo>
                  <a:lnTo>
                    <a:pt x="3217" y="515"/>
                  </a:lnTo>
                  <a:lnTo>
                    <a:pt x="3208" y="531"/>
                  </a:lnTo>
                  <a:lnTo>
                    <a:pt x="3188" y="539"/>
                  </a:lnTo>
                  <a:lnTo>
                    <a:pt x="3187" y="545"/>
                  </a:lnTo>
                  <a:lnTo>
                    <a:pt x="3183" y="548"/>
                  </a:lnTo>
                  <a:lnTo>
                    <a:pt x="3178" y="551"/>
                  </a:lnTo>
                  <a:lnTo>
                    <a:pt x="3174" y="555"/>
                  </a:lnTo>
                  <a:lnTo>
                    <a:pt x="3163" y="553"/>
                  </a:lnTo>
                  <a:lnTo>
                    <a:pt x="3154" y="553"/>
                  </a:lnTo>
                  <a:lnTo>
                    <a:pt x="3145" y="555"/>
                  </a:lnTo>
                  <a:lnTo>
                    <a:pt x="3137" y="562"/>
                  </a:lnTo>
                  <a:lnTo>
                    <a:pt x="3128" y="558"/>
                  </a:lnTo>
                  <a:lnTo>
                    <a:pt x="3120" y="550"/>
                  </a:lnTo>
                  <a:lnTo>
                    <a:pt x="3111" y="545"/>
                  </a:lnTo>
                  <a:lnTo>
                    <a:pt x="3102" y="545"/>
                  </a:lnTo>
                  <a:lnTo>
                    <a:pt x="3101" y="547"/>
                  </a:lnTo>
                  <a:lnTo>
                    <a:pt x="3099" y="548"/>
                  </a:lnTo>
                  <a:lnTo>
                    <a:pt x="3099" y="551"/>
                  </a:lnTo>
                  <a:lnTo>
                    <a:pt x="3099" y="553"/>
                  </a:lnTo>
                  <a:lnTo>
                    <a:pt x="3093" y="553"/>
                  </a:lnTo>
                  <a:lnTo>
                    <a:pt x="3088" y="551"/>
                  </a:lnTo>
                  <a:lnTo>
                    <a:pt x="3085" y="548"/>
                  </a:lnTo>
                  <a:lnTo>
                    <a:pt x="3083" y="545"/>
                  </a:lnTo>
                  <a:lnTo>
                    <a:pt x="3072" y="543"/>
                  </a:lnTo>
                  <a:lnTo>
                    <a:pt x="3063" y="542"/>
                  </a:lnTo>
                  <a:lnTo>
                    <a:pt x="3056" y="542"/>
                  </a:lnTo>
                  <a:lnTo>
                    <a:pt x="3049" y="543"/>
                  </a:lnTo>
                  <a:lnTo>
                    <a:pt x="3054" y="550"/>
                  </a:lnTo>
                  <a:lnTo>
                    <a:pt x="3061" y="555"/>
                  </a:lnTo>
                  <a:lnTo>
                    <a:pt x="3068" y="559"/>
                  </a:lnTo>
                  <a:lnTo>
                    <a:pt x="3074" y="569"/>
                  </a:lnTo>
                  <a:lnTo>
                    <a:pt x="3059" y="583"/>
                  </a:lnTo>
                  <a:lnTo>
                    <a:pt x="3079" y="597"/>
                  </a:lnTo>
                  <a:lnTo>
                    <a:pt x="3101" y="610"/>
                  </a:lnTo>
                  <a:lnTo>
                    <a:pt x="3122" y="621"/>
                  </a:lnTo>
                  <a:lnTo>
                    <a:pt x="3144" y="634"/>
                  </a:lnTo>
                  <a:lnTo>
                    <a:pt x="3163" y="645"/>
                  </a:lnTo>
                  <a:lnTo>
                    <a:pt x="3185" y="658"/>
                  </a:lnTo>
                  <a:lnTo>
                    <a:pt x="3205" y="670"/>
                  </a:lnTo>
                  <a:lnTo>
                    <a:pt x="3223" y="685"/>
                  </a:lnTo>
                  <a:lnTo>
                    <a:pt x="3240" y="702"/>
                  </a:lnTo>
                  <a:lnTo>
                    <a:pt x="3244" y="729"/>
                  </a:lnTo>
                  <a:lnTo>
                    <a:pt x="3242" y="756"/>
                  </a:lnTo>
                  <a:lnTo>
                    <a:pt x="3242" y="778"/>
                  </a:lnTo>
                  <a:lnTo>
                    <a:pt x="3239" y="789"/>
                  </a:lnTo>
                  <a:lnTo>
                    <a:pt x="3237" y="800"/>
                  </a:lnTo>
                  <a:lnTo>
                    <a:pt x="3233" y="811"/>
                  </a:lnTo>
                  <a:lnTo>
                    <a:pt x="3224" y="821"/>
                  </a:lnTo>
                  <a:lnTo>
                    <a:pt x="3224" y="840"/>
                  </a:lnTo>
                  <a:lnTo>
                    <a:pt x="3223" y="856"/>
                  </a:lnTo>
                  <a:lnTo>
                    <a:pt x="3219" y="872"/>
                  </a:lnTo>
                  <a:lnTo>
                    <a:pt x="3212" y="887"/>
                  </a:lnTo>
                  <a:lnTo>
                    <a:pt x="3201" y="900"/>
                  </a:lnTo>
                  <a:lnTo>
                    <a:pt x="3190" y="911"/>
                  </a:lnTo>
                  <a:lnTo>
                    <a:pt x="3174" y="922"/>
                  </a:lnTo>
                  <a:lnTo>
                    <a:pt x="3158" y="930"/>
                  </a:lnTo>
                  <a:lnTo>
                    <a:pt x="3149" y="937"/>
                  </a:lnTo>
                  <a:lnTo>
                    <a:pt x="3138" y="944"/>
                  </a:lnTo>
                  <a:lnTo>
                    <a:pt x="3131" y="954"/>
                  </a:lnTo>
                  <a:lnTo>
                    <a:pt x="3124" y="963"/>
                  </a:lnTo>
                  <a:lnTo>
                    <a:pt x="3119" y="976"/>
                  </a:lnTo>
                  <a:lnTo>
                    <a:pt x="3108" y="986"/>
                  </a:lnTo>
                  <a:lnTo>
                    <a:pt x="3097" y="995"/>
                  </a:lnTo>
                  <a:lnTo>
                    <a:pt x="3093" y="1006"/>
                  </a:lnTo>
                  <a:lnTo>
                    <a:pt x="3077" y="1021"/>
                  </a:lnTo>
                  <a:lnTo>
                    <a:pt x="3059" y="1033"/>
                  </a:lnTo>
                  <a:lnTo>
                    <a:pt x="3043" y="1044"/>
                  </a:lnTo>
                  <a:lnTo>
                    <a:pt x="3025" y="1054"/>
                  </a:lnTo>
                  <a:lnTo>
                    <a:pt x="3007" y="1065"/>
                  </a:lnTo>
                  <a:lnTo>
                    <a:pt x="2990" y="1074"/>
                  </a:lnTo>
                  <a:lnTo>
                    <a:pt x="2973" y="1087"/>
                  </a:lnTo>
                  <a:lnTo>
                    <a:pt x="2955" y="1103"/>
                  </a:lnTo>
                  <a:lnTo>
                    <a:pt x="2950" y="1120"/>
                  </a:lnTo>
                  <a:lnTo>
                    <a:pt x="2947" y="1139"/>
                  </a:lnTo>
                  <a:lnTo>
                    <a:pt x="2943" y="1157"/>
                  </a:lnTo>
                  <a:lnTo>
                    <a:pt x="2938" y="1173"/>
                  </a:lnTo>
                  <a:lnTo>
                    <a:pt x="2939" y="1181"/>
                  </a:lnTo>
                  <a:lnTo>
                    <a:pt x="2934" y="1190"/>
                  </a:lnTo>
                  <a:lnTo>
                    <a:pt x="2929" y="1200"/>
                  </a:lnTo>
                  <a:lnTo>
                    <a:pt x="2923" y="1209"/>
                  </a:lnTo>
                  <a:lnTo>
                    <a:pt x="2907" y="1222"/>
                  </a:lnTo>
                  <a:lnTo>
                    <a:pt x="2891" y="1236"/>
                  </a:lnTo>
                  <a:lnTo>
                    <a:pt x="2880" y="1254"/>
                  </a:lnTo>
                  <a:lnTo>
                    <a:pt x="2878" y="1273"/>
                  </a:lnTo>
                  <a:lnTo>
                    <a:pt x="2880" y="1285"/>
                  </a:lnTo>
                  <a:lnTo>
                    <a:pt x="2884" y="1301"/>
                  </a:lnTo>
                  <a:lnTo>
                    <a:pt x="2886" y="1319"/>
                  </a:lnTo>
                  <a:lnTo>
                    <a:pt x="2889" y="1331"/>
                  </a:lnTo>
                  <a:lnTo>
                    <a:pt x="2886" y="1345"/>
                  </a:lnTo>
                  <a:lnTo>
                    <a:pt x="2893" y="1358"/>
                  </a:lnTo>
                  <a:lnTo>
                    <a:pt x="2900" y="1371"/>
                  </a:lnTo>
                  <a:lnTo>
                    <a:pt x="2898" y="1385"/>
                  </a:lnTo>
                  <a:lnTo>
                    <a:pt x="2905" y="1403"/>
                  </a:lnTo>
                  <a:lnTo>
                    <a:pt x="2903" y="1420"/>
                  </a:lnTo>
                  <a:lnTo>
                    <a:pt x="2896" y="1439"/>
                  </a:lnTo>
                  <a:lnTo>
                    <a:pt x="2893" y="1456"/>
                  </a:lnTo>
                  <a:lnTo>
                    <a:pt x="2887" y="1482"/>
                  </a:lnTo>
                  <a:lnTo>
                    <a:pt x="2882" y="1507"/>
                  </a:lnTo>
                  <a:lnTo>
                    <a:pt x="2877" y="1534"/>
                  </a:lnTo>
                  <a:lnTo>
                    <a:pt x="2873" y="1559"/>
                  </a:lnTo>
                  <a:lnTo>
                    <a:pt x="2878" y="1564"/>
                  </a:lnTo>
                  <a:lnTo>
                    <a:pt x="2877" y="1567"/>
                  </a:lnTo>
                  <a:lnTo>
                    <a:pt x="2873" y="1574"/>
                  </a:lnTo>
                  <a:lnTo>
                    <a:pt x="2875" y="1580"/>
                  </a:lnTo>
                  <a:lnTo>
                    <a:pt x="2878" y="1590"/>
                  </a:lnTo>
                  <a:lnTo>
                    <a:pt x="2877" y="1597"/>
                  </a:lnTo>
                  <a:lnTo>
                    <a:pt x="2873" y="1607"/>
                  </a:lnTo>
                  <a:lnTo>
                    <a:pt x="2866" y="1613"/>
                  </a:lnTo>
                  <a:lnTo>
                    <a:pt x="2853" y="1624"/>
                  </a:lnTo>
                  <a:lnTo>
                    <a:pt x="2841" y="1634"/>
                  </a:lnTo>
                  <a:lnTo>
                    <a:pt x="2826" y="1645"/>
                  </a:lnTo>
                  <a:lnTo>
                    <a:pt x="2816" y="1658"/>
                  </a:lnTo>
                  <a:lnTo>
                    <a:pt x="2807" y="1670"/>
                  </a:lnTo>
                  <a:lnTo>
                    <a:pt x="2800" y="1686"/>
                  </a:lnTo>
                  <a:lnTo>
                    <a:pt x="2796" y="1704"/>
                  </a:lnTo>
                  <a:lnTo>
                    <a:pt x="2798" y="1724"/>
                  </a:lnTo>
                  <a:lnTo>
                    <a:pt x="2794" y="1724"/>
                  </a:lnTo>
                  <a:lnTo>
                    <a:pt x="2796" y="1745"/>
                  </a:lnTo>
                  <a:lnTo>
                    <a:pt x="2801" y="1767"/>
                  </a:lnTo>
                  <a:lnTo>
                    <a:pt x="2805" y="1789"/>
                  </a:lnTo>
                  <a:lnTo>
                    <a:pt x="2800" y="1815"/>
                  </a:lnTo>
                  <a:lnTo>
                    <a:pt x="2800" y="1823"/>
                  </a:lnTo>
                  <a:lnTo>
                    <a:pt x="2800" y="1832"/>
                  </a:lnTo>
                  <a:lnTo>
                    <a:pt x="2798" y="1843"/>
                  </a:lnTo>
                  <a:lnTo>
                    <a:pt x="2798" y="1856"/>
                  </a:lnTo>
                  <a:lnTo>
                    <a:pt x="2792" y="1864"/>
                  </a:lnTo>
                  <a:lnTo>
                    <a:pt x="2789" y="1892"/>
                  </a:lnTo>
                  <a:lnTo>
                    <a:pt x="2787" y="1918"/>
                  </a:lnTo>
                  <a:lnTo>
                    <a:pt x="2785" y="1943"/>
                  </a:lnTo>
                  <a:lnTo>
                    <a:pt x="2774" y="1970"/>
                  </a:lnTo>
                  <a:lnTo>
                    <a:pt x="2774" y="1986"/>
                  </a:lnTo>
                  <a:lnTo>
                    <a:pt x="2780" y="2005"/>
                  </a:lnTo>
                  <a:lnTo>
                    <a:pt x="2783" y="2024"/>
                  </a:lnTo>
                  <a:lnTo>
                    <a:pt x="2785" y="2044"/>
                  </a:lnTo>
                  <a:lnTo>
                    <a:pt x="2796" y="2052"/>
                  </a:lnTo>
                  <a:lnTo>
                    <a:pt x="2810" y="2060"/>
                  </a:lnTo>
                  <a:lnTo>
                    <a:pt x="2825" y="2067"/>
                  </a:lnTo>
                  <a:lnTo>
                    <a:pt x="2837" y="2073"/>
                  </a:lnTo>
                  <a:lnTo>
                    <a:pt x="2846" y="2071"/>
                  </a:lnTo>
                  <a:lnTo>
                    <a:pt x="2853" y="2073"/>
                  </a:lnTo>
                  <a:lnTo>
                    <a:pt x="2860" y="2076"/>
                  </a:lnTo>
                  <a:lnTo>
                    <a:pt x="2868" y="2081"/>
                  </a:lnTo>
                  <a:lnTo>
                    <a:pt x="2875" y="2086"/>
                  </a:lnTo>
                  <a:lnTo>
                    <a:pt x="2882" y="2089"/>
                  </a:lnTo>
                  <a:lnTo>
                    <a:pt x="2889" y="2090"/>
                  </a:lnTo>
                  <a:lnTo>
                    <a:pt x="2898" y="2090"/>
                  </a:lnTo>
                  <a:lnTo>
                    <a:pt x="2927" y="2102"/>
                  </a:lnTo>
                  <a:lnTo>
                    <a:pt x="2955" y="2113"/>
                  </a:lnTo>
                  <a:lnTo>
                    <a:pt x="2986" y="2124"/>
                  </a:lnTo>
                  <a:lnTo>
                    <a:pt x="3016" y="2135"/>
                  </a:lnTo>
                  <a:lnTo>
                    <a:pt x="3045" y="2146"/>
                  </a:lnTo>
                  <a:lnTo>
                    <a:pt x="3077" y="2157"/>
                  </a:lnTo>
                  <a:lnTo>
                    <a:pt x="3108" y="2167"/>
                  </a:lnTo>
                  <a:lnTo>
                    <a:pt x="3138" y="2178"/>
                  </a:lnTo>
                  <a:lnTo>
                    <a:pt x="3160" y="2176"/>
                  </a:lnTo>
                  <a:lnTo>
                    <a:pt x="3181" y="2178"/>
                  </a:lnTo>
                  <a:lnTo>
                    <a:pt x="3201" y="2182"/>
                  </a:lnTo>
                  <a:lnTo>
                    <a:pt x="3221" y="2190"/>
                  </a:lnTo>
                  <a:lnTo>
                    <a:pt x="3239" y="2200"/>
                  </a:lnTo>
                  <a:lnTo>
                    <a:pt x="3257" y="2211"/>
                  </a:lnTo>
                  <a:lnTo>
                    <a:pt x="3273" y="2222"/>
                  </a:lnTo>
                  <a:lnTo>
                    <a:pt x="3287" y="2233"/>
                  </a:lnTo>
                  <a:lnTo>
                    <a:pt x="3292" y="2246"/>
                  </a:lnTo>
                  <a:lnTo>
                    <a:pt x="3296" y="2258"/>
                  </a:lnTo>
                  <a:lnTo>
                    <a:pt x="3301" y="2271"/>
                  </a:lnTo>
                  <a:lnTo>
                    <a:pt x="3310" y="2281"/>
                  </a:lnTo>
                  <a:lnTo>
                    <a:pt x="3337" y="2285"/>
                  </a:lnTo>
                  <a:lnTo>
                    <a:pt x="3337" y="2298"/>
                  </a:lnTo>
                  <a:lnTo>
                    <a:pt x="3339" y="2306"/>
                  </a:lnTo>
                  <a:lnTo>
                    <a:pt x="3344" y="2309"/>
                  </a:lnTo>
                  <a:lnTo>
                    <a:pt x="3357" y="2314"/>
                  </a:lnTo>
                  <a:lnTo>
                    <a:pt x="3361" y="2322"/>
                  </a:lnTo>
                  <a:lnTo>
                    <a:pt x="3366" y="2333"/>
                  </a:lnTo>
                  <a:lnTo>
                    <a:pt x="3373" y="2341"/>
                  </a:lnTo>
                  <a:lnTo>
                    <a:pt x="3386" y="2344"/>
                  </a:lnTo>
                  <a:lnTo>
                    <a:pt x="3387" y="2344"/>
                  </a:lnTo>
                  <a:lnTo>
                    <a:pt x="3393" y="2342"/>
                  </a:lnTo>
                  <a:lnTo>
                    <a:pt x="3395" y="2339"/>
                  </a:lnTo>
                  <a:lnTo>
                    <a:pt x="3395" y="2336"/>
                  </a:lnTo>
                  <a:lnTo>
                    <a:pt x="3387" y="2330"/>
                  </a:lnTo>
                  <a:lnTo>
                    <a:pt x="3380" y="2323"/>
                  </a:lnTo>
                  <a:lnTo>
                    <a:pt x="3375" y="2317"/>
                  </a:lnTo>
                  <a:lnTo>
                    <a:pt x="3377" y="2304"/>
                  </a:lnTo>
                  <a:lnTo>
                    <a:pt x="3386" y="2297"/>
                  </a:lnTo>
                  <a:lnTo>
                    <a:pt x="3398" y="2295"/>
                  </a:lnTo>
                  <a:lnTo>
                    <a:pt x="3413" y="2298"/>
                  </a:lnTo>
                  <a:lnTo>
                    <a:pt x="3425" y="2301"/>
                  </a:lnTo>
                  <a:lnTo>
                    <a:pt x="3430" y="2309"/>
                  </a:lnTo>
                  <a:lnTo>
                    <a:pt x="3436" y="2317"/>
                  </a:lnTo>
                  <a:lnTo>
                    <a:pt x="3441" y="2327"/>
                  </a:lnTo>
                  <a:lnTo>
                    <a:pt x="3441" y="2335"/>
                  </a:lnTo>
                  <a:lnTo>
                    <a:pt x="3438" y="2338"/>
                  </a:lnTo>
                  <a:lnTo>
                    <a:pt x="3443" y="2344"/>
                  </a:lnTo>
                  <a:lnTo>
                    <a:pt x="3439" y="2352"/>
                  </a:lnTo>
                  <a:lnTo>
                    <a:pt x="3436" y="2360"/>
                  </a:lnTo>
                  <a:lnTo>
                    <a:pt x="3436" y="2368"/>
                  </a:lnTo>
                  <a:lnTo>
                    <a:pt x="3429" y="2369"/>
                  </a:lnTo>
                  <a:lnTo>
                    <a:pt x="3430" y="2381"/>
                  </a:lnTo>
                  <a:lnTo>
                    <a:pt x="3429" y="2376"/>
                  </a:lnTo>
                  <a:lnTo>
                    <a:pt x="3423" y="2376"/>
                  </a:lnTo>
                  <a:lnTo>
                    <a:pt x="3416" y="2377"/>
                  </a:lnTo>
                  <a:lnTo>
                    <a:pt x="3409" y="2374"/>
                  </a:lnTo>
                  <a:lnTo>
                    <a:pt x="3409" y="2373"/>
                  </a:lnTo>
                  <a:lnTo>
                    <a:pt x="3402" y="2371"/>
                  </a:lnTo>
                  <a:lnTo>
                    <a:pt x="3400" y="2376"/>
                  </a:lnTo>
                  <a:lnTo>
                    <a:pt x="3400" y="2382"/>
                  </a:lnTo>
                  <a:lnTo>
                    <a:pt x="3396" y="2385"/>
                  </a:lnTo>
                  <a:lnTo>
                    <a:pt x="3382" y="2384"/>
                  </a:lnTo>
                  <a:lnTo>
                    <a:pt x="3370" y="2382"/>
                  </a:lnTo>
                  <a:lnTo>
                    <a:pt x="3359" y="2377"/>
                  </a:lnTo>
                  <a:lnTo>
                    <a:pt x="3350" y="2369"/>
                  </a:lnTo>
                  <a:lnTo>
                    <a:pt x="3346" y="2363"/>
                  </a:lnTo>
                  <a:lnTo>
                    <a:pt x="3343" y="2355"/>
                  </a:lnTo>
                  <a:lnTo>
                    <a:pt x="3339" y="2344"/>
                  </a:lnTo>
                  <a:lnTo>
                    <a:pt x="3339" y="2331"/>
                  </a:lnTo>
                  <a:lnTo>
                    <a:pt x="3328" y="2331"/>
                  </a:lnTo>
                  <a:lnTo>
                    <a:pt x="3318" y="2335"/>
                  </a:lnTo>
                  <a:lnTo>
                    <a:pt x="3307" y="2338"/>
                  </a:lnTo>
                  <a:lnTo>
                    <a:pt x="3296" y="2335"/>
                  </a:lnTo>
                  <a:lnTo>
                    <a:pt x="3296" y="2323"/>
                  </a:lnTo>
                  <a:lnTo>
                    <a:pt x="3298" y="2323"/>
                  </a:lnTo>
                  <a:lnTo>
                    <a:pt x="3300" y="2323"/>
                  </a:lnTo>
                  <a:lnTo>
                    <a:pt x="3300" y="2322"/>
                  </a:lnTo>
                  <a:lnTo>
                    <a:pt x="3301" y="2320"/>
                  </a:lnTo>
                  <a:lnTo>
                    <a:pt x="3296" y="2317"/>
                  </a:lnTo>
                  <a:lnTo>
                    <a:pt x="3292" y="2320"/>
                  </a:lnTo>
                  <a:lnTo>
                    <a:pt x="3287" y="2323"/>
                  </a:lnTo>
                  <a:lnTo>
                    <a:pt x="3284" y="2325"/>
                  </a:lnTo>
                  <a:lnTo>
                    <a:pt x="3278" y="2336"/>
                  </a:lnTo>
                  <a:lnTo>
                    <a:pt x="3267" y="2342"/>
                  </a:lnTo>
                  <a:lnTo>
                    <a:pt x="3253" y="2347"/>
                  </a:lnTo>
                  <a:lnTo>
                    <a:pt x="3240" y="2350"/>
                  </a:lnTo>
                  <a:lnTo>
                    <a:pt x="3205" y="2349"/>
                  </a:lnTo>
                  <a:lnTo>
                    <a:pt x="3176" y="2342"/>
                  </a:lnTo>
                  <a:lnTo>
                    <a:pt x="3149" y="2331"/>
                  </a:lnTo>
                  <a:lnTo>
                    <a:pt x="3124" y="2319"/>
                  </a:lnTo>
                  <a:lnTo>
                    <a:pt x="3099" y="2304"/>
                  </a:lnTo>
                  <a:lnTo>
                    <a:pt x="3074" y="2290"/>
                  </a:lnTo>
                  <a:lnTo>
                    <a:pt x="3045" y="2277"/>
                  </a:lnTo>
                  <a:lnTo>
                    <a:pt x="3013" y="2270"/>
                  </a:lnTo>
                  <a:lnTo>
                    <a:pt x="3007" y="2265"/>
                  </a:lnTo>
                  <a:lnTo>
                    <a:pt x="3000" y="2260"/>
                  </a:lnTo>
                  <a:lnTo>
                    <a:pt x="2993" y="2258"/>
                  </a:lnTo>
                  <a:lnTo>
                    <a:pt x="2986" y="2257"/>
                  </a:lnTo>
                  <a:lnTo>
                    <a:pt x="2979" y="2255"/>
                  </a:lnTo>
                  <a:lnTo>
                    <a:pt x="2970" y="2255"/>
                  </a:lnTo>
                  <a:lnTo>
                    <a:pt x="2963" y="2255"/>
                  </a:lnTo>
                  <a:lnTo>
                    <a:pt x="2955" y="2254"/>
                  </a:lnTo>
                  <a:lnTo>
                    <a:pt x="2966" y="2273"/>
                  </a:lnTo>
                  <a:lnTo>
                    <a:pt x="2975" y="2290"/>
                  </a:lnTo>
                  <a:lnTo>
                    <a:pt x="2984" y="2311"/>
                  </a:lnTo>
                  <a:lnTo>
                    <a:pt x="2991" y="2330"/>
                  </a:lnTo>
                  <a:lnTo>
                    <a:pt x="2997" y="2350"/>
                  </a:lnTo>
                  <a:lnTo>
                    <a:pt x="3006" y="2371"/>
                  </a:lnTo>
                  <a:lnTo>
                    <a:pt x="3015" y="2392"/>
                  </a:lnTo>
                  <a:lnTo>
                    <a:pt x="3025" y="2412"/>
                  </a:lnTo>
                  <a:lnTo>
                    <a:pt x="3029" y="2423"/>
                  </a:lnTo>
                  <a:lnTo>
                    <a:pt x="3034" y="2436"/>
                  </a:lnTo>
                  <a:lnTo>
                    <a:pt x="3040" y="2445"/>
                  </a:lnTo>
                  <a:lnTo>
                    <a:pt x="3049" y="2455"/>
                  </a:lnTo>
                  <a:lnTo>
                    <a:pt x="3058" y="2476"/>
                  </a:lnTo>
                  <a:lnTo>
                    <a:pt x="3065" y="2496"/>
                  </a:lnTo>
                  <a:lnTo>
                    <a:pt x="3072" y="2518"/>
                  </a:lnTo>
                  <a:lnTo>
                    <a:pt x="3077" y="2541"/>
                  </a:lnTo>
                  <a:lnTo>
                    <a:pt x="3085" y="2564"/>
                  </a:lnTo>
                  <a:lnTo>
                    <a:pt x="3090" y="2587"/>
                  </a:lnTo>
                  <a:lnTo>
                    <a:pt x="3097" y="2610"/>
                  </a:lnTo>
                  <a:lnTo>
                    <a:pt x="3106" y="2633"/>
                  </a:lnTo>
                  <a:lnTo>
                    <a:pt x="3106" y="2640"/>
                  </a:lnTo>
                  <a:lnTo>
                    <a:pt x="3106" y="2647"/>
                  </a:lnTo>
                  <a:lnTo>
                    <a:pt x="3106" y="2653"/>
                  </a:lnTo>
                  <a:lnTo>
                    <a:pt x="3111" y="2658"/>
                  </a:lnTo>
                  <a:lnTo>
                    <a:pt x="3111" y="2675"/>
                  </a:lnTo>
                  <a:lnTo>
                    <a:pt x="3110" y="2693"/>
                  </a:lnTo>
                  <a:lnTo>
                    <a:pt x="3108" y="2709"/>
                  </a:lnTo>
                  <a:lnTo>
                    <a:pt x="3111" y="2724"/>
                  </a:lnTo>
                  <a:lnTo>
                    <a:pt x="3119" y="2739"/>
                  </a:lnTo>
                  <a:lnTo>
                    <a:pt x="3129" y="2751"/>
                  </a:lnTo>
                  <a:lnTo>
                    <a:pt x="3140" y="2764"/>
                  </a:lnTo>
                  <a:lnTo>
                    <a:pt x="3151" y="2775"/>
                  </a:lnTo>
                  <a:lnTo>
                    <a:pt x="3160" y="2788"/>
                  </a:lnTo>
                  <a:lnTo>
                    <a:pt x="3167" y="2801"/>
                  </a:lnTo>
                  <a:lnTo>
                    <a:pt x="3172" y="2815"/>
                  </a:lnTo>
                  <a:lnTo>
                    <a:pt x="3174" y="2831"/>
                  </a:lnTo>
                  <a:lnTo>
                    <a:pt x="3163" y="2839"/>
                  </a:lnTo>
                  <a:lnTo>
                    <a:pt x="3160" y="2850"/>
                  </a:lnTo>
                  <a:lnTo>
                    <a:pt x="3153" y="2861"/>
                  </a:lnTo>
                  <a:lnTo>
                    <a:pt x="3140" y="2866"/>
                  </a:lnTo>
                  <a:lnTo>
                    <a:pt x="3142" y="2869"/>
                  </a:lnTo>
                  <a:lnTo>
                    <a:pt x="3144" y="2872"/>
                  </a:lnTo>
                  <a:lnTo>
                    <a:pt x="3145" y="2873"/>
                  </a:lnTo>
                  <a:lnTo>
                    <a:pt x="3145" y="2877"/>
                  </a:lnTo>
                  <a:lnTo>
                    <a:pt x="3124" y="2880"/>
                  </a:lnTo>
                  <a:lnTo>
                    <a:pt x="3133" y="2899"/>
                  </a:lnTo>
                  <a:lnTo>
                    <a:pt x="3145" y="2916"/>
                  </a:lnTo>
                  <a:lnTo>
                    <a:pt x="3160" y="2932"/>
                  </a:lnTo>
                  <a:lnTo>
                    <a:pt x="3171" y="2948"/>
                  </a:lnTo>
                  <a:lnTo>
                    <a:pt x="3181" y="2951"/>
                  </a:lnTo>
                  <a:lnTo>
                    <a:pt x="3190" y="2954"/>
                  </a:lnTo>
                  <a:lnTo>
                    <a:pt x="3203" y="2954"/>
                  </a:lnTo>
                  <a:lnTo>
                    <a:pt x="3214" y="2953"/>
                  </a:lnTo>
                  <a:lnTo>
                    <a:pt x="3224" y="2953"/>
                  </a:lnTo>
                  <a:lnTo>
                    <a:pt x="3235" y="2951"/>
                  </a:lnTo>
                  <a:lnTo>
                    <a:pt x="3246" y="2950"/>
                  </a:lnTo>
                  <a:lnTo>
                    <a:pt x="3255" y="2950"/>
                  </a:lnTo>
                  <a:lnTo>
                    <a:pt x="3255" y="2956"/>
                  </a:lnTo>
                  <a:lnTo>
                    <a:pt x="3248" y="2961"/>
                  </a:lnTo>
                  <a:lnTo>
                    <a:pt x="3239" y="2962"/>
                  </a:lnTo>
                  <a:lnTo>
                    <a:pt x="3232" y="2964"/>
                  </a:lnTo>
                  <a:lnTo>
                    <a:pt x="3244" y="2965"/>
                  </a:lnTo>
                  <a:lnTo>
                    <a:pt x="3260" y="2967"/>
                  </a:lnTo>
                  <a:lnTo>
                    <a:pt x="3275" y="2970"/>
                  </a:lnTo>
                  <a:lnTo>
                    <a:pt x="3284" y="2980"/>
                  </a:lnTo>
                  <a:lnTo>
                    <a:pt x="3292" y="2980"/>
                  </a:lnTo>
                  <a:lnTo>
                    <a:pt x="3301" y="2980"/>
                  </a:lnTo>
                  <a:lnTo>
                    <a:pt x="3309" y="2980"/>
                  </a:lnTo>
                  <a:lnTo>
                    <a:pt x="3318" y="2980"/>
                  </a:lnTo>
                  <a:lnTo>
                    <a:pt x="3325" y="2981"/>
                  </a:lnTo>
                  <a:lnTo>
                    <a:pt x="3332" y="2983"/>
                  </a:lnTo>
                  <a:lnTo>
                    <a:pt x="3339" y="2986"/>
                  </a:lnTo>
                  <a:lnTo>
                    <a:pt x="3344" y="2991"/>
                  </a:lnTo>
                  <a:lnTo>
                    <a:pt x="3341" y="2999"/>
                  </a:lnTo>
                  <a:lnTo>
                    <a:pt x="3334" y="3002"/>
                  </a:lnTo>
                  <a:lnTo>
                    <a:pt x="3323" y="3003"/>
                  </a:lnTo>
                  <a:lnTo>
                    <a:pt x="3314" y="3003"/>
                  </a:lnTo>
                  <a:lnTo>
                    <a:pt x="3314" y="2997"/>
                  </a:lnTo>
                  <a:lnTo>
                    <a:pt x="3280" y="2996"/>
                  </a:lnTo>
                  <a:lnTo>
                    <a:pt x="3246" y="2996"/>
                  </a:lnTo>
                  <a:lnTo>
                    <a:pt x="3210" y="2996"/>
                  </a:lnTo>
                  <a:lnTo>
                    <a:pt x="3174" y="2996"/>
                  </a:lnTo>
                  <a:lnTo>
                    <a:pt x="3140" y="2999"/>
                  </a:lnTo>
                  <a:lnTo>
                    <a:pt x="3108" y="3003"/>
                  </a:lnTo>
                  <a:lnTo>
                    <a:pt x="3076" y="3011"/>
                  </a:lnTo>
                  <a:lnTo>
                    <a:pt x="3045" y="3022"/>
                  </a:lnTo>
                  <a:lnTo>
                    <a:pt x="3029" y="3022"/>
                  </a:lnTo>
                  <a:lnTo>
                    <a:pt x="3011" y="3021"/>
                  </a:lnTo>
                  <a:lnTo>
                    <a:pt x="2993" y="3021"/>
                  </a:lnTo>
                  <a:lnTo>
                    <a:pt x="2977" y="3018"/>
                  </a:lnTo>
                  <a:lnTo>
                    <a:pt x="2961" y="3015"/>
                  </a:lnTo>
                  <a:lnTo>
                    <a:pt x="2947" y="3010"/>
                  </a:lnTo>
                  <a:lnTo>
                    <a:pt x="2932" y="3002"/>
                  </a:lnTo>
                  <a:lnTo>
                    <a:pt x="2920" y="2992"/>
                  </a:lnTo>
                  <a:lnTo>
                    <a:pt x="2918" y="2978"/>
                  </a:lnTo>
                  <a:lnTo>
                    <a:pt x="2914" y="2978"/>
                  </a:lnTo>
                  <a:lnTo>
                    <a:pt x="2914" y="2970"/>
                  </a:lnTo>
                  <a:lnTo>
                    <a:pt x="2911" y="2965"/>
                  </a:lnTo>
                  <a:lnTo>
                    <a:pt x="2905" y="2962"/>
                  </a:lnTo>
                  <a:lnTo>
                    <a:pt x="2898" y="2957"/>
                  </a:lnTo>
                  <a:lnTo>
                    <a:pt x="2903" y="2956"/>
                  </a:lnTo>
                  <a:lnTo>
                    <a:pt x="2907" y="2953"/>
                  </a:lnTo>
                  <a:lnTo>
                    <a:pt x="2909" y="2950"/>
                  </a:lnTo>
                  <a:lnTo>
                    <a:pt x="2914" y="2946"/>
                  </a:lnTo>
                  <a:lnTo>
                    <a:pt x="2914" y="2940"/>
                  </a:lnTo>
                  <a:lnTo>
                    <a:pt x="2900" y="2940"/>
                  </a:lnTo>
                  <a:lnTo>
                    <a:pt x="2887" y="2945"/>
                  </a:lnTo>
                  <a:lnTo>
                    <a:pt x="2877" y="2951"/>
                  </a:lnTo>
                  <a:lnTo>
                    <a:pt x="2868" y="2961"/>
                  </a:lnTo>
                  <a:lnTo>
                    <a:pt x="2859" y="2969"/>
                  </a:lnTo>
                  <a:lnTo>
                    <a:pt x="2850" y="2975"/>
                  </a:lnTo>
                  <a:lnTo>
                    <a:pt x="2839" y="2978"/>
                  </a:lnTo>
                  <a:lnTo>
                    <a:pt x="2825" y="2976"/>
                  </a:lnTo>
                  <a:lnTo>
                    <a:pt x="2814" y="2980"/>
                  </a:lnTo>
                  <a:lnTo>
                    <a:pt x="2805" y="2981"/>
                  </a:lnTo>
                  <a:lnTo>
                    <a:pt x="2796" y="2980"/>
                  </a:lnTo>
                  <a:lnTo>
                    <a:pt x="2789" y="2978"/>
                  </a:lnTo>
                  <a:lnTo>
                    <a:pt x="2780" y="2975"/>
                  </a:lnTo>
                  <a:lnTo>
                    <a:pt x="2771" y="2973"/>
                  </a:lnTo>
                  <a:lnTo>
                    <a:pt x="2762" y="2970"/>
                  </a:lnTo>
                  <a:lnTo>
                    <a:pt x="2753" y="2970"/>
                  </a:lnTo>
                  <a:lnTo>
                    <a:pt x="2749" y="2965"/>
                  </a:lnTo>
                  <a:lnTo>
                    <a:pt x="2749" y="2957"/>
                  </a:lnTo>
                  <a:lnTo>
                    <a:pt x="2751" y="2948"/>
                  </a:lnTo>
                  <a:lnTo>
                    <a:pt x="2756" y="2942"/>
                  </a:lnTo>
                  <a:lnTo>
                    <a:pt x="2748" y="2926"/>
                  </a:lnTo>
                  <a:lnTo>
                    <a:pt x="2737" y="2910"/>
                  </a:lnTo>
                  <a:lnTo>
                    <a:pt x="2730" y="2894"/>
                  </a:lnTo>
                  <a:lnTo>
                    <a:pt x="2730" y="2878"/>
                  </a:lnTo>
                  <a:lnTo>
                    <a:pt x="2728" y="2858"/>
                  </a:lnTo>
                  <a:lnTo>
                    <a:pt x="2728" y="2837"/>
                  </a:lnTo>
                  <a:lnTo>
                    <a:pt x="2733" y="2818"/>
                  </a:lnTo>
                  <a:lnTo>
                    <a:pt x="2737" y="2797"/>
                  </a:lnTo>
                  <a:lnTo>
                    <a:pt x="2731" y="2786"/>
                  </a:lnTo>
                  <a:lnTo>
                    <a:pt x="2733" y="2778"/>
                  </a:lnTo>
                  <a:lnTo>
                    <a:pt x="2737" y="2770"/>
                  </a:lnTo>
                  <a:lnTo>
                    <a:pt x="2737" y="2761"/>
                  </a:lnTo>
                  <a:lnTo>
                    <a:pt x="2744" y="2745"/>
                  </a:lnTo>
                  <a:lnTo>
                    <a:pt x="2748" y="2729"/>
                  </a:lnTo>
                  <a:lnTo>
                    <a:pt x="2746" y="2713"/>
                  </a:lnTo>
                  <a:lnTo>
                    <a:pt x="2742" y="2698"/>
                  </a:lnTo>
                  <a:lnTo>
                    <a:pt x="2742" y="2691"/>
                  </a:lnTo>
                  <a:lnTo>
                    <a:pt x="2742" y="2683"/>
                  </a:lnTo>
                  <a:lnTo>
                    <a:pt x="2742" y="2677"/>
                  </a:lnTo>
                  <a:lnTo>
                    <a:pt x="2737" y="2674"/>
                  </a:lnTo>
                  <a:lnTo>
                    <a:pt x="2737" y="2664"/>
                  </a:lnTo>
                  <a:lnTo>
                    <a:pt x="2737" y="2655"/>
                  </a:lnTo>
                  <a:lnTo>
                    <a:pt x="2737" y="2647"/>
                  </a:lnTo>
                  <a:lnTo>
                    <a:pt x="2731" y="2640"/>
                  </a:lnTo>
                  <a:lnTo>
                    <a:pt x="2726" y="2615"/>
                  </a:lnTo>
                  <a:lnTo>
                    <a:pt x="2719" y="2590"/>
                  </a:lnTo>
                  <a:lnTo>
                    <a:pt x="2708" y="2566"/>
                  </a:lnTo>
                  <a:lnTo>
                    <a:pt x="2699" y="2542"/>
                  </a:lnTo>
                  <a:lnTo>
                    <a:pt x="2690" y="2518"/>
                  </a:lnTo>
                  <a:lnTo>
                    <a:pt x="2681" y="2495"/>
                  </a:lnTo>
                  <a:lnTo>
                    <a:pt x="2676" y="2469"/>
                  </a:lnTo>
                  <a:lnTo>
                    <a:pt x="2672" y="2442"/>
                  </a:lnTo>
                  <a:lnTo>
                    <a:pt x="2669" y="2426"/>
                  </a:lnTo>
                  <a:lnTo>
                    <a:pt x="2665" y="2411"/>
                  </a:lnTo>
                  <a:lnTo>
                    <a:pt x="2660" y="2395"/>
                  </a:lnTo>
                  <a:lnTo>
                    <a:pt x="2656" y="2379"/>
                  </a:lnTo>
                  <a:lnTo>
                    <a:pt x="2658" y="2365"/>
                  </a:lnTo>
                  <a:lnTo>
                    <a:pt x="2656" y="2350"/>
                  </a:lnTo>
                  <a:lnTo>
                    <a:pt x="2653" y="2338"/>
                  </a:lnTo>
                  <a:lnTo>
                    <a:pt x="2644" y="2325"/>
                  </a:lnTo>
                  <a:lnTo>
                    <a:pt x="2635" y="2312"/>
                  </a:lnTo>
                  <a:lnTo>
                    <a:pt x="2624" y="2301"/>
                  </a:lnTo>
                  <a:lnTo>
                    <a:pt x="2613" y="2290"/>
                  </a:lnTo>
                  <a:lnTo>
                    <a:pt x="2602" y="2279"/>
                  </a:lnTo>
                  <a:lnTo>
                    <a:pt x="2583" y="2262"/>
                  </a:lnTo>
                  <a:lnTo>
                    <a:pt x="2566" y="2243"/>
                  </a:lnTo>
                  <a:lnTo>
                    <a:pt x="2552" y="2222"/>
                  </a:lnTo>
                  <a:lnTo>
                    <a:pt x="2540" y="2198"/>
                  </a:lnTo>
                  <a:lnTo>
                    <a:pt x="2527" y="2176"/>
                  </a:lnTo>
                  <a:lnTo>
                    <a:pt x="2515" y="2152"/>
                  </a:lnTo>
                  <a:lnTo>
                    <a:pt x="2500" y="2130"/>
                  </a:lnTo>
                  <a:lnTo>
                    <a:pt x="2486" y="2108"/>
                  </a:lnTo>
                  <a:lnTo>
                    <a:pt x="2484" y="2092"/>
                  </a:lnTo>
                  <a:lnTo>
                    <a:pt x="2463" y="2086"/>
                  </a:lnTo>
                  <a:lnTo>
                    <a:pt x="2443" y="2078"/>
                  </a:lnTo>
                  <a:lnTo>
                    <a:pt x="2423" y="2070"/>
                  </a:lnTo>
                  <a:lnTo>
                    <a:pt x="2403" y="2062"/>
                  </a:lnTo>
                  <a:lnTo>
                    <a:pt x="2385" y="2054"/>
                  </a:lnTo>
                  <a:lnTo>
                    <a:pt x="2368" y="2044"/>
                  </a:lnTo>
                  <a:lnTo>
                    <a:pt x="2350" y="2037"/>
                  </a:lnTo>
                  <a:lnTo>
                    <a:pt x="2332" y="2029"/>
                  </a:lnTo>
                  <a:lnTo>
                    <a:pt x="2314" y="2021"/>
                  </a:lnTo>
                  <a:lnTo>
                    <a:pt x="2296" y="2013"/>
                  </a:lnTo>
                  <a:lnTo>
                    <a:pt x="2278" y="2006"/>
                  </a:lnTo>
                  <a:lnTo>
                    <a:pt x="2258" y="1999"/>
                  </a:lnTo>
                  <a:lnTo>
                    <a:pt x="2240" y="1994"/>
                  </a:lnTo>
                  <a:lnTo>
                    <a:pt x="2221" y="1987"/>
                  </a:lnTo>
                  <a:lnTo>
                    <a:pt x="2199" y="1983"/>
                  </a:lnTo>
                  <a:lnTo>
                    <a:pt x="2178" y="1979"/>
                  </a:lnTo>
                  <a:lnTo>
                    <a:pt x="2256" y="1851"/>
                  </a:lnTo>
                  <a:lnTo>
                    <a:pt x="2283" y="1864"/>
                  </a:lnTo>
                  <a:lnTo>
                    <a:pt x="2310" y="1876"/>
                  </a:lnTo>
                  <a:lnTo>
                    <a:pt x="2337" y="1886"/>
                  </a:lnTo>
                  <a:lnTo>
                    <a:pt x="2366" y="1897"/>
                  </a:lnTo>
                  <a:lnTo>
                    <a:pt x="2393" y="1907"/>
                  </a:lnTo>
                  <a:lnTo>
                    <a:pt x="2420" y="1918"/>
                  </a:lnTo>
                  <a:lnTo>
                    <a:pt x="2446" y="1927"/>
                  </a:lnTo>
                  <a:lnTo>
                    <a:pt x="2471" y="1938"/>
                  </a:lnTo>
                  <a:lnTo>
                    <a:pt x="2471" y="1918"/>
                  </a:lnTo>
                  <a:lnTo>
                    <a:pt x="2466" y="1895"/>
                  </a:lnTo>
                  <a:lnTo>
                    <a:pt x="2455" y="1875"/>
                  </a:lnTo>
                  <a:lnTo>
                    <a:pt x="2445" y="1854"/>
                  </a:lnTo>
                  <a:lnTo>
                    <a:pt x="2428" y="1854"/>
                  </a:lnTo>
                  <a:lnTo>
                    <a:pt x="2412" y="1856"/>
                  </a:lnTo>
                  <a:lnTo>
                    <a:pt x="2396" y="1859"/>
                  </a:lnTo>
                  <a:lnTo>
                    <a:pt x="2382" y="1861"/>
                  </a:lnTo>
                  <a:lnTo>
                    <a:pt x="2368" y="1862"/>
                  </a:lnTo>
                  <a:lnTo>
                    <a:pt x="2353" y="1862"/>
                  </a:lnTo>
                  <a:lnTo>
                    <a:pt x="2337" y="1859"/>
                  </a:lnTo>
                  <a:lnTo>
                    <a:pt x="2323" y="1851"/>
                  </a:lnTo>
                  <a:lnTo>
                    <a:pt x="2321" y="1845"/>
                  </a:lnTo>
                  <a:lnTo>
                    <a:pt x="2321" y="1837"/>
                  </a:lnTo>
                  <a:lnTo>
                    <a:pt x="2321" y="1830"/>
                  </a:lnTo>
                  <a:lnTo>
                    <a:pt x="2324" y="1826"/>
                  </a:lnTo>
                  <a:lnTo>
                    <a:pt x="2330" y="1805"/>
                  </a:lnTo>
                  <a:lnTo>
                    <a:pt x="2342" y="1788"/>
                  </a:lnTo>
                  <a:lnTo>
                    <a:pt x="2357" y="1772"/>
                  </a:lnTo>
                  <a:lnTo>
                    <a:pt x="2369" y="1754"/>
                  </a:lnTo>
                  <a:lnTo>
                    <a:pt x="2369" y="1742"/>
                  </a:lnTo>
                  <a:lnTo>
                    <a:pt x="2371" y="1729"/>
                  </a:lnTo>
                  <a:lnTo>
                    <a:pt x="2369" y="1716"/>
                  </a:lnTo>
                  <a:lnTo>
                    <a:pt x="2360" y="1710"/>
                  </a:lnTo>
                  <a:lnTo>
                    <a:pt x="2351" y="1720"/>
                  </a:lnTo>
                  <a:lnTo>
                    <a:pt x="2344" y="1731"/>
                  </a:lnTo>
                  <a:lnTo>
                    <a:pt x="2335" y="1740"/>
                  </a:lnTo>
                  <a:lnTo>
                    <a:pt x="2323" y="1748"/>
                  </a:lnTo>
                  <a:lnTo>
                    <a:pt x="2316" y="1759"/>
                  </a:lnTo>
                  <a:lnTo>
                    <a:pt x="2310" y="1770"/>
                  </a:lnTo>
                  <a:lnTo>
                    <a:pt x="2303" y="1783"/>
                  </a:lnTo>
                  <a:lnTo>
                    <a:pt x="2294" y="1796"/>
                  </a:lnTo>
                  <a:lnTo>
                    <a:pt x="2287" y="1807"/>
                  </a:lnTo>
                  <a:lnTo>
                    <a:pt x="2278" y="1819"/>
                  </a:lnTo>
                  <a:lnTo>
                    <a:pt x="2267" y="1829"/>
                  </a:lnTo>
                  <a:lnTo>
                    <a:pt x="2255" y="1837"/>
                  </a:lnTo>
                  <a:lnTo>
                    <a:pt x="2255" y="1840"/>
                  </a:lnTo>
                  <a:lnTo>
                    <a:pt x="2255" y="1845"/>
                  </a:lnTo>
                  <a:lnTo>
                    <a:pt x="2255" y="1848"/>
                  </a:lnTo>
                  <a:lnTo>
                    <a:pt x="2256" y="1851"/>
                  </a:lnTo>
                  <a:lnTo>
                    <a:pt x="2178" y="1979"/>
                  </a:lnTo>
                  <a:lnTo>
                    <a:pt x="2169" y="1997"/>
                  </a:lnTo>
                  <a:lnTo>
                    <a:pt x="2161" y="2018"/>
                  </a:lnTo>
                  <a:lnTo>
                    <a:pt x="2158" y="2038"/>
                  </a:lnTo>
                  <a:lnTo>
                    <a:pt x="2165" y="2057"/>
                  </a:lnTo>
                  <a:lnTo>
                    <a:pt x="2183" y="2065"/>
                  </a:lnTo>
                  <a:lnTo>
                    <a:pt x="2201" y="2071"/>
                  </a:lnTo>
                  <a:lnTo>
                    <a:pt x="2219" y="2078"/>
                  </a:lnTo>
                  <a:lnTo>
                    <a:pt x="2238" y="2084"/>
                  </a:lnTo>
                  <a:lnTo>
                    <a:pt x="2256" y="2092"/>
                  </a:lnTo>
                  <a:lnTo>
                    <a:pt x="2274" y="2100"/>
                  </a:lnTo>
                  <a:lnTo>
                    <a:pt x="2292" y="2108"/>
                  </a:lnTo>
                  <a:lnTo>
                    <a:pt x="2308" y="2119"/>
                  </a:lnTo>
                  <a:lnTo>
                    <a:pt x="2319" y="2121"/>
                  </a:lnTo>
                  <a:lnTo>
                    <a:pt x="2324" y="2125"/>
                  </a:lnTo>
                  <a:lnTo>
                    <a:pt x="2328" y="2135"/>
                  </a:lnTo>
                  <a:lnTo>
                    <a:pt x="2330" y="2143"/>
                  </a:lnTo>
                  <a:lnTo>
                    <a:pt x="2328" y="2151"/>
                  </a:lnTo>
                  <a:lnTo>
                    <a:pt x="2324" y="2159"/>
                  </a:lnTo>
                  <a:lnTo>
                    <a:pt x="2319" y="2163"/>
                  </a:lnTo>
                  <a:lnTo>
                    <a:pt x="2310" y="2168"/>
                  </a:lnTo>
                  <a:lnTo>
                    <a:pt x="2287" y="2165"/>
                  </a:lnTo>
                  <a:lnTo>
                    <a:pt x="2264" y="2162"/>
                  </a:lnTo>
                  <a:lnTo>
                    <a:pt x="2240" y="2157"/>
                  </a:lnTo>
                  <a:lnTo>
                    <a:pt x="2219" y="2149"/>
                  </a:lnTo>
                  <a:lnTo>
                    <a:pt x="2197" y="2141"/>
                  </a:lnTo>
                  <a:lnTo>
                    <a:pt x="2176" y="2132"/>
                  </a:lnTo>
                  <a:lnTo>
                    <a:pt x="2158" y="2121"/>
                  </a:lnTo>
                  <a:lnTo>
                    <a:pt x="2140" y="2109"/>
                  </a:lnTo>
                  <a:lnTo>
                    <a:pt x="2127" y="2111"/>
                  </a:lnTo>
                  <a:lnTo>
                    <a:pt x="2117" y="2114"/>
                  </a:lnTo>
                  <a:lnTo>
                    <a:pt x="2108" y="2119"/>
                  </a:lnTo>
                  <a:lnTo>
                    <a:pt x="2102" y="2128"/>
                  </a:lnTo>
                  <a:lnTo>
                    <a:pt x="2097" y="2141"/>
                  </a:lnTo>
                  <a:lnTo>
                    <a:pt x="2088" y="2152"/>
                  </a:lnTo>
                  <a:lnTo>
                    <a:pt x="2079" y="2163"/>
                  </a:lnTo>
                  <a:lnTo>
                    <a:pt x="2070" y="2174"/>
                  </a:lnTo>
                  <a:lnTo>
                    <a:pt x="2061" y="2186"/>
                  </a:lnTo>
                  <a:lnTo>
                    <a:pt x="2052" y="2197"/>
                  </a:lnTo>
                  <a:lnTo>
                    <a:pt x="2045" y="2208"/>
                  </a:lnTo>
                  <a:lnTo>
                    <a:pt x="2038" y="2219"/>
                  </a:lnTo>
                  <a:lnTo>
                    <a:pt x="2018" y="2232"/>
                  </a:lnTo>
                  <a:lnTo>
                    <a:pt x="2009" y="2251"/>
                  </a:lnTo>
                  <a:lnTo>
                    <a:pt x="2005" y="2271"/>
                  </a:lnTo>
                  <a:lnTo>
                    <a:pt x="1996" y="2285"/>
                  </a:lnTo>
                  <a:lnTo>
                    <a:pt x="1998" y="2290"/>
                  </a:lnTo>
                  <a:lnTo>
                    <a:pt x="1996" y="2298"/>
                  </a:lnTo>
                  <a:lnTo>
                    <a:pt x="1993" y="2308"/>
                  </a:lnTo>
                  <a:lnTo>
                    <a:pt x="1988" y="2314"/>
                  </a:lnTo>
                  <a:lnTo>
                    <a:pt x="1722" y="2187"/>
                  </a:lnTo>
                  <a:lnTo>
                    <a:pt x="1731" y="2152"/>
                  </a:lnTo>
                  <a:lnTo>
                    <a:pt x="1744" y="2124"/>
                  </a:lnTo>
                  <a:lnTo>
                    <a:pt x="1753" y="2094"/>
                  </a:lnTo>
                  <a:lnTo>
                    <a:pt x="1758" y="2060"/>
                  </a:lnTo>
                  <a:lnTo>
                    <a:pt x="1760" y="2060"/>
                  </a:lnTo>
                  <a:lnTo>
                    <a:pt x="1763" y="2046"/>
                  </a:lnTo>
                  <a:lnTo>
                    <a:pt x="1767" y="2030"/>
                  </a:lnTo>
                  <a:lnTo>
                    <a:pt x="1771" y="2016"/>
                  </a:lnTo>
                  <a:lnTo>
                    <a:pt x="1781" y="2003"/>
                  </a:lnTo>
                  <a:lnTo>
                    <a:pt x="1781" y="1994"/>
                  </a:lnTo>
                  <a:lnTo>
                    <a:pt x="1785" y="1987"/>
                  </a:lnTo>
                  <a:lnTo>
                    <a:pt x="1790" y="1979"/>
                  </a:lnTo>
                  <a:lnTo>
                    <a:pt x="1792" y="1972"/>
                  </a:lnTo>
                  <a:lnTo>
                    <a:pt x="1792" y="1959"/>
                  </a:lnTo>
                  <a:lnTo>
                    <a:pt x="1797" y="1946"/>
                  </a:lnTo>
                  <a:lnTo>
                    <a:pt x="1803" y="1935"/>
                  </a:lnTo>
                  <a:lnTo>
                    <a:pt x="1806" y="1924"/>
                  </a:lnTo>
                  <a:lnTo>
                    <a:pt x="1832" y="1870"/>
                  </a:lnTo>
                  <a:lnTo>
                    <a:pt x="1837" y="1865"/>
                  </a:lnTo>
                  <a:lnTo>
                    <a:pt x="1842" y="1859"/>
                  </a:lnTo>
                  <a:lnTo>
                    <a:pt x="1846" y="1853"/>
                  </a:lnTo>
                  <a:lnTo>
                    <a:pt x="1844" y="1845"/>
                  </a:lnTo>
                  <a:lnTo>
                    <a:pt x="1830" y="1840"/>
                  </a:lnTo>
                  <a:lnTo>
                    <a:pt x="1815" y="1837"/>
                  </a:lnTo>
                  <a:lnTo>
                    <a:pt x="1803" y="1830"/>
                  </a:lnTo>
                  <a:lnTo>
                    <a:pt x="1792" y="1826"/>
                  </a:lnTo>
                  <a:lnTo>
                    <a:pt x="1780" y="1821"/>
                  </a:lnTo>
                  <a:lnTo>
                    <a:pt x="1767" y="1816"/>
                  </a:lnTo>
                  <a:lnTo>
                    <a:pt x="1753" y="1811"/>
                  </a:lnTo>
                  <a:lnTo>
                    <a:pt x="1738" y="1808"/>
                  </a:lnTo>
                  <a:lnTo>
                    <a:pt x="1749" y="1819"/>
                  </a:lnTo>
                  <a:lnTo>
                    <a:pt x="1762" y="1827"/>
                  </a:lnTo>
                  <a:lnTo>
                    <a:pt x="1772" y="1834"/>
                  </a:lnTo>
                  <a:lnTo>
                    <a:pt x="1785" y="1838"/>
                  </a:lnTo>
                  <a:lnTo>
                    <a:pt x="1797" y="1845"/>
                  </a:lnTo>
                  <a:lnTo>
                    <a:pt x="1808" y="1851"/>
                  </a:lnTo>
                  <a:lnTo>
                    <a:pt x="1821" y="1859"/>
                  </a:lnTo>
                  <a:lnTo>
                    <a:pt x="1832" y="1870"/>
                  </a:lnTo>
                  <a:lnTo>
                    <a:pt x="1806" y="1924"/>
                  </a:lnTo>
                  <a:lnTo>
                    <a:pt x="1783" y="1915"/>
                  </a:lnTo>
                  <a:lnTo>
                    <a:pt x="1760" y="1907"/>
                  </a:lnTo>
                  <a:lnTo>
                    <a:pt x="1738" y="1897"/>
                  </a:lnTo>
                  <a:lnTo>
                    <a:pt x="1715" y="1888"/>
                  </a:lnTo>
                  <a:lnTo>
                    <a:pt x="1692" y="1878"/>
                  </a:lnTo>
                  <a:lnTo>
                    <a:pt x="1670" y="1869"/>
                  </a:lnTo>
                  <a:lnTo>
                    <a:pt x="1649" y="1857"/>
                  </a:lnTo>
                  <a:lnTo>
                    <a:pt x="1627" y="1846"/>
                  </a:lnTo>
                  <a:lnTo>
                    <a:pt x="1615" y="1861"/>
                  </a:lnTo>
                  <a:lnTo>
                    <a:pt x="1604" y="1875"/>
                  </a:lnTo>
                  <a:lnTo>
                    <a:pt x="1600" y="1892"/>
                  </a:lnTo>
                  <a:lnTo>
                    <a:pt x="1602" y="1910"/>
                  </a:lnTo>
                  <a:lnTo>
                    <a:pt x="1588" y="1938"/>
                  </a:lnTo>
                  <a:lnTo>
                    <a:pt x="1584" y="1973"/>
                  </a:lnTo>
                  <a:lnTo>
                    <a:pt x="1581" y="2011"/>
                  </a:lnTo>
                  <a:lnTo>
                    <a:pt x="1572" y="2049"/>
                  </a:lnTo>
                  <a:lnTo>
                    <a:pt x="1577" y="2052"/>
                  </a:lnTo>
                  <a:lnTo>
                    <a:pt x="1572" y="2070"/>
                  </a:lnTo>
                  <a:lnTo>
                    <a:pt x="1572" y="2089"/>
                  </a:lnTo>
                  <a:lnTo>
                    <a:pt x="1573" y="2108"/>
                  </a:lnTo>
                  <a:lnTo>
                    <a:pt x="1575" y="2125"/>
                  </a:lnTo>
                  <a:lnTo>
                    <a:pt x="1572" y="2125"/>
                  </a:lnTo>
                  <a:lnTo>
                    <a:pt x="1572" y="2151"/>
                  </a:lnTo>
                  <a:lnTo>
                    <a:pt x="1568" y="2174"/>
                  </a:lnTo>
                  <a:lnTo>
                    <a:pt x="1564" y="2200"/>
                  </a:lnTo>
                  <a:lnTo>
                    <a:pt x="1566" y="2225"/>
                  </a:lnTo>
                  <a:lnTo>
                    <a:pt x="1324" y="2254"/>
                  </a:lnTo>
                  <a:lnTo>
                    <a:pt x="1328" y="2244"/>
                  </a:lnTo>
                  <a:lnTo>
                    <a:pt x="1335" y="2217"/>
                  </a:lnTo>
                  <a:lnTo>
                    <a:pt x="1344" y="2179"/>
                  </a:lnTo>
                  <a:lnTo>
                    <a:pt x="1357" y="2135"/>
                  </a:lnTo>
                  <a:lnTo>
                    <a:pt x="1367" y="2089"/>
                  </a:lnTo>
                  <a:lnTo>
                    <a:pt x="1376" y="2046"/>
                  </a:lnTo>
                  <a:lnTo>
                    <a:pt x="1382" y="2013"/>
                  </a:lnTo>
                  <a:lnTo>
                    <a:pt x="1382" y="1992"/>
                  </a:lnTo>
                  <a:lnTo>
                    <a:pt x="1383" y="1992"/>
                  </a:lnTo>
                  <a:lnTo>
                    <a:pt x="1392" y="1957"/>
                  </a:lnTo>
                  <a:lnTo>
                    <a:pt x="1391" y="1922"/>
                  </a:lnTo>
                  <a:lnTo>
                    <a:pt x="1380" y="1888"/>
                  </a:lnTo>
                  <a:lnTo>
                    <a:pt x="1362" y="1857"/>
                  </a:lnTo>
                  <a:lnTo>
                    <a:pt x="1360" y="1878"/>
                  </a:lnTo>
                  <a:lnTo>
                    <a:pt x="1357" y="1899"/>
                  </a:lnTo>
                  <a:lnTo>
                    <a:pt x="1353" y="1918"/>
                  </a:lnTo>
                  <a:lnTo>
                    <a:pt x="1355" y="1937"/>
                  </a:lnTo>
                  <a:lnTo>
                    <a:pt x="1353" y="1937"/>
                  </a:lnTo>
                  <a:lnTo>
                    <a:pt x="1353" y="1946"/>
                  </a:lnTo>
                  <a:lnTo>
                    <a:pt x="1353" y="1954"/>
                  </a:lnTo>
                  <a:lnTo>
                    <a:pt x="1353" y="1960"/>
                  </a:lnTo>
                  <a:lnTo>
                    <a:pt x="1355" y="1968"/>
                  </a:lnTo>
                  <a:lnTo>
                    <a:pt x="1353" y="1968"/>
                  </a:lnTo>
                  <a:lnTo>
                    <a:pt x="1351" y="2006"/>
                  </a:lnTo>
                  <a:lnTo>
                    <a:pt x="1348" y="2040"/>
                  </a:lnTo>
                  <a:lnTo>
                    <a:pt x="1344" y="2071"/>
                  </a:lnTo>
                  <a:lnTo>
                    <a:pt x="1337" y="2105"/>
                  </a:lnTo>
                  <a:lnTo>
                    <a:pt x="1326" y="2140"/>
                  </a:lnTo>
                  <a:lnTo>
                    <a:pt x="1324" y="2178"/>
                  </a:lnTo>
                  <a:lnTo>
                    <a:pt x="1321" y="2214"/>
                  </a:lnTo>
                  <a:lnTo>
                    <a:pt x="1308" y="2249"/>
                  </a:lnTo>
                  <a:lnTo>
                    <a:pt x="1317" y="2254"/>
                  </a:lnTo>
                  <a:lnTo>
                    <a:pt x="1566" y="2225"/>
                  </a:lnTo>
                  <a:lnTo>
                    <a:pt x="1584" y="2222"/>
                  </a:lnTo>
                  <a:lnTo>
                    <a:pt x="1604" y="2217"/>
                  </a:lnTo>
                  <a:lnTo>
                    <a:pt x="1624" y="2214"/>
                  </a:lnTo>
                  <a:lnTo>
                    <a:pt x="1645" y="2211"/>
                  </a:lnTo>
                  <a:lnTo>
                    <a:pt x="1665" y="2206"/>
                  </a:lnTo>
                  <a:lnTo>
                    <a:pt x="1686" y="2201"/>
                  </a:lnTo>
                  <a:lnTo>
                    <a:pt x="1704" y="2195"/>
                  </a:lnTo>
                  <a:lnTo>
                    <a:pt x="1722" y="2187"/>
                  </a:lnTo>
                  <a:lnTo>
                    <a:pt x="1988" y="2314"/>
                  </a:lnTo>
                  <a:lnTo>
                    <a:pt x="1973" y="2344"/>
                  </a:lnTo>
                  <a:lnTo>
                    <a:pt x="1962" y="2377"/>
                  </a:lnTo>
                  <a:lnTo>
                    <a:pt x="1952" y="2412"/>
                  </a:lnTo>
                  <a:lnTo>
                    <a:pt x="1941" y="2449"/>
                  </a:lnTo>
                  <a:lnTo>
                    <a:pt x="1932" y="2484"/>
                  </a:lnTo>
                  <a:lnTo>
                    <a:pt x="1921" y="2520"/>
                  </a:lnTo>
                  <a:lnTo>
                    <a:pt x="1910" y="2553"/>
                  </a:lnTo>
                  <a:lnTo>
                    <a:pt x="1900" y="2585"/>
                  </a:lnTo>
                  <a:lnTo>
                    <a:pt x="1887" y="2599"/>
                  </a:lnTo>
                  <a:lnTo>
                    <a:pt x="1876" y="2614"/>
                  </a:lnTo>
                  <a:lnTo>
                    <a:pt x="1866" y="2628"/>
                  </a:lnTo>
                  <a:lnTo>
                    <a:pt x="1857" y="2642"/>
                  </a:lnTo>
                  <a:lnTo>
                    <a:pt x="1846" y="2656"/>
                  </a:lnTo>
                  <a:lnTo>
                    <a:pt x="1835" y="2671"/>
                  </a:lnTo>
                  <a:lnTo>
                    <a:pt x="1824" y="2686"/>
                  </a:lnTo>
                  <a:lnTo>
                    <a:pt x="1812" y="2701"/>
                  </a:lnTo>
                  <a:lnTo>
                    <a:pt x="1554" y="2531"/>
                  </a:lnTo>
                  <a:lnTo>
                    <a:pt x="1559" y="2520"/>
                  </a:lnTo>
                  <a:lnTo>
                    <a:pt x="1573" y="2496"/>
                  </a:lnTo>
                  <a:lnTo>
                    <a:pt x="1590" y="2471"/>
                  </a:lnTo>
                  <a:lnTo>
                    <a:pt x="1602" y="2457"/>
                  </a:lnTo>
                  <a:lnTo>
                    <a:pt x="1599" y="2457"/>
                  </a:lnTo>
                  <a:lnTo>
                    <a:pt x="1593" y="2458"/>
                  </a:lnTo>
                  <a:lnTo>
                    <a:pt x="1590" y="2460"/>
                  </a:lnTo>
                  <a:lnTo>
                    <a:pt x="1586" y="2465"/>
                  </a:lnTo>
                  <a:lnTo>
                    <a:pt x="1572" y="2463"/>
                  </a:lnTo>
                  <a:lnTo>
                    <a:pt x="1559" y="2465"/>
                  </a:lnTo>
                  <a:lnTo>
                    <a:pt x="1550" y="2468"/>
                  </a:lnTo>
                  <a:lnTo>
                    <a:pt x="1543" y="2474"/>
                  </a:lnTo>
                  <a:lnTo>
                    <a:pt x="1536" y="2482"/>
                  </a:lnTo>
                  <a:lnTo>
                    <a:pt x="1529" y="2490"/>
                  </a:lnTo>
                  <a:lnTo>
                    <a:pt x="1521" y="2498"/>
                  </a:lnTo>
                  <a:lnTo>
                    <a:pt x="1514" y="2504"/>
                  </a:lnTo>
                  <a:lnTo>
                    <a:pt x="1516" y="2517"/>
                  </a:lnTo>
                  <a:lnTo>
                    <a:pt x="1529" y="2523"/>
                  </a:lnTo>
                  <a:lnTo>
                    <a:pt x="1543" y="2526"/>
                  </a:lnTo>
                  <a:lnTo>
                    <a:pt x="1554" y="2531"/>
                  </a:lnTo>
                  <a:lnTo>
                    <a:pt x="1812" y="2701"/>
                  </a:lnTo>
                  <a:lnTo>
                    <a:pt x="1826" y="2709"/>
                  </a:lnTo>
                  <a:lnTo>
                    <a:pt x="1841" y="2715"/>
                  </a:lnTo>
                  <a:lnTo>
                    <a:pt x="1855" y="2721"/>
                  </a:lnTo>
                  <a:lnTo>
                    <a:pt x="1871" y="2724"/>
                  </a:lnTo>
                  <a:lnTo>
                    <a:pt x="1887" y="2729"/>
                  </a:lnTo>
                  <a:lnTo>
                    <a:pt x="1903" y="2731"/>
                  </a:lnTo>
                  <a:lnTo>
                    <a:pt x="1921" y="2734"/>
                  </a:lnTo>
                  <a:lnTo>
                    <a:pt x="1937" y="2736"/>
                  </a:lnTo>
                  <a:lnTo>
                    <a:pt x="1950" y="2750"/>
                  </a:lnTo>
                  <a:lnTo>
                    <a:pt x="1948" y="2766"/>
                  </a:lnTo>
                  <a:lnTo>
                    <a:pt x="1941" y="2783"/>
                  </a:lnTo>
                  <a:lnTo>
                    <a:pt x="1937" y="2801"/>
                  </a:lnTo>
                  <a:lnTo>
                    <a:pt x="1930" y="2818"/>
                  </a:lnTo>
                  <a:lnTo>
                    <a:pt x="1927" y="2837"/>
                  </a:lnTo>
                  <a:lnTo>
                    <a:pt x="1925" y="2859"/>
                  </a:lnTo>
                  <a:lnTo>
                    <a:pt x="1925" y="2880"/>
                  </a:lnTo>
                  <a:lnTo>
                    <a:pt x="1921" y="2900"/>
                  </a:lnTo>
                  <a:lnTo>
                    <a:pt x="1914" y="2918"/>
                  </a:lnTo>
                  <a:lnTo>
                    <a:pt x="1898" y="2929"/>
                  </a:lnTo>
                  <a:lnTo>
                    <a:pt x="1875" y="2935"/>
                  </a:lnTo>
                  <a:lnTo>
                    <a:pt x="1857" y="2937"/>
                  </a:lnTo>
                  <a:lnTo>
                    <a:pt x="1839" y="2938"/>
                  </a:lnTo>
                  <a:lnTo>
                    <a:pt x="1821" y="2942"/>
                  </a:lnTo>
                  <a:lnTo>
                    <a:pt x="1805" y="2945"/>
                  </a:lnTo>
                  <a:lnTo>
                    <a:pt x="1789" y="2946"/>
                  </a:lnTo>
                  <a:lnTo>
                    <a:pt x="1772" y="2950"/>
                  </a:lnTo>
                  <a:lnTo>
                    <a:pt x="1758" y="2950"/>
                  </a:lnTo>
                  <a:lnTo>
                    <a:pt x="1742" y="2950"/>
                  </a:lnTo>
                  <a:lnTo>
                    <a:pt x="1733" y="2942"/>
                  </a:lnTo>
                  <a:lnTo>
                    <a:pt x="1722" y="2937"/>
                  </a:lnTo>
                  <a:lnTo>
                    <a:pt x="1711" y="2934"/>
                  </a:lnTo>
                  <a:lnTo>
                    <a:pt x="1701" y="2929"/>
                  </a:lnTo>
                  <a:lnTo>
                    <a:pt x="1686" y="2948"/>
                  </a:lnTo>
                  <a:lnTo>
                    <a:pt x="1672" y="2965"/>
                  </a:lnTo>
                  <a:lnTo>
                    <a:pt x="1665" y="2984"/>
                  </a:lnTo>
                  <a:lnTo>
                    <a:pt x="1670" y="3007"/>
                  </a:lnTo>
                  <a:lnTo>
                    <a:pt x="1676" y="3011"/>
                  </a:lnTo>
                  <a:lnTo>
                    <a:pt x="1676" y="3019"/>
                  </a:lnTo>
                  <a:lnTo>
                    <a:pt x="1677" y="3027"/>
                  </a:lnTo>
                  <a:lnTo>
                    <a:pt x="1685" y="3032"/>
                  </a:lnTo>
                  <a:lnTo>
                    <a:pt x="1711" y="3032"/>
                  </a:lnTo>
                  <a:lnTo>
                    <a:pt x="1738" y="3030"/>
                  </a:lnTo>
                  <a:lnTo>
                    <a:pt x="1765" y="3029"/>
                  </a:lnTo>
                  <a:lnTo>
                    <a:pt x="1794" y="3027"/>
                  </a:lnTo>
                  <a:lnTo>
                    <a:pt x="1821" y="3026"/>
                  </a:lnTo>
                  <a:lnTo>
                    <a:pt x="1846" y="3022"/>
                  </a:lnTo>
                  <a:lnTo>
                    <a:pt x="1873" y="3021"/>
                  </a:lnTo>
                  <a:lnTo>
                    <a:pt x="1900" y="3019"/>
                  </a:lnTo>
                  <a:lnTo>
                    <a:pt x="1927" y="3016"/>
                  </a:lnTo>
                  <a:lnTo>
                    <a:pt x="1953" y="3015"/>
                  </a:lnTo>
                  <a:lnTo>
                    <a:pt x="1979" y="3013"/>
                  </a:lnTo>
                  <a:lnTo>
                    <a:pt x="2005" y="3010"/>
                  </a:lnTo>
                  <a:lnTo>
                    <a:pt x="2031" y="3008"/>
                  </a:lnTo>
                  <a:lnTo>
                    <a:pt x="2057" y="3008"/>
                  </a:lnTo>
                  <a:lnTo>
                    <a:pt x="2083" y="3007"/>
                  </a:lnTo>
                  <a:lnTo>
                    <a:pt x="2108" y="3007"/>
                  </a:lnTo>
                  <a:lnTo>
                    <a:pt x="2108" y="3015"/>
                  </a:lnTo>
                  <a:lnTo>
                    <a:pt x="2104" y="3019"/>
                  </a:lnTo>
                  <a:lnTo>
                    <a:pt x="2097" y="3021"/>
                  </a:lnTo>
                  <a:lnTo>
                    <a:pt x="2090" y="3022"/>
                  </a:lnTo>
                  <a:lnTo>
                    <a:pt x="2065" y="3021"/>
                  </a:lnTo>
                  <a:lnTo>
                    <a:pt x="2041" y="3022"/>
                  </a:lnTo>
                  <a:lnTo>
                    <a:pt x="2016" y="3026"/>
                  </a:lnTo>
                  <a:lnTo>
                    <a:pt x="1993" y="3029"/>
                  </a:lnTo>
                  <a:lnTo>
                    <a:pt x="1970" y="3034"/>
                  </a:lnTo>
                  <a:lnTo>
                    <a:pt x="1946" y="3035"/>
                  </a:lnTo>
                  <a:lnTo>
                    <a:pt x="1923" y="3037"/>
                  </a:lnTo>
                  <a:lnTo>
                    <a:pt x="1900" y="3035"/>
                  </a:lnTo>
                  <a:lnTo>
                    <a:pt x="1891" y="3032"/>
                  </a:lnTo>
                  <a:lnTo>
                    <a:pt x="1884" y="3032"/>
                  </a:lnTo>
                  <a:lnTo>
                    <a:pt x="1876" y="3035"/>
                  </a:lnTo>
                  <a:lnTo>
                    <a:pt x="1869" y="3038"/>
                  </a:lnTo>
                  <a:lnTo>
                    <a:pt x="1878" y="3041"/>
                  </a:lnTo>
                  <a:lnTo>
                    <a:pt x="1887" y="3043"/>
                  </a:lnTo>
                  <a:lnTo>
                    <a:pt x="1900" y="3043"/>
                  </a:lnTo>
                  <a:lnTo>
                    <a:pt x="1910" y="3043"/>
                  </a:lnTo>
                  <a:lnTo>
                    <a:pt x="1923" y="3043"/>
                  </a:lnTo>
                  <a:lnTo>
                    <a:pt x="1936" y="3043"/>
                  </a:lnTo>
                  <a:lnTo>
                    <a:pt x="1946" y="3043"/>
                  </a:lnTo>
                  <a:lnTo>
                    <a:pt x="1959" y="3043"/>
                  </a:lnTo>
                  <a:lnTo>
                    <a:pt x="1944" y="3051"/>
                  </a:lnTo>
                  <a:lnTo>
                    <a:pt x="1912" y="3051"/>
                  </a:lnTo>
                  <a:lnTo>
                    <a:pt x="1882" y="3053"/>
                  </a:lnTo>
                  <a:lnTo>
                    <a:pt x="1851" y="3054"/>
                  </a:lnTo>
                  <a:lnTo>
                    <a:pt x="1821" y="3054"/>
                  </a:lnTo>
                  <a:lnTo>
                    <a:pt x="1792" y="3056"/>
                  </a:lnTo>
                  <a:lnTo>
                    <a:pt x="1760" y="3057"/>
                  </a:lnTo>
                  <a:lnTo>
                    <a:pt x="1729" y="3059"/>
                  </a:lnTo>
                  <a:lnTo>
                    <a:pt x="1697" y="3059"/>
                  </a:lnTo>
                  <a:lnTo>
                    <a:pt x="1694" y="3062"/>
                  </a:lnTo>
                  <a:lnTo>
                    <a:pt x="1701" y="3065"/>
                  </a:lnTo>
                  <a:lnTo>
                    <a:pt x="1706" y="3067"/>
                  </a:lnTo>
                  <a:lnTo>
                    <a:pt x="1711" y="3067"/>
                  </a:lnTo>
                  <a:lnTo>
                    <a:pt x="1719" y="3065"/>
                  </a:lnTo>
                  <a:lnTo>
                    <a:pt x="1728" y="3067"/>
                  </a:lnTo>
                  <a:lnTo>
                    <a:pt x="1738" y="3067"/>
                  </a:lnTo>
                  <a:lnTo>
                    <a:pt x="1749" y="3067"/>
                  </a:lnTo>
                  <a:lnTo>
                    <a:pt x="1762" y="3067"/>
                  </a:lnTo>
                  <a:lnTo>
                    <a:pt x="1772" y="3067"/>
                  </a:lnTo>
                  <a:lnTo>
                    <a:pt x="1785" y="3067"/>
                  </a:lnTo>
                  <a:lnTo>
                    <a:pt x="1796" y="3067"/>
                  </a:lnTo>
                  <a:lnTo>
                    <a:pt x="1806" y="3067"/>
                  </a:lnTo>
                  <a:lnTo>
                    <a:pt x="1812" y="3075"/>
                  </a:lnTo>
                  <a:lnTo>
                    <a:pt x="1794" y="3078"/>
                  </a:lnTo>
                  <a:lnTo>
                    <a:pt x="1776" y="3080"/>
                  </a:lnTo>
                  <a:lnTo>
                    <a:pt x="1758" y="3080"/>
                  </a:lnTo>
                  <a:lnTo>
                    <a:pt x="1740" y="3080"/>
                  </a:lnTo>
                  <a:lnTo>
                    <a:pt x="1720" y="3078"/>
                  </a:lnTo>
                  <a:lnTo>
                    <a:pt x="1702" y="3078"/>
                  </a:lnTo>
                  <a:lnTo>
                    <a:pt x="1683" y="3078"/>
                  </a:lnTo>
                  <a:lnTo>
                    <a:pt x="1665" y="3078"/>
                  </a:lnTo>
                  <a:lnTo>
                    <a:pt x="1654" y="3080"/>
                  </a:lnTo>
                  <a:lnTo>
                    <a:pt x="1642" y="3080"/>
                  </a:lnTo>
                  <a:lnTo>
                    <a:pt x="1629" y="3080"/>
                  </a:lnTo>
                  <a:lnTo>
                    <a:pt x="1616" y="3080"/>
                  </a:lnTo>
                  <a:lnTo>
                    <a:pt x="1606" y="3081"/>
                  </a:lnTo>
                  <a:lnTo>
                    <a:pt x="1593" y="3083"/>
                  </a:lnTo>
                  <a:lnTo>
                    <a:pt x="1581" y="3086"/>
                  </a:lnTo>
                  <a:lnTo>
                    <a:pt x="1568" y="3091"/>
                  </a:lnTo>
                  <a:lnTo>
                    <a:pt x="1543" y="3092"/>
                  </a:lnTo>
                  <a:lnTo>
                    <a:pt x="1518" y="3094"/>
                  </a:lnTo>
                  <a:lnTo>
                    <a:pt x="1493" y="3094"/>
                  </a:lnTo>
                  <a:lnTo>
                    <a:pt x="1468" y="3094"/>
                  </a:lnTo>
                  <a:lnTo>
                    <a:pt x="1443" y="3094"/>
                  </a:lnTo>
                  <a:lnTo>
                    <a:pt x="1417" y="3094"/>
                  </a:lnTo>
                  <a:lnTo>
                    <a:pt x="1392" y="3094"/>
                  </a:lnTo>
                  <a:lnTo>
                    <a:pt x="1367" y="3094"/>
                  </a:lnTo>
                  <a:lnTo>
                    <a:pt x="1342" y="3094"/>
                  </a:lnTo>
                  <a:lnTo>
                    <a:pt x="1317" y="3095"/>
                  </a:lnTo>
                  <a:lnTo>
                    <a:pt x="1292" y="3097"/>
                  </a:lnTo>
                  <a:lnTo>
                    <a:pt x="1269" y="3100"/>
                  </a:lnTo>
                  <a:lnTo>
                    <a:pt x="1245" y="3103"/>
                  </a:lnTo>
                  <a:lnTo>
                    <a:pt x="1224" y="3110"/>
                  </a:lnTo>
                  <a:lnTo>
                    <a:pt x="1202" y="3116"/>
                  </a:lnTo>
                  <a:lnTo>
                    <a:pt x="1181" y="3124"/>
                  </a:lnTo>
                  <a:lnTo>
                    <a:pt x="1172" y="3127"/>
                  </a:lnTo>
                  <a:lnTo>
                    <a:pt x="1163" y="3127"/>
                  </a:lnTo>
                  <a:lnTo>
                    <a:pt x="1152" y="3125"/>
                  </a:lnTo>
                  <a:lnTo>
                    <a:pt x="1143" y="3124"/>
                  </a:lnTo>
                  <a:lnTo>
                    <a:pt x="1134" y="3119"/>
                  </a:lnTo>
                  <a:lnTo>
                    <a:pt x="1125" y="3114"/>
                  </a:lnTo>
                  <a:lnTo>
                    <a:pt x="1115" y="3110"/>
                  </a:lnTo>
                  <a:lnTo>
                    <a:pt x="1106" y="3105"/>
                  </a:lnTo>
                  <a:lnTo>
                    <a:pt x="1097" y="3095"/>
                  </a:lnTo>
                  <a:lnTo>
                    <a:pt x="1086" y="3089"/>
                  </a:lnTo>
                  <a:lnTo>
                    <a:pt x="1077" y="3081"/>
                  </a:lnTo>
                  <a:lnTo>
                    <a:pt x="1075" y="3068"/>
                  </a:lnTo>
                  <a:lnTo>
                    <a:pt x="1091" y="3061"/>
                  </a:lnTo>
                  <a:lnTo>
                    <a:pt x="1107" y="3053"/>
                  </a:lnTo>
                  <a:lnTo>
                    <a:pt x="1124" y="3043"/>
                  </a:lnTo>
                  <a:lnTo>
                    <a:pt x="1140" y="3035"/>
                  </a:lnTo>
                  <a:lnTo>
                    <a:pt x="1158" y="3026"/>
                  </a:lnTo>
                  <a:lnTo>
                    <a:pt x="1175" y="3018"/>
                  </a:lnTo>
                  <a:lnTo>
                    <a:pt x="1192" y="3011"/>
                  </a:lnTo>
                  <a:lnTo>
                    <a:pt x="1210" y="3005"/>
                  </a:lnTo>
                  <a:lnTo>
                    <a:pt x="1224" y="2996"/>
                  </a:lnTo>
                  <a:lnTo>
                    <a:pt x="1233" y="2983"/>
                  </a:lnTo>
                  <a:lnTo>
                    <a:pt x="1236" y="2969"/>
                  </a:lnTo>
                  <a:lnTo>
                    <a:pt x="1240" y="2954"/>
                  </a:lnTo>
                  <a:lnTo>
                    <a:pt x="1244" y="2940"/>
                  </a:lnTo>
                  <a:lnTo>
                    <a:pt x="1249" y="2927"/>
                  </a:lnTo>
                  <a:lnTo>
                    <a:pt x="1260" y="2916"/>
                  </a:lnTo>
                  <a:lnTo>
                    <a:pt x="1279" y="2912"/>
                  </a:lnTo>
                  <a:lnTo>
                    <a:pt x="1281" y="2904"/>
                  </a:lnTo>
                  <a:lnTo>
                    <a:pt x="1288" y="2900"/>
                  </a:lnTo>
                  <a:lnTo>
                    <a:pt x="1299" y="2897"/>
                  </a:lnTo>
                  <a:lnTo>
                    <a:pt x="1306" y="2892"/>
                  </a:lnTo>
                  <a:lnTo>
                    <a:pt x="1360" y="2826"/>
                  </a:lnTo>
                  <a:lnTo>
                    <a:pt x="1355" y="2821"/>
                  </a:lnTo>
                  <a:lnTo>
                    <a:pt x="1348" y="2816"/>
                  </a:lnTo>
                  <a:lnTo>
                    <a:pt x="1339" y="2813"/>
                  </a:lnTo>
                  <a:lnTo>
                    <a:pt x="1328" y="2810"/>
                  </a:lnTo>
                  <a:lnTo>
                    <a:pt x="1319" y="2808"/>
                  </a:lnTo>
                  <a:lnTo>
                    <a:pt x="1308" y="2807"/>
                  </a:lnTo>
                  <a:lnTo>
                    <a:pt x="1297" y="2804"/>
                  </a:lnTo>
                  <a:lnTo>
                    <a:pt x="1288" y="2801"/>
                  </a:lnTo>
                  <a:lnTo>
                    <a:pt x="1254" y="2786"/>
                  </a:lnTo>
                  <a:lnTo>
                    <a:pt x="1220" y="2774"/>
                  </a:lnTo>
                  <a:lnTo>
                    <a:pt x="1184" y="2761"/>
                  </a:lnTo>
                  <a:lnTo>
                    <a:pt x="1150" y="2750"/>
                  </a:lnTo>
                  <a:lnTo>
                    <a:pt x="1115" y="2739"/>
                  </a:lnTo>
                  <a:lnTo>
                    <a:pt x="1079" y="2729"/>
                  </a:lnTo>
                  <a:lnTo>
                    <a:pt x="1045" y="2720"/>
                  </a:lnTo>
                  <a:lnTo>
                    <a:pt x="1012" y="2710"/>
                  </a:lnTo>
                  <a:lnTo>
                    <a:pt x="987" y="2702"/>
                  </a:lnTo>
                  <a:lnTo>
                    <a:pt x="964" y="2694"/>
                  </a:lnTo>
                  <a:lnTo>
                    <a:pt x="941" y="2688"/>
                  </a:lnTo>
                  <a:lnTo>
                    <a:pt x="917" y="2680"/>
                  </a:lnTo>
                  <a:lnTo>
                    <a:pt x="896" y="2674"/>
                  </a:lnTo>
                  <a:lnTo>
                    <a:pt x="874" y="2666"/>
                  </a:lnTo>
                  <a:lnTo>
                    <a:pt x="851" y="2656"/>
                  </a:lnTo>
                  <a:lnTo>
                    <a:pt x="828" y="2647"/>
                  </a:lnTo>
                  <a:lnTo>
                    <a:pt x="808" y="2644"/>
                  </a:lnTo>
                  <a:lnTo>
                    <a:pt x="790" y="2639"/>
                  </a:lnTo>
                  <a:lnTo>
                    <a:pt x="774" y="2631"/>
                  </a:lnTo>
                  <a:lnTo>
                    <a:pt x="756" y="2623"/>
                  </a:lnTo>
                  <a:lnTo>
                    <a:pt x="738" y="2615"/>
                  </a:lnTo>
                  <a:lnTo>
                    <a:pt x="720" y="2610"/>
                  </a:lnTo>
                  <a:lnTo>
                    <a:pt x="702" y="2607"/>
                  </a:lnTo>
                  <a:lnTo>
                    <a:pt x="681" y="2607"/>
                  </a:lnTo>
                  <a:lnTo>
                    <a:pt x="808" y="2377"/>
                  </a:lnTo>
                  <a:lnTo>
                    <a:pt x="815" y="2361"/>
                  </a:lnTo>
                  <a:lnTo>
                    <a:pt x="813" y="2350"/>
                  </a:lnTo>
                  <a:lnTo>
                    <a:pt x="806" y="2341"/>
                  </a:lnTo>
                  <a:lnTo>
                    <a:pt x="795" y="2333"/>
                  </a:lnTo>
                  <a:lnTo>
                    <a:pt x="783" y="2327"/>
                  </a:lnTo>
                  <a:lnTo>
                    <a:pt x="770" y="2319"/>
                  </a:lnTo>
                  <a:lnTo>
                    <a:pt x="760" y="2312"/>
                  </a:lnTo>
                  <a:lnTo>
                    <a:pt x="752" y="2303"/>
                  </a:lnTo>
                  <a:lnTo>
                    <a:pt x="745" y="2300"/>
                  </a:lnTo>
                  <a:lnTo>
                    <a:pt x="740" y="2298"/>
                  </a:lnTo>
                  <a:lnTo>
                    <a:pt x="735" y="2295"/>
                  </a:lnTo>
                  <a:lnTo>
                    <a:pt x="733" y="2289"/>
                  </a:lnTo>
                  <a:lnTo>
                    <a:pt x="720" y="2281"/>
                  </a:lnTo>
                  <a:lnTo>
                    <a:pt x="709" y="2270"/>
                  </a:lnTo>
                  <a:lnTo>
                    <a:pt x="699" y="2260"/>
                  </a:lnTo>
                  <a:lnTo>
                    <a:pt x="686" y="2252"/>
                  </a:lnTo>
                  <a:lnTo>
                    <a:pt x="677" y="2258"/>
                  </a:lnTo>
                  <a:lnTo>
                    <a:pt x="668" y="2265"/>
                  </a:lnTo>
                  <a:lnTo>
                    <a:pt x="659" y="2270"/>
                  </a:lnTo>
                  <a:lnTo>
                    <a:pt x="650" y="2274"/>
                  </a:lnTo>
                  <a:lnTo>
                    <a:pt x="641" y="2281"/>
                  </a:lnTo>
                  <a:lnTo>
                    <a:pt x="632" y="2287"/>
                  </a:lnTo>
                  <a:lnTo>
                    <a:pt x="625" y="2295"/>
                  </a:lnTo>
                  <a:lnTo>
                    <a:pt x="618" y="2303"/>
                  </a:lnTo>
                  <a:lnTo>
                    <a:pt x="620" y="2314"/>
                  </a:lnTo>
                  <a:lnTo>
                    <a:pt x="629" y="2320"/>
                  </a:lnTo>
                  <a:lnTo>
                    <a:pt x="640" y="2323"/>
                  </a:lnTo>
                  <a:lnTo>
                    <a:pt x="648" y="2328"/>
                  </a:lnTo>
                  <a:lnTo>
                    <a:pt x="657" y="2328"/>
                  </a:lnTo>
                  <a:lnTo>
                    <a:pt x="666" y="2330"/>
                  </a:lnTo>
                  <a:lnTo>
                    <a:pt x="674" y="2333"/>
                  </a:lnTo>
                  <a:lnTo>
                    <a:pt x="681" y="2338"/>
                  </a:lnTo>
                  <a:lnTo>
                    <a:pt x="686" y="2342"/>
                  </a:lnTo>
                  <a:lnTo>
                    <a:pt x="693" y="2347"/>
                  </a:lnTo>
                  <a:lnTo>
                    <a:pt x="700" y="2350"/>
                  </a:lnTo>
                  <a:lnTo>
                    <a:pt x="709" y="2354"/>
                  </a:lnTo>
                  <a:close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8"/>
            <p:cNvSpPr/>
            <p:nvPr/>
          </p:nvSpPr>
          <p:spPr>
            <a:xfrm>
              <a:off x="8556480" y="5139000"/>
              <a:ext cx="7920" cy="64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" h="7">
                  <a:moveTo>
                    <a:pt x="9" y="3"/>
                  </a:moveTo>
                  <a:lnTo>
                    <a:pt x="4" y="7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ad Recko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680" y="1879200"/>
            <a:ext cx="857232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st, most basic technique of nav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 is deduced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 of term lost in antiqu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ay that the word “dead” should be written “ded”-meaning de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00"/>
                            </p:stCondLst>
                            <p:childTnLst>
                              <p:par>
                                <p:cTn id="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41A9-9180-434A-92F6-EF463F20C5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3" descr="bd06194_"/>
          <p:cNvPicPr/>
          <p:nvPr/>
        </p:nvPicPr>
        <p:blipFill>
          <a:blip r:embed="rId1"/>
          <a:stretch/>
        </p:blipFill>
        <p:spPr>
          <a:xfrm>
            <a:off x="4267080" y="3911760"/>
            <a:ext cx="4876920" cy="2717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ad Recko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 most important navigation techniq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ics, celestial, or piloting not complete sys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e to check accuracy of DR po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 to various fail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Storms, power loss, reduced vis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equipment fail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7A33-8E37-4219-B87D-C75E9A4288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Group 17"/>
          <p:cNvGrpSpPr/>
          <p:nvPr/>
        </p:nvGrpSpPr>
        <p:grpSpPr>
          <a:xfrm>
            <a:off x="7467480" y="3613320"/>
            <a:ext cx="1149480" cy="2787120"/>
            <a:chOff x="7467480" y="3613320"/>
            <a:chExt cx="1149480" cy="2787120"/>
          </a:xfrm>
        </p:grpSpPr>
        <p:sp>
          <p:nvSpPr>
            <p:cNvPr id="113" name="Freeform 7"/>
            <p:cNvSpPr/>
            <p:nvPr/>
          </p:nvSpPr>
          <p:spPr>
            <a:xfrm>
              <a:off x="7833600" y="3971160"/>
              <a:ext cx="450000" cy="561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>
              <a:off x="7467480" y="3827160"/>
              <a:ext cx="518040" cy="90108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901080"/>
                <a:gd name="textAreaBottom" fmla="*/ 901440 h 901080"/>
              </a:gdLst>
              <a:ahLst/>
              <a:rect l="textAreaLeft" t="textAreaTop" r="textAreaRight" b="textAreaBottom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7956000" y="4574160"/>
              <a:ext cx="270720" cy="84528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845280"/>
                <a:gd name="textAreaBottom" fmla="*/ 845640 h 845280"/>
              </a:gdLst>
              <a:ahLst/>
              <a:rect l="textAreaLeft" t="textAreaTop" r="textAreaRight" b="textAreaBottom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>
              <a:off x="8080920" y="4597200"/>
              <a:ext cx="413640" cy="6494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1"/>
            <p:cNvSpPr/>
            <p:nvPr/>
          </p:nvSpPr>
          <p:spPr>
            <a:xfrm>
              <a:off x="8113680" y="5333040"/>
              <a:ext cx="503280" cy="104940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1049400"/>
                <a:gd name="textAreaBottom" fmla="*/ 1049760 h 1049400"/>
              </a:gdLst>
              <a:ahLst/>
              <a:rect l="textAreaLeft" t="textAreaTop" r="textAreaRight" b="textAreaBottom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2"/>
            <p:cNvSpPr/>
            <p:nvPr/>
          </p:nvSpPr>
          <p:spPr>
            <a:xfrm>
              <a:off x="7797240" y="5331240"/>
              <a:ext cx="338760" cy="1069200"/>
            </a:xfrm>
            <a:custGeom>
              <a:avLst/>
              <a:gdLst>
                <a:gd name="textAreaLeft" fmla="*/ 0 w 338760"/>
                <a:gd name="textAreaRight" fmla="*/ 339120 w 338760"/>
                <a:gd name="textAreaTop" fmla="*/ 0 h 1069200"/>
                <a:gd name="textAreaBottom" fmla="*/ 1069560 h 1069200"/>
              </a:gdLst>
              <a:ahLst/>
              <a:rect l="textAreaLeft" t="textAreaTop" r="textAreaRight" b="textAreaBottom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4"/>
            <p:cNvSpPr/>
            <p:nvPr/>
          </p:nvSpPr>
          <p:spPr>
            <a:xfrm>
              <a:off x="8200440" y="3613320"/>
              <a:ext cx="167040" cy="21924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5"/>
            <p:cNvSpPr/>
            <p:nvPr/>
          </p:nvSpPr>
          <p:spPr>
            <a:xfrm>
              <a:off x="8159760" y="3868920"/>
              <a:ext cx="52200" cy="597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830592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Dead Recko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intended or assum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 throug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otted as a line w/ symbols on a ch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17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UR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direction travel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17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EED &amp;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distance ru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50"/>
                            </p:stCondLst>
                            <p:childTnLst>
                              <p:par>
                                <p:cTn id="10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663E-36CD-484F-B857-A5637DD5B8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38"/>
          <p:cNvGrpSpPr/>
          <p:nvPr/>
        </p:nvGrpSpPr>
        <p:grpSpPr>
          <a:xfrm>
            <a:off x="6886440" y="3581280"/>
            <a:ext cx="1952280" cy="2742840"/>
            <a:chOff x="6886440" y="3581280"/>
            <a:chExt cx="1952280" cy="2742840"/>
          </a:xfrm>
        </p:grpSpPr>
        <p:sp>
          <p:nvSpPr>
            <p:cNvPr id="127" name="Freeform 7"/>
            <p:cNvSpPr/>
            <p:nvPr/>
          </p:nvSpPr>
          <p:spPr>
            <a:xfrm>
              <a:off x="7976160" y="4978080"/>
              <a:ext cx="358920" cy="7124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538" h="1073">
                  <a:moveTo>
                    <a:pt x="127" y="86"/>
                  </a:moveTo>
                  <a:lnTo>
                    <a:pt x="185" y="23"/>
                  </a:lnTo>
                  <a:lnTo>
                    <a:pt x="295" y="0"/>
                  </a:lnTo>
                  <a:lnTo>
                    <a:pt x="390" y="23"/>
                  </a:lnTo>
                  <a:lnTo>
                    <a:pt x="442" y="58"/>
                  </a:lnTo>
                  <a:lnTo>
                    <a:pt x="484" y="128"/>
                  </a:lnTo>
                  <a:lnTo>
                    <a:pt x="521" y="252"/>
                  </a:lnTo>
                  <a:lnTo>
                    <a:pt x="538" y="387"/>
                  </a:lnTo>
                  <a:lnTo>
                    <a:pt x="538" y="628"/>
                  </a:lnTo>
                  <a:lnTo>
                    <a:pt x="484" y="838"/>
                  </a:lnTo>
                  <a:lnTo>
                    <a:pt x="405" y="957"/>
                  </a:lnTo>
                  <a:lnTo>
                    <a:pt x="327" y="1025"/>
                  </a:lnTo>
                  <a:lnTo>
                    <a:pt x="237" y="1073"/>
                  </a:lnTo>
                  <a:lnTo>
                    <a:pt x="111" y="1067"/>
                  </a:lnTo>
                  <a:lnTo>
                    <a:pt x="12" y="996"/>
                  </a:lnTo>
                  <a:lnTo>
                    <a:pt x="0" y="910"/>
                  </a:lnTo>
                  <a:lnTo>
                    <a:pt x="48" y="782"/>
                  </a:lnTo>
                  <a:lnTo>
                    <a:pt x="90" y="639"/>
                  </a:lnTo>
                  <a:lnTo>
                    <a:pt x="106" y="454"/>
                  </a:lnTo>
                  <a:lnTo>
                    <a:pt x="80" y="296"/>
                  </a:lnTo>
                  <a:lnTo>
                    <a:pt x="80" y="181"/>
                  </a:lnTo>
                  <a:lnTo>
                    <a:pt x="127" y="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>
              <a:off x="8114760" y="5612040"/>
              <a:ext cx="409320" cy="701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615" h="1056">
                  <a:moveTo>
                    <a:pt x="204" y="43"/>
                  </a:moveTo>
                  <a:lnTo>
                    <a:pt x="131" y="0"/>
                  </a:lnTo>
                  <a:lnTo>
                    <a:pt x="36" y="0"/>
                  </a:lnTo>
                  <a:lnTo>
                    <a:pt x="0" y="57"/>
                  </a:lnTo>
                  <a:lnTo>
                    <a:pt x="15" y="143"/>
                  </a:lnTo>
                  <a:lnTo>
                    <a:pt x="99" y="227"/>
                  </a:lnTo>
                  <a:lnTo>
                    <a:pt x="272" y="304"/>
                  </a:lnTo>
                  <a:lnTo>
                    <a:pt x="472" y="469"/>
                  </a:lnTo>
                  <a:lnTo>
                    <a:pt x="503" y="540"/>
                  </a:lnTo>
                  <a:lnTo>
                    <a:pt x="488" y="573"/>
                  </a:lnTo>
                  <a:lnTo>
                    <a:pt x="335" y="682"/>
                  </a:lnTo>
                  <a:lnTo>
                    <a:pt x="157" y="811"/>
                  </a:lnTo>
                  <a:lnTo>
                    <a:pt x="115" y="867"/>
                  </a:lnTo>
                  <a:lnTo>
                    <a:pt x="115" y="925"/>
                  </a:lnTo>
                  <a:lnTo>
                    <a:pt x="251" y="986"/>
                  </a:lnTo>
                  <a:lnTo>
                    <a:pt x="461" y="1056"/>
                  </a:lnTo>
                  <a:lnTo>
                    <a:pt x="535" y="1056"/>
                  </a:lnTo>
                  <a:lnTo>
                    <a:pt x="615" y="1009"/>
                  </a:lnTo>
                  <a:lnTo>
                    <a:pt x="615" y="972"/>
                  </a:lnTo>
                  <a:lnTo>
                    <a:pt x="556" y="953"/>
                  </a:lnTo>
                  <a:lnTo>
                    <a:pt x="288" y="925"/>
                  </a:lnTo>
                  <a:lnTo>
                    <a:pt x="189" y="901"/>
                  </a:lnTo>
                  <a:lnTo>
                    <a:pt x="178" y="859"/>
                  </a:lnTo>
                  <a:lnTo>
                    <a:pt x="351" y="740"/>
                  </a:lnTo>
                  <a:lnTo>
                    <a:pt x="540" y="626"/>
                  </a:lnTo>
                  <a:lnTo>
                    <a:pt x="582" y="584"/>
                  </a:lnTo>
                  <a:lnTo>
                    <a:pt x="598" y="526"/>
                  </a:lnTo>
                  <a:lnTo>
                    <a:pt x="582" y="446"/>
                  </a:lnTo>
                  <a:lnTo>
                    <a:pt x="524" y="385"/>
                  </a:lnTo>
                  <a:lnTo>
                    <a:pt x="335" y="176"/>
                  </a:lnTo>
                  <a:lnTo>
                    <a:pt x="204" y="4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>
              <a:off x="7576200" y="5577480"/>
              <a:ext cx="509040" cy="746640"/>
            </a:xfrm>
            <a:custGeom>
              <a:avLst/>
              <a:gdLst>
                <a:gd name="textAreaLeft" fmla="*/ 0 w 509040"/>
                <a:gd name="textAreaRight" fmla="*/ 509400 w 509040"/>
                <a:gd name="textAreaTop" fmla="*/ 0 h 746640"/>
                <a:gd name="textAreaBottom" fmla="*/ 747000 h 746640"/>
              </a:gdLst>
              <a:ahLst/>
              <a:rect l="textAreaLeft" t="textAreaTop" r="textAreaRight" b="textAreaBottom"/>
              <a:pathLst>
                <a:path w="766" h="1125">
                  <a:moveTo>
                    <a:pt x="416" y="152"/>
                  </a:moveTo>
                  <a:lnTo>
                    <a:pt x="539" y="56"/>
                  </a:lnTo>
                  <a:lnTo>
                    <a:pt x="654" y="0"/>
                  </a:lnTo>
                  <a:lnTo>
                    <a:pt x="727" y="9"/>
                  </a:lnTo>
                  <a:lnTo>
                    <a:pt x="766" y="56"/>
                  </a:lnTo>
                  <a:lnTo>
                    <a:pt x="766" y="109"/>
                  </a:lnTo>
                  <a:lnTo>
                    <a:pt x="743" y="166"/>
                  </a:lnTo>
                  <a:lnTo>
                    <a:pt x="664" y="200"/>
                  </a:lnTo>
                  <a:lnTo>
                    <a:pt x="505" y="280"/>
                  </a:lnTo>
                  <a:lnTo>
                    <a:pt x="411" y="380"/>
                  </a:lnTo>
                  <a:lnTo>
                    <a:pt x="348" y="499"/>
                  </a:lnTo>
                  <a:lnTo>
                    <a:pt x="332" y="569"/>
                  </a:lnTo>
                  <a:lnTo>
                    <a:pt x="416" y="654"/>
                  </a:lnTo>
                  <a:lnTo>
                    <a:pt x="505" y="779"/>
                  </a:lnTo>
                  <a:lnTo>
                    <a:pt x="570" y="892"/>
                  </a:lnTo>
                  <a:lnTo>
                    <a:pt x="586" y="964"/>
                  </a:lnTo>
                  <a:lnTo>
                    <a:pt x="586" y="1006"/>
                  </a:lnTo>
                  <a:lnTo>
                    <a:pt x="544" y="1034"/>
                  </a:lnTo>
                  <a:lnTo>
                    <a:pt x="411" y="1039"/>
                  </a:lnTo>
                  <a:lnTo>
                    <a:pt x="210" y="1081"/>
                  </a:lnTo>
                  <a:lnTo>
                    <a:pt x="173" y="1120"/>
                  </a:lnTo>
                  <a:lnTo>
                    <a:pt x="142" y="1125"/>
                  </a:lnTo>
                  <a:lnTo>
                    <a:pt x="0" y="1081"/>
                  </a:lnTo>
                  <a:lnTo>
                    <a:pt x="0" y="1039"/>
                  </a:lnTo>
                  <a:lnTo>
                    <a:pt x="63" y="1006"/>
                  </a:lnTo>
                  <a:lnTo>
                    <a:pt x="316" y="964"/>
                  </a:lnTo>
                  <a:lnTo>
                    <a:pt x="448" y="978"/>
                  </a:lnTo>
                  <a:lnTo>
                    <a:pt x="512" y="978"/>
                  </a:lnTo>
                  <a:lnTo>
                    <a:pt x="528" y="954"/>
                  </a:lnTo>
                  <a:lnTo>
                    <a:pt x="474" y="849"/>
                  </a:lnTo>
                  <a:lnTo>
                    <a:pt x="364" y="712"/>
                  </a:lnTo>
                  <a:lnTo>
                    <a:pt x="285" y="612"/>
                  </a:lnTo>
                  <a:lnTo>
                    <a:pt x="253" y="555"/>
                  </a:lnTo>
                  <a:lnTo>
                    <a:pt x="253" y="469"/>
                  </a:lnTo>
                  <a:lnTo>
                    <a:pt x="306" y="327"/>
                  </a:lnTo>
                  <a:lnTo>
                    <a:pt x="353" y="238"/>
                  </a:lnTo>
                  <a:lnTo>
                    <a:pt x="416" y="15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>
              <a:off x="7303680" y="4979160"/>
              <a:ext cx="688320" cy="558000"/>
            </a:xfrm>
            <a:custGeom>
              <a:avLst/>
              <a:gdLst>
                <a:gd name="textAreaLeft" fmla="*/ 0 w 688320"/>
                <a:gd name="textAreaRight" fmla="*/ 688680 w 688320"/>
                <a:gd name="textAreaTop" fmla="*/ 0 h 558000"/>
                <a:gd name="textAreaBottom" fmla="*/ 558360 h 558000"/>
              </a:gdLst>
              <a:ahLst/>
              <a:rect l="textAreaLeft" t="textAreaTop" r="textAreaRight" b="textAreaBottom"/>
              <a:pathLst>
                <a:path w="1035" h="840">
                  <a:moveTo>
                    <a:pt x="621" y="840"/>
                  </a:moveTo>
                  <a:lnTo>
                    <a:pt x="685" y="833"/>
                  </a:lnTo>
                  <a:lnTo>
                    <a:pt x="705" y="786"/>
                  </a:lnTo>
                  <a:lnTo>
                    <a:pt x="722" y="616"/>
                  </a:lnTo>
                  <a:lnTo>
                    <a:pt x="818" y="417"/>
                  </a:lnTo>
                  <a:lnTo>
                    <a:pt x="918" y="326"/>
                  </a:lnTo>
                  <a:lnTo>
                    <a:pt x="1035" y="231"/>
                  </a:lnTo>
                  <a:lnTo>
                    <a:pt x="1025" y="165"/>
                  </a:lnTo>
                  <a:lnTo>
                    <a:pt x="955" y="130"/>
                  </a:lnTo>
                  <a:lnTo>
                    <a:pt x="867" y="165"/>
                  </a:lnTo>
                  <a:lnTo>
                    <a:pt x="771" y="261"/>
                  </a:lnTo>
                  <a:lnTo>
                    <a:pt x="682" y="471"/>
                  </a:lnTo>
                  <a:lnTo>
                    <a:pt x="643" y="633"/>
                  </a:lnTo>
                  <a:lnTo>
                    <a:pt x="617" y="719"/>
                  </a:lnTo>
                  <a:lnTo>
                    <a:pt x="544" y="688"/>
                  </a:lnTo>
                  <a:lnTo>
                    <a:pt x="462" y="548"/>
                  </a:lnTo>
                  <a:lnTo>
                    <a:pt x="393" y="354"/>
                  </a:lnTo>
                  <a:lnTo>
                    <a:pt x="406" y="266"/>
                  </a:lnTo>
                  <a:lnTo>
                    <a:pt x="444" y="173"/>
                  </a:lnTo>
                  <a:lnTo>
                    <a:pt x="460" y="105"/>
                  </a:lnTo>
                  <a:lnTo>
                    <a:pt x="292" y="102"/>
                  </a:lnTo>
                  <a:lnTo>
                    <a:pt x="124" y="74"/>
                  </a:lnTo>
                  <a:lnTo>
                    <a:pt x="45" y="0"/>
                  </a:lnTo>
                  <a:lnTo>
                    <a:pt x="0" y="35"/>
                  </a:lnTo>
                  <a:lnTo>
                    <a:pt x="61" y="161"/>
                  </a:lnTo>
                  <a:lnTo>
                    <a:pt x="196" y="175"/>
                  </a:lnTo>
                  <a:lnTo>
                    <a:pt x="341" y="189"/>
                  </a:lnTo>
                  <a:lnTo>
                    <a:pt x="344" y="299"/>
                  </a:lnTo>
                  <a:lnTo>
                    <a:pt x="358" y="427"/>
                  </a:lnTo>
                  <a:lnTo>
                    <a:pt x="407" y="570"/>
                  </a:lnTo>
                  <a:lnTo>
                    <a:pt x="469" y="712"/>
                  </a:lnTo>
                  <a:lnTo>
                    <a:pt x="561" y="807"/>
                  </a:lnTo>
                  <a:lnTo>
                    <a:pt x="621" y="84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11"/>
            <p:cNvSpPr/>
            <p:nvPr/>
          </p:nvSpPr>
          <p:spPr>
            <a:xfrm>
              <a:off x="8332560" y="4308120"/>
              <a:ext cx="506160" cy="75348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753480"/>
                <a:gd name="textAreaBottom" fmla="*/ 753840 h 753480"/>
              </a:gdLst>
              <a:ahLst/>
              <a:rect l="textAreaLeft" t="textAreaTop" r="textAreaRight" b="textAreaBottom"/>
              <a:pathLst>
                <a:path w="762" h="1135">
                  <a:moveTo>
                    <a:pt x="0" y="1125"/>
                  </a:moveTo>
                  <a:lnTo>
                    <a:pt x="0" y="1050"/>
                  </a:lnTo>
                  <a:lnTo>
                    <a:pt x="47" y="992"/>
                  </a:lnTo>
                  <a:lnTo>
                    <a:pt x="253" y="926"/>
                  </a:lnTo>
                  <a:lnTo>
                    <a:pt x="509" y="870"/>
                  </a:lnTo>
                  <a:lnTo>
                    <a:pt x="656" y="836"/>
                  </a:lnTo>
                  <a:lnTo>
                    <a:pt x="673" y="807"/>
                  </a:lnTo>
                  <a:lnTo>
                    <a:pt x="603" y="723"/>
                  </a:lnTo>
                  <a:lnTo>
                    <a:pt x="465" y="598"/>
                  </a:lnTo>
                  <a:lnTo>
                    <a:pt x="323" y="493"/>
                  </a:lnTo>
                  <a:lnTo>
                    <a:pt x="211" y="438"/>
                  </a:lnTo>
                  <a:lnTo>
                    <a:pt x="148" y="380"/>
                  </a:lnTo>
                  <a:lnTo>
                    <a:pt x="143" y="338"/>
                  </a:lnTo>
                  <a:lnTo>
                    <a:pt x="180" y="299"/>
                  </a:lnTo>
                  <a:lnTo>
                    <a:pt x="269" y="280"/>
                  </a:lnTo>
                  <a:lnTo>
                    <a:pt x="381" y="208"/>
                  </a:lnTo>
                  <a:lnTo>
                    <a:pt x="397" y="138"/>
                  </a:lnTo>
                  <a:lnTo>
                    <a:pt x="397" y="39"/>
                  </a:lnTo>
                  <a:lnTo>
                    <a:pt x="386" y="0"/>
                  </a:lnTo>
                  <a:lnTo>
                    <a:pt x="428" y="9"/>
                  </a:lnTo>
                  <a:lnTo>
                    <a:pt x="488" y="95"/>
                  </a:lnTo>
                  <a:lnTo>
                    <a:pt x="509" y="186"/>
                  </a:lnTo>
                  <a:lnTo>
                    <a:pt x="444" y="252"/>
                  </a:lnTo>
                  <a:lnTo>
                    <a:pt x="386" y="271"/>
                  </a:lnTo>
                  <a:lnTo>
                    <a:pt x="274" y="324"/>
                  </a:lnTo>
                  <a:lnTo>
                    <a:pt x="253" y="352"/>
                  </a:lnTo>
                  <a:lnTo>
                    <a:pt x="269" y="380"/>
                  </a:lnTo>
                  <a:lnTo>
                    <a:pt x="370" y="457"/>
                  </a:lnTo>
                  <a:lnTo>
                    <a:pt x="477" y="499"/>
                  </a:lnTo>
                  <a:lnTo>
                    <a:pt x="619" y="607"/>
                  </a:lnTo>
                  <a:lnTo>
                    <a:pt x="715" y="737"/>
                  </a:lnTo>
                  <a:lnTo>
                    <a:pt x="762" y="836"/>
                  </a:lnTo>
                  <a:lnTo>
                    <a:pt x="747" y="870"/>
                  </a:lnTo>
                  <a:lnTo>
                    <a:pt x="715" y="892"/>
                  </a:lnTo>
                  <a:lnTo>
                    <a:pt x="593" y="936"/>
                  </a:lnTo>
                  <a:lnTo>
                    <a:pt x="349" y="1008"/>
                  </a:lnTo>
                  <a:lnTo>
                    <a:pt x="196" y="1069"/>
                  </a:lnTo>
                  <a:lnTo>
                    <a:pt x="96" y="1121"/>
                  </a:lnTo>
                  <a:lnTo>
                    <a:pt x="31" y="1135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7835400" y="4419720"/>
              <a:ext cx="394560" cy="536760"/>
            </a:xfrm>
            <a:custGeom>
              <a:avLst/>
              <a:gdLst>
                <a:gd name="textAreaLeft" fmla="*/ 0 w 394560"/>
                <a:gd name="textAreaRight" fmla="*/ 394920 w 39456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595" h="808">
                  <a:moveTo>
                    <a:pt x="121" y="656"/>
                  </a:moveTo>
                  <a:lnTo>
                    <a:pt x="189" y="728"/>
                  </a:lnTo>
                  <a:lnTo>
                    <a:pt x="301" y="794"/>
                  </a:lnTo>
                  <a:lnTo>
                    <a:pt x="395" y="808"/>
                  </a:lnTo>
                  <a:lnTo>
                    <a:pt x="467" y="794"/>
                  </a:lnTo>
                  <a:lnTo>
                    <a:pt x="553" y="738"/>
                  </a:lnTo>
                  <a:lnTo>
                    <a:pt x="584" y="623"/>
                  </a:lnTo>
                  <a:lnTo>
                    <a:pt x="595" y="537"/>
                  </a:lnTo>
                  <a:lnTo>
                    <a:pt x="569" y="456"/>
                  </a:lnTo>
                  <a:lnTo>
                    <a:pt x="520" y="357"/>
                  </a:lnTo>
                  <a:lnTo>
                    <a:pt x="474" y="271"/>
                  </a:lnTo>
                  <a:lnTo>
                    <a:pt x="467" y="252"/>
                  </a:lnTo>
                  <a:lnTo>
                    <a:pt x="488" y="152"/>
                  </a:lnTo>
                  <a:lnTo>
                    <a:pt x="553" y="52"/>
                  </a:lnTo>
                  <a:lnTo>
                    <a:pt x="563" y="23"/>
                  </a:lnTo>
                  <a:lnTo>
                    <a:pt x="530" y="0"/>
                  </a:lnTo>
                  <a:lnTo>
                    <a:pt x="488" y="0"/>
                  </a:lnTo>
                  <a:lnTo>
                    <a:pt x="443" y="129"/>
                  </a:lnTo>
                  <a:lnTo>
                    <a:pt x="422" y="213"/>
                  </a:lnTo>
                  <a:lnTo>
                    <a:pt x="364" y="157"/>
                  </a:lnTo>
                  <a:lnTo>
                    <a:pt x="315" y="114"/>
                  </a:lnTo>
                  <a:lnTo>
                    <a:pt x="215" y="80"/>
                  </a:lnTo>
                  <a:lnTo>
                    <a:pt x="142" y="80"/>
                  </a:lnTo>
                  <a:lnTo>
                    <a:pt x="32" y="129"/>
                  </a:lnTo>
                  <a:lnTo>
                    <a:pt x="0" y="266"/>
                  </a:lnTo>
                  <a:lnTo>
                    <a:pt x="26" y="442"/>
                  </a:lnTo>
                  <a:lnTo>
                    <a:pt x="74" y="609"/>
                  </a:lnTo>
                  <a:lnTo>
                    <a:pt x="121" y="6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7358040" y="3706200"/>
              <a:ext cx="637920" cy="23508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960" h="355">
                  <a:moveTo>
                    <a:pt x="37" y="317"/>
                  </a:moveTo>
                  <a:lnTo>
                    <a:pt x="82" y="324"/>
                  </a:lnTo>
                  <a:lnTo>
                    <a:pt x="199" y="315"/>
                  </a:lnTo>
                  <a:lnTo>
                    <a:pt x="227" y="284"/>
                  </a:lnTo>
                  <a:lnTo>
                    <a:pt x="215" y="231"/>
                  </a:lnTo>
                  <a:lnTo>
                    <a:pt x="185" y="196"/>
                  </a:lnTo>
                  <a:lnTo>
                    <a:pt x="185" y="172"/>
                  </a:lnTo>
                  <a:lnTo>
                    <a:pt x="257" y="140"/>
                  </a:lnTo>
                  <a:lnTo>
                    <a:pt x="345" y="138"/>
                  </a:lnTo>
                  <a:lnTo>
                    <a:pt x="458" y="152"/>
                  </a:lnTo>
                  <a:lnTo>
                    <a:pt x="548" y="189"/>
                  </a:lnTo>
                  <a:lnTo>
                    <a:pt x="593" y="214"/>
                  </a:lnTo>
                  <a:lnTo>
                    <a:pt x="589" y="238"/>
                  </a:lnTo>
                  <a:lnTo>
                    <a:pt x="581" y="277"/>
                  </a:lnTo>
                  <a:lnTo>
                    <a:pt x="588" y="326"/>
                  </a:lnTo>
                  <a:lnTo>
                    <a:pt x="637" y="348"/>
                  </a:lnTo>
                  <a:lnTo>
                    <a:pt x="736" y="355"/>
                  </a:lnTo>
                  <a:lnTo>
                    <a:pt x="808" y="313"/>
                  </a:lnTo>
                  <a:lnTo>
                    <a:pt x="820" y="273"/>
                  </a:lnTo>
                  <a:lnTo>
                    <a:pt x="799" y="210"/>
                  </a:lnTo>
                  <a:lnTo>
                    <a:pt x="764" y="177"/>
                  </a:lnTo>
                  <a:lnTo>
                    <a:pt x="768" y="138"/>
                  </a:lnTo>
                  <a:lnTo>
                    <a:pt x="806" y="131"/>
                  </a:lnTo>
                  <a:lnTo>
                    <a:pt x="845" y="119"/>
                  </a:lnTo>
                  <a:lnTo>
                    <a:pt x="857" y="65"/>
                  </a:lnTo>
                  <a:lnTo>
                    <a:pt x="887" y="25"/>
                  </a:lnTo>
                  <a:lnTo>
                    <a:pt x="960" y="33"/>
                  </a:lnTo>
                  <a:lnTo>
                    <a:pt x="959" y="12"/>
                  </a:lnTo>
                  <a:lnTo>
                    <a:pt x="890" y="0"/>
                  </a:lnTo>
                  <a:lnTo>
                    <a:pt x="861" y="7"/>
                  </a:lnTo>
                  <a:lnTo>
                    <a:pt x="847" y="37"/>
                  </a:lnTo>
                  <a:lnTo>
                    <a:pt x="840" y="75"/>
                  </a:lnTo>
                  <a:lnTo>
                    <a:pt x="829" y="107"/>
                  </a:lnTo>
                  <a:lnTo>
                    <a:pt x="787" y="116"/>
                  </a:lnTo>
                  <a:lnTo>
                    <a:pt x="752" y="117"/>
                  </a:lnTo>
                  <a:lnTo>
                    <a:pt x="740" y="163"/>
                  </a:lnTo>
                  <a:lnTo>
                    <a:pt x="703" y="130"/>
                  </a:lnTo>
                  <a:lnTo>
                    <a:pt x="574" y="95"/>
                  </a:lnTo>
                  <a:lnTo>
                    <a:pt x="436" y="65"/>
                  </a:lnTo>
                  <a:lnTo>
                    <a:pt x="317" y="60"/>
                  </a:lnTo>
                  <a:lnTo>
                    <a:pt x="213" y="74"/>
                  </a:lnTo>
                  <a:lnTo>
                    <a:pt x="128" y="96"/>
                  </a:lnTo>
                  <a:lnTo>
                    <a:pt x="49" y="123"/>
                  </a:lnTo>
                  <a:lnTo>
                    <a:pt x="4" y="214"/>
                  </a:lnTo>
                  <a:lnTo>
                    <a:pt x="0" y="252"/>
                  </a:lnTo>
                  <a:lnTo>
                    <a:pt x="7" y="287"/>
                  </a:lnTo>
                  <a:lnTo>
                    <a:pt x="37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6892920" y="4077000"/>
              <a:ext cx="470520" cy="77364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773640"/>
                <a:gd name="textAreaBottom" fmla="*/ 774000 h 773640"/>
              </a:gdLst>
              <a:ahLst/>
              <a:rect l="textAreaLeft" t="textAreaTop" r="textAreaRight" b="textAreaBottom"/>
              <a:pathLst>
                <a:path w="707" h="1163">
                  <a:moveTo>
                    <a:pt x="403" y="0"/>
                  </a:moveTo>
                  <a:lnTo>
                    <a:pt x="300" y="5"/>
                  </a:lnTo>
                  <a:lnTo>
                    <a:pt x="240" y="98"/>
                  </a:lnTo>
                  <a:lnTo>
                    <a:pt x="74" y="250"/>
                  </a:lnTo>
                  <a:lnTo>
                    <a:pt x="0" y="334"/>
                  </a:lnTo>
                  <a:lnTo>
                    <a:pt x="49" y="554"/>
                  </a:lnTo>
                  <a:lnTo>
                    <a:pt x="88" y="721"/>
                  </a:lnTo>
                  <a:lnTo>
                    <a:pt x="188" y="913"/>
                  </a:lnTo>
                  <a:lnTo>
                    <a:pt x="359" y="1049"/>
                  </a:lnTo>
                  <a:lnTo>
                    <a:pt x="550" y="1163"/>
                  </a:lnTo>
                  <a:lnTo>
                    <a:pt x="555" y="1133"/>
                  </a:lnTo>
                  <a:lnTo>
                    <a:pt x="569" y="1128"/>
                  </a:lnTo>
                  <a:lnTo>
                    <a:pt x="569" y="1114"/>
                  </a:lnTo>
                  <a:lnTo>
                    <a:pt x="569" y="1098"/>
                  </a:lnTo>
                  <a:lnTo>
                    <a:pt x="569" y="1084"/>
                  </a:lnTo>
                  <a:lnTo>
                    <a:pt x="569" y="1070"/>
                  </a:lnTo>
                  <a:lnTo>
                    <a:pt x="585" y="1065"/>
                  </a:lnTo>
                  <a:lnTo>
                    <a:pt x="599" y="1065"/>
                  </a:lnTo>
                  <a:lnTo>
                    <a:pt x="614" y="1065"/>
                  </a:lnTo>
                  <a:lnTo>
                    <a:pt x="628" y="1055"/>
                  </a:lnTo>
                  <a:lnTo>
                    <a:pt x="628" y="1041"/>
                  </a:lnTo>
                  <a:lnTo>
                    <a:pt x="628" y="1025"/>
                  </a:lnTo>
                  <a:lnTo>
                    <a:pt x="628" y="1011"/>
                  </a:lnTo>
                  <a:lnTo>
                    <a:pt x="644" y="1006"/>
                  </a:lnTo>
                  <a:lnTo>
                    <a:pt x="658" y="1006"/>
                  </a:lnTo>
                  <a:lnTo>
                    <a:pt x="672" y="1006"/>
                  </a:lnTo>
                  <a:lnTo>
                    <a:pt x="683" y="992"/>
                  </a:lnTo>
                  <a:lnTo>
                    <a:pt x="677" y="976"/>
                  </a:lnTo>
                  <a:lnTo>
                    <a:pt x="677" y="962"/>
                  </a:lnTo>
                  <a:lnTo>
                    <a:pt x="693" y="951"/>
                  </a:lnTo>
                  <a:lnTo>
                    <a:pt x="707" y="948"/>
                  </a:lnTo>
                  <a:lnTo>
                    <a:pt x="446" y="834"/>
                  </a:lnTo>
                  <a:lnTo>
                    <a:pt x="191" y="505"/>
                  </a:lnTo>
                  <a:lnTo>
                    <a:pt x="202" y="309"/>
                  </a:lnTo>
                  <a:lnTo>
                    <a:pt x="378" y="103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6958080" y="4070160"/>
              <a:ext cx="571320" cy="63648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636480"/>
                <a:gd name="textAreaBottom" fmla="*/ 636840 h 636480"/>
              </a:gdLst>
              <a:ahLst/>
              <a:rect l="textAreaLeft" t="textAreaTop" r="textAreaRight" b="textAreaBottom"/>
              <a:pathLst>
                <a:path w="859" h="959">
                  <a:moveTo>
                    <a:pt x="334" y="104"/>
                  </a:moveTo>
                  <a:lnTo>
                    <a:pt x="383" y="266"/>
                  </a:lnTo>
                  <a:lnTo>
                    <a:pt x="441" y="340"/>
                  </a:lnTo>
                  <a:lnTo>
                    <a:pt x="574" y="424"/>
                  </a:lnTo>
                  <a:lnTo>
                    <a:pt x="766" y="443"/>
                  </a:lnTo>
                  <a:lnTo>
                    <a:pt x="859" y="448"/>
                  </a:lnTo>
                  <a:lnTo>
                    <a:pt x="845" y="600"/>
                  </a:lnTo>
                  <a:lnTo>
                    <a:pt x="775" y="777"/>
                  </a:lnTo>
                  <a:lnTo>
                    <a:pt x="653" y="920"/>
                  </a:lnTo>
                  <a:lnTo>
                    <a:pt x="614" y="959"/>
                  </a:lnTo>
                  <a:lnTo>
                    <a:pt x="378" y="926"/>
                  </a:lnTo>
                  <a:lnTo>
                    <a:pt x="196" y="828"/>
                  </a:lnTo>
                  <a:lnTo>
                    <a:pt x="112" y="728"/>
                  </a:lnTo>
                  <a:lnTo>
                    <a:pt x="39" y="513"/>
                  </a:lnTo>
                  <a:lnTo>
                    <a:pt x="0" y="340"/>
                  </a:lnTo>
                  <a:lnTo>
                    <a:pt x="212" y="130"/>
                  </a:lnTo>
                  <a:lnTo>
                    <a:pt x="315" y="0"/>
                  </a:lnTo>
                  <a:lnTo>
                    <a:pt x="334" y="10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6886440" y="4067640"/>
              <a:ext cx="652320" cy="7866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983" h="1184">
                  <a:moveTo>
                    <a:pt x="98" y="334"/>
                  </a:moveTo>
                  <a:lnTo>
                    <a:pt x="236" y="201"/>
                  </a:lnTo>
                  <a:lnTo>
                    <a:pt x="299" y="133"/>
                  </a:lnTo>
                  <a:lnTo>
                    <a:pt x="378" y="30"/>
                  </a:lnTo>
                  <a:lnTo>
                    <a:pt x="320" y="35"/>
                  </a:lnTo>
                  <a:lnTo>
                    <a:pt x="255" y="133"/>
                  </a:lnTo>
                  <a:lnTo>
                    <a:pt x="192" y="187"/>
                  </a:lnTo>
                  <a:lnTo>
                    <a:pt x="68" y="304"/>
                  </a:lnTo>
                  <a:lnTo>
                    <a:pt x="24" y="353"/>
                  </a:lnTo>
                  <a:lnTo>
                    <a:pt x="59" y="497"/>
                  </a:lnTo>
                  <a:lnTo>
                    <a:pt x="98" y="649"/>
                  </a:lnTo>
                  <a:lnTo>
                    <a:pt x="114" y="737"/>
                  </a:lnTo>
                  <a:lnTo>
                    <a:pt x="147" y="820"/>
                  </a:lnTo>
                  <a:lnTo>
                    <a:pt x="187" y="899"/>
                  </a:lnTo>
                  <a:lnTo>
                    <a:pt x="247" y="959"/>
                  </a:lnTo>
                  <a:lnTo>
                    <a:pt x="350" y="1032"/>
                  </a:lnTo>
                  <a:lnTo>
                    <a:pt x="442" y="1095"/>
                  </a:lnTo>
                  <a:lnTo>
                    <a:pt x="530" y="1144"/>
                  </a:lnTo>
                  <a:lnTo>
                    <a:pt x="551" y="1144"/>
                  </a:lnTo>
                  <a:lnTo>
                    <a:pt x="551" y="1125"/>
                  </a:lnTo>
                  <a:lnTo>
                    <a:pt x="427" y="1051"/>
                  </a:lnTo>
                  <a:lnTo>
                    <a:pt x="285" y="964"/>
                  </a:lnTo>
                  <a:lnTo>
                    <a:pt x="206" y="889"/>
                  </a:lnTo>
                  <a:lnTo>
                    <a:pt x="147" y="777"/>
                  </a:lnTo>
                  <a:lnTo>
                    <a:pt x="128" y="679"/>
                  </a:lnTo>
                  <a:lnTo>
                    <a:pt x="157" y="752"/>
                  </a:lnTo>
                  <a:lnTo>
                    <a:pt x="217" y="869"/>
                  </a:lnTo>
                  <a:lnTo>
                    <a:pt x="285" y="929"/>
                  </a:lnTo>
                  <a:lnTo>
                    <a:pt x="350" y="973"/>
                  </a:lnTo>
                  <a:lnTo>
                    <a:pt x="423" y="1016"/>
                  </a:lnTo>
                  <a:lnTo>
                    <a:pt x="511" y="1081"/>
                  </a:lnTo>
                  <a:lnTo>
                    <a:pt x="556" y="1095"/>
                  </a:lnTo>
                  <a:lnTo>
                    <a:pt x="565" y="1071"/>
                  </a:lnTo>
                  <a:lnTo>
                    <a:pt x="453" y="1008"/>
                  </a:lnTo>
                  <a:lnTo>
                    <a:pt x="526" y="1032"/>
                  </a:lnTo>
                  <a:lnTo>
                    <a:pt x="584" y="1057"/>
                  </a:lnTo>
                  <a:lnTo>
                    <a:pt x="614" y="1057"/>
                  </a:lnTo>
                  <a:lnTo>
                    <a:pt x="619" y="1022"/>
                  </a:lnTo>
                  <a:lnTo>
                    <a:pt x="486" y="988"/>
                  </a:lnTo>
                  <a:lnTo>
                    <a:pt x="383" y="953"/>
                  </a:lnTo>
                  <a:lnTo>
                    <a:pt x="299" y="899"/>
                  </a:lnTo>
                  <a:lnTo>
                    <a:pt x="247" y="840"/>
                  </a:lnTo>
                  <a:lnTo>
                    <a:pt x="212" y="772"/>
                  </a:lnTo>
                  <a:lnTo>
                    <a:pt x="285" y="850"/>
                  </a:lnTo>
                  <a:lnTo>
                    <a:pt x="378" y="918"/>
                  </a:lnTo>
                  <a:lnTo>
                    <a:pt x="477" y="959"/>
                  </a:lnTo>
                  <a:lnTo>
                    <a:pt x="575" y="983"/>
                  </a:lnTo>
                  <a:lnTo>
                    <a:pt x="619" y="997"/>
                  </a:lnTo>
                  <a:lnTo>
                    <a:pt x="649" y="1002"/>
                  </a:lnTo>
                  <a:lnTo>
                    <a:pt x="673" y="1002"/>
                  </a:lnTo>
                  <a:lnTo>
                    <a:pt x="679" y="983"/>
                  </a:lnTo>
                  <a:lnTo>
                    <a:pt x="673" y="967"/>
                  </a:lnTo>
                  <a:lnTo>
                    <a:pt x="546" y="948"/>
                  </a:lnTo>
                  <a:lnTo>
                    <a:pt x="448" y="924"/>
                  </a:lnTo>
                  <a:lnTo>
                    <a:pt x="402" y="899"/>
                  </a:lnTo>
                  <a:lnTo>
                    <a:pt x="334" y="855"/>
                  </a:lnTo>
                  <a:lnTo>
                    <a:pt x="296" y="831"/>
                  </a:lnTo>
                  <a:lnTo>
                    <a:pt x="261" y="791"/>
                  </a:lnTo>
                  <a:lnTo>
                    <a:pt x="217" y="742"/>
                  </a:lnTo>
                  <a:lnTo>
                    <a:pt x="177" y="649"/>
                  </a:lnTo>
                  <a:lnTo>
                    <a:pt x="147" y="555"/>
                  </a:lnTo>
                  <a:lnTo>
                    <a:pt x="117" y="443"/>
                  </a:lnTo>
                  <a:lnTo>
                    <a:pt x="98" y="369"/>
                  </a:lnTo>
                  <a:lnTo>
                    <a:pt x="103" y="353"/>
                  </a:lnTo>
                  <a:lnTo>
                    <a:pt x="117" y="364"/>
                  </a:lnTo>
                  <a:lnTo>
                    <a:pt x="147" y="486"/>
                  </a:lnTo>
                  <a:lnTo>
                    <a:pt x="177" y="590"/>
                  </a:lnTo>
                  <a:lnTo>
                    <a:pt x="217" y="693"/>
                  </a:lnTo>
                  <a:lnTo>
                    <a:pt x="261" y="761"/>
                  </a:lnTo>
                  <a:lnTo>
                    <a:pt x="315" y="820"/>
                  </a:lnTo>
                  <a:lnTo>
                    <a:pt x="402" y="875"/>
                  </a:lnTo>
                  <a:lnTo>
                    <a:pt x="477" y="904"/>
                  </a:lnTo>
                  <a:lnTo>
                    <a:pt x="560" y="929"/>
                  </a:lnTo>
                  <a:lnTo>
                    <a:pt x="649" y="939"/>
                  </a:lnTo>
                  <a:lnTo>
                    <a:pt x="722" y="943"/>
                  </a:lnTo>
                  <a:lnTo>
                    <a:pt x="787" y="880"/>
                  </a:lnTo>
                  <a:lnTo>
                    <a:pt x="831" y="826"/>
                  </a:lnTo>
                  <a:lnTo>
                    <a:pt x="880" y="758"/>
                  </a:lnTo>
                  <a:lnTo>
                    <a:pt x="915" y="682"/>
                  </a:lnTo>
                  <a:lnTo>
                    <a:pt x="939" y="604"/>
                  </a:lnTo>
                  <a:lnTo>
                    <a:pt x="948" y="530"/>
                  </a:lnTo>
                  <a:lnTo>
                    <a:pt x="953" y="462"/>
                  </a:lnTo>
                  <a:lnTo>
                    <a:pt x="845" y="451"/>
                  </a:lnTo>
                  <a:lnTo>
                    <a:pt x="771" y="448"/>
                  </a:lnTo>
                  <a:lnTo>
                    <a:pt x="717" y="443"/>
                  </a:lnTo>
                  <a:lnTo>
                    <a:pt x="673" y="427"/>
                  </a:lnTo>
                  <a:lnTo>
                    <a:pt x="614" y="402"/>
                  </a:lnTo>
                  <a:lnTo>
                    <a:pt x="560" y="369"/>
                  </a:lnTo>
                  <a:lnTo>
                    <a:pt x="505" y="324"/>
                  </a:lnTo>
                  <a:lnTo>
                    <a:pt x="472" y="266"/>
                  </a:lnTo>
                  <a:lnTo>
                    <a:pt x="456" y="212"/>
                  </a:lnTo>
                  <a:lnTo>
                    <a:pt x="432" y="117"/>
                  </a:lnTo>
                  <a:lnTo>
                    <a:pt x="413" y="54"/>
                  </a:lnTo>
                  <a:lnTo>
                    <a:pt x="413" y="39"/>
                  </a:lnTo>
                  <a:lnTo>
                    <a:pt x="423" y="11"/>
                  </a:lnTo>
                  <a:lnTo>
                    <a:pt x="442" y="79"/>
                  </a:lnTo>
                  <a:lnTo>
                    <a:pt x="456" y="128"/>
                  </a:lnTo>
                  <a:lnTo>
                    <a:pt x="477" y="201"/>
                  </a:lnTo>
                  <a:lnTo>
                    <a:pt x="502" y="266"/>
                  </a:lnTo>
                  <a:lnTo>
                    <a:pt x="535" y="320"/>
                  </a:lnTo>
                  <a:lnTo>
                    <a:pt x="581" y="348"/>
                  </a:lnTo>
                  <a:lnTo>
                    <a:pt x="633" y="378"/>
                  </a:lnTo>
                  <a:lnTo>
                    <a:pt x="684" y="402"/>
                  </a:lnTo>
                  <a:lnTo>
                    <a:pt x="742" y="413"/>
                  </a:lnTo>
                  <a:lnTo>
                    <a:pt x="820" y="423"/>
                  </a:lnTo>
                  <a:lnTo>
                    <a:pt x="904" y="432"/>
                  </a:lnTo>
                  <a:lnTo>
                    <a:pt x="972" y="437"/>
                  </a:lnTo>
                  <a:lnTo>
                    <a:pt x="983" y="437"/>
                  </a:lnTo>
                  <a:lnTo>
                    <a:pt x="983" y="467"/>
                  </a:lnTo>
                  <a:lnTo>
                    <a:pt x="972" y="579"/>
                  </a:lnTo>
                  <a:lnTo>
                    <a:pt x="948" y="693"/>
                  </a:lnTo>
                  <a:lnTo>
                    <a:pt x="894" y="786"/>
                  </a:lnTo>
                  <a:lnTo>
                    <a:pt x="855" y="845"/>
                  </a:lnTo>
                  <a:lnTo>
                    <a:pt x="806" y="904"/>
                  </a:lnTo>
                  <a:lnTo>
                    <a:pt x="757" y="953"/>
                  </a:lnTo>
                  <a:lnTo>
                    <a:pt x="738" y="988"/>
                  </a:lnTo>
                  <a:lnTo>
                    <a:pt x="708" y="1002"/>
                  </a:lnTo>
                  <a:lnTo>
                    <a:pt x="708" y="1022"/>
                  </a:lnTo>
                  <a:lnTo>
                    <a:pt x="698" y="1037"/>
                  </a:lnTo>
                  <a:lnTo>
                    <a:pt x="684" y="1046"/>
                  </a:lnTo>
                  <a:lnTo>
                    <a:pt x="659" y="1046"/>
                  </a:lnTo>
                  <a:lnTo>
                    <a:pt x="654" y="1057"/>
                  </a:lnTo>
                  <a:lnTo>
                    <a:pt x="654" y="1071"/>
                  </a:lnTo>
                  <a:lnTo>
                    <a:pt x="638" y="1086"/>
                  </a:lnTo>
                  <a:lnTo>
                    <a:pt x="609" y="1086"/>
                  </a:lnTo>
                  <a:lnTo>
                    <a:pt x="600" y="1111"/>
                  </a:lnTo>
                  <a:lnTo>
                    <a:pt x="595" y="1130"/>
                  </a:lnTo>
                  <a:lnTo>
                    <a:pt x="584" y="1144"/>
                  </a:lnTo>
                  <a:lnTo>
                    <a:pt x="570" y="1170"/>
                  </a:lnTo>
                  <a:lnTo>
                    <a:pt x="540" y="1184"/>
                  </a:lnTo>
                  <a:lnTo>
                    <a:pt x="467" y="1141"/>
                  </a:lnTo>
                  <a:lnTo>
                    <a:pt x="339" y="1062"/>
                  </a:lnTo>
                  <a:lnTo>
                    <a:pt x="280" y="1008"/>
                  </a:lnTo>
                  <a:lnTo>
                    <a:pt x="196" y="948"/>
                  </a:lnTo>
                  <a:lnTo>
                    <a:pt x="157" y="899"/>
                  </a:lnTo>
                  <a:lnTo>
                    <a:pt x="122" y="826"/>
                  </a:lnTo>
                  <a:lnTo>
                    <a:pt x="93" y="752"/>
                  </a:lnTo>
                  <a:lnTo>
                    <a:pt x="73" y="698"/>
                  </a:lnTo>
                  <a:lnTo>
                    <a:pt x="59" y="595"/>
                  </a:lnTo>
                  <a:lnTo>
                    <a:pt x="35" y="492"/>
                  </a:lnTo>
                  <a:lnTo>
                    <a:pt x="5" y="399"/>
                  </a:lnTo>
                  <a:lnTo>
                    <a:pt x="0" y="339"/>
                  </a:lnTo>
                  <a:lnTo>
                    <a:pt x="89" y="245"/>
                  </a:lnTo>
                  <a:lnTo>
                    <a:pt x="177" y="166"/>
                  </a:lnTo>
                  <a:lnTo>
                    <a:pt x="241" y="109"/>
                  </a:lnTo>
                  <a:lnTo>
                    <a:pt x="266" y="63"/>
                  </a:lnTo>
                  <a:lnTo>
                    <a:pt x="299" y="0"/>
                  </a:lnTo>
                  <a:lnTo>
                    <a:pt x="423" y="11"/>
                  </a:lnTo>
                  <a:lnTo>
                    <a:pt x="383" y="68"/>
                  </a:lnTo>
                  <a:lnTo>
                    <a:pt x="329" y="138"/>
                  </a:lnTo>
                  <a:lnTo>
                    <a:pt x="236" y="226"/>
                  </a:lnTo>
                  <a:lnTo>
                    <a:pt x="168" y="291"/>
                  </a:lnTo>
                  <a:lnTo>
                    <a:pt x="98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7020360" y="4197600"/>
              <a:ext cx="434520" cy="438480"/>
            </a:xfrm>
            <a:custGeom>
              <a:avLst/>
              <a:gdLst>
                <a:gd name="textAreaLeft" fmla="*/ 0 w 434520"/>
                <a:gd name="textAreaRight" fmla="*/ 434880 w 4345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654" h="661">
                  <a:moveTo>
                    <a:pt x="0" y="192"/>
                  </a:moveTo>
                  <a:lnTo>
                    <a:pt x="187" y="0"/>
                  </a:lnTo>
                  <a:lnTo>
                    <a:pt x="208" y="89"/>
                  </a:lnTo>
                  <a:lnTo>
                    <a:pt x="241" y="182"/>
                  </a:lnTo>
                  <a:lnTo>
                    <a:pt x="296" y="241"/>
                  </a:lnTo>
                  <a:lnTo>
                    <a:pt x="380" y="287"/>
                  </a:lnTo>
                  <a:lnTo>
                    <a:pt x="478" y="320"/>
                  </a:lnTo>
                  <a:lnTo>
                    <a:pt x="572" y="320"/>
                  </a:lnTo>
                  <a:lnTo>
                    <a:pt x="654" y="325"/>
                  </a:lnTo>
                  <a:lnTo>
                    <a:pt x="651" y="390"/>
                  </a:lnTo>
                  <a:lnTo>
                    <a:pt x="621" y="488"/>
                  </a:lnTo>
                  <a:lnTo>
                    <a:pt x="567" y="567"/>
                  </a:lnTo>
                  <a:lnTo>
                    <a:pt x="507" y="631"/>
                  </a:lnTo>
                  <a:lnTo>
                    <a:pt x="483" y="661"/>
                  </a:lnTo>
                  <a:lnTo>
                    <a:pt x="355" y="651"/>
                  </a:lnTo>
                  <a:lnTo>
                    <a:pt x="241" y="626"/>
                  </a:lnTo>
                  <a:lnTo>
                    <a:pt x="158" y="572"/>
                  </a:lnTo>
                  <a:lnTo>
                    <a:pt x="114" y="513"/>
                  </a:lnTo>
                  <a:lnTo>
                    <a:pt x="70" y="439"/>
                  </a:lnTo>
                  <a:lnTo>
                    <a:pt x="40" y="350"/>
                  </a:lnTo>
                  <a:lnTo>
                    <a:pt x="16" y="25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9"/>
            <p:cNvSpPr/>
            <p:nvPr/>
          </p:nvSpPr>
          <p:spPr>
            <a:xfrm flipV="1">
              <a:off x="7041960" y="4265280"/>
              <a:ext cx="115560" cy="132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7063200" y="4326840"/>
              <a:ext cx="116640" cy="1407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76" h="214">
                  <a:moveTo>
                    <a:pt x="176" y="0"/>
                  </a:moveTo>
                  <a:lnTo>
                    <a:pt x="112" y="88"/>
                  </a:lnTo>
                  <a:lnTo>
                    <a:pt x="33" y="175"/>
                  </a:lnTo>
                  <a:lnTo>
                    <a:pt x="0" y="21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7105680" y="4370760"/>
              <a:ext cx="119520" cy="16992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80" h="255">
                  <a:moveTo>
                    <a:pt x="180" y="0"/>
                  </a:moveTo>
                  <a:lnTo>
                    <a:pt x="141" y="84"/>
                  </a:lnTo>
                  <a:lnTo>
                    <a:pt x="73" y="187"/>
                  </a:lnTo>
                  <a:lnTo>
                    <a:pt x="0" y="25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7170840" y="4402800"/>
              <a:ext cx="123480" cy="2016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86" h="302">
                  <a:moveTo>
                    <a:pt x="186" y="0"/>
                  </a:moveTo>
                  <a:lnTo>
                    <a:pt x="156" y="108"/>
                  </a:lnTo>
                  <a:lnTo>
                    <a:pt x="98" y="194"/>
                  </a:lnTo>
                  <a:lnTo>
                    <a:pt x="35" y="267"/>
                  </a:lnTo>
                  <a:lnTo>
                    <a:pt x="0" y="30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7251840" y="4419720"/>
              <a:ext cx="120600" cy="2055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84" h="309">
                  <a:moveTo>
                    <a:pt x="184" y="0"/>
                  </a:moveTo>
                  <a:lnTo>
                    <a:pt x="173" y="68"/>
                  </a:lnTo>
                  <a:lnTo>
                    <a:pt x="144" y="147"/>
                  </a:lnTo>
                  <a:lnTo>
                    <a:pt x="84" y="217"/>
                  </a:lnTo>
                  <a:lnTo>
                    <a:pt x="46" y="261"/>
                  </a:lnTo>
                  <a:lnTo>
                    <a:pt x="0" y="30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7121520" y="4236480"/>
              <a:ext cx="324000" cy="2271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488" h="341">
                  <a:moveTo>
                    <a:pt x="0" y="0"/>
                  </a:moveTo>
                  <a:lnTo>
                    <a:pt x="11" y="78"/>
                  </a:lnTo>
                  <a:lnTo>
                    <a:pt x="30" y="157"/>
                  </a:lnTo>
                  <a:lnTo>
                    <a:pt x="60" y="216"/>
                  </a:lnTo>
                  <a:lnTo>
                    <a:pt x="98" y="262"/>
                  </a:lnTo>
                  <a:lnTo>
                    <a:pt x="173" y="286"/>
                  </a:lnTo>
                  <a:lnTo>
                    <a:pt x="236" y="311"/>
                  </a:lnTo>
                  <a:lnTo>
                    <a:pt x="301" y="330"/>
                  </a:lnTo>
                  <a:lnTo>
                    <a:pt x="394" y="335"/>
                  </a:lnTo>
                  <a:lnTo>
                    <a:pt x="488" y="34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25"/>
            <p:cNvSpPr/>
            <p:nvPr/>
          </p:nvSpPr>
          <p:spPr>
            <a:xfrm>
              <a:off x="7081560" y="4276440"/>
              <a:ext cx="349560" cy="24552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526" h="369">
                  <a:moveTo>
                    <a:pt x="0" y="0"/>
                  </a:moveTo>
                  <a:lnTo>
                    <a:pt x="24" y="117"/>
                  </a:lnTo>
                  <a:lnTo>
                    <a:pt x="54" y="187"/>
                  </a:lnTo>
                  <a:lnTo>
                    <a:pt x="89" y="241"/>
                  </a:lnTo>
                  <a:lnTo>
                    <a:pt x="147" y="280"/>
                  </a:lnTo>
                  <a:lnTo>
                    <a:pt x="217" y="315"/>
                  </a:lnTo>
                  <a:lnTo>
                    <a:pt x="301" y="345"/>
                  </a:lnTo>
                  <a:lnTo>
                    <a:pt x="418" y="359"/>
                  </a:lnTo>
                  <a:lnTo>
                    <a:pt x="526" y="36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>
              <a:off x="7052400" y="4316040"/>
              <a:ext cx="297720" cy="26028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448" h="392">
                  <a:moveTo>
                    <a:pt x="0" y="0"/>
                  </a:moveTo>
                  <a:lnTo>
                    <a:pt x="46" y="172"/>
                  </a:lnTo>
                  <a:lnTo>
                    <a:pt x="114" y="265"/>
                  </a:lnTo>
                  <a:lnTo>
                    <a:pt x="198" y="333"/>
                  </a:lnTo>
                  <a:lnTo>
                    <a:pt x="276" y="368"/>
                  </a:lnTo>
                  <a:lnTo>
                    <a:pt x="360" y="387"/>
                  </a:lnTo>
                  <a:lnTo>
                    <a:pt x="448" y="39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Group 30"/>
            <p:cNvGrpSpPr/>
            <p:nvPr/>
          </p:nvGrpSpPr>
          <p:grpSpPr>
            <a:xfrm>
              <a:off x="8142480" y="3581280"/>
              <a:ext cx="560880" cy="373320"/>
              <a:chOff x="8142480" y="3581280"/>
              <a:chExt cx="560880" cy="373320"/>
            </a:xfrm>
          </p:grpSpPr>
          <p:sp>
            <p:nvSpPr>
              <p:cNvPr id="147" name="Freeform 28"/>
              <p:cNvSpPr/>
              <p:nvPr/>
            </p:nvSpPr>
            <p:spPr>
              <a:xfrm>
                <a:off x="8155440" y="3592080"/>
                <a:ext cx="538200" cy="354600"/>
              </a:xfrm>
              <a:custGeom>
                <a:avLst/>
                <a:gdLst>
                  <a:gd name="textAreaLeft" fmla="*/ 0 w 538200"/>
                  <a:gd name="textAreaRight" fmla="*/ 538560 w 538200"/>
                  <a:gd name="textAreaTop" fmla="*/ 0 h 354600"/>
                  <a:gd name="textAreaBottom" fmla="*/ 354960 h 354600"/>
                </a:gdLst>
                <a:ahLst/>
                <a:rect l="textAreaLeft" t="textAreaTop" r="textAreaRight" b="textAreaBottom"/>
                <a:pathLst>
                  <a:path w="810" h="535">
                    <a:moveTo>
                      <a:pt x="61" y="0"/>
                    </a:moveTo>
                    <a:lnTo>
                      <a:pt x="24" y="215"/>
                    </a:lnTo>
                    <a:lnTo>
                      <a:pt x="0" y="360"/>
                    </a:lnTo>
                    <a:lnTo>
                      <a:pt x="2" y="399"/>
                    </a:lnTo>
                    <a:lnTo>
                      <a:pt x="210" y="427"/>
                    </a:lnTo>
                    <a:lnTo>
                      <a:pt x="456" y="477"/>
                    </a:lnTo>
                    <a:lnTo>
                      <a:pt x="605" y="509"/>
                    </a:lnTo>
                    <a:lnTo>
                      <a:pt x="703" y="533"/>
                    </a:lnTo>
                    <a:lnTo>
                      <a:pt x="720" y="535"/>
                    </a:lnTo>
                    <a:lnTo>
                      <a:pt x="736" y="517"/>
                    </a:lnTo>
                    <a:lnTo>
                      <a:pt x="752" y="435"/>
                    </a:lnTo>
                    <a:lnTo>
                      <a:pt x="771" y="348"/>
                    </a:lnTo>
                    <a:lnTo>
                      <a:pt x="789" y="266"/>
                    </a:lnTo>
                    <a:lnTo>
                      <a:pt x="799" y="206"/>
                    </a:lnTo>
                    <a:lnTo>
                      <a:pt x="810" y="152"/>
                    </a:lnTo>
                    <a:lnTo>
                      <a:pt x="794" y="133"/>
                    </a:lnTo>
                    <a:lnTo>
                      <a:pt x="549" y="94"/>
                    </a:lnTo>
                    <a:lnTo>
                      <a:pt x="444" y="75"/>
                    </a:lnTo>
                    <a:lnTo>
                      <a:pt x="260" y="36"/>
                    </a:lnTo>
                    <a:lnTo>
                      <a:pt x="161" y="10"/>
                    </a:lnTo>
                    <a:lnTo>
                      <a:pt x="82" y="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29"/>
              <p:cNvSpPr/>
              <p:nvPr/>
            </p:nvSpPr>
            <p:spPr>
              <a:xfrm>
                <a:off x="8142480" y="3581280"/>
                <a:ext cx="560880" cy="373320"/>
              </a:xfrm>
              <a:custGeom>
                <a:avLst/>
                <a:gdLst>
                  <a:gd name="textAreaLeft" fmla="*/ 0 w 560880"/>
                  <a:gd name="textAreaRight" fmla="*/ 561240 w 56088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843" h="561">
                    <a:moveTo>
                      <a:pt x="87" y="0"/>
                    </a:moveTo>
                    <a:lnTo>
                      <a:pt x="265" y="38"/>
                    </a:lnTo>
                    <a:lnTo>
                      <a:pt x="479" y="87"/>
                    </a:lnTo>
                    <a:lnTo>
                      <a:pt x="608" y="105"/>
                    </a:lnTo>
                    <a:lnTo>
                      <a:pt x="743" y="122"/>
                    </a:lnTo>
                    <a:lnTo>
                      <a:pt x="829" y="135"/>
                    </a:lnTo>
                    <a:lnTo>
                      <a:pt x="843" y="161"/>
                    </a:lnTo>
                    <a:lnTo>
                      <a:pt x="829" y="226"/>
                    </a:lnTo>
                    <a:lnTo>
                      <a:pt x="801" y="367"/>
                    </a:lnTo>
                    <a:lnTo>
                      <a:pt x="781" y="488"/>
                    </a:lnTo>
                    <a:lnTo>
                      <a:pt x="766" y="549"/>
                    </a:lnTo>
                    <a:lnTo>
                      <a:pt x="739" y="561"/>
                    </a:lnTo>
                    <a:lnTo>
                      <a:pt x="309" y="472"/>
                    </a:lnTo>
                    <a:lnTo>
                      <a:pt x="14" y="429"/>
                    </a:lnTo>
                    <a:lnTo>
                      <a:pt x="0" y="411"/>
                    </a:lnTo>
                    <a:lnTo>
                      <a:pt x="29" y="266"/>
                    </a:lnTo>
                    <a:lnTo>
                      <a:pt x="52" y="140"/>
                    </a:lnTo>
                    <a:lnTo>
                      <a:pt x="70" y="24"/>
                    </a:lnTo>
                    <a:lnTo>
                      <a:pt x="89" y="37"/>
                    </a:lnTo>
                    <a:lnTo>
                      <a:pt x="99" y="75"/>
                    </a:lnTo>
                    <a:lnTo>
                      <a:pt x="423" y="322"/>
                    </a:lnTo>
                    <a:lnTo>
                      <a:pt x="820" y="226"/>
                    </a:lnTo>
                    <a:lnTo>
                      <a:pt x="811" y="243"/>
                    </a:lnTo>
                    <a:lnTo>
                      <a:pt x="430" y="352"/>
                    </a:lnTo>
                    <a:lnTo>
                      <a:pt x="407" y="345"/>
                    </a:lnTo>
                    <a:lnTo>
                      <a:pt x="94" y="105"/>
                    </a:lnTo>
                    <a:lnTo>
                      <a:pt x="75" y="117"/>
                    </a:lnTo>
                    <a:lnTo>
                      <a:pt x="49" y="268"/>
                    </a:lnTo>
                    <a:lnTo>
                      <a:pt x="232" y="254"/>
                    </a:lnTo>
                    <a:lnTo>
                      <a:pt x="40" y="289"/>
                    </a:lnTo>
                    <a:lnTo>
                      <a:pt x="31" y="390"/>
                    </a:lnTo>
                    <a:lnTo>
                      <a:pt x="38" y="401"/>
                    </a:lnTo>
                    <a:lnTo>
                      <a:pt x="251" y="439"/>
                    </a:lnTo>
                    <a:lnTo>
                      <a:pt x="458" y="474"/>
                    </a:lnTo>
                    <a:lnTo>
                      <a:pt x="612" y="509"/>
                    </a:lnTo>
                    <a:lnTo>
                      <a:pt x="722" y="540"/>
                    </a:lnTo>
                    <a:lnTo>
                      <a:pt x="748" y="533"/>
                    </a:lnTo>
                    <a:lnTo>
                      <a:pt x="762" y="451"/>
                    </a:lnTo>
                    <a:lnTo>
                      <a:pt x="547" y="318"/>
                    </a:lnTo>
                    <a:lnTo>
                      <a:pt x="568" y="303"/>
                    </a:lnTo>
                    <a:lnTo>
                      <a:pt x="769" y="413"/>
                    </a:lnTo>
                    <a:lnTo>
                      <a:pt x="790" y="318"/>
                    </a:lnTo>
                    <a:lnTo>
                      <a:pt x="815" y="231"/>
                    </a:lnTo>
                    <a:lnTo>
                      <a:pt x="820" y="171"/>
                    </a:lnTo>
                    <a:lnTo>
                      <a:pt x="727" y="157"/>
                    </a:lnTo>
                    <a:lnTo>
                      <a:pt x="486" y="107"/>
                    </a:lnTo>
                    <a:lnTo>
                      <a:pt x="175" y="38"/>
                    </a:lnTo>
                    <a:lnTo>
                      <a:pt x="85" y="19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33"/>
            <p:cNvGrpSpPr/>
            <p:nvPr/>
          </p:nvGrpSpPr>
          <p:grpSpPr>
            <a:xfrm>
              <a:off x="8202240" y="3648960"/>
              <a:ext cx="579240" cy="449280"/>
              <a:chOff x="8202240" y="3648960"/>
              <a:chExt cx="579240" cy="449280"/>
            </a:xfrm>
          </p:grpSpPr>
          <p:sp>
            <p:nvSpPr>
              <p:cNvPr id="150" name="Freeform 31"/>
              <p:cNvSpPr/>
              <p:nvPr/>
            </p:nvSpPr>
            <p:spPr>
              <a:xfrm>
                <a:off x="8213760" y="3657960"/>
                <a:ext cx="560880" cy="430560"/>
              </a:xfrm>
              <a:custGeom>
                <a:avLst/>
                <a:gdLst>
                  <a:gd name="textAreaLeft" fmla="*/ 0 w 560880"/>
                  <a:gd name="textAreaRight" fmla="*/ 561240 w 56088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845" h="649">
                    <a:moveTo>
                      <a:pt x="137" y="0"/>
                    </a:moveTo>
                    <a:lnTo>
                      <a:pt x="60" y="202"/>
                    </a:lnTo>
                    <a:lnTo>
                      <a:pt x="7" y="338"/>
                    </a:lnTo>
                    <a:lnTo>
                      <a:pt x="0" y="380"/>
                    </a:lnTo>
                    <a:lnTo>
                      <a:pt x="201" y="445"/>
                    </a:lnTo>
                    <a:lnTo>
                      <a:pt x="434" y="541"/>
                    </a:lnTo>
                    <a:lnTo>
                      <a:pt x="576" y="600"/>
                    </a:lnTo>
                    <a:lnTo>
                      <a:pt x="667" y="642"/>
                    </a:lnTo>
                    <a:lnTo>
                      <a:pt x="684" y="649"/>
                    </a:lnTo>
                    <a:lnTo>
                      <a:pt x="703" y="635"/>
                    </a:lnTo>
                    <a:lnTo>
                      <a:pt x="733" y="558"/>
                    </a:lnTo>
                    <a:lnTo>
                      <a:pt x="768" y="474"/>
                    </a:lnTo>
                    <a:lnTo>
                      <a:pt x="803" y="399"/>
                    </a:lnTo>
                    <a:lnTo>
                      <a:pt x="826" y="343"/>
                    </a:lnTo>
                    <a:lnTo>
                      <a:pt x="845" y="293"/>
                    </a:lnTo>
                    <a:lnTo>
                      <a:pt x="831" y="268"/>
                    </a:lnTo>
                    <a:lnTo>
                      <a:pt x="598" y="188"/>
                    </a:lnTo>
                    <a:lnTo>
                      <a:pt x="499" y="147"/>
                    </a:lnTo>
                    <a:lnTo>
                      <a:pt x="326" y="74"/>
                    </a:lnTo>
                    <a:lnTo>
                      <a:pt x="231" y="28"/>
                    </a:lnTo>
                    <a:lnTo>
                      <a:pt x="156" y="7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Freeform 32"/>
              <p:cNvSpPr/>
              <p:nvPr/>
            </p:nvSpPr>
            <p:spPr>
              <a:xfrm>
                <a:off x="8202240" y="3648960"/>
                <a:ext cx="579240" cy="449280"/>
              </a:xfrm>
              <a:custGeom>
                <a:avLst/>
                <a:gdLst>
                  <a:gd name="textAreaLeft" fmla="*/ 0 w 579240"/>
                  <a:gd name="textAreaRight" fmla="*/ 579600 w 579240"/>
                  <a:gd name="textAreaTop" fmla="*/ 0 h 449280"/>
                  <a:gd name="textAreaBottom" fmla="*/ 449640 h 449280"/>
                </a:gdLst>
                <a:ahLst/>
                <a:rect l="textAreaLeft" t="textAreaTop" r="textAreaRight" b="textAreaBottom"/>
                <a:pathLst>
                  <a:path w="873" h="677">
                    <a:moveTo>
                      <a:pt x="162" y="0"/>
                    </a:moveTo>
                    <a:lnTo>
                      <a:pt x="330" y="72"/>
                    </a:lnTo>
                    <a:lnTo>
                      <a:pt x="530" y="160"/>
                    </a:lnTo>
                    <a:lnTo>
                      <a:pt x="654" y="203"/>
                    </a:lnTo>
                    <a:lnTo>
                      <a:pt x="780" y="247"/>
                    </a:lnTo>
                    <a:lnTo>
                      <a:pt x="866" y="273"/>
                    </a:lnTo>
                    <a:lnTo>
                      <a:pt x="873" y="300"/>
                    </a:lnTo>
                    <a:lnTo>
                      <a:pt x="846" y="364"/>
                    </a:lnTo>
                    <a:lnTo>
                      <a:pt x="790" y="497"/>
                    </a:lnTo>
                    <a:lnTo>
                      <a:pt x="748" y="613"/>
                    </a:lnTo>
                    <a:lnTo>
                      <a:pt x="722" y="670"/>
                    </a:lnTo>
                    <a:lnTo>
                      <a:pt x="694" y="677"/>
                    </a:lnTo>
                    <a:lnTo>
                      <a:pt x="290" y="508"/>
                    </a:lnTo>
                    <a:lnTo>
                      <a:pt x="9" y="406"/>
                    </a:lnTo>
                    <a:lnTo>
                      <a:pt x="0" y="387"/>
                    </a:lnTo>
                    <a:lnTo>
                      <a:pt x="54" y="249"/>
                    </a:lnTo>
                    <a:lnTo>
                      <a:pt x="101" y="132"/>
                    </a:lnTo>
                    <a:lnTo>
                      <a:pt x="141" y="20"/>
                    </a:lnTo>
                    <a:lnTo>
                      <a:pt x="157" y="35"/>
                    </a:lnTo>
                    <a:lnTo>
                      <a:pt x="161" y="77"/>
                    </a:lnTo>
                    <a:lnTo>
                      <a:pt x="430" y="380"/>
                    </a:lnTo>
                    <a:lnTo>
                      <a:pt x="836" y="363"/>
                    </a:lnTo>
                    <a:lnTo>
                      <a:pt x="825" y="378"/>
                    </a:lnTo>
                    <a:lnTo>
                      <a:pt x="432" y="412"/>
                    </a:lnTo>
                    <a:lnTo>
                      <a:pt x="409" y="401"/>
                    </a:lnTo>
                    <a:lnTo>
                      <a:pt x="150" y="105"/>
                    </a:lnTo>
                    <a:lnTo>
                      <a:pt x="127" y="114"/>
                    </a:lnTo>
                    <a:lnTo>
                      <a:pt x="73" y="256"/>
                    </a:lnTo>
                    <a:lnTo>
                      <a:pt x="259" y="277"/>
                    </a:lnTo>
                    <a:lnTo>
                      <a:pt x="65" y="273"/>
                    </a:lnTo>
                    <a:lnTo>
                      <a:pt x="33" y="373"/>
                    </a:lnTo>
                    <a:lnTo>
                      <a:pt x="40" y="385"/>
                    </a:lnTo>
                    <a:lnTo>
                      <a:pt x="243" y="462"/>
                    </a:lnTo>
                    <a:lnTo>
                      <a:pt x="435" y="536"/>
                    </a:lnTo>
                    <a:lnTo>
                      <a:pt x="579" y="602"/>
                    </a:lnTo>
                    <a:lnTo>
                      <a:pt x="682" y="653"/>
                    </a:lnTo>
                    <a:lnTo>
                      <a:pt x="706" y="651"/>
                    </a:lnTo>
                    <a:lnTo>
                      <a:pt x="736" y="574"/>
                    </a:lnTo>
                    <a:lnTo>
                      <a:pt x="554" y="399"/>
                    </a:lnTo>
                    <a:lnTo>
                      <a:pt x="575" y="389"/>
                    </a:lnTo>
                    <a:lnTo>
                      <a:pt x="752" y="536"/>
                    </a:lnTo>
                    <a:lnTo>
                      <a:pt x="792" y="446"/>
                    </a:lnTo>
                    <a:lnTo>
                      <a:pt x="831" y="364"/>
                    </a:lnTo>
                    <a:lnTo>
                      <a:pt x="846" y="308"/>
                    </a:lnTo>
                    <a:lnTo>
                      <a:pt x="761" y="277"/>
                    </a:lnTo>
                    <a:lnTo>
                      <a:pt x="533" y="181"/>
                    </a:lnTo>
                    <a:lnTo>
                      <a:pt x="243" y="56"/>
                    </a:lnTo>
                    <a:lnTo>
                      <a:pt x="157" y="20"/>
                    </a:lnTo>
                    <a:lnTo>
                      <a:pt x="1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36"/>
            <p:cNvGrpSpPr/>
            <p:nvPr/>
          </p:nvGrpSpPr>
          <p:grpSpPr>
            <a:xfrm>
              <a:off x="8216640" y="3703320"/>
              <a:ext cx="580680" cy="518040"/>
              <a:chOff x="8216640" y="3703320"/>
              <a:chExt cx="580680" cy="518040"/>
            </a:xfrm>
          </p:grpSpPr>
          <p:sp>
            <p:nvSpPr>
              <p:cNvPr id="153" name="Freeform 34"/>
              <p:cNvSpPr/>
              <p:nvPr/>
            </p:nvSpPr>
            <p:spPr>
              <a:xfrm>
                <a:off x="8228520" y="3710880"/>
                <a:ext cx="558000" cy="500760"/>
              </a:xfrm>
              <a:custGeom>
                <a:avLst/>
                <a:gdLst>
                  <a:gd name="textAreaLeft" fmla="*/ 0 w 558000"/>
                  <a:gd name="textAreaRight" fmla="*/ 558360 w 55800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840" h="754">
                    <a:moveTo>
                      <a:pt x="219" y="0"/>
                    </a:moveTo>
                    <a:lnTo>
                      <a:pt x="98" y="178"/>
                    </a:lnTo>
                    <a:lnTo>
                      <a:pt x="16" y="301"/>
                    </a:lnTo>
                    <a:lnTo>
                      <a:pt x="0" y="337"/>
                    </a:lnTo>
                    <a:lnTo>
                      <a:pt x="180" y="448"/>
                    </a:lnTo>
                    <a:lnTo>
                      <a:pt x="385" y="593"/>
                    </a:lnTo>
                    <a:lnTo>
                      <a:pt x="509" y="682"/>
                    </a:lnTo>
                    <a:lnTo>
                      <a:pt x="588" y="743"/>
                    </a:lnTo>
                    <a:lnTo>
                      <a:pt x="605" y="754"/>
                    </a:lnTo>
                    <a:lnTo>
                      <a:pt x="628" y="743"/>
                    </a:lnTo>
                    <a:lnTo>
                      <a:pt x="673" y="675"/>
                    </a:lnTo>
                    <a:lnTo>
                      <a:pt x="726" y="603"/>
                    </a:lnTo>
                    <a:lnTo>
                      <a:pt x="777" y="537"/>
                    </a:lnTo>
                    <a:lnTo>
                      <a:pt x="810" y="488"/>
                    </a:lnTo>
                    <a:lnTo>
                      <a:pt x="840" y="442"/>
                    </a:lnTo>
                    <a:lnTo>
                      <a:pt x="834" y="416"/>
                    </a:lnTo>
                    <a:lnTo>
                      <a:pt x="626" y="285"/>
                    </a:lnTo>
                    <a:lnTo>
                      <a:pt x="537" y="222"/>
                    </a:lnTo>
                    <a:lnTo>
                      <a:pt x="385" y="112"/>
                    </a:lnTo>
                    <a:lnTo>
                      <a:pt x="304" y="49"/>
                    </a:lnTo>
                    <a:lnTo>
                      <a:pt x="236" y="10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Freeform 35"/>
              <p:cNvSpPr/>
              <p:nvPr/>
            </p:nvSpPr>
            <p:spPr>
              <a:xfrm>
                <a:off x="8216640" y="3703320"/>
                <a:ext cx="580680" cy="51804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18040"/>
                  <a:gd name="textAreaBottom" fmla="*/ 518400 h 518040"/>
                </a:gdLst>
                <a:ahLst/>
                <a:rect l="textAreaLeft" t="textAreaTop" r="textAreaRight" b="textAreaBottom"/>
                <a:pathLst>
                  <a:path w="872" h="780">
                    <a:moveTo>
                      <a:pt x="246" y="0"/>
                    </a:moveTo>
                    <a:lnTo>
                      <a:pt x="395" y="108"/>
                    </a:lnTo>
                    <a:lnTo>
                      <a:pt x="570" y="238"/>
                    </a:lnTo>
                    <a:lnTo>
                      <a:pt x="682" y="308"/>
                    </a:lnTo>
                    <a:lnTo>
                      <a:pt x="795" y="377"/>
                    </a:lnTo>
                    <a:lnTo>
                      <a:pt x="871" y="423"/>
                    </a:lnTo>
                    <a:lnTo>
                      <a:pt x="872" y="453"/>
                    </a:lnTo>
                    <a:lnTo>
                      <a:pt x="832" y="509"/>
                    </a:lnTo>
                    <a:lnTo>
                      <a:pt x="750" y="624"/>
                    </a:lnTo>
                    <a:lnTo>
                      <a:pt x="683" y="729"/>
                    </a:lnTo>
                    <a:lnTo>
                      <a:pt x="643" y="780"/>
                    </a:lnTo>
                    <a:lnTo>
                      <a:pt x="613" y="780"/>
                    </a:lnTo>
                    <a:lnTo>
                      <a:pt x="258" y="523"/>
                    </a:lnTo>
                    <a:lnTo>
                      <a:pt x="7" y="360"/>
                    </a:lnTo>
                    <a:lnTo>
                      <a:pt x="0" y="341"/>
                    </a:lnTo>
                    <a:lnTo>
                      <a:pt x="87" y="220"/>
                    </a:lnTo>
                    <a:lnTo>
                      <a:pt x="159" y="115"/>
                    </a:lnTo>
                    <a:lnTo>
                      <a:pt x="222" y="14"/>
                    </a:lnTo>
                    <a:lnTo>
                      <a:pt x="234" y="33"/>
                    </a:lnTo>
                    <a:lnTo>
                      <a:pt x="227" y="73"/>
                    </a:lnTo>
                    <a:lnTo>
                      <a:pt x="423" y="430"/>
                    </a:lnTo>
                    <a:lnTo>
                      <a:pt x="825" y="505"/>
                    </a:lnTo>
                    <a:lnTo>
                      <a:pt x="809" y="519"/>
                    </a:lnTo>
                    <a:lnTo>
                      <a:pt x="418" y="461"/>
                    </a:lnTo>
                    <a:lnTo>
                      <a:pt x="398" y="446"/>
                    </a:lnTo>
                    <a:lnTo>
                      <a:pt x="213" y="99"/>
                    </a:lnTo>
                    <a:lnTo>
                      <a:pt x="188" y="103"/>
                    </a:lnTo>
                    <a:lnTo>
                      <a:pt x="104" y="229"/>
                    </a:lnTo>
                    <a:lnTo>
                      <a:pt x="278" y="290"/>
                    </a:lnTo>
                    <a:lnTo>
                      <a:pt x="89" y="245"/>
                    </a:lnTo>
                    <a:lnTo>
                      <a:pt x="38" y="334"/>
                    </a:lnTo>
                    <a:lnTo>
                      <a:pt x="42" y="348"/>
                    </a:lnTo>
                    <a:lnTo>
                      <a:pt x="222" y="468"/>
                    </a:lnTo>
                    <a:lnTo>
                      <a:pt x="393" y="584"/>
                    </a:lnTo>
                    <a:lnTo>
                      <a:pt x="519" y="680"/>
                    </a:lnTo>
                    <a:lnTo>
                      <a:pt x="606" y="754"/>
                    </a:lnTo>
                    <a:lnTo>
                      <a:pt x="633" y="757"/>
                    </a:lnTo>
                    <a:lnTo>
                      <a:pt x="678" y="687"/>
                    </a:lnTo>
                    <a:lnTo>
                      <a:pt x="540" y="475"/>
                    </a:lnTo>
                    <a:lnTo>
                      <a:pt x="564" y="474"/>
                    </a:lnTo>
                    <a:lnTo>
                      <a:pt x="704" y="656"/>
                    </a:lnTo>
                    <a:lnTo>
                      <a:pt x="760" y="575"/>
                    </a:lnTo>
                    <a:lnTo>
                      <a:pt x="818" y="507"/>
                    </a:lnTo>
                    <a:lnTo>
                      <a:pt x="848" y="454"/>
                    </a:lnTo>
                    <a:lnTo>
                      <a:pt x="769" y="402"/>
                    </a:lnTo>
                    <a:lnTo>
                      <a:pt x="568" y="259"/>
                    </a:lnTo>
                    <a:lnTo>
                      <a:pt x="314" y="71"/>
                    </a:lnTo>
                    <a:lnTo>
                      <a:pt x="237" y="17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 known to have been ste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 through the water (STW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6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conside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s of Cur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s of Wi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formation Considered DR Plo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800"/>
                            </p:stCondLst>
                            <p:childTnLst>
                              <p:par>
                                <p:cTn id="1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E51A-CC19-4CCA-BDDB-AAD7AE4A99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Group 16"/>
          <p:cNvGrpSpPr/>
          <p:nvPr/>
        </p:nvGrpSpPr>
        <p:grpSpPr>
          <a:xfrm>
            <a:off x="7467120" y="4822920"/>
            <a:ext cx="1286280" cy="1577880"/>
            <a:chOff x="7467120" y="4822920"/>
            <a:chExt cx="1286280" cy="1577880"/>
          </a:xfrm>
        </p:grpSpPr>
        <p:sp>
          <p:nvSpPr>
            <p:cNvPr id="161" name="Freeform 7"/>
            <p:cNvSpPr/>
            <p:nvPr/>
          </p:nvSpPr>
          <p:spPr>
            <a:xfrm flipH="1">
              <a:off x="7466760" y="4949640"/>
              <a:ext cx="1202040" cy="1451160"/>
            </a:xfrm>
            <a:custGeom>
              <a:avLst/>
              <a:gdLst>
                <a:gd name="textAreaLeft" fmla="*/ -360 w 1202040"/>
                <a:gd name="textAreaRight" fmla="*/ 1202040 w 1202040"/>
                <a:gd name="textAreaTop" fmla="*/ 0 h 1451160"/>
                <a:gd name="textAreaBottom" fmla="*/ 1451520 h 1451160"/>
              </a:gdLst>
              <a:ahLst/>
              <a:rect l="textAreaLeft" t="textAreaTop" r="textAreaRight" b="textAreaBottom"/>
              <a:pathLst>
                <a:path w="757" h="914">
                  <a:moveTo>
                    <a:pt x="186" y="815"/>
                  </a:moveTo>
                  <a:lnTo>
                    <a:pt x="0" y="62"/>
                  </a:lnTo>
                  <a:lnTo>
                    <a:pt x="123" y="0"/>
                  </a:lnTo>
                  <a:lnTo>
                    <a:pt x="709" y="570"/>
                  </a:lnTo>
                  <a:lnTo>
                    <a:pt x="757" y="633"/>
                  </a:lnTo>
                  <a:lnTo>
                    <a:pt x="665" y="610"/>
                  </a:lnTo>
                  <a:lnTo>
                    <a:pt x="533" y="487"/>
                  </a:lnTo>
                  <a:lnTo>
                    <a:pt x="510" y="497"/>
                  </a:lnTo>
                  <a:lnTo>
                    <a:pt x="456" y="438"/>
                  </a:lnTo>
                  <a:lnTo>
                    <a:pt x="481" y="419"/>
                  </a:lnTo>
                  <a:lnTo>
                    <a:pt x="229" y="158"/>
                  </a:lnTo>
                  <a:lnTo>
                    <a:pt x="84" y="230"/>
                  </a:lnTo>
                  <a:lnTo>
                    <a:pt x="252" y="803"/>
                  </a:lnTo>
                  <a:lnTo>
                    <a:pt x="229" y="914"/>
                  </a:lnTo>
                  <a:lnTo>
                    <a:pt x="186" y="815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8"/>
            <p:cNvSpPr/>
            <p:nvPr/>
          </p:nvSpPr>
          <p:spPr>
            <a:xfrm flipH="1">
              <a:off x="7966080" y="5019480"/>
              <a:ext cx="503280" cy="70668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317" h="445">
                  <a:moveTo>
                    <a:pt x="0" y="391"/>
                  </a:moveTo>
                  <a:lnTo>
                    <a:pt x="4" y="391"/>
                  </a:lnTo>
                  <a:lnTo>
                    <a:pt x="14" y="390"/>
                  </a:lnTo>
                  <a:lnTo>
                    <a:pt x="28" y="388"/>
                  </a:lnTo>
                  <a:lnTo>
                    <a:pt x="47" y="386"/>
                  </a:lnTo>
                  <a:lnTo>
                    <a:pt x="70" y="380"/>
                  </a:lnTo>
                  <a:lnTo>
                    <a:pt x="94" y="371"/>
                  </a:lnTo>
                  <a:lnTo>
                    <a:pt x="121" y="357"/>
                  </a:lnTo>
                  <a:lnTo>
                    <a:pt x="149" y="341"/>
                  </a:lnTo>
                  <a:lnTo>
                    <a:pt x="177" y="321"/>
                  </a:lnTo>
                  <a:lnTo>
                    <a:pt x="205" y="295"/>
                  </a:lnTo>
                  <a:lnTo>
                    <a:pt x="229" y="263"/>
                  </a:lnTo>
                  <a:lnTo>
                    <a:pt x="252" y="226"/>
                  </a:lnTo>
                  <a:lnTo>
                    <a:pt x="271" y="180"/>
                  </a:lnTo>
                  <a:lnTo>
                    <a:pt x="287" y="129"/>
                  </a:lnTo>
                  <a:lnTo>
                    <a:pt x="297" y="68"/>
                  </a:lnTo>
                  <a:lnTo>
                    <a:pt x="300" y="0"/>
                  </a:lnTo>
                  <a:lnTo>
                    <a:pt x="302" y="3"/>
                  </a:lnTo>
                  <a:lnTo>
                    <a:pt x="305" y="13"/>
                  </a:lnTo>
                  <a:lnTo>
                    <a:pt x="308" y="30"/>
                  </a:lnTo>
                  <a:lnTo>
                    <a:pt x="313" y="50"/>
                  </a:lnTo>
                  <a:lnTo>
                    <a:pt x="317" y="75"/>
                  </a:lnTo>
                  <a:lnTo>
                    <a:pt x="317" y="105"/>
                  </a:lnTo>
                  <a:lnTo>
                    <a:pt x="315" y="137"/>
                  </a:lnTo>
                  <a:lnTo>
                    <a:pt x="310" y="171"/>
                  </a:lnTo>
                  <a:lnTo>
                    <a:pt x="300" y="207"/>
                  </a:lnTo>
                  <a:lnTo>
                    <a:pt x="285" y="244"/>
                  </a:lnTo>
                  <a:lnTo>
                    <a:pt x="262" y="281"/>
                  </a:lnTo>
                  <a:lnTo>
                    <a:pt x="233" y="318"/>
                  </a:lnTo>
                  <a:lnTo>
                    <a:pt x="193" y="353"/>
                  </a:lnTo>
                  <a:lnTo>
                    <a:pt x="145" y="387"/>
                  </a:lnTo>
                  <a:lnTo>
                    <a:pt x="86" y="417"/>
                  </a:lnTo>
                  <a:lnTo>
                    <a:pt x="17" y="445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 flipH="1">
              <a:off x="8520120" y="4822920"/>
              <a:ext cx="233280" cy="22536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47" h="142">
                  <a:moveTo>
                    <a:pt x="128" y="0"/>
                  </a:moveTo>
                  <a:lnTo>
                    <a:pt x="147" y="121"/>
                  </a:lnTo>
                  <a:lnTo>
                    <a:pt x="105" y="142"/>
                  </a:lnTo>
                  <a:lnTo>
                    <a:pt x="0" y="64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R Term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lanning Voyag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 of Advance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or Track 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rection of the INTENDED pa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gr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 of Advance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17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ed INTENDED to be mad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ground along the CO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50"/>
                            </p:stCondLst>
                            <p:childTnLst>
                              <p:par>
                                <p:cTn id="2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9577-EC48-46D6-8C60-8F6A19FCEF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95"/>
          <p:cNvGrpSpPr/>
          <p:nvPr/>
        </p:nvGrpSpPr>
        <p:grpSpPr>
          <a:xfrm>
            <a:off x="7467480" y="4572000"/>
            <a:ext cx="1447560" cy="1447560"/>
            <a:chOff x="7467480" y="4572000"/>
            <a:chExt cx="1447560" cy="1447560"/>
          </a:xfrm>
        </p:grpSpPr>
        <p:sp>
          <p:nvSpPr>
            <p:cNvPr id="170" name="Freeform 8"/>
            <p:cNvSpPr/>
            <p:nvPr/>
          </p:nvSpPr>
          <p:spPr>
            <a:xfrm>
              <a:off x="7893360" y="4704840"/>
              <a:ext cx="921960" cy="736560"/>
            </a:xfrm>
            <a:custGeom>
              <a:avLst/>
              <a:gdLst>
                <a:gd name="textAreaLeft" fmla="*/ 0 w 921960"/>
                <a:gd name="textAreaRight" fmla="*/ 922320 w 92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485" h="1185">
                  <a:moveTo>
                    <a:pt x="1235" y="111"/>
                  </a:moveTo>
                  <a:lnTo>
                    <a:pt x="1202" y="83"/>
                  </a:lnTo>
                  <a:lnTo>
                    <a:pt x="1173" y="60"/>
                  </a:lnTo>
                  <a:lnTo>
                    <a:pt x="1150" y="41"/>
                  </a:lnTo>
                  <a:lnTo>
                    <a:pt x="1132" y="26"/>
                  </a:lnTo>
                  <a:lnTo>
                    <a:pt x="1119" y="14"/>
                  </a:lnTo>
                  <a:lnTo>
                    <a:pt x="1108" y="6"/>
                  </a:lnTo>
                  <a:lnTo>
                    <a:pt x="1104" y="1"/>
                  </a:lnTo>
                  <a:lnTo>
                    <a:pt x="1101" y="0"/>
                  </a:lnTo>
                  <a:lnTo>
                    <a:pt x="1100" y="1"/>
                  </a:lnTo>
                  <a:lnTo>
                    <a:pt x="1096" y="4"/>
                  </a:lnTo>
                  <a:lnTo>
                    <a:pt x="1089" y="7"/>
                  </a:lnTo>
                  <a:lnTo>
                    <a:pt x="1078" y="13"/>
                  </a:lnTo>
                  <a:lnTo>
                    <a:pt x="1068" y="19"/>
                  </a:lnTo>
                  <a:lnTo>
                    <a:pt x="1054" y="26"/>
                  </a:lnTo>
                  <a:lnTo>
                    <a:pt x="1040" y="32"/>
                  </a:lnTo>
                  <a:lnTo>
                    <a:pt x="1024" y="41"/>
                  </a:lnTo>
                  <a:lnTo>
                    <a:pt x="1008" y="47"/>
                  </a:lnTo>
                  <a:lnTo>
                    <a:pt x="992" y="56"/>
                  </a:lnTo>
                  <a:lnTo>
                    <a:pt x="976" y="62"/>
                  </a:lnTo>
                  <a:lnTo>
                    <a:pt x="959" y="69"/>
                  </a:lnTo>
                  <a:lnTo>
                    <a:pt x="944" y="76"/>
                  </a:lnTo>
                  <a:lnTo>
                    <a:pt x="929" y="81"/>
                  </a:lnTo>
                  <a:lnTo>
                    <a:pt x="915" y="85"/>
                  </a:lnTo>
                  <a:lnTo>
                    <a:pt x="902" y="88"/>
                  </a:lnTo>
                  <a:lnTo>
                    <a:pt x="891" y="90"/>
                  </a:lnTo>
                  <a:lnTo>
                    <a:pt x="877" y="92"/>
                  </a:lnTo>
                  <a:lnTo>
                    <a:pt x="863" y="96"/>
                  </a:lnTo>
                  <a:lnTo>
                    <a:pt x="849" y="98"/>
                  </a:lnTo>
                  <a:lnTo>
                    <a:pt x="833" y="102"/>
                  </a:lnTo>
                  <a:lnTo>
                    <a:pt x="817" y="106"/>
                  </a:lnTo>
                  <a:lnTo>
                    <a:pt x="800" y="110"/>
                  </a:lnTo>
                  <a:lnTo>
                    <a:pt x="781" y="113"/>
                  </a:lnTo>
                  <a:lnTo>
                    <a:pt x="762" y="117"/>
                  </a:lnTo>
                  <a:lnTo>
                    <a:pt x="742" y="120"/>
                  </a:lnTo>
                  <a:lnTo>
                    <a:pt x="721" y="123"/>
                  </a:lnTo>
                  <a:lnTo>
                    <a:pt x="701" y="127"/>
                  </a:lnTo>
                  <a:lnTo>
                    <a:pt x="679" y="129"/>
                  </a:lnTo>
                  <a:lnTo>
                    <a:pt x="657" y="132"/>
                  </a:lnTo>
                  <a:lnTo>
                    <a:pt x="634" y="134"/>
                  </a:lnTo>
                  <a:lnTo>
                    <a:pt x="610" y="135"/>
                  </a:lnTo>
                  <a:lnTo>
                    <a:pt x="600" y="136"/>
                  </a:lnTo>
                  <a:lnTo>
                    <a:pt x="589" y="137"/>
                  </a:lnTo>
                  <a:lnTo>
                    <a:pt x="575" y="140"/>
                  </a:lnTo>
                  <a:lnTo>
                    <a:pt x="560" y="141"/>
                  </a:lnTo>
                  <a:lnTo>
                    <a:pt x="544" y="143"/>
                  </a:lnTo>
                  <a:lnTo>
                    <a:pt x="529" y="144"/>
                  </a:lnTo>
                  <a:lnTo>
                    <a:pt x="514" y="145"/>
                  </a:lnTo>
                  <a:lnTo>
                    <a:pt x="501" y="144"/>
                  </a:lnTo>
                  <a:lnTo>
                    <a:pt x="494" y="145"/>
                  </a:lnTo>
                  <a:lnTo>
                    <a:pt x="486" y="148"/>
                  </a:lnTo>
                  <a:lnTo>
                    <a:pt x="477" y="152"/>
                  </a:lnTo>
                  <a:lnTo>
                    <a:pt x="467" y="158"/>
                  </a:lnTo>
                  <a:lnTo>
                    <a:pt x="455" y="166"/>
                  </a:lnTo>
                  <a:lnTo>
                    <a:pt x="443" y="175"/>
                  </a:lnTo>
                  <a:lnTo>
                    <a:pt x="430" y="186"/>
                  </a:lnTo>
                  <a:lnTo>
                    <a:pt x="416" y="198"/>
                  </a:lnTo>
                  <a:lnTo>
                    <a:pt x="401" y="211"/>
                  </a:lnTo>
                  <a:lnTo>
                    <a:pt x="386" y="226"/>
                  </a:lnTo>
                  <a:lnTo>
                    <a:pt x="371" y="241"/>
                  </a:lnTo>
                  <a:lnTo>
                    <a:pt x="356" y="257"/>
                  </a:lnTo>
                  <a:lnTo>
                    <a:pt x="341" y="274"/>
                  </a:lnTo>
                  <a:lnTo>
                    <a:pt x="326" y="293"/>
                  </a:lnTo>
                  <a:lnTo>
                    <a:pt x="311" y="311"/>
                  </a:lnTo>
                  <a:lnTo>
                    <a:pt x="297" y="330"/>
                  </a:lnTo>
                  <a:lnTo>
                    <a:pt x="285" y="346"/>
                  </a:lnTo>
                  <a:lnTo>
                    <a:pt x="271" y="362"/>
                  </a:lnTo>
                  <a:lnTo>
                    <a:pt x="257" y="378"/>
                  </a:lnTo>
                  <a:lnTo>
                    <a:pt x="243" y="394"/>
                  </a:lnTo>
                  <a:lnTo>
                    <a:pt x="227" y="411"/>
                  </a:lnTo>
                  <a:lnTo>
                    <a:pt x="211" y="430"/>
                  </a:lnTo>
                  <a:lnTo>
                    <a:pt x="193" y="451"/>
                  </a:lnTo>
                  <a:lnTo>
                    <a:pt x="174" y="474"/>
                  </a:lnTo>
                  <a:lnTo>
                    <a:pt x="160" y="494"/>
                  </a:lnTo>
                  <a:lnTo>
                    <a:pt x="150" y="514"/>
                  </a:lnTo>
                  <a:lnTo>
                    <a:pt x="141" y="531"/>
                  </a:lnTo>
                  <a:lnTo>
                    <a:pt x="134" y="548"/>
                  </a:lnTo>
                  <a:lnTo>
                    <a:pt x="129" y="562"/>
                  </a:lnTo>
                  <a:lnTo>
                    <a:pt x="127" y="573"/>
                  </a:lnTo>
                  <a:lnTo>
                    <a:pt x="125" y="580"/>
                  </a:lnTo>
                  <a:lnTo>
                    <a:pt x="125" y="582"/>
                  </a:lnTo>
                  <a:lnTo>
                    <a:pt x="124" y="585"/>
                  </a:lnTo>
                  <a:lnTo>
                    <a:pt x="121" y="595"/>
                  </a:lnTo>
                  <a:lnTo>
                    <a:pt x="118" y="610"/>
                  </a:lnTo>
                  <a:lnTo>
                    <a:pt x="113" y="629"/>
                  </a:lnTo>
                  <a:lnTo>
                    <a:pt x="105" y="653"/>
                  </a:lnTo>
                  <a:lnTo>
                    <a:pt x="97" y="681"/>
                  </a:lnTo>
                  <a:lnTo>
                    <a:pt x="86" y="712"/>
                  </a:lnTo>
                  <a:lnTo>
                    <a:pt x="73" y="745"/>
                  </a:lnTo>
                  <a:lnTo>
                    <a:pt x="62" y="775"/>
                  </a:lnTo>
                  <a:lnTo>
                    <a:pt x="54" y="802"/>
                  </a:lnTo>
                  <a:lnTo>
                    <a:pt x="49" y="825"/>
                  </a:lnTo>
                  <a:lnTo>
                    <a:pt x="44" y="846"/>
                  </a:lnTo>
                  <a:lnTo>
                    <a:pt x="39" y="864"/>
                  </a:lnTo>
                  <a:lnTo>
                    <a:pt x="35" y="881"/>
                  </a:lnTo>
                  <a:lnTo>
                    <a:pt x="28" y="899"/>
                  </a:lnTo>
                  <a:lnTo>
                    <a:pt x="20" y="916"/>
                  </a:lnTo>
                  <a:lnTo>
                    <a:pt x="5" y="950"/>
                  </a:lnTo>
                  <a:lnTo>
                    <a:pt x="0" y="980"/>
                  </a:lnTo>
                  <a:lnTo>
                    <a:pt x="3" y="1002"/>
                  </a:lnTo>
                  <a:lnTo>
                    <a:pt x="11" y="1014"/>
                  </a:lnTo>
                  <a:lnTo>
                    <a:pt x="36" y="1023"/>
                  </a:lnTo>
                  <a:lnTo>
                    <a:pt x="58" y="1025"/>
                  </a:lnTo>
                  <a:lnTo>
                    <a:pt x="77" y="1023"/>
                  </a:lnTo>
                  <a:lnTo>
                    <a:pt x="95" y="1015"/>
                  </a:lnTo>
                  <a:lnTo>
                    <a:pt x="112" y="1003"/>
                  </a:lnTo>
                  <a:lnTo>
                    <a:pt x="127" y="987"/>
                  </a:lnTo>
                  <a:lnTo>
                    <a:pt x="142" y="969"/>
                  </a:lnTo>
                  <a:lnTo>
                    <a:pt x="158" y="948"/>
                  </a:lnTo>
                  <a:lnTo>
                    <a:pt x="172" y="926"/>
                  </a:lnTo>
                  <a:lnTo>
                    <a:pt x="182" y="903"/>
                  </a:lnTo>
                  <a:lnTo>
                    <a:pt x="190" y="881"/>
                  </a:lnTo>
                  <a:lnTo>
                    <a:pt x="195" y="862"/>
                  </a:lnTo>
                  <a:lnTo>
                    <a:pt x="198" y="846"/>
                  </a:lnTo>
                  <a:lnTo>
                    <a:pt x="200" y="832"/>
                  </a:lnTo>
                  <a:lnTo>
                    <a:pt x="201" y="824"/>
                  </a:lnTo>
                  <a:lnTo>
                    <a:pt x="201" y="820"/>
                  </a:lnTo>
                  <a:lnTo>
                    <a:pt x="202" y="819"/>
                  </a:lnTo>
                  <a:lnTo>
                    <a:pt x="206" y="817"/>
                  </a:lnTo>
                  <a:lnTo>
                    <a:pt x="212" y="812"/>
                  </a:lnTo>
                  <a:lnTo>
                    <a:pt x="220" y="806"/>
                  </a:lnTo>
                  <a:lnTo>
                    <a:pt x="229" y="798"/>
                  </a:lnTo>
                  <a:lnTo>
                    <a:pt x="241" y="789"/>
                  </a:lnTo>
                  <a:lnTo>
                    <a:pt x="251" y="778"/>
                  </a:lnTo>
                  <a:lnTo>
                    <a:pt x="263" y="765"/>
                  </a:lnTo>
                  <a:lnTo>
                    <a:pt x="261" y="788"/>
                  </a:lnTo>
                  <a:lnTo>
                    <a:pt x="255" y="812"/>
                  </a:lnTo>
                  <a:lnTo>
                    <a:pt x="247" y="836"/>
                  </a:lnTo>
                  <a:lnTo>
                    <a:pt x="239" y="861"/>
                  </a:lnTo>
                  <a:lnTo>
                    <a:pt x="231" y="882"/>
                  </a:lnTo>
                  <a:lnTo>
                    <a:pt x="224" y="901"/>
                  </a:lnTo>
                  <a:lnTo>
                    <a:pt x="219" y="917"/>
                  </a:lnTo>
                  <a:lnTo>
                    <a:pt x="217" y="927"/>
                  </a:lnTo>
                  <a:lnTo>
                    <a:pt x="219" y="957"/>
                  </a:lnTo>
                  <a:lnTo>
                    <a:pt x="224" y="985"/>
                  </a:lnTo>
                  <a:lnTo>
                    <a:pt x="227" y="1014"/>
                  </a:lnTo>
                  <a:lnTo>
                    <a:pt x="225" y="1046"/>
                  </a:lnTo>
                  <a:lnTo>
                    <a:pt x="221" y="1066"/>
                  </a:lnTo>
                  <a:lnTo>
                    <a:pt x="219" y="1087"/>
                  </a:lnTo>
                  <a:lnTo>
                    <a:pt x="218" y="1111"/>
                  </a:lnTo>
                  <a:lnTo>
                    <a:pt x="218" y="1132"/>
                  </a:lnTo>
                  <a:lnTo>
                    <a:pt x="220" y="1152"/>
                  </a:lnTo>
                  <a:lnTo>
                    <a:pt x="226" y="1169"/>
                  </a:lnTo>
                  <a:lnTo>
                    <a:pt x="234" y="1181"/>
                  </a:lnTo>
                  <a:lnTo>
                    <a:pt x="246" y="1185"/>
                  </a:lnTo>
                  <a:lnTo>
                    <a:pt x="261" y="1185"/>
                  </a:lnTo>
                  <a:lnTo>
                    <a:pt x="278" y="1180"/>
                  </a:lnTo>
                  <a:lnTo>
                    <a:pt x="295" y="1172"/>
                  </a:lnTo>
                  <a:lnTo>
                    <a:pt x="312" y="1159"/>
                  </a:lnTo>
                  <a:lnTo>
                    <a:pt x="329" y="1142"/>
                  </a:lnTo>
                  <a:lnTo>
                    <a:pt x="341" y="1122"/>
                  </a:lnTo>
                  <a:lnTo>
                    <a:pt x="349" y="1099"/>
                  </a:lnTo>
                  <a:lnTo>
                    <a:pt x="353" y="1074"/>
                  </a:lnTo>
                  <a:lnTo>
                    <a:pt x="353" y="1054"/>
                  </a:lnTo>
                  <a:lnTo>
                    <a:pt x="353" y="1032"/>
                  </a:lnTo>
                  <a:lnTo>
                    <a:pt x="353" y="1010"/>
                  </a:lnTo>
                  <a:lnTo>
                    <a:pt x="352" y="990"/>
                  </a:lnTo>
                  <a:lnTo>
                    <a:pt x="354" y="1005"/>
                  </a:lnTo>
                  <a:lnTo>
                    <a:pt x="357" y="1015"/>
                  </a:lnTo>
                  <a:lnTo>
                    <a:pt x="363" y="1021"/>
                  </a:lnTo>
                  <a:lnTo>
                    <a:pt x="369" y="1024"/>
                  </a:lnTo>
                  <a:lnTo>
                    <a:pt x="376" y="1025"/>
                  </a:lnTo>
                  <a:lnTo>
                    <a:pt x="382" y="1024"/>
                  </a:lnTo>
                  <a:lnTo>
                    <a:pt x="386" y="1023"/>
                  </a:lnTo>
                  <a:lnTo>
                    <a:pt x="391" y="1022"/>
                  </a:lnTo>
                  <a:lnTo>
                    <a:pt x="399" y="1018"/>
                  </a:lnTo>
                  <a:lnTo>
                    <a:pt x="409" y="1014"/>
                  </a:lnTo>
                  <a:lnTo>
                    <a:pt x="423" y="1007"/>
                  </a:lnTo>
                  <a:lnTo>
                    <a:pt x="438" y="998"/>
                  </a:lnTo>
                  <a:lnTo>
                    <a:pt x="454" y="988"/>
                  </a:lnTo>
                  <a:lnTo>
                    <a:pt x="471" y="978"/>
                  </a:lnTo>
                  <a:lnTo>
                    <a:pt x="487" y="969"/>
                  </a:lnTo>
                  <a:lnTo>
                    <a:pt x="504" y="958"/>
                  </a:lnTo>
                  <a:lnTo>
                    <a:pt x="504" y="762"/>
                  </a:lnTo>
                  <a:lnTo>
                    <a:pt x="496" y="767"/>
                  </a:lnTo>
                  <a:lnTo>
                    <a:pt x="486" y="774"/>
                  </a:lnTo>
                  <a:lnTo>
                    <a:pt x="475" y="782"/>
                  </a:lnTo>
                  <a:lnTo>
                    <a:pt x="462" y="791"/>
                  </a:lnTo>
                  <a:lnTo>
                    <a:pt x="451" y="801"/>
                  </a:lnTo>
                  <a:lnTo>
                    <a:pt x="439" y="810"/>
                  </a:lnTo>
                  <a:lnTo>
                    <a:pt x="429" y="818"/>
                  </a:lnTo>
                  <a:lnTo>
                    <a:pt x="421" y="825"/>
                  </a:lnTo>
                  <a:lnTo>
                    <a:pt x="422" y="817"/>
                  </a:lnTo>
                  <a:lnTo>
                    <a:pt x="423" y="809"/>
                  </a:lnTo>
                  <a:lnTo>
                    <a:pt x="424" y="801"/>
                  </a:lnTo>
                  <a:lnTo>
                    <a:pt x="425" y="791"/>
                  </a:lnTo>
                  <a:lnTo>
                    <a:pt x="429" y="750"/>
                  </a:lnTo>
                  <a:lnTo>
                    <a:pt x="432" y="724"/>
                  </a:lnTo>
                  <a:lnTo>
                    <a:pt x="436" y="711"/>
                  </a:lnTo>
                  <a:lnTo>
                    <a:pt x="437" y="707"/>
                  </a:lnTo>
                  <a:lnTo>
                    <a:pt x="438" y="706"/>
                  </a:lnTo>
                  <a:lnTo>
                    <a:pt x="441" y="703"/>
                  </a:lnTo>
                  <a:lnTo>
                    <a:pt x="446" y="697"/>
                  </a:lnTo>
                  <a:lnTo>
                    <a:pt x="452" y="690"/>
                  </a:lnTo>
                  <a:lnTo>
                    <a:pt x="459" y="681"/>
                  </a:lnTo>
                  <a:lnTo>
                    <a:pt x="466" y="672"/>
                  </a:lnTo>
                  <a:lnTo>
                    <a:pt x="473" y="661"/>
                  </a:lnTo>
                  <a:lnTo>
                    <a:pt x="479" y="651"/>
                  </a:lnTo>
                  <a:lnTo>
                    <a:pt x="485" y="666"/>
                  </a:lnTo>
                  <a:lnTo>
                    <a:pt x="490" y="679"/>
                  </a:lnTo>
                  <a:lnTo>
                    <a:pt x="494" y="691"/>
                  </a:lnTo>
                  <a:lnTo>
                    <a:pt x="499" y="704"/>
                  </a:lnTo>
                  <a:lnTo>
                    <a:pt x="504" y="715"/>
                  </a:lnTo>
                  <a:lnTo>
                    <a:pt x="509" y="727"/>
                  </a:lnTo>
                  <a:lnTo>
                    <a:pt x="516" y="739"/>
                  </a:lnTo>
                  <a:lnTo>
                    <a:pt x="524" y="750"/>
                  </a:lnTo>
                  <a:lnTo>
                    <a:pt x="523" y="751"/>
                  </a:lnTo>
                  <a:lnTo>
                    <a:pt x="521" y="751"/>
                  </a:lnTo>
                  <a:lnTo>
                    <a:pt x="520" y="751"/>
                  </a:lnTo>
                  <a:lnTo>
                    <a:pt x="520" y="751"/>
                  </a:lnTo>
                  <a:lnTo>
                    <a:pt x="519" y="752"/>
                  </a:lnTo>
                  <a:lnTo>
                    <a:pt x="515" y="753"/>
                  </a:lnTo>
                  <a:lnTo>
                    <a:pt x="511" y="757"/>
                  </a:lnTo>
                  <a:lnTo>
                    <a:pt x="504" y="762"/>
                  </a:lnTo>
                  <a:lnTo>
                    <a:pt x="504" y="958"/>
                  </a:lnTo>
                  <a:lnTo>
                    <a:pt x="506" y="957"/>
                  </a:lnTo>
                  <a:lnTo>
                    <a:pt x="509" y="956"/>
                  </a:lnTo>
                  <a:lnTo>
                    <a:pt x="512" y="955"/>
                  </a:lnTo>
                  <a:lnTo>
                    <a:pt x="515" y="954"/>
                  </a:lnTo>
                  <a:lnTo>
                    <a:pt x="530" y="945"/>
                  </a:lnTo>
                  <a:lnTo>
                    <a:pt x="543" y="937"/>
                  </a:lnTo>
                  <a:lnTo>
                    <a:pt x="554" y="930"/>
                  </a:lnTo>
                  <a:lnTo>
                    <a:pt x="568" y="924"/>
                  </a:lnTo>
                  <a:lnTo>
                    <a:pt x="587" y="918"/>
                  </a:lnTo>
                  <a:lnTo>
                    <a:pt x="611" y="914"/>
                  </a:lnTo>
                  <a:lnTo>
                    <a:pt x="645" y="909"/>
                  </a:lnTo>
                  <a:lnTo>
                    <a:pt x="690" y="906"/>
                  </a:lnTo>
                  <a:lnTo>
                    <a:pt x="698" y="904"/>
                  </a:lnTo>
                  <a:lnTo>
                    <a:pt x="706" y="903"/>
                  </a:lnTo>
                  <a:lnTo>
                    <a:pt x="714" y="903"/>
                  </a:lnTo>
                  <a:lnTo>
                    <a:pt x="722" y="902"/>
                  </a:lnTo>
                  <a:lnTo>
                    <a:pt x="733" y="914"/>
                  </a:lnTo>
                  <a:lnTo>
                    <a:pt x="741" y="925"/>
                  </a:lnTo>
                  <a:lnTo>
                    <a:pt x="748" y="935"/>
                  </a:lnTo>
                  <a:lnTo>
                    <a:pt x="752" y="944"/>
                  </a:lnTo>
                  <a:lnTo>
                    <a:pt x="757" y="952"/>
                  </a:lnTo>
                  <a:lnTo>
                    <a:pt x="763" y="957"/>
                  </a:lnTo>
                  <a:lnTo>
                    <a:pt x="771" y="962"/>
                  </a:lnTo>
                  <a:lnTo>
                    <a:pt x="779" y="964"/>
                  </a:lnTo>
                  <a:lnTo>
                    <a:pt x="788" y="964"/>
                  </a:lnTo>
                  <a:lnTo>
                    <a:pt x="797" y="963"/>
                  </a:lnTo>
                  <a:lnTo>
                    <a:pt x="805" y="958"/>
                  </a:lnTo>
                  <a:lnTo>
                    <a:pt x="812" y="952"/>
                  </a:lnTo>
                  <a:lnTo>
                    <a:pt x="817" y="938"/>
                  </a:lnTo>
                  <a:lnTo>
                    <a:pt x="820" y="920"/>
                  </a:lnTo>
                  <a:lnTo>
                    <a:pt x="821" y="900"/>
                  </a:lnTo>
                  <a:lnTo>
                    <a:pt x="821" y="880"/>
                  </a:lnTo>
                  <a:lnTo>
                    <a:pt x="845" y="870"/>
                  </a:lnTo>
                  <a:lnTo>
                    <a:pt x="864" y="857"/>
                  </a:lnTo>
                  <a:lnTo>
                    <a:pt x="880" y="843"/>
                  </a:lnTo>
                  <a:lnTo>
                    <a:pt x="895" y="828"/>
                  </a:lnTo>
                  <a:lnTo>
                    <a:pt x="909" y="813"/>
                  </a:lnTo>
                  <a:lnTo>
                    <a:pt x="922" y="797"/>
                  </a:lnTo>
                  <a:lnTo>
                    <a:pt x="937" y="782"/>
                  </a:lnTo>
                  <a:lnTo>
                    <a:pt x="952" y="767"/>
                  </a:lnTo>
                  <a:lnTo>
                    <a:pt x="968" y="751"/>
                  </a:lnTo>
                  <a:lnTo>
                    <a:pt x="983" y="735"/>
                  </a:lnTo>
                  <a:lnTo>
                    <a:pt x="995" y="718"/>
                  </a:lnTo>
                  <a:lnTo>
                    <a:pt x="1007" y="703"/>
                  </a:lnTo>
                  <a:lnTo>
                    <a:pt x="1015" y="689"/>
                  </a:lnTo>
                  <a:lnTo>
                    <a:pt x="1021" y="679"/>
                  </a:lnTo>
                  <a:lnTo>
                    <a:pt x="1025" y="671"/>
                  </a:lnTo>
                  <a:lnTo>
                    <a:pt x="1027" y="668"/>
                  </a:lnTo>
                  <a:lnTo>
                    <a:pt x="1030" y="666"/>
                  </a:lnTo>
                  <a:lnTo>
                    <a:pt x="1039" y="661"/>
                  </a:lnTo>
                  <a:lnTo>
                    <a:pt x="1052" y="652"/>
                  </a:lnTo>
                  <a:lnTo>
                    <a:pt x="1069" y="638"/>
                  </a:lnTo>
                  <a:lnTo>
                    <a:pt x="1086" y="622"/>
                  </a:lnTo>
                  <a:lnTo>
                    <a:pt x="1105" y="603"/>
                  </a:lnTo>
                  <a:lnTo>
                    <a:pt x="1123" y="581"/>
                  </a:lnTo>
                  <a:lnTo>
                    <a:pt x="1138" y="554"/>
                  </a:lnTo>
                  <a:lnTo>
                    <a:pt x="1151" y="529"/>
                  </a:lnTo>
                  <a:lnTo>
                    <a:pt x="1161" y="509"/>
                  </a:lnTo>
                  <a:lnTo>
                    <a:pt x="1170" y="494"/>
                  </a:lnTo>
                  <a:lnTo>
                    <a:pt x="1176" y="484"/>
                  </a:lnTo>
                  <a:lnTo>
                    <a:pt x="1181" y="476"/>
                  </a:lnTo>
                  <a:lnTo>
                    <a:pt x="1184" y="471"/>
                  </a:lnTo>
                  <a:lnTo>
                    <a:pt x="1187" y="470"/>
                  </a:lnTo>
                  <a:lnTo>
                    <a:pt x="1187" y="469"/>
                  </a:lnTo>
                  <a:lnTo>
                    <a:pt x="1485" y="410"/>
                  </a:lnTo>
                  <a:lnTo>
                    <a:pt x="1483" y="408"/>
                  </a:lnTo>
                  <a:lnTo>
                    <a:pt x="1478" y="401"/>
                  </a:lnTo>
                  <a:lnTo>
                    <a:pt x="1470" y="390"/>
                  </a:lnTo>
                  <a:lnTo>
                    <a:pt x="1460" y="375"/>
                  </a:lnTo>
                  <a:lnTo>
                    <a:pt x="1446" y="357"/>
                  </a:lnTo>
                  <a:lnTo>
                    <a:pt x="1431" y="337"/>
                  </a:lnTo>
                  <a:lnTo>
                    <a:pt x="1415" y="315"/>
                  </a:lnTo>
                  <a:lnTo>
                    <a:pt x="1396" y="290"/>
                  </a:lnTo>
                  <a:lnTo>
                    <a:pt x="1377" y="266"/>
                  </a:lnTo>
                  <a:lnTo>
                    <a:pt x="1356" y="241"/>
                  </a:lnTo>
                  <a:lnTo>
                    <a:pt x="1335" y="216"/>
                  </a:lnTo>
                  <a:lnTo>
                    <a:pt x="1314" y="191"/>
                  </a:lnTo>
                  <a:lnTo>
                    <a:pt x="1294" y="168"/>
                  </a:lnTo>
                  <a:lnTo>
                    <a:pt x="1273" y="146"/>
                  </a:lnTo>
                  <a:lnTo>
                    <a:pt x="1253" y="127"/>
                  </a:lnTo>
                  <a:lnTo>
                    <a:pt x="1235" y="111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>
              <a:off x="8515080" y="5875560"/>
              <a:ext cx="59400" cy="583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8" h="95">
                  <a:moveTo>
                    <a:pt x="63" y="0"/>
                  </a:moveTo>
                  <a:lnTo>
                    <a:pt x="55" y="5"/>
                  </a:lnTo>
                  <a:lnTo>
                    <a:pt x="47" y="10"/>
                  </a:lnTo>
                  <a:lnTo>
                    <a:pt x="39" y="14"/>
                  </a:lnTo>
                  <a:lnTo>
                    <a:pt x="32" y="19"/>
                  </a:lnTo>
                  <a:lnTo>
                    <a:pt x="24" y="24"/>
                  </a:lnTo>
                  <a:lnTo>
                    <a:pt x="16" y="28"/>
                  </a:lnTo>
                  <a:lnTo>
                    <a:pt x="8" y="33"/>
                  </a:lnTo>
                  <a:lnTo>
                    <a:pt x="0" y="37"/>
                  </a:lnTo>
                  <a:lnTo>
                    <a:pt x="29" y="95"/>
                  </a:lnTo>
                  <a:lnTo>
                    <a:pt x="38" y="90"/>
                  </a:lnTo>
                  <a:lnTo>
                    <a:pt x="47" y="86"/>
                  </a:lnTo>
                  <a:lnTo>
                    <a:pt x="55" y="80"/>
                  </a:lnTo>
                  <a:lnTo>
                    <a:pt x="65" y="75"/>
                  </a:lnTo>
                  <a:lnTo>
                    <a:pt x="73" y="70"/>
                  </a:lnTo>
                  <a:lnTo>
                    <a:pt x="82" y="65"/>
                  </a:lnTo>
                  <a:lnTo>
                    <a:pt x="90" y="59"/>
                  </a:lnTo>
                  <a:lnTo>
                    <a:pt x="98" y="5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8633160" y="5786280"/>
              <a:ext cx="61920" cy="61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0" h="100">
                  <a:moveTo>
                    <a:pt x="54" y="0"/>
                  </a:moveTo>
                  <a:lnTo>
                    <a:pt x="47" y="6"/>
                  </a:lnTo>
                  <a:lnTo>
                    <a:pt x="42" y="12"/>
                  </a:lnTo>
                  <a:lnTo>
                    <a:pt x="35" y="19"/>
                  </a:lnTo>
                  <a:lnTo>
                    <a:pt x="28" y="25"/>
                  </a:lnTo>
                  <a:lnTo>
                    <a:pt x="21" y="31"/>
                  </a:lnTo>
                  <a:lnTo>
                    <a:pt x="14" y="36"/>
                  </a:lnTo>
                  <a:lnTo>
                    <a:pt x="7" y="43"/>
                  </a:lnTo>
                  <a:lnTo>
                    <a:pt x="0" y="49"/>
                  </a:lnTo>
                  <a:lnTo>
                    <a:pt x="41" y="100"/>
                  </a:lnTo>
                  <a:lnTo>
                    <a:pt x="49" y="93"/>
                  </a:lnTo>
                  <a:lnTo>
                    <a:pt x="55" y="87"/>
                  </a:lnTo>
                  <a:lnTo>
                    <a:pt x="64" y="80"/>
                  </a:lnTo>
                  <a:lnTo>
                    <a:pt x="70" y="73"/>
                  </a:lnTo>
                  <a:lnTo>
                    <a:pt x="79" y="66"/>
                  </a:lnTo>
                  <a:lnTo>
                    <a:pt x="85" y="59"/>
                  </a:lnTo>
                  <a:lnTo>
                    <a:pt x="94" y="53"/>
                  </a:lnTo>
                  <a:lnTo>
                    <a:pt x="100" y="4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8449200" y="5910480"/>
              <a:ext cx="59400" cy="558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7" h="90">
                  <a:moveTo>
                    <a:pt x="68" y="0"/>
                  </a:moveTo>
                  <a:lnTo>
                    <a:pt x="60" y="3"/>
                  </a:lnTo>
                  <a:lnTo>
                    <a:pt x="52" y="8"/>
                  </a:lnTo>
                  <a:lnTo>
                    <a:pt x="43" y="11"/>
                  </a:lnTo>
                  <a:lnTo>
                    <a:pt x="35" y="15"/>
                  </a:lnTo>
                  <a:lnTo>
                    <a:pt x="25" y="20"/>
                  </a:lnTo>
                  <a:lnTo>
                    <a:pt x="17" y="23"/>
                  </a:lnTo>
                  <a:lnTo>
                    <a:pt x="8" y="26"/>
                  </a:lnTo>
                  <a:lnTo>
                    <a:pt x="0" y="30"/>
                  </a:lnTo>
                  <a:lnTo>
                    <a:pt x="23" y="90"/>
                  </a:lnTo>
                  <a:lnTo>
                    <a:pt x="32" y="86"/>
                  </a:lnTo>
                  <a:lnTo>
                    <a:pt x="42" y="82"/>
                  </a:lnTo>
                  <a:lnTo>
                    <a:pt x="51" y="78"/>
                  </a:lnTo>
                  <a:lnTo>
                    <a:pt x="60" y="74"/>
                  </a:lnTo>
                  <a:lnTo>
                    <a:pt x="69" y="70"/>
                  </a:lnTo>
                  <a:lnTo>
                    <a:pt x="78" y="66"/>
                  </a:lnTo>
                  <a:lnTo>
                    <a:pt x="88" y="62"/>
                  </a:lnTo>
                  <a:lnTo>
                    <a:pt x="97" y="58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2"/>
            <p:cNvSpPr/>
            <p:nvPr/>
          </p:nvSpPr>
          <p:spPr>
            <a:xfrm>
              <a:off x="8575920" y="5834520"/>
              <a:ext cx="62280" cy="594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9" h="96">
                  <a:moveTo>
                    <a:pt x="59" y="0"/>
                  </a:moveTo>
                  <a:lnTo>
                    <a:pt x="52" y="5"/>
                  </a:lnTo>
                  <a:lnTo>
                    <a:pt x="44" y="11"/>
                  </a:lnTo>
                  <a:lnTo>
                    <a:pt x="37" y="16"/>
                  </a:lnTo>
                  <a:lnTo>
                    <a:pt x="30" y="22"/>
                  </a:lnTo>
                  <a:lnTo>
                    <a:pt x="22" y="26"/>
                  </a:lnTo>
                  <a:lnTo>
                    <a:pt x="15" y="32"/>
                  </a:lnTo>
                  <a:lnTo>
                    <a:pt x="7" y="37"/>
                  </a:lnTo>
                  <a:lnTo>
                    <a:pt x="0" y="42"/>
                  </a:lnTo>
                  <a:lnTo>
                    <a:pt x="35" y="96"/>
                  </a:lnTo>
                  <a:lnTo>
                    <a:pt x="43" y="91"/>
                  </a:lnTo>
                  <a:lnTo>
                    <a:pt x="51" y="85"/>
                  </a:lnTo>
                  <a:lnTo>
                    <a:pt x="59" y="79"/>
                  </a:lnTo>
                  <a:lnTo>
                    <a:pt x="67" y="73"/>
                  </a:lnTo>
                  <a:lnTo>
                    <a:pt x="75" y="68"/>
                  </a:lnTo>
                  <a:lnTo>
                    <a:pt x="83" y="62"/>
                  </a:lnTo>
                  <a:lnTo>
                    <a:pt x="91" y="56"/>
                  </a:lnTo>
                  <a:lnTo>
                    <a:pt x="99" y="4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3"/>
            <p:cNvSpPr/>
            <p:nvPr/>
          </p:nvSpPr>
          <p:spPr>
            <a:xfrm>
              <a:off x="8238960" y="5973840"/>
              <a:ext cx="50760" cy="43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83" h="72">
                  <a:moveTo>
                    <a:pt x="83" y="63"/>
                  </a:moveTo>
                  <a:lnTo>
                    <a:pt x="72" y="0"/>
                  </a:lnTo>
                  <a:lnTo>
                    <a:pt x="63" y="1"/>
                  </a:lnTo>
                  <a:lnTo>
                    <a:pt x="54" y="2"/>
                  </a:lnTo>
                  <a:lnTo>
                    <a:pt x="45" y="4"/>
                  </a:lnTo>
                  <a:lnTo>
                    <a:pt x="36" y="5"/>
                  </a:lnTo>
                  <a:lnTo>
                    <a:pt x="27" y="6"/>
                  </a:lnTo>
                  <a:lnTo>
                    <a:pt x="18" y="6"/>
                  </a:lnTo>
                  <a:lnTo>
                    <a:pt x="9" y="7"/>
                  </a:lnTo>
                  <a:lnTo>
                    <a:pt x="0" y="8"/>
                  </a:lnTo>
                  <a:lnTo>
                    <a:pt x="3" y="72"/>
                  </a:lnTo>
                  <a:lnTo>
                    <a:pt x="13" y="72"/>
                  </a:lnTo>
                  <a:lnTo>
                    <a:pt x="23" y="70"/>
                  </a:lnTo>
                  <a:lnTo>
                    <a:pt x="33" y="69"/>
                  </a:lnTo>
                  <a:lnTo>
                    <a:pt x="43" y="69"/>
                  </a:lnTo>
                  <a:lnTo>
                    <a:pt x="53" y="68"/>
                  </a:lnTo>
                  <a:lnTo>
                    <a:pt x="63" y="67"/>
                  </a:lnTo>
                  <a:lnTo>
                    <a:pt x="72" y="65"/>
                  </a:lnTo>
                  <a:lnTo>
                    <a:pt x="83" y="6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8380800" y="5938920"/>
              <a:ext cx="56880" cy="532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93" h="85">
                  <a:moveTo>
                    <a:pt x="70" y="0"/>
                  </a:moveTo>
                  <a:lnTo>
                    <a:pt x="61" y="3"/>
                  </a:lnTo>
                  <a:lnTo>
                    <a:pt x="53" y="6"/>
                  </a:lnTo>
                  <a:lnTo>
                    <a:pt x="43" y="9"/>
                  </a:lnTo>
                  <a:lnTo>
                    <a:pt x="35" y="11"/>
                  </a:lnTo>
                  <a:lnTo>
                    <a:pt x="26" y="15"/>
                  </a:lnTo>
                  <a:lnTo>
                    <a:pt x="18" y="17"/>
                  </a:lnTo>
                  <a:lnTo>
                    <a:pt x="9" y="21"/>
                  </a:lnTo>
                  <a:lnTo>
                    <a:pt x="0" y="23"/>
                  </a:lnTo>
                  <a:lnTo>
                    <a:pt x="16" y="85"/>
                  </a:lnTo>
                  <a:lnTo>
                    <a:pt x="26" y="82"/>
                  </a:lnTo>
                  <a:lnTo>
                    <a:pt x="35" y="79"/>
                  </a:lnTo>
                  <a:lnTo>
                    <a:pt x="46" y="76"/>
                  </a:lnTo>
                  <a:lnTo>
                    <a:pt x="55" y="72"/>
                  </a:lnTo>
                  <a:lnTo>
                    <a:pt x="64" y="70"/>
                  </a:lnTo>
                  <a:lnTo>
                    <a:pt x="73" y="67"/>
                  </a:lnTo>
                  <a:lnTo>
                    <a:pt x="84" y="63"/>
                  </a:lnTo>
                  <a:lnTo>
                    <a:pt x="93" y="6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8237880" y="4573080"/>
              <a:ext cx="50760" cy="44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82" h="72">
                  <a:moveTo>
                    <a:pt x="0" y="65"/>
                  </a:moveTo>
                  <a:lnTo>
                    <a:pt x="10" y="65"/>
                  </a:lnTo>
                  <a:lnTo>
                    <a:pt x="19" y="66"/>
                  </a:lnTo>
                  <a:lnTo>
                    <a:pt x="28" y="67"/>
                  </a:lnTo>
                  <a:lnTo>
                    <a:pt x="36" y="67"/>
                  </a:lnTo>
                  <a:lnTo>
                    <a:pt x="45" y="68"/>
                  </a:lnTo>
                  <a:lnTo>
                    <a:pt x="55" y="69"/>
                  </a:lnTo>
                  <a:lnTo>
                    <a:pt x="63" y="71"/>
                  </a:lnTo>
                  <a:lnTo>
                    <a:pt x="72" y="72"/>
                  </a:lnTo>
                  <a:lnTo>
                    <a:pt x="82" y="8"/>
                  </a:lnTo>
                  <a:lnTo>
                    <a:pt x="73" y="7"/>
                  </a:lnTo>
                  <a:lnTo>
                    <a:pt x="63" y="6"/>
                  </a:lnTo>
                  <a:lnTo>
                    <a:pt x="53" y="5"/>
                  </a:lnTo>
                  <a:lnTo>
                    <a:pt x="43" y="4"/>
                  </a:lnTo>
                  <a:lnTo>
                    <a:pt x="34" y="3"/>
                  </a:lnTo>
                  <a:lnTo>
                    <a:pt x="23" y="3"/>
                  </a:lnTo>
                  <a:lnTo>
                    <a:pt x="14" y="1"/>
                  </a:lnTo>
                  <a:lnTo>
                    <a:pt x="4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8309880" y="5960160"/>
              <a:ext cx="55800" cy="48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88" h="80">
                  <a:moveTo>
                    <a:pt x="71" y="0"/>
                  </a:moveTo>
                  <a:lnTo>
                    <a:pt x="62" y="3"/>
                  </a:lnTo>
                  <a:lnTo>
                    <a:pt x="54" y="5"/>
                  </a:lnTo>
                  <a:lnTo>
                    <a:pt x="45" y="7"/>
                  </a:lnTo>
                  <a:lnTo>
                    <a:pt x="35" y="9"/>
                  </a:lnTo>
                  <a:lnTo>
                    <a:pt x="27" y="11"/>
                  </a:lnTo>
                  <a:lnTo>
                    <a:pt x="18" y="13"/>
                  </a:lnTo>
                  <a:lnTo>
                    <a:pt x="9" y="14"/>
                  </a:lnTo>
                  <a:lnTo>
                    <a:pt x="0" y="16"/>
                  </a:lnTo>
                  <a:lnTo>
                    <a:pt x="9" y="80"/>
                  </a:lnTo>
                  <a:lnTo>
                    <a:pt x="19" y="77"/>
                  </a:lnTo>
                  <a:lnTo>
                    <a:pt x="29" y="76"/>
                  </a:lnTo>
                  <a:lnTo>
                    <a:pt x="39" y="74"/>
                  </a:lnTo>
                  <a:lnTo>
                    <a:pt x="49" y="72"/>
                  </a:lnTo>
                  <a:lnTo>
                    <a:pt x="59" y="71"/>
                  </a:lnTo>
                  <a:lnTo>
                    <a:pt x="69" y="68"/>
                  </a:lnTo>
                  <a:lnTo>
                    <a:pt x="78" y="66"/>
                  </a:lnTo>
                  <a:lnTo>
                    <a:pt x="88" y="64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17"/>
            <p:cNvSpPr/>
            <p:nvPr/>
          </p:nvSpPr>
          <p:spPr>
            <a:xfrm>
              <a:off x="8685360" y="5734080"/>
              <a:ext cx="62280" cy="619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9" h="101">
                  <a:moveTo>
                    <a:pt x="50" y="0"/>
                  </a:moveTo>
                  <a:lnTo>
                    <a:pt x="44" y="7"/>
                  </a:lnTo>
                  <a:lnTo>
                    <a:pt x="37" y="14"/>
                  </a:lnTo>
                  <a:lnTo>
                    <a:pt x="31" y="21"/>
                  </a:lnTo>
                  <a:lnTo>
                    <a:pt x="26" y="28"/>
                  </a:lnTo>
                  <a:lnTo>
                    <a:pt x="20" y="35"/>
                  </a:lnTo>
                  <a:lnTo>
                    <a:pt x="13" y="42"/>
                  </a:lnTo>
                  <a:lnTo>
                    <a:pt x="7" y="48"/>
                  </a:lnTo>
                  <a:lnTo>
                    <a:pt x="0" y="55"/>
                  </a:lnTo>
                  <a:lnTo>
                    <a:pt x="46" y="101"/>
                  </a:lnTo>
                  <a:lnTo>
                    <a:pt x="53" y="94"/>
                  </a:lnTo>
                  <a:lnTo>
                    <a:pt x="60" y="86"/>
                  </a:lnTo>
                  <a:lnTo>
                    <a:pt x="67" y="79"/>
                  </a:lnTo>
                  <a:lnTo>
                    <a:pt x="73" y="71"/>
                  </a:lnTo>
                  <a:lnTo>
                    <a:pt x="80" y="64"/>
                  </a:lnTo>
                  <a:lnTo>
                    <a:pt x="87" y="56"/>
                  </a:lnTo>
                  <a:lnTo>
                    <a:pt x="92" y="49"/>
                  </a:lnTo>
                  <a:lnTo>
                    <a:pt x="99" y="4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8165880" y="4572000"/>
              <a:ext cx="48240" cy="39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7" h="64">
                  <a:moveTo>
                    <a:pt x="4" y="64"/>
                  </a:moveTo>
                  <a:lnTo>
                    <a:pt x="8" y="64"/>
                  </a:lnTo>
                  <a:lnTo>
                    <a:pt x="13" y="64"/>
                  </a:lnTo>
                  <a:lnTo>
                    <a:pt x="17" y="64"/>
                  </a:lnTo>
                  <a:lnTo>
                    <a:pt x="22" y="63"/>
                  </a:lnTo>
                  <a:lnTo>
                    <a:pt x="27" y="63"/>
                  </a:lnTo>
                  <a:lnTo>
                    <a:pt x="31" y="63"/>
                  </a:lnTo>
                  <a:lnTo>
                    <a:pt x="36" y="63"/>
                  </a:lnTo>
                  <a:lnTo>
                    <a:pt x="40" y="63"/>
                  </a:lnTo>
                  <a:lnTo>
                    <a:pt x="48" y="63"/>
                  </a:lnTo>
                  <a:lnTo>
                    <a:pt x="58" y="63"/>
                  </a:lnTo>
                  <a:lnTo>
                    <a:pt x="66" y="64"/>
                  </a:lnTo>
                  <a:lnTo>
                    <a:pt x="74" y="64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4" y="64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19"/>
            <p:cNvSpPr/>
            <p:nvPr/>
          </p:nvSpPr>
          <p:spPr>
            <a:xfrm>
              <a:off x="8835840" y="5480280"/>
              <a:ext cx="51840" cy="5832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4" h="93">
                  <a:moveTo>
                    <a:pt x="22" y="0"/>
                  </a:moveTo>
                  <a:lnTo>
                    <a:pt x="17" y="18"/>
                  </a:lnTo>
                  <a:lnTo>
                    <a:pt x="12" y="35"/>
                  </a:lnTo>
                  <a:lnTo>
                    <a:pt x="6" y="53"/>
                  </a:lnTo>
                  <a:lnTo>
                    <a:pt x="0" y="70"/>
                  </a:lnTo>
                  <a:lnTo>
                    <a:pt x="61" y="93"/>
                  </a:lnTo>
                  <a:lnTo>
                    <a:pt x="67" y="73"/>
                  </a:lnTo>
                  <a:lnTo>
                    <a:pt x="73" y="55"/>
                  </a:lnTo>
                  <a:lnTo>
                    <a:pt x="78" y="35"/>
                  </a:lnTo>
                  <a:lnTo>
                    <a:pt x="84" y="1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>
              <a:off x="8857080" y="5410800"/>
              <a:ext cx="48240" cy="543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8" h="89">
                  <a:moveTo>
                    <a:pt x="15" y="0"/>
                  </a:moveTo>
                  <a:lnTo>
                    <a:pt x="11" y="18"/>
                  </a:lnTo>
                  <a:lnTo>
                    <a:pt x="8" y="36"/>
                  </a:lnTo>
                  <a:lnTo>
                    <a:pt x="4" y="54"/>
                  </a:lnTo>
                  <a:lnTo>
                    <a:pt x="0" y="71"/>
                  </a:lnTo>
                  <a:lnTo>
                    <a:pt x="62" y="89"/>
                  </a:lnTo>
                  <a:lnTo>
                    <a:pt x="66" y="69"/>
                  </a:lnTo>
                  <a:lnTo>
                    <a:pt x="70" y="49"/>
                  </a:lnTo>
                  <a:lnTo>
                    <a:pt x="74" y="30"/>
                  </a:lnTo>
                  <a:lnTo>
                    <a:pt x="78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>
              <a:off x="8808480" y="5548680"/>
              <a:ext cx="55800" cy="594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89" h="97">
                  <a:moveTo>
                    <a:pt x="29" y="0"/>
                  </a:moveTo>
                  <a:lnTo>
                    <a:pt x="22" y="17"/>
                  </a:lnTo>
                  <a:lnTo>
                    <a:pt x="15" y="35"/>
                  </a:lnTo>
                  <a:lnTo>
                    <a:pt x="8" y="52"/>
                  </a:lnTo>
                  <a:lnTo>
                    <a:pt x="0" y="68"/>
                  </a:lnTo>
                  <a:lnTo>
                    <a:pt x="58" y="97"/>
                  </a:lnTo>
                  <a:lnTo>
                    <a:pt x="66" y="78"/>
                  </a:lnTo>
                  <a:lnTo>
                    <a:pt x="74" y="60"/>
                  </a:lnTo>
                  <a:lnTo>
                    <a:pt x="82" y="43"/>
                  </a:lnTo>
                  <a:lnTo>
                    <a:pt x="89" y="2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22"/>
            <p:cNvSpPr/>
            <p:nvPr/>
          </p:nvSpPr>
          <p:spPr>
            <a:xfrm>
              <a:off x="8732520" y="5676840"/>
              <a:ext cx="60840" cy="619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7" h="100">
                  <a:moveTo>
                    <a:pt x="43" y="0"/>
                  </a:moveTo>
                  <a:lnTo>
                    <a:pt x="37" y="8"/>
                  </a:lnTo>
                  <a:lnTo>
                    <a:pt x="33" y="15"/>
                  </a:lnTo>
                  <a:lnTo>
                    <a:pt x="27" y="23"/>
                  </a:lnTo>
                  <a:lnTo>
                    <a:pt x="22" y="30"/>
                  </a:lnTo>
                  <a:lnTo>
                    <a:pt x="16" y="38"/>
                  </a:lnTo>
                  <a:lnTo>
                    <a:pt x="12" y="45"/>
                  </a:lnTo>
                  <a:lnTo>
                    <a:pt x="6" y="53"/>
                  </a:lnTo>
                  <a:lnTo>
                    <a:pt x="0" y="60"/>
                  </a:lnTo>
                  <a:lnTo>
                    <a:pt x="50" y="100"/>
                  </a:lnTo>
                  <a:lnTo>
                    <a:pt x="57" y="92"/>
                  </a:lnTo>
                  <a:lnTo>
                    <a:pt x="62" y="84"/>
                  </a:lnTo>
                  <a:lnTo>
                    <a:pt x="68" y="76"/>
                  </a:lnTo>
                  <a:lnTo>
                    <a:pt x="74" y="68"/>
                  </a:lnTo>
                  <a:lnTo>
                    <a:pt x="80" y="60"/>
                  </a:lnTo>
                  <a:lnTo>
                    <a:pt x="86" y="52"/>
                  </a:lnTo>
                  <a:lnTo>
                    <a:pt x="91" y="44"/>
                  </a:lnTo>
                  <a:lnTo>
                    <a:pt x="97" y="3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23"/>
            <p:cNvSpPr/>
            <p:nvPr/>
          </p:nvSpPr>
          <p:spPr>
            <a:xfrm>
              <a:off x="8773560" y="5614560"/>
              <a:ext cx="58320" cy="622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94" h="99">
                  <a:moveTo>
                    <a:pt x="37" y="0"/>
                  </a:moveTo>
                  <a:lnTo>
                    <a:pt x="32" y="8"/>
                  </a:lnTo>
                  <a:lnTo>
                    <a:pt x="28" y="16"/>
                  </a:lnTo>
                  <a:lnTo>
                    <a:pt x="23" y="24"/>
                  </a:lnTo>
                  <a:lnTo>
                    <a:pt x="18" y="32"/>
                  </a:lnTo>
                  <a:lnTo>
                    <a:pt x="14" y="40"/>
                  </a:lnTo>
                  <a:lnTo>
                    <a:pt x="9" y="47"/>
                  </a:lnTo>
                  <a:lnTo>
                    <a:pt x="5" y="55"/>
                  </a:lnTo>
                  <a:lnTo>
                    <a:pt x="0" y="63"/>
                  </a:lnTo>
                  <a:lnTo>
                    <a:pt x="54" y="99"/>
                  </a:lnTo>
                  <a:lnTo>
                    <a:pt x="60" y="90"/>
                  </a:lnTo>
                  <a:lnTo>
                    <a:pt x="64" y="82"/>
                  </a:lnTo>
                  <a:lnTo>
                    <a:pt x="70" y="73"/>
                  </a:lnTo>
                  <a:lnTo>
                    <a:pt x="75" y="65"/>
                  </a:lnTo>
                  <a:lnTo>
                    <a:pt x="81" y="55"/>
                  </a:lnTo>
                  <a:lnTo>
                    <a:pt x="85" y="47"/>
                  </a:lnTo>
                  <a:lnTo>
                    <a:pt x="90" y="38"/>
                  </a:lnTo>
                  <a:lnTo>
                    <a:pt x="94" y="2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24"/>
            <p:cNvSpPr/>
            <p:nvPr/>
          </p:nvSpPr>
          <p:spPr>
            <a:xfrm>
              <a:off x="8869320" y="5339880"/>
              <a:ext cx="44640" cy="50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2" h="82">
                  <a:moveTo>
                    <a:pt x="7" y="0"/>
                  </a:moveTo>
                  <a:lnTo>
                    <a:pt x="6" y="18"/>
                  </a:lnTo>
                  <a:lnTo>
                    <a:pt x="5" y="36"/>
                  </a:lnTo>
                  <a:lnTo>
                    <a:pt x="3" y="54"/>
                  </a:lnTo>
                  <a:lnTo>
                    <a:pt x="0" y="72"/>
                  </a:lnTo>
                  <a:lnTo>
                    <a:pt x="64" y="82"/>
                  </a:lnTo>
                  <a:lnTo>
                    <a:pt x="66" y="62"/>
                  </a:lnTo>
                  <a:lnTo>
                    <a:pt x="68" y="42"/>
                  </a:lnTo>
                  <a:lnTo>
                    <a:pt x="69" y="23"/>
                  </a:lnTo>
                  <a:lnTo>
                    <a:pt x="72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25"/>
            <p:cNvSpPr/>
            <p:nvPr/>
          </p:nvSpPr>
          <p:spPr>
            <a:xfrm>
              <a:off x="8804880" y="4974480"/>
              <a:ext cx="55800" cy="58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9" h="96">
                  <a:moveTo>
                    <a:pt x="0" y="30"/>
                  </a:moveTo>
                  <a:lnTo>
                    <a:pt x="8" y="46"/>
                  </a:lnTo>
                  <a:lnTo>
                    <a:pt x="15" y="62"/>
                  </a:lnTo>
                  <a:lnTo>
                    <a:pt x="23" y="80"/>
                  </a:lnTo>
                  <a:lnTo>
                    <a:pt x="30" y="96"/>
                  </a:lnTo>
                  <a:lnTo>
                    <a:pt x="89" y="73"/>
                  </a:lnTo>
                  <a:lnTo>
                    <a:pt x="81" y="54"/>
                  </a:lnTo>
                  <a:lnTo>
                    <a:pt x="73" y="36"/>
                  </a:lnTo>
                  <a:lnTo>
                    <a:pt x="64" y="19"/>
                  </a:lnTo>
                  <a:lnTo>
                    <a:pt x="56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26"/>
            <p:cNvSpPr/>
            <p:nvPr/>
          </p:nvSpPr>
          <p:spPr>
            <a:xfrm>
              <a:off x="8769960" y="4908600"/>
              <a:ext cx="58320" cy="608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93" h="98">
                  <a:moveTo>
                    <a:pt x="0" y="36"/>
                  </a:moveTo>
                  <a:lnTo>
                    <a:pt x="5" y="43"/>
                  </a:lnTo>
                  <a:lnTo>
                    <a:pt x="9" y="51"/>
                  </a:lnTo>
                  <a:lnTo>
                    <a:pt x="14" y="59"/>
                  </a:lnTo>
                  <a:lnTo>
                    <a:pt x="19" y="66"/>
                  </a:lnTo>
                  <a:lnTo>
                    <a:pt x="23" y="74"/>
                  </a:lnTo>
                  <a:lnTo>
                    <a:pt x="28" y="82"/>
                  </a:lnTo>
                  <a:lnTo>
                    <a:pt x="32" y="90"/>
                  </a:lnTo>
                  <a:lnTo>
                    <a:pt x="37" y="98"/>
                  </a:lnTo>
                  <a:lnTo>
                    <a:pt x="93" y="69"/>
                  </a:lnTo>
                  <a:lnTo>
                    <a:pt x="89" y="60"/>
                  </a:lnTo>
                  <a:lnTo>
                    <a:pt x="84" y="52"/>
                  </a:lnTo>
                  <a:lnTo>
                    <a:pt x="79" y="43"/>
                  </a:lnTo>
                  <a:lnTo>
                    <a:pt x="74" y="35"/>
                  </a:lnTo>
                  <a:lnTo>
                    <a:pt x="68" y="26"/>
                  </a:lnTo>
                  <a:lnTo>
                    <a:pt x="64" y="18"/>
                  </a:lnTo>
                  <a:lnTo>
                    <a:pt x="58" y="8"/>
                  </a:lnTo>
                  <a:lnTo>
                    <a:pt x="5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27"/>
            <p:cNvSpPr/>
            <p:nvPr/>
          </p:nvSpPr>
          <p:spPr>
            <a:xfrm>
              <a:off x="8728920" y="4846320"/>
              <a:ext cx="59400" cy="622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97" h="99">
                  <a:moveTo>
                    <a:pt x="0" y="41"/>
                  </a:moveTo>
                  <a:lnTo>
                    <a:pt x="6" y="47"/>
                  </a:lnTo>
                  <a:lnTo>
                    <a:pt x="12" y="56"/>
                  </a:lnTo>
                  <a:lnTo>
                    <a:pt x="17" y="62"/>
                  </a:lnTo>
                  <a:lnTo>
                    <a:pt x="22" y="69"/>
                  </a:lnTo>
                  <a:lnTo>
                    <a:pt x="27" y="77"/>
                  </a:lnTo>
                  <a:lnTo>
                    <a:pt x="33" y="84"/>
                  </a:lnTo>
                  <a:lnTo>
                    <a:pt x="37" y="92"/>
                  </a:lnTo>
                  <a:lnTo>
                    <a:pt x="43" y="99"/>
                  </a:lnTo>
                  <a:lnTo>
                    <a:pt x="97" y="64"/>
                  </a:lnTo>
                  <a:lnTo>
                    <a:pt x="91" y="56"/>
                  </a:lnTo>
                  <a:lnTo>
                    <a:pt x="86" y="47"/>
                  </a:lnTo>
                  <a:lnTo>
                    <a:pt x="80" y="39"/>
                  </a:lnTo>
                  <a:lnTo>
                    <a:pt x="74" y="31"/>
                  </a:lnTo>
                  <a:lnTo>
                    <a:pt x="68" y="24"/>
                  </a:lnTo>
                  <a:lnTo>
                    <a:pt x="61" y="16"/>
                  </a:lnTo>
                  <a:lnTo>
                    <a:pt x="56" y="8"/>
                  </a:lnTo>
                  <a:lnTo>
                    <a:pt x="50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28"/>
            <p:cNvSpPr/>
            <p:nvPr/>
          </p:nvSpPr>
          <p:spPr>
            <a:xfrm>
              <a:off x="8833320" y="5043960"/>
              <a:ext cx="51840" cy="568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" h="91">
                  <a:moveTo>
                    <a:pt x="0" y="23"/>
                  </a:moveTo>
                  <a:lnTo>
                    <a:pt x="6" y="39"/>
                  </a:lnTo>
                  <a:lnTo>
                    <a:pt x="12" y="57"/>
                  </a:lnTo>
                  <a:lnTo>
                    <a:pt x="17" y="74"/>
                  </a:lnTo>
                  <a:lnTo>
                    <a:pt x="23" y="91"/>
                  </a:lnTo>
                  <a:lnTo>
                    <a:pt x="85" y="75"/>
                  </a:lnTo>
                  <a:lnTo>
                    <a:pt x="79" y="57"/>
                  </a:lnTo>
                  <a:lnTo>
                    <a:pt x="72" y="37"/>
                  </a:lnTo>
                  <a:lnTo>
                    <a:pt x="66" y="19"/>
                  </a:ln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29"/>
            <p:cNvSpPr/>
            <p:nvPr/>
          </p:nvSpPr>
          <p:spPr>
            <a:xfrm>
              <a:off x="8854560" y="5115960"/>
              <a:ext cx="48240" cy="543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8" h="88">
                  <a:moveTo>
                    <a:pt x="0" y="17"/>
                  </a:moveTo>
                  <a:lnTo>
                    <a:pt x="5" y="34"/>
                  </a:lnTo>
                  <a:lnTo>
                    <a:pt x="8" y="52"/>
                  </a:lnTo>
                  <a:lnTo>
                    <a:pt x="12" y="70"/>
                  </a:lnTo>
                  <a:lnTo>
                    <a:pt x="15" y="88"/>
                  </a:lnTo>
                  <a:lnTo>
                    <a:pt x="78" y="78"/>
                  </a:lnTo>
                  <a:lnTo>
                    <a:pt x="75" y="58"/>
                  </a:lnTo>
                  <a:lnTo>
                    <a:pt x="70" y="38"/>
                  </a:lnTo>
                  <a:lnTo>
                    <a:pt x="67" y="20"/>
                  </a:lnTo>
                  <a:lnTo>
                    <a:pt x="6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30"/>
            <p:cNvSpPr/>
            <p:nvPr/>
          </p:nvSpPr>
          <p:spPr>
            <a:xfrm>
              <a:off x="8875440" y="5266800"/>
              <a:ext cx="39600" cy="482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64" h="79">
                  <a:moveTo>
                    <a:pt x="0" y="49"/>
                  </a:moveTo>
                  <a:lnTo>
                    <a:pt x="0" y="54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63" y="79"/>
                  </a:lnTo>
                  <a:lnTo>
                    <a:pt x="64" y="70"/>
                  </a:lnTo>
                  <a:lnTo>
                    <a:pt x="64" y="64"/>
                  </a:lnTo>
                  <a:lnTo>
                    <a:pt x="64" y="55"/>
                  </a:lnTo>
                  <a:lnTo>
                    <a:pt x="64" y="49"/>
                  </a:lnTo>
                  <a:lnTo>
                    <a:pt x="64" y="36"/>
                  </a:lnTo>
                  <a:lnTo>
                    <a:pt x="64" y="24"/>
                  </a:lnTo>
                  <a:lnTo>
                    <a:pt x="64" y="12"/>
                  </a:lnTo>
                  <a:lnTo>
                    <a:pt x="63" y="0"/>
                  </a:lnTo>
                  <a:lnTo>
                    <a:pt x="0" y="4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31"/>
            <p:cNvSpPr/>
            <p:nvPr/>
          </p:nvSpPr>
          <p:spPr>
            <a:xfrm>
              <a:off x="8869320" y="5190840"/>
              <a:ext cx="43200" cy="507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2" h="82">
                  <a:moveTo>
                    <a:pt x="62" y="0"/>
                  </a:moveTo>
                  <a:lnTo>
                    <a:pt x="0" y="9"/>
                  </a:lnTo>
                  <a:lnTo>
                    <a:pt x="2" y="28"/>
                  </a:lnTo>
                  <a:lnTo>
                    <a:pt x="5" y="45"/>
                  </a:lnTo>
                  <a:lnTo>
                    <a:pt x="6" y="64"/>
                  </a:lnTo>
                  <a:lnTo>
                    <a:pt x="7" y="82"/>
                  </a:lnTo>
                  <a:lnTo>
                    <a:pt x="72" y="79"/>
                  </a:lnTo>
                  <a:lnTo>
                    <a:pt x="69" y="59"/>
                  </a:lnTo>
                  <a:lnTo>
                    <a:pt x="68" y="39"/>
                  </a:lnTo>
                  <a:lnTo>
                    <a:pt x="66" y="2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32"/>
            <p:cNvSpPr/>
            <p:nvPr/>
          </p:nvSpPr>
          <p:spPr>
            <a:xfrm>
              <a:off x="8511480" y="4654800"/>
              <a:ext cx="59400" cy="56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7" h="93">
                  <a:moveTo>
                    <a:pt x="0" y="56"/>
                  </a:moveTo>
                  <a:lnTo>
                    <a:pt x="8" y="61"/>
                  </a:lnTo>
                  <a:lnTo>
                    <a:pt x="16" y="65"/>
                  </a:lnTo>
                  <a:lnTo>
                    <a:pt x="23" y="70"/>
                  </a:lnTo>
                  <a:lnTo>
                    <a:pt x="31" y="74"/>
                  </a:lnTo>
                  <a:lnTo>
                    <a:pt x="39" y="79"/>
                  </a:lnTo>
                  <a:lnTo>
                    <a:pt x="47" y="84"/>
                  </a:lnTo>
                  <a:lnTo>
                    <a:pt x="54" y="88"/>
                  </a:lnTo>
                  <a:lnTo>
                    <a:pt x="62" y="93"/>
                  </a:lnTo>
                  <a:lnTo>
                    <a:pt x="97" y="39"/>
                  </a:lnTo>
                  <a:lnTo>
                    <a:pt x="89" y="34"/>
                  </a:lnTo>
                  <a:lnTo>
                    <a:pt x="81" y="28"/>
                  </a:lnTo>
                  <a:lnTo>
                    <a:pt x="72" y="24"/>
                  </a:lnTo>
                  <a:lnTo>
                    <a:pt x="64" y="19"/>
                  </a:lnTo>
                  <a:lnTo>
                    <a:pt x="54" y="13"/>
                  </a:lnTo>
                  <a:lnTo>
                    <a:pt x="46" y="9"/>
                  </a:lnTo>
                  <a:lnTo>
                    <a:pt x="37" y="4"/>
                  </a:lnTo>
                  <a:lnTo>
                    <a:pt x="29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33"/>
            <p:cNvSpPr/>
            <p:nvPr/>
          </p:nvSpPr>
          <p:spPr>
            <a:xfrm>
              <a:off x="8681760" y="4790520"/>
              <a:ext cx="60840" cy="608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98" h="99">
                  <a:moveTo>
                    <a:pt x="0" y="45"/>
                  </a:moveTo>
                  <a:lnTo>
                    <a:pt x="6" y="52"/>
                  </a:lnTo>
                  <a:lnTo>
                    <a:pt x="13" y="58"/>
                  </a:lnTo>
                  <a:lnTo>
                    <a:pt x="19" y="65"/>
                  </a:lnTo>
                  <a:lnTo>
                    <a:pt x="25" y="72"/>
                  </a:lnTo>
                  <a:lnTo>
                    <a:pt x="31" y="79"/>
                  </a:lnTo>
                  <a:lnTo>
                    <a:pt x="37" y="86"/>
                  </a:lnTo>
                  <a:lnTo>
                    <a:pt x="43" y="92"/>
                  </a:lnTo>
                  <a:lnTo>
                    <a:pt x="49" y="99"/>
                  </a:lnTo>
                  <a:lnTo>
                    <a:pt x="98" y="59"/>
                  </a:lnTo>
                  <a:lnTo>
                    <a:pt x="93" y="51"/>
                  </a:lnTo>
                  <a:lnTo>
                    <a:pt x="86" y="44"/>
                  </a:lnTo>
                  <a:lnTo>
                    <a:pt x="80" y="36"/>
                  </a:lnTo>
                  <a:lnTo>
                    <a:pt x="73" y="29"/>
                  </a:lnTo>
                  <a:lnTo>
                    <a:pt x="66" y="21"/>
                  </a:lnTo>
                  <a:lnTo>
                    <a:pt x="59" y="14"/>
                  </a:lnTo>
                  <a:lnTo>
                    <a:pt x="52" y="7"/>
                  </a:lnTo>
                  <a:lnTo>
                    <a:pt x="45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34"/>
            <p:cNvSpPr/>
            <p:nvPr/>
          </p:nvSpPr>
          <p:spPr>
            <a:xfrm>
              <a:off x="8308800" y="4582800"/>
              <a:ext cx="54360" cy="47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88" h="77">
                  <a:moveTo>
                    <a:pt x="0" y="64"/>
                  </a:moveTo>
                  <a:lnTo>
                    <a:pt x="10" y="65"/>
                  </a:lnTo>
                  <a:lnTo>
                    <a:pt x="19" y="66"/>
                  </a:lnTo>
                  <a:lnTo>
                    <a:pt x="27" y="68"/>
                  </a:lnTo>
                  <a:lnTo>
                    <a:pt x="36" y="69"/>
                  </a:lnTo>
                  <a:lnTo>
                    <a:pt x="44" y="72"/>
                  </a:lnTo>
                  <a:lnTo>
                    <a:pt x="53" y="73"/>
                  </a:lnTo>
                  <a:lnTo>
                    <a:pt x="62" y="75"/>
                  </a:lnTo>
                  <a:lnTo>
                    <a:pt x="71" y="77"/>
                  </a:lnTo>
                  <a:lnTo>
                    <a:pt x="88" y="15"/>
                  </a:lnTo>
                  <a:lnTo>
                    <a:pt x="79" y="13"/>
                  </a:lnTo>
                  <a:lnTo>
                    <a:pt x="68" y="11"/>
                  </a:lnTo>
                  <a:lnTo>
                    <a:pt x="59" y="9"/>
                  </a:lnTo>
                  <a:lnTo>
                    <a:pt x="50" y="7"/>
                  </a:lnTo>
                  <a:lnTo>
                    <a:pt x="40" y="6"/>
                  </a:lnTo>
                  <a:lnTo>
                    <a:pt x="30" y="4"/>
                  </a:lnTo>
                  <a:lnTo>
                    <a:pt x="20" y="3"/>
                  </a:lnTo>
                  <a:lnTo>
                    <a:pt x="11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35"/>
            <p:cNvSpPr/>
            <p:nvPr/>
          </p:nvSpPr>
          <p:spPr>
            <a:xfrm>
              <a:off x="8378280" y="45990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92" h="83">
                  <a:moveTo>
                    <a:pt x="0" y="62"/>
                  </a:moveTo>
                  <a:lnTo>
                    <a:pt x="9" y="64"/>
                  </a:lnTo>
                  <a:lnTo>
                    <a:pt x="17" y="67"/>
                  </a:lnTo>
                  <a:lnTo>
                    <a:pt x="27" y="69"/>
                  </a:lnTo>
                  <a:lnTo>
                    <a:pt x="35" y="71"/>
                  </a:lnTo>
                  <a:lnTo>
                    <a:pt x="44" y="75"/>
                  </a:lnTo>
                  <a:lnTo>
                    <a:pt x="52" y="77"/>
                  </a:lnTo>
                  <a:lnTo>
                    <a:pt x="61" y="79"/>
                  </a:lnTo>
                  <a:lnTo>
                    <a:pt x="69" y="83"/>
                  </a:lnTo>
                  <a:lnTo>
                    <a:pt x="92" y="23"/>
                  </a:lnTo>
                  <a:lnTo>
                    <a:pt x="83" y="19"/>
                  </a:lnTo>
                  <a:lnTo>
                    <a:pt x="74" y="17"/>
                  </a:lnTo>
                  <a:lnTo>
                    <a:pt x="64" y="14"/>
                  </a:lnTo>
                  <a:lnTo>
                    <a:pt x="54" y="11"/>
                  </a:lnTo>
                  <a:lnTo>
                    <a:pt x="45" y="8"/>
                  </a:lnTo>
                  <a:lnTo>
                    <a:pt x="36" y="6"/>
                  </a:lnTo>
                  <a:lnTo>
                    <a:pt x="26" y="2"/>
                  </a:lnTo>
                  <a:lnTo>
                    <a:pt x="16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36"/>
            <p:cNvSpPr/>
            <p:nvPr/>
          </p:nvSpPr>
          <p:spPr>
            <a:xfrm>
              <a:off x="8445240" y="4622400"/>
              <a:ext cx="59400" cy="558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6" h="89">
                  <a:moveTo>
                    <a:pt x="0" y="60"/>
                  </a:moveTo>
                  <a:lnTo>
                    <a:pt x="9" y="63"/>
                  </a:lnTo>
                  <a:lnTo>
                    <a:pt x="18" y="67"/>
                  </a:lnTo>
                  <a:lnTo>
                    <a:pt x="26" y="70"/>
                  </a:lnTo>
                  <a:lnTo>
                    <a:pt x="34" y="74"/>
                  </a:lnTo>
                  <a:lnTo>
                    <a:pt x="43" y="77"/>
                  </a:lnTo>
                  <a:lnTo>
                    <a:pt x="51" y="81"/>
                  </a:lnTo>
                  <a:lnTo>
                    <a:pt x="59" y="85"/>
                  </a:lnTo>
                  <a:lnTo>
                    <a:pt x="67" y="89"/>
                  </a:lnTo>
                  <a:lnTo>
                    <a:pt x="96" y="31"/>
                  </a:lnTo>
                  <a:lnTo>
                    <a:pt x="87" y="26"/>
                  </a:lnTo>
                  <a:lnTo>
                    <a:pt x="78" y="23"/>
                  </a:lnTo>
                  <a:lnTo>
                    <a:pt x="68" y="18"/>
                  </a:lnTo>
                  <a:lnTo>
                    <a:pt x="60" y="15"/>
                  </a:lnTo>
                  <a:lnTo>
                    <a:pt x="51" y="10"/>
                  </a:lnTo>
                  <a:lnTo>
                    <a:pt x="42" y="7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37"/>
            <p:cNvSpPr/>
            <p:nvPr/>
          </p:nvSpPr>
          <p:spPr>
            <a:xfrm>
              <a:off x="8629560" y="4738320"/>
              <a:ext cx="60840" cy="608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99" h="98">
                  <a:moveTo>
                    <a:pt x="0" y="51"/>
                  </a:moveTo>
                  <a:lnTo>
                    <a:pt x="7" y="57"/>
                  </a:lnTo>
                  <a:lnTo>
                    <a:pt x="14" y="63"/>
                  </a:lnTo>
                  <a:lnTo>
                    <a:pt x="21" y="68"/>
                  </a:lnTo>
                  <a:lnTo>
                    <a:pt x="27" y="74"/>
                  </a:lnTo>
                  <a:lnTo>
                    <a:pt x="34" y="80"/>
                  </a:lnTo>
                  <a:lnTo>
                    <a:pt x="41" y="87"/>
                  </a:lnTo>
                  <a:lnTo>
                    <a:pt x="46" y="92"/>
                  </a:lnTo>
                  <a:lnTo>
                    <a:pt x="53" y="98"/>
                  </a:lnTo>
                  <a:lnTo>
                    <a:pt x="99" y="53"/>
                  </a:lnTo>
                  <a:lnTo>
                    <a:pt x="92" y="46"/>
                  </a:lnTo>
                  <a:lnTo>
                    <a:pt x="84" y="40"/>
                  </a:lnTo>
                  <a:lnTo>
                    <a:pt x="77" y="33"/>
                  </a:lnTo>
                  <a:lnTo>
                    <a:pt x="71" y="27"/>
                  </a:lnTo>
                  <a:lnTo>
                    <a:pt x="62" y="20"/>
                  </a:lnTo>
                  <a:lnTo>
                    <a:pt x="56" y="13"/>
                  </a:lnTo>
                  <a:lnTo>
                    <a:pt x="48" y="7"/>
                  </a:lnTo>
                  <a:lnTo>
                    <a:pt x="41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38"/>
            <p:cNvSpPr/>
            <p:nvPr/>
          </p:nvSpPr>
          <p:spPr>
            <a:xfrm>
              <a:off x="8572320" y="4693680"/>
              <a:ext cx="60840" cy="59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9" h="95">
                  <a:moveTo>
                    <a:pt x="0" y="54"/>
                  </a:moveTo>
                  <a:lnTo>
                    <a:pt x="7" y="59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30" y="75"/>
                  </a:lnTo>
                  <a:lnTo>
                    <a:pt x="37" y="79"/>
                  </a:lnTo>
                  <a:lnTo>
                    <a:pt x="44" y="85"/>
                  </a:lnTo>
                  <a:lnTo>
                    <a:pt x="52" y="90"/>
                  </a:lnTo>
                  <a:lnTo>
                    <a:pt x="59" y="95"/>
                  </a:lnTo>
                  <a:lnTo>
                    <a:pt x="99" y="46"/>
                  </a:lnTo>
                  <a:lnTo>
                    <a:pt x="91" y="40"/>
                  </a:lnTo>
                  <a:lnTo>
                    <a:pt x="83" y="34"/>
                  </a:lnTo>
                  <a:lnTo>
                    <a:pt x="75" y="29"/>
                  </a:lnTo>
                  <a:lnTo>
                    <a:pt x="67" y="23"/>
                  </a:lnTo>
                  <a:lnTo>
                    <a:pt x="59" y="17"/>
                  </a:lnTo>
                  <a:lnTo>
                    <a:pt x="51" y="11"/>
                  </a:lnTo>
                  <a:lnTo>
                    <a:pt x="43" y="6"/>
                  </a:lnTo>
                  <a:lnTo>
                    <a:pt x="35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39"/>
            <p:cNvSpPr/>
            <p:nvPr/>
          </p:nvSpPr>
          <p:spPr>
            <a:xfrm>
              <a:off x="7633800" y="5732640"/>
              <a:ext cx="60840" cy="6228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98" h="99">
                  <a:moveTo>
                    <a:pt x="98" y="54"/>
                  </a:moveTo>
                  <a:lnTo>
                    <a:pt x="91" y="47"/>
                  </a:lnTo>
                  <a:lnTo>
                    <a:pt x="86" y="42"/>
                  </a:lnTo>
                  <a:lnTo>
                    <a:pt x="80" y="35"/>
                  </a:lnTo>
                  <a:lnTo>
                    <a:pt x="73" y="28"/>
                  </a:lnTo>
                  <a:lnTo>
                    <a:pt x="67" y="21"/>
                  </a:lnTo>
                  <a:lnTo>
                    <a:pt x="61" y="14"/>
                  </a:lnTo>
                  <a:lnTo>
                    <a:pt x="56" y="7"/>
                  </a:lnTo>
                  <a:lnTo>
                    <a:pt x="50" y="0"/>
                  </a:lnTo>
                  <a:lnTo>
                    <a:pt x="0" y="40"/>
                  </a:lnTo>
                  <a:lnTo>
                    <a:pt x="6" y="47"/>
                  </a:lnTo>
                  <a:lnTo>
                    <a:pt x="13" y="55"/>
                  </a:lnTo>
                  <a:lnTo>
                    <a:pt x="19" y="62"/>
                  </a:lnTo>
                  <a:lnTo>
                    <a:pt x="26" y="70"/>
                  </a:lnTo>
                  <a:lnTo>
                    <a:pt x="33" y="77"/>
                  </a:lnTo>
                  <a:lnTo>
                    <a:pt x="40" y="85"/>
                  </a:lnTo>
                  <a:lnTo>
                    <a:pt x="46" y="92"/>
                  </a:lnTo>
                  <a:lnTo>
                    <a:pt x="53" y="99"/>
                  </a:lnTo>
                  <a:lnTo>
                    <a:pt x="98" y="54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40"/>
            <p:cNvSpPr/>
            <p:nvPr/>
          </p:nvSpPr>
          <p:spPr>
            <a:xfrm>
              <a:off x="7549200" y="5613480"/>
              <a:ext cx="58320" cy="608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94" h="98">
                  <a:moveTo>
                    <a:pt x="94" y="63"/>
                  </a:moveTo>
                  <a:lnTo>
                    <a:pt x="89" y="55"/>
                  </a:lnTo>
                  <a:lnTo>
                    <a:pt x="85" y="47"/>
                  </a:lnTo>
                  <a:lnTo>
                    <a:pt x="80" y="40"/>
                  </a:lnTo>
                  <a:lnTo>
                    <a:pt x="75" y="32"/>
                  </a:lnTo>
                  <a:lnTo>
                    <a:pt x="71" y="24"/>
                  </a:lnTo>
                  <a:lnTo>
                    <a:pt x="66" y="16"/>
                  </a:lnTo>
                  <a:lnTo>
                    <a:pt x="61" y="8"/>
                  </a:lnTo>
                  <a:lnTo>
                    <a:pt x="57" y="0"/>
                  </a:lnTo>
                  <a:lnTo>
                    <a:pt x="0" y="29"/>
                  </a:lnTo>
                  <a:lnTo>
                    <a:pt x="5" y="38"/>
                  </a:lnTo>
                  <a:lnTo>
                    <a:pt x="10" y="47"/>
                  </a:lnTo>
                  <a:lnTo>
                    <a:pt x="14" y="55"/>
                  </a:lnTo>
                  <a:lnTo>
                    <a:pt x="19" y="64"/>
                  </a:lnTo>
                  <a:lnTo>
                    <a:pt x="25" y="72"/>
                  </a:lnTo>
                  <a:lnTo>
                    <a:pt x="29" y="82"/>
                  </a:lnTo>
                  <a:lnTo>
                    <a:pt x="35" y="90"/>
                  </a:lnTo>
                  <a:lnTo>
                    <a:pt x="40" y="98"/>
                  </a:lnTo>
                  <a:lnTo>
                    <a:pt x="94" y="6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41"/>
            <p:cNvSpPr/>
            <p:nvPr/>
          </p:nvSpPr>
          <p:spPr>
            <a:xfrm>
              <a:off x="7587720" y="5674320"/>
              <a:ext cx="60840" cy="6336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6" h="100">
                  <a:moveTo>
                    <a:pt x="96" y="60"/>
                  </a:moveTo>
                  <a:lnTo>
                    <a:pt x="91" y="53"/>
                  </a:lnTo>
                  <a:lnTo>
                    <a:pt x="85" y="45"/>
                  </a:lnTo>
                  <a:lnTo>
                    <a:pt x="79" y="38"/>
                  </a:lnTo>
                  <a:lnTo>
                    <a:pt x="75" y="30"/>
                  </a:lnTo>
                  <a:lnTo>
                    <a:pt x="69" y="23"/>
                  </a:lnTo>
                  <a:lnTo>
                    <a:pt x="63" y="15"/>
                  </a:lnTo>
                  <a:lnTo>
                    <a:pt x="58" y="8"/>
                  </a:lnTo>
                  <a:lnTo>
                    <a:pt x="53" y="0"/>
                  </a:lnTo>
                  <a:lnTo>
                    <a:pt x="0" y="36"/>
                  </a:lnTo>
                  <a:lnTo>
                    <a:pt x="5" y="44"/>
                  </a:lnTo>
                  <a:lnTo>
                    <a:pt x="11" y="52"/>
                  </a:lnTo>
                  <a:lnTo>
                    <a:pt x="17" y="60"/>
                  </a:lnTo>
                  <a:lnTo>
                    <a:pt x="23" y="68"/>
                  </a:lnTo>
                  <a:lnTo>
                    <a:pt x="28" y="76"/>
                  </a:lnTo>
                  <a:lnTo>
                    <a:pt x="34" y="84"/>
                  </a:lnTo>
                  <a:lnTo>
                    <a:pt x="40" y="92"/>
                  </a:lnTo>
                  <a:lnTo>
                    <a:pt x="46" y="100"/>
                  </a:lnTo>
                  <a:lnTo>
                    <a:pt x="96" y="6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42"/>
            <p:cNvSpPr/>
            <p:nvPr/>
          </p:nvSpPr>
          <p:spPr>
            <a:xfrm>
              <a:off x="7686000" y="5786280"/>
              <a:ext cx="60840" cy="608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99" h="99">
                  <a:moveTo>
                    <a:pt x="99" y="49"/>
                  </a:moveTo>
                  <a:lnTo>
                    <a:pt x="92" y="43"/>
                  </a:lnTo>
                  <a:lnTo>
                    <a:pt x="86" y="37"/>
                  </a:lnTo>
                  <a:lnTo>
                    <a:pt x="79" y="31"/>
                  </a:lnTo>
                  <a:lnTo>
                    <a:pt x="72" y="25"/>
                  </a:lnTo>
                  <a:lnTo>
                    <a:pt x="65" y="19"/>
                  </a:lnTo>
                  <a:lnTo>
                    <a:pt x="58" y="13"/>
                  </a:lnTo>
                  <a:lnTo>
                    <a:pt x="52" y="6"/>
                  </a:lnTo>
                  <a:lnTo>
                    <a:pt x="45" y="0"/>
                  </a:lnTo>
                  <a:lnTo>
                    <a:pt x="0" y="45"/>
                  </a:lnTo>
                  <a:lnTo>
                    <a:pt x="7" y="52"/>
                  </a:lnTo>
                  <a:lnTo>
                    <a:pt x="14" y="59"/>
                  </a:lnTo>
                  <a:lnTo>
                    <a:pt x="21" y="66"/>
                  </a:lnTo>
                  <a:lnTo>
                    <a:pt x="29" y="73"/>
                  </a:lnTo>
                  <a:lnTo>
                    <a:pt x="36" y="80"/>
                  </a:lnTo>
                  <a:lnTo>
                    <a:pt x="44" y="87"/>
                  </a:lnTo>
                  <a:lnTo>
                    <a:pt x="51" y="93"/>
                  </a:lnTo>
                  <a:lnTo>
                    <a:pt x="59" y="99"/>
                  </a:lnTo>
                  <a:lnTo>
                    <a:pt x="99" y="49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43"/>
            <p:cNvSpPr/>
            <p:nvPr/>
          </p:nvSpPr>
          <p:spPr>
            <a:xfrm>
              <a:off x="7743240" y="5833440"/>
              <a:ext cx="60840" cy="59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9" h="97">
                  <a:moveTo>
                    <a:pt x="99" y="44"/>
                  </a:moveTo>
                  <a:lnTo>
                    <a:pt x="91" y="38"/>
                  </a:lnTo>
                  <a:lnTo>
                    <a:pt x="85" y="34"/>
                  </a:lnTo>
                  <a:lnTo>
                    <a:pt x="76" y="28"/>
                  </a:lnTo>
                  <a:lnTo>
                    <a:pt x="70" y="22"/>
                  </a:lnTo>
                  <a:lnTo>
                    <a:pt x="61" y="18"/>
                  </a:lnTo>
                  <a:lnTo>
                    <a:pt x="55" y="12"/>
                  </a:lnTo>
                  <a:lnTo>
                    <a:pt x="46" y="6"/>
                  </a:lnTo>
                  <a:lnTo>
                    <a:pt x="40" y="0"/>
                  </a:lnTo>
                  <a:lnTo>
                    <a:pt x="0" y="50"/>
                  </a:lnTo>
                  <a:lnTo>
                    <a:pt x="8" y="56"/>
                  </a:lnTo>
                  <a:lnTo>
                    <a:pt x="17" y="61"/>
                  </a:lnTo>
                  <a:lnTo>
                    <a:pt x="23" y="68"/>
                  </a:lnTo>
                  <a:lnTo>
                    <a:pt x="32" y="74"/>
                  </a:lnTo>
                  <a:lnTo>
                    <a:pt x="40" y="80"/>
                  </a:lnTo>
                  <a:lnTo>
                    <a:pt x="48" y="86"/>
                  </a:lnTo>
                  <a:lnTo>
                    <a:pt x="56" y="91"/>
                  </a:lnTo>
                  <a:lnTo>
                    <a:pt x="64" y="97"/>
                  </a:lnTo>
                  <a:lnTo>
                    <a:pt x="99" y="44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44"/>
            <p:cNvSpPr/>
            <p:nvPr/>
          </p:nvSpPr>
          <p:spPr>
            <a:xfrm>
              <a:off x="7468560" y="5338440"/>
              <a:ext cx="43200" cy="507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1" h="81">
                  <a:moveTo>
                    <a:pt x="71" y="72"/>
                  </a:moveTo>
                  <a:lnTo>
                    <a:pt x="69" y="54"/>
                  </a:lnTo>
                  <a:lnTo>
                    <a:pt x="67" y="35"/>
                  </a:lnTo>
                  <a:lnTo>
                    <a:pt x="66" y="18"/>
                  </a:lnTo>
                  <a:lnTo>
                    <a:pt x="64" y="0"/>
                  </a:lnTo>
                  <a:lnTo>
                    <a:pt x="0" y="3"/>
                  </a:lnTo>
                  <a:lnTo>
                    <a:pt x="1" y="23"/>
                  </a:lnTo>
                  <a:lnTo>
                    <a:pt x="3" y="42"/>
                  </a:lnTo>
                  <a:lnTo>
                    <a:pt x="5" y="62"/>
                  </a:lnTo>
                  <a:lnTo>
                    <a:pt x="7" y="81"/>
                  </a:lnTo>
                  <a:lnTo>
                    <a:pt x="71" y="72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45"/>
            <p:cNvSpPr/>
            <p:nvPr/>
          </p:nvSpPr>
          <p:spPr>
            <a:xfrm>
              <a:off x="7477200" y="5409720"/>
              <a:ext cx="48240" cy="558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77" h="88">
                  <a:moveTo>
                    <a:pt x="77" y="71"/>
                  </a:moveTo>
                  <a:lnTo>
                    <a:pt x="73" y="54"/>
                  </a:lnTo>
                  <a:lnTo>
                    <a:pt x="69" y="35"/>
                  </a:lnTo>
                  <a:lnTo>
                    <a:pt x="66" y="18"/>
                  </a:lnTo>
                  <a:lnTo>
                    <a:pt x="63" y="0"/>
                  </a:lnTo>
                  <a:lnTo>
                    <a:pt x="0" y="10"/>
                  </a:lnTo>
                  <a:lnTo>
                    <a:pt x="4" y="30"/>
                  </a:lnTo>
                  <a:lnTo>
                    <a:pt x="7" y="49"/>
                  </a:lnTo>
                  <a:lnTo>
                    <a:pt x="10" y="69"/>
                  </a:lnTo>
                  <a:lnTo>
                    <a:pt x="15" y="88"/>
                  </a:lnTo>
                  <a:lnTo>
                    <a:pt x="77" y="71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46"/>
            <p:cNvSpPr/>
            <p:nvPr/>
          </p:nvSpPr>
          <p:spPr>
            <a:xfrm>
              <a:off x="7493400" y="5480280"/>
              <a:ext cx="51840" cy="568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3" h="92">
                  <a:moveTo>
                    <a:pt x="83" y="69"/>
                  </a:moveTo>
                  <a:lnTo>
                    <a:pt x="77" y="51"/>
                  </a:lnTo>
                  <a:lnTo>
                    <a:pt x="71" y="34"/>
                  </a:lnTo>
                  <a:lnTo>
                    <a:pt x="66" y="17"/>
                  </a:lnTo>
                  <a:lnTo>
                    <a:pt x="61" y="0"/>
                  </a:lnTo>
                  <a:lnTo>
                    <a:pt x="0" y="16"/>
                  </a:lnTo>
                  <a:lnTo>
                    <a:pt x="5" y="35"/>
                  </a:lnTo>
                  <a:lnTo>
                    <a:pt x="11" y="55"/>
                  </a:lnTo>
                  <a:lnTo>
                    <a:pt x="17" y="73"/>
                  </a:lnTo>
                  <a:lnTo>
                    <a:pt x="23" y="92"/>
                  </a:lnTo>
                  <a:lnTo>
                    <a:pt x="83" y="69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47"/>
            <p:cNvSpPr/>
            <p:nvPr/>
          </p:nvSpPr>
          <p:spPr>
            <a:xfrm>
              <a:off x="7517880" y="5547240"/>
              <a:ext cx="54720" cy="594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88" h="96">
                  <a:moveTo>
                    <a:pt x="88" y="67"/>
                  </a:moveTo>
                  <a:lnTo>
                    <a:pt x="80" y="51"/>
                  </a:lnTo>
                  <a:lnTo>
                    <a:pt x="72" y="33"/>
                  </a:lnTo>
                  <a:lnTo>
                    <a:pt x="65" y="17"/>
                  </a:lnTo>
                  <a:lnTo>
                    <a:pt x="59" y="0"/>
                  </a:lnTo>
                  <a:lnTo>
                    <a:pt x="0" y="23"/>
                  </a:lnTo>
                  <a:lnTo>
                    <a:pt x="7" y="41"/>
                  </a:lnTo>
                  <a:lnTo>
                    <a:pt x="15" y="60"/>
                  </a:lnTo>
                  <a:lnTo>
                    <a:pt x="23" y="78"/>
                  </a:lnTo>
                  <a:lnTo>
                    <a:pt x="31" y="96"/>
                  </a:lnTo>
                  <a:lnTo>
                    <a:pt x="88" y="67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48"/>
            <p:cNvSpPr/>
            <p:nvPr/>
          </p:nvSpPr>
          <p:spPr>
            <a:xfrm>
              <a:off x="8088840" y="5973840"/>
              <a:ext cx="51840" cy="4320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83" h="72">
                  <a:moveTo>
                    <a:pt x="83" y="8"/>
                  </a:moveTo>
                  <a:lnTo>
                    <a:pt x="74" y="7"/>
                  </a:lnTo>
                  <a:lnTo>
                    <a:pt x="64" y="6"/>
                  </a:lnTo>
                  <a:lnTo>
                    <a:pt x="55" y="6"/>
                  </a:lnTo>
                  <a:lnTo>
                    <a:pt x="46" y="5"/>
                  </a:lnTo>
                  <a:lnTo>
                    <a:pt x="37" y="4"/>
                  </a:lnTo>
                  <a:lnTo>
                    <a:pt x="28" y="2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63"/>
                  </a:lnTo>
                  <a:lnTo>
                    <a:pt x="10" y="65"/>
                  </a:lnTo>
                  <a:lnTo>
                    <a:pt x="19" y="66"/>
                  </a:lnTo>
                  <a:lnTo>
                    <a:pt x="30" y="67"/>
                  </a:lnTo>
                  <a:lnTo>
                    <a:pt x="40" y="68"/>
                  </a:lnTo>
                  <a:lnTo>
                    <a:pt x="49" y="69"/>
                  </a:lnTo>
                  <a:lnTo>
                    <a:pt x="60" y="69"/>
                  </a:lnTo>
                  <a:lnTo>
                    <a:pt x="69" y="70"/>
                  </a:lnTo>
                  <a:lnTo>
                    <a:pt x="79" y="72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49"/>
            <p:cNvSpPr/>
            <p:nvPr/>
          </p:nvSpPr>
          <p:spPr>
            <a:xfrm>
              <a:off x="8164800" y="5979960"/>
              <a:ext cx="49320" cy="396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9" h="64">
                  <a:moveTo>
                    <a:pt x="76" y="0"/>
                  </a:moveTo>
                  <a:lnTo>
                    <a:pt x="71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63"/>
                  </a:lnTo>
                  <a:lnTo>
                    <a:pt x="6" y="63"/>
                  </a:lnTo>
                  <a:lnTo>
                    <a:pt x="10" y="64"/>
                  </a:lnTo>
                  <a:lnTo>
                    <a:pt x="16" y="64"/>
                  </a:lnTo>
                  <a:lnTo>
                    <a:pt x="21" y="64"/>
                  </a:lnTo>
                  <a:lnTo>
                    <a:pt x="26" y="64"/>
                  </a:lnTo>
                  <a:lnTo>
                    <a:pt x="31" y="64"/>
                  </a:lnTo>
                  <a:lnTo>
                    <a:pt x="37" y="64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51" y="64"/>
                  </a:lnTo>
                  <a:lnTo>
                    <a:pt x="55" y="64"/>
                  </a:lnTo>
                  <a:lnTo>
                    <a:pt x="61" y="64"/>
                  </a:lnTo>
                  <a:lnTo>
                    <a:pt x="66" y="64"/>
                  </a:lnTo>
                  <a:lnTo>
                    <a:pt x="70" y="64"/>
                  </a:lnTo>
                  <a:lnTo>
                    <a:pt x="75" y="63"/>
                  </a:lnTo>
                  <a:lnTo>
                    <a:pt x="79" y="63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50"/>
            <p:cNvSpPr/>
            <p:nvPr/>
          </p:nvSpPr>
          <p:spPr>
            <a:xfrm>
              <a:off x="8013960" y="5960160"/>
              <a:ext cx="54360" cy="482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89" h="79">
                  <a:moveTo>
                    <a:pt x="89" y="15"/>
                  </a:moveTo>
                  <a:lnTo>
                    <a:pt x="79" y="13"/>
                  </a:lnTo>
                  <a:lnTo>
                    <a:pt x="70" y="12"/>
                  </a:lnTo>
                  <a:lnTo>
                    <a:pt x="61" y="9"/>
                  </a:lnTo>
                  <a:lnTo>
                    <a:pt x="53" y="8"/>
                  </a:lnTo>
                  <a:lnTo>
                    <a:pt x="44" y="6"/>
                  </a:lnTo>
                  <a:lnTo>
                    <a:pt x="34" y="5"/>
                  </a:lnTo>
                  <a:lnTo>
                    <a:pt x="25" y="3"/>
                  </a:lnTo>
                  <a:lnTo>
                    <a:pt x="16" y="0"/>
                  </a:lnTo>
                  <a:lnTo>
                    <a:pt x="0" y="62"/>
                  </a:lnTo>
                  <a:lnTo>
                    <a:pt x="9" y="65"/>
                  </a:lnTo>
                  <a:lnTo>
                    <a:pt x="20" y="67"/>
                  </a:lnTo>
                  <a:lnTo>
                    <a:pt x="29" y="69"/>
                  </a:lnTo>
                  <a:lnTo>
                    <a:pt x="39" y="71"/>
                  </a:lnTo>
                  <a:lnTo>
                    <a:pt x="48" y="73"/>
                  </a:lnTo>
                  <a:lnTo>
                    <a:pt x="59" y="75"/>
                  </a:lnTo>
                  <a:lnTo>
                    <a:pt x="68" y="76"/>
                  </a:lnTo>
                  <a:lnTo>
                    <a:pt x="78" y="79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51"/>
            <p:cNvSpPr/>
            <p:nvPr/>
          </p:nvSpPr>
          <p:spPr>
            <a:xfrm>
              <a:off x="7940880" y="5937840"/>
              <a:ext cx="58320" cy="532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94" h="85">
                  <a:moveTo>
                    <a:pt x="94" y="23"/>
                  </a:moveTo>
                  <a:lnTo>
                    <a:pt x="85" y="20"/>
                  </a:lnTo>
                  <a:lnTo>
                    <a:pt x="75" y="17"/>
                  </a:lnTo>
                  <a:lnTo>
                    <a:pt x="67" y="15"/>
                  </a:lnTo>
                  <a:lnTo>
                    <a:pt x="58" y="12"/>
                  </a:lnTo>
                  <a:lnTo>
                    <a:pt x="50" y="9"/>
                  </a:lnTo>
                  <a:lnTo>
                    <a:pt x="41" y="7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0" y="60"/>
                  </a:lnTo>
                  <a:lnTo>
                    <a:pt x="10" y="63"/>
                  </a:lnTo>
                  <a:lnTo>
                    <a:pt x="20" y="67"/>
                  </a:lnTo>
                  <a:lnTo>
                    <a:pt x="29" y="70"/>
                  </a:lnTo>
                  <a:lnTo>
                    <a:pt x="38" y="72"/>
                  </a:lnTo>
                  <a:lnTo>
                    <a:pt x="48" y="76"/>
                  </a:lnTo>
                  <a:lnTo>
                    <a:pt x="58" y="79"/>
                  </a:lnTo>
                  <a:lnTo>
                    <a:pt x="67" y="81"/>
                  </a:lnTo>
                  <a:lnTo>
                    <a:pt x="76" y="85"/>
                  </a:lnTo>
                  <a:lnTo>
                    <a:pt x="94" y="2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Freeform 52"/>
            <p:cNvSpPr/>
            <p:nvPr/>
          </p:nvSpPr>
          <p:spPr>
            <a:xfrm>
              <a:off x="7804080" y="5874480"/>
              <a:ext cx="60840" cy="583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8" h="95">
                  <a:moveTo>
                    <a:pt x="98" y="38"/>
                  </a:moveTo>
                  <a:lnTo>
                    <a:pt x="90" y="34"/>
                  </a:lnTo>
                  <a:lnTo>
                    <a:pt x="83" y="29"/>
                  </a:lnTo>
                  <a:lnTo>
                    <a:pt x="75" y="24"/>
                  </a:lnTo>
                  <a:lnTo>
                    <a:pt x="67" y="19"/>
                  </a:lnTo>
                  <a:lnTo>
                    <a:pt x="59" y="14"/>
                  </a:lnTo>
                  <a:lnTo>
                    <a:pt x="52" y="9"/>
                  </a:lnTo>
                  <a:lnTo>
                    <a:pt x="44" y="5"/>
                  </a:lnTo>
                  <a:lnTo>
                    <a:pt x="36" y="0"/>
                  </a:lnTo>
                  <a:lnTo>
                    <a:pt x="0" y="54"/>
                  </a:lnTo>
                  <a:lnTo>
                    <a:pt x="10" y="59"/>
                  </a:lnTo>
                  <a:lnTo>
                    <a:pt x="18" y="65"/>
                  </a:lnTo>
                  <a:lnTo>
                    <a:pt x="27" y="69"/>
                  </a:lnTo>
                  <a:lnTo>
                    <a:pt x="35" y="75"/>
                  </a:lnTo>
                  <a:lnTo>
                    <a:pt x="44" y="80"/>
                  </a:lnTo>
                  <a:lnTo>
                    <a:pt x="52" y="85"/>
                  </a:lnTo>
                  <a:lnTo>
                    <a:pt x="62" y="90"/>
                  </a:lnTo>
                  <a:lnTo>
                    <a:pt x="70" y="95"/>
                  </a:lnTo>
                  <a:lnTo>
                    <a:pt x="98" y="38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Freeform 53"/>
            <p:cNvSpPr/>
            <p:nvPr/>
          </p:nvSpPr>
          <p:spPr>
            <a:xfrm>
              <a:off x="7467480" y="5266800"/>
              <a:ext cx="39600" cy="482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64" h="79">
                  <a:moveTo>
                    <a:pt x="63" y="49"/>
                  </a:moveTo>
                  <a:lnTo>
                    <a:pt x="63" y="37"/>
                  </a:lnTo>
                  <a:lnTo>
                    <a:pt x="64" y="26"/>
                  </a:lnTo>
                  <a:lnTo>
                    <a:pt x="64" y="15"/>
                  </a:lnTo>
                  <a:lnTo>
                    <a:pt x="64" y="4"/>
                  </a:lnTo>
                  <a:lnTo>
                    <a:pt x="1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64" y="75"/>
                  </a:lnTo>
                  <a:lnTo>
                    <a:pt x="64" y="68"/>
                  </a:lnTo>
                  <a:lnTo>
                    <a:pt x="64" y="61"/>
                  </a:lnTo>
                  <a:lnTo>
                    <a:pt x="63" y="54"/>
                  </a:lnTo>
                  <a:lnTo>
                    <a:pt x="63" y="49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54"/>
            <p:cNvSpPr/>
            <p:nvPr/>
          </p:nvSpPr>
          <p:spPr>
            <a:xfrm>
              <a:off x="7871400" y="5909400"/>
              <a:ext cx="59400" cy="56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5" h="91">
                  <a:moveTo>
                    <a:pt x="95" y="31"/>
                  </a:moveTo>
                  <a:lnTo>
                    <a:pt x="87" y="27"/>
                  </a:lnTo>
                  <a:lnTo>
                    <a:pt x="79" y="24"/>
                  </a:lnTo>
                  <a:lnTo>
                    <a:pt x="70" y="20"/>
                  </a:lnTo>
                  <a:lnTo>
                    <a:pt x="62" y="16"/>
                  </a:lnTo>
                  <a:lnTo>
                    <a:pt x="54" y="12"/>
                  </a:lnTo>
                  <a:lnTo>
                    <a:pt x="45" y="8"/>
                  </a:lnTo>
                  <a:lnTo>
                    <a:pt x="36" y="4"/>
                  </a:lnTo>
                  <a:lnTo>
                    <a:pt x="28" y="0"/>
                  </a:lnTo>
                  <a:lnTo>
                    <a:pt x="0" y="57"/>
                  </a:lnTo>
                  <a:lnTo>
                    <a:pt x="9" y="62"/>
                  </a:lnTo>
                  <a:lnTo>
                    <a:pt x="18" y="65"/>
                  </a:lnTo>
                  <a:lnTo>
                    <a:pt x="27" y="70"/>
                  </a:lnTo>
                  <a:lnTo>
                    <a:pt x="36" y="74"/>
                  </a:lnTo>
                  <a:lnTo>
                    <a:pt x="45" y="79"/>
                  </a:lnTo>
                  <a:lnTo>
                    <a:pt x="54" y="83"/>
                  </a:lnTo>
                  <a:lnTo>
                    <a:pt x="63" y="87"/>
                  </a:lnTo>
                  <a:lnTo>
                    <a:pt x="72" y="91"/>
                  </a:lnTo>
                  <a:lnTo>
                    <a:pt x="95" y="31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55"/>
            <p:cNvSpPr/>
            <p:nvPr/>
          </p:nvSpPr>
          <p:spPr>
            <a:xfrm>
              <a:off x="7690680" y="4739400"/>
              <a:ext cx="60840" cy="608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98" h="98">
                  <a:moveTo>
                    <a:pt x="44" y="98"/>
                  </a:moveTo>
                  <a:lnTo>
                    <a:pt x="51" y="92"/>
                  </a:lnTo>
                  <a:lnTo>
                    <a:pt x="58" y="85"/>
                  </a:lnTo>
                  <a:lnTo>
                    <a:pt x="65" y="79"/>
                  </a:lnTo>
                  <a:lnTo>
                    <a:pt x="72" y="73"/>
                  </a:lnTo>
                  <a:lnTo>
                    <a:pt x="78" y="68"/>
                  </a:lnTo>
                  <a:lnTo>
                    <a:pt x="85" y="61"/>
                  </a:lnTo>
                  <a:lnTo>
                    <a:pt x="91" y="55"/>
                  </a:lnTo>
                  <a:lnTo>
                    <a:pt x="98" y="49"/>
                  </a:lnTo>
                  <a:lnTo>
                    <a:pt x="58" y="0"/>
                  </a:lnTo>
                  <a:lnTo>
                    <a:pt x="51" y="7"/>
                  </a:lnTo>
                  <a:lnTo>
                    <a:pt x="43" y="12"/>
                  </a:lnTo>
                  <a:lnTo>
                    <a:pt x="36" y="19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9"/>
                  </a:lnTo>
                  <a:lnTo>
                    <a:pt x="7" y="46"/>
                  </a:lnTo>
                  <a:lnTo>
                    <a:pt x="0" y="53"/>
                  </a:lnTo>
                  <a:lnTo>
                    <a:pt x="44" y="98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Freeform 56"/>
            <p:cNvSpPr/>
            <p:nvPr/>
          </p:nvSpPr>
          <p:spPr>
            <a:xfrm>
              <a:off x="7808760" y="4656240"/>
              <a:ext cx="60840" cy="5688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6" h="92">
                  <a:moveTo>
                    <a:pt x="34" y="92"/>
                  </a:moveTo>
                  <a:lnTo>
                    <a:pt x="42" y="87"/>
                  </a:lnTo>
                  <a:lnTo>
                    <a:pt x="50" y="83"/>
                  </a:lnTo>
                  <a:lnTo>
                    <a:pt x="57" y="78"/>
                  </a:lnTo>
                  <a:lnTo>
                    <a:pt x="65" y="74"/>
                  </a:lnTo>
                  <a:lnTo>
                    <a:pt x="73" y="69"/>
                  </a:lnTo>
                  <a:lnTo>
                    <a:pt x="81" y="66"/>
                  </a:lnTo>
                  <a:lnTo>
                    <a:pt x="88" y="61"/>
                  </a:lnTo>
                  <a:lnTo>
                    <a:pt x="96" y="56"/>
                  </a:lnTo>
                  <a:lnTo>
                    <a:pt x="67" y="0"/>
                  </a:lnTo>
                  <a:lnTo>
                    <a:pt x="59" y="5"/>
                  </a:lnTo>
                  <a:lnTo>
                    <a:pt x="50" y="9"/>
                  </a:lnTo>
                  <a:lnTo>
                    <a:pt x="42" y="14"/>
                  </a:lnTo>
                  <a:lnTo>
                    <a:pt x="34" y="19"/>
                  </a:lnTo>
                  <a:lnTo>
                    <a:pt x="25" y="24"/>
                  </a:lnTo>
                  <a:lnTo>
                    <a:pt x="17" y="29"/>
                  </a:lnTo>
                  <a:lnTo>
                    <a:pt x="8" y="34"/>
                  </a:lnTo>
                  <a:lnTo>
                    <a:pt x="0" y="39"/>
                  </a:lnTo>
                  <a:lnTo>
                    <a:pt x="34" y="92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Freeform 57"/>
            <p:cNvSpPr/>
            <p:nvPr/>
          </p:nvSpPr>
          <p:spPr>
            <a:xfrm>
              <a:off x="7747920" y="4694760"/>
              <a:ext cx="60840" cy="59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8" h="96">
                  <a:moveTo>
                    <a:pt x="41" y="96"/>
                  </a:moveTo>
                  <a:lnTo>
                    <a:pt x="48" y="90"/>
                  </a:lnTo>
                  <a:lnTo>
                    <a:pt x="55" y="84"/>
                  </a:lnTo>
                  <a:lnTo>
                    <a:pt x="62" y="80"/>
                  </a:lnTo>
                  <a:lnTo>
                    <a:pt x="70" y="74"/>
                  </a:lnTo>
                  <a:lnTo>
                    <a:pt x="77" y="69"/>
                  </a:lnTo>
                  <a:lnTo>
                    <a:pt x="83" y="63"/>
                  </a:lnTo>
                  <a:lnTo>
                    <a:pt x="91" y="59"/>
                  </a:lnTo>
                  <a:lnTo>
                    <a:pt x="98" y="53"/>
                  </a:lnTo>
                  <a:lnTo>
                    <a:pt x="64" y="0"/>
                  </a:lnTo>
                  <a:lnTo>
                    <a:pt x="56" y="6"/>
                  </a:lnTo>
                  <a:lnTo>
                    <a:pt x="48" y="12"/>
                  </a:lnTo>
                  <a:lnTo>
                    <a:pt x="40" y="17"/>
                  </a:lnTo>
                  <a:lnTo>
                    <a:pt x="32" y="23"/>
                  </a:lnTo>
                  <a:lnTo>
                    <a:pt x="24" y="29"/>
                  </a:lnTo>
                  <a:lnTo>
                    <a:pt x="17" y="35"/>
                  </a:lnTo>
                  <a:lnTo>
                    <a:pt x="9" y="40"/>
                  </a:lnTo>
                  <a:lnTo>
                    <a:pt x="0" y="46"/>
                  </a:lnTo>
                  <a:lnTo>
                    <a:pt x="41" y="96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58"/>
            <p:cNvSpPr/>
            <p:nvPr/>
          </p:nvSpPr>
          <p:spPr>
            <a:xfrm>
              <a:off x="7875000" y="4624920"/>
              <a:ext cx="58320" cy="532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94" h="88">
                  <a:moveTo>
                    <a:pt x="28" y="88"/>
                  </a:moveTo>
                  <a:lnTo>
                    <a:pt x="36" y="84"/>
                  </a:lnTo>
                  <a:lnTo>
                    <a:pt x="44" y="80"/>
                  </a:lnTo>
                  <a:lnTo>
                    <a:pt x="52" y="76"/>
                  </a:lnTo>
                  <a:lnTo>
                    <a:pt x="62" y="73"/>
                  </a:lnTo>
                  <a:lnTo>
                    <a:pt x="70" y="69"/>
                  </a:lnTo>
                  <a:lnTo>
                    <a:pt x="78" y="66"/>
                  </a:lnTo>
                  <a:lnTo>
                    <a:pt x="86" y="62"/>
                  </a:lnTo>
                  <a:lnTo>
                    <a:pt x="94" y="59"/>
                  </a:lnTo>
                  <a:lnTo>
                    <a:pt x="72" y="0"/>
                  </a:lnTo>
                  <a:lnTo>
                    <a:pt x="63" y="4"/>
                  </a:lnTo>
                  <a:lnTo>
                    <a:pt x="54" y="7"/>
                  </a:lnTo>
                  <a:lnTo>
                    <a:pt x="44" y="11"/>
                  </a:lnTo>
                  <a:lnTo>
                    <a:pt x="36" y="15"/>
                  </a:lnTo>
                  <a:lnTo>
                    <a:pt x="27" y="19"/>
                  </a:lnTo>
                  <a:lnTo>
                    <a:pt x="18" y="23"/>
                  </a:lnTo>
                  <a:lnTo>
                    <a:pt x="9" y="27"/>
                  </a:lnTo>
                  <a:lnTo>
                    <a:pt x="0" y="31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59"/>
            <p:cNvSpPr/>
            <p:nvPr/>
          </p:nvSpPr>
          <p:spPr>
            <a:xfrm>
              <a:off x="7469640" y="5190840"/>
              <a:ext cx="43560" cy="507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2" h="82">
                  <a:moveTo>
                    <a:pt x="64" y="82"/>
                  </a:moveTo>
                  <a:lnTo>
                    <a:pt x="66" y="64"/>
                  </a:lnTo>
                  <a:lnTo>
                    <a:pt x="67" y="46"/>
                  </a:lnTo>
                  <a:lnTo>
                    <a:pt x="70" y="28"/>
                  </a:lnTo>
                  <a:lnTo>
                    <a:pt x="72" y="11"/>
                  </a:lnTo>
                  <a:lnTo>
                    <a:pt x="9" y="0"/>
                  </a:lnTo>
                  <a:lnTo>
                    <a:pt x="6" y="20"/>
                  </a:lnTo>
                  <a:lnTo>
                    <a:pt x="4" y="39"/>
                  </a:lnTo>
                  <a:lnTo>
                    <a:pt x="3" y="59"/>
                  </a:lnTo>
                  <a:lnTo>
                    <a:pt x="0" y="79"/>
                  </a:lnTo>
                  <a:lnTo>
                    <a:pt x="64" y="82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60"/>
            <p:cNvSpPr/>
            <p:nvPr/>
          </p:nvSpPr>
          <p:spPr>
            <a:xfrm>
              <a:off x="7944480" y="4599000"/>
              <a:ext cx="56880" cy="518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91" h="83">
                  <a:moveTo>
                    <a:pt x="23" y="83"/>
                  </a:moveTo>
                  <a:lnTo>
                    <a:pt x="31" y="79"/>
                  </a:lnTo>
                  <a:lnTo>
                    <a:pt x="39" y="77"/>
                  </a:lnTo>
                  <a:lnTo>
                    <a:pt x="49" y="74"/>
                  </a:lnTo>
                  <a:lnTo>
                    <a:pt x="57" y="71"/>
                  </a:lnTo>
                  <a:lnTo>
                    <a:pt x="66" y="69"/>
                  </a:lnTo>
                  <a:lnTo>
                    <a:pt x="74" y="67"/>
                  </a:lnTo>
                  <a:lnTo>
                    <a:pt x="83" y="63"/>
                  </a:lnTo>
                  <a:lnTo>
                    <a:pt x="91" y="61"/>
                  </a:lnTo>
                  <a:lnTo>
                    <a:pt x="75" y="0"/>
                  </a:lnTo>
                  <a:lnTo>
                    <a:pt x="66" y="3"/>
                  </a:lnTo>
                  <a:lnTo>
                    <a:pt x="57" y="6"/>
                  </a:lnTo>
                  <a:lnTo>
                    <a:pt x="46" y="9"/>
                  </a:lnTo>
                  <a:lnTo>
                    <a:pt x="37" y="11"/>
                  </a:lnTo>
                  <a:lnTo>
                    <a:pt x="28" y="15"/>
                  </a:lnTo>
                  <a:lnTo>
                    <a:pt x="19" y="17"/>
                  </a:lnTo>
                  <a:lnTo>
                    <a:pt x="9" y="21"/>
                  </a:lnTo>
                  <a:lnTo>
                    <a:pt x="0" y="24"/>
                  </a:lnTo>
                  <a:lnTo>
                    <a:pt x="23" y="8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61"/>
            <p:cNvSpPr/>
            <p:nvPr/>
          </p:nvSpPr>
          <p:spPr>
            <a:xfrm>
              <a:off x="8016840" y="4582800"/>
              <a:ext cx="52920" cy="482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86" h="79">
                  <a:moveTo>
                    <a:pt x="16" y="79"/>
                  </a:moveTo>
                  <a:lnTo>
                    <a:pt x="25" y="76"/>
                  </a:lnTo>
                  <a:lnTo>
                    <a:pt x="33" y="74"/>
                  </a:lnTo>
                  <a:lnTo>
                    <a:pt x="42" y="73"/>
                  </a:lnTo>
                  <a:lnTo>
                    <a:pt x="51" y="71"/>
                  </a:lnTo>
                  <a:lnTo>
                    <a:pt x="59" y="69"/>
                  </a:lnTo>
                  <a:lnTo>
                    <a:pt x="69" y="67"/>
                  </a:lnTo>
                  <a:lnTo>
                    <a:pt x="77" y="66"/>
                  </a:lnTo>
                  <a:lnTo>
                    <a:pt x="86" y="64"/>
                  </a:lnTo>
                  <a:lnTo>
                    <a:pt x="76" y="0"/>
                  </a:lnTo>
                  <a:lnTo>
                    <a:pt x="66" y="3"/>
                  </a:lnTo>
                  <a:lnTo>
                    <a:pt x="57" y="4"/>
                  </a:lnTo>
                  <a:lnTo>
                    <a:pt x="47" y="6"/>
                  </a:lnTo>
                  <a:lnTo>
                    <a:pt x="38" y="8"/>
                  </a:lnTo>
                  <a:lnTo>
                    <a:pt x="28" y="9"/>
                  </a:lnTo>
                  <a:lnTo>
                    <a:pt x="19" y="12"/>
                  </a:lnTo>
                  <a:lnTo>
                    <a:pt x="9" y="14"/>
                  </a:lnTo>
                  <a:lnTo>
                    <a:pt x="0" y="16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62"/>
            <p:cNvSpPr/>
            <p:nvPr/>
          </p:nvSpPr>
          <p:spPr>
            <a:xfrm>
              <a:off x="8091000" y="4573080"/>
              <a:ext cx="49680" cy="446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82" h="72">
                  <a:moveTo>
                    <a:pt x="78" y="0"/>
                  </a:moveTo>
                  <a:lnTo>
                    <a:pt x="68" y="1"/>
                  </a:lnTo>
                  <a:lnTo>
                    <a:pt x="59" y="3"/>
                  </a:lnTo>
                  <a:lnTo>
                    <a:pt x="49" y="3"/>
                  </a:lnTo>
                  <a:lnTo>
                    <a:pt x="39" y="4"/>
                  </a:lnTo>
                  <a:lnTo>
                    <a:pt x="29" y="5"/>
                  </a:lnTo>
                  <a:lnTo>
                    <a:pt x="20" y="6"/>
                  </a:lnTo>
                  <a:lnTo>
                    <a:pt x="9" y="8"/>
                  </a:lnTo>
                  <a:lnTo>
                    <a:pt x="0" y="10"/>
                  </a:lnTo>
                  <a:lnTo>
                    <a:pt x="11" y="72"/>
                  </a:lnTo>
                  <a:lnTo>
                    <a:pt x="20" y="71"/>
                  </a:lnTo>
                  <a:lnTo>
                    <a:pt x="28" y="69"/>
                  </a:lnTo>
                  <a:lnTo>
                    <a:pt x="37" y="68"/>
                  </a:lnTo>
                  <a:lnTo>
                    <a:pt x="46" y="67"/>
                  </a:lnTo>
                  <a:lnTo>
                    <a:pt x="54" y="67"/>
                  </a:lnTo>
                  <a:lnTo>
                    <a:pt x="64" y="66"/>
                  </a:lnTo>
                  <a:lnTo>
                    <a:pt x="73" y="65"/>
                  </a:lnTo>
                  <a:lnTo>
                    <a:pt x="82" y="65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63"/>
            <p:cNvSpPr/>
            <p:nvPr/>
          </p:nvSpPr>
          <p:spPr>
            <a:xfrm>
              <a:off x="7497000" y="5045400"/>
              <a:ext cx="51840" cy="5580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84" h="91">
                  <a:moveTo>
                    <a:pt x="61" y="91"/>
                  </a:moveTo>
                  <a:lnTo>
                    <a:pt x="67" y="74"/>
                  </a:lnTo>
                  <a:lnTo>
                    <a:pt x="73" y="57"/>
                  </a:lnTo>
                  <a:lnTo>
                    <a:pt x="79" y="39"/>
                  </a:lnTo>
                  <a:lnTo>
                    <a:pt x="84" y="22"/>
                  </a:lnTo>
                  <a:lnTo>
                    <a:pt x="24" y="0"/>
                  </a:lnTo>
                  <a:lnTo>
                    <a:pt x="19" y="19"/>
                  </a:lnTo>
                  <a:lnTo>
                    <a:pt x="12" y="37"/>
                  </a:lnTo>
                  <a:lnTo>
                    <a:pt x="6" y="57"/>
                  </a:lnTo>
                  <a:lnTo>
                    <a:pt x="0" y="75"/>
                  </a:lnTo>
                  <a:lnTo>
                    <a:pt x="61" y="91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64"/>
            <p:cNvSpPr/>
            <p:nvPr/>
          </p:nvSpPr>
          <p:spPr>
            <a:xfrm>
              <a:off x="7479720" y="5115960"/>
              <a:ext cx="46800" cy="5436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7" h="88">
                  <a:moveTo>
                    <a:pt x="62" y="88"/>
                  </a:moveTo>
                  <a:lnTo>
                    <a:pt x="65" y="70"/>
                  </a:lnTo>
                  <a:lnTo>
                    <a:pt x="69" y="52"/>
                  </a:lnTo>
                  <a:lnTo>
                    <a:pt x="72" y="35"/>
                  </a:lnTo>
                  <a:lnTo>
                    <a:pt x="77" y="18"/>
                  </a:lnTo>
                  <a:lnTo>
                    <a:pt x="16" y="0"/>
                  </a:lnTo>
                  <a:lnTo>
                    <a:pt x="11" y="20"/>
                  </a:lnTo>
                  <a:lnTo>
                    <a:pt x="6" y="38"/>
                  </a:lnTo>
                  <a:lnTo>
                    <a:pt x="3" y="58"/>
                  </a:lnTo>
                  <a:lnTo>
                    <a:pt x="0" y="78"/>
                  </a:lnTo>
                  <a:lnTo>
                    <a:pt x="62" y="88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65"/>
            <p:cNvSpPr/>
            <p:nvPr/>
          </p:nvSpPr>
          <p:spPr>
            <a:xfrm>
              <a:off x="7521840" y="4975920"/>
              <a:ext cx="54360" cy="583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8" h="94">
                  <a:moveTo>
                    <a:pt x="58" y="94"/>
                  </a:moveTo>
                  <a:lnTo>
                    <a:pt x="65" y="78"/>
                  </a:lnTo>
                  <a:lnTo>
                    <a:pt x="73" y="61"/>
                  </a:lnTo>
                  <a:lnTo>
                    <a:pt x="80" y="45"/>
                  </a:lnTo>
                  <a:lnTo>
                    <a:pt x="88" y="28"/>
                  </a:lnTo>
                  <a:lnTo>
                    <a:pt x="32" y="0"/>
                  </a:lnTo>
                  <a:lnTo>
                    <a:pt x="24" y="17"/>
                  </a:lnTo>
                  <a:lnTo>
                    <a:pt x="16" y="35"/>
                  </a:lnTo>
                  <a:lnTo>
                    <a:pt x="8" y="53"/>
                  </a:lnTo>
                  <a:lnTo>
                    <a:pt x="0" y="71"/>
                  </a:lnTo>
                  <a:lnTo>
                    <a:pt x="58" y="94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66"/>
            <p:cNvSpPr/>
            <p:nvPr/>
          </p:nvSpPr>
          <p:spPr>
            <a:xfrm>
              <a:off x="7592760" y="4847760"/>
              <a:ext cx="60840" cy="608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96" h="97">
                  <a:moveTo>
                    <a:pt x="54" y="97"/>
                  </a:moveTo>
                  <a:lnTo>
                    <a:pt x="58" y="91"/>
                  </a:lnTo>
                  <a:lnTo>
                    <a:pt x="64" y="83"/>
                  </a:lnTo>
                  <a:lnTo>
                    <a:pt x="69" y="76"/>
                  </a:lnTo>
                  <a:lnTo>
                    <a:pt x="75" y="69"/>
                  </a:lnTo>
                  <a:lnTo>
                    <a:pt x="79" y="61"/>
                  </a:lnTo>
                  <a:lnTo>
                    <a:pt x="85" y="54"/>
                  </a:lnTo>
                  <a:lnTo>
                    <a:pt x="91" y="47"/>
                  </a:lnTo>
                  <a:lnTo>
                    <a:pt x="96" y="40"/>
                  </a:lnTo>
                  <a:lnTo>
                    <a:pt x="47" y="0"/>
                  </a:lnTo>
                  <a:lnTo>
                    <a:pt x="41" y="8"/>
                  </a:lnTo>
                  <a:lnTo>
                    <a:pt x="35" y="16"/>
                  </a:lnTo>
                  <a:lnTo>
                    <a:pt x="29" y="23"/>
                  </a:lnTo>
                  <a:lnTo>
                    <a:pt x="23" y="31"/>
                  </a:lnTo>
                  <a:lnTo>
                    <a:pt x="17" y="39"/>
                  </a:lnTo>
                  <a:lnTo>
                    <a:pt x="11" y="47"/>
                  </a:lnTo>
                  <a:lnTo>
                    <a:pt x="5" y="55"/>
                  </a:lnTo>
                  <a:lnTo>
                    <a:pt x="0" y="63"/>
                  </a:lnTo>
                  <a:lnTo>
                    <a:pt x="54" y="97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67"/>
            <p:cNvSpPr/>
            <p:nvPr/>
          </p:nvSpPr>
          <p:spPr>
            <a:xfrm>
              <a:off x="7638840" y="4791600"/>
              <a:ext cx="60840" cy="608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98" h="97">
                  <a:moveTo>
                    <a:pt x="50" y="97"/>
                  </a:moveTo>
                  <a:lnTo>
                    <a:pt x="56" y="91"/>
                  </a:lnTo>
                  <a:lnTo>
                    <a:pt x="63" y="84"/>
                  </a:lnTo>
                  <a:lnTo>
                    <a:pt x="68" y="77"/>
                  </a:lnTo>
                  <a:lnTo>
                    <a:pt x="74" y="71"/>
                  </a:lnTo>
                  <a:lnTo>
                    <a:pt x="80" y="64"/>
                  </a:lnTo>
                  <a:lnTo>
                    <a:pt x="87" y="57"/>
                  </a:lnTo>
                  <a:lnTo>
                    <a:pt x="93" y="51"/>
                  </a:lnTo>
                  <a:lnTo>
                    <a:pt x="98" y="45"/>
                  </a:lnTo>
                  <a:lnTo>
                    <a:pt x="53" y="0"/>
                  </a:lnTo>
                  <a:lnTo>
                    <a:pt x="46" y="6"/>
                  </a:lnTo>
                  <a:lnTo>
                    <a:pt x="40" y="13"/>
                  </a:lnTo>
                  <a:lnTo>
                    <a:pt x="33" y="20"/>
                  </a:lnTo>
                  <a:lnTo>
                    <a:pt x="27" y="28"/>
                  </a:lnTo>
                  <a:lnTo>
                    <a:pt x="20" y="35"/>
                  </a:lnTo>
                  <a:lnTo>
                    <a:pt x="13" y="43"/>
                  </a:lnTo>
                  <a:lnTo>
                    <a:pt x="7" y="50"/>
                  </a:lnTo>
                  <a:lnTo>
                    <a:pt x="0" y="58"/>
                  </a:lnTo>
                  <a:lnTo>
                    <a:pt x="50" y="97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68"/>
            <p:cNvSpPr/>
            <p:nvPr/>
          </p:nvSpPr>
          <p:spPr>
            <a:xfrm>
              <a:off x="7554240" y="4909680"/>
              <a:ext cx="56880" cy="59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4" h="96">
                  <a:moveTo>
                    <a:pt x="57" y="96"/>
                  </a:moveTo>
                  <a:lnTo>
                    <a:pt x="61" y="88"/>
                  </a:lnTo>
                  <a:lnTo>
                    <a:pt x="66" y="80"/>
                  </a:lnTo>
                  <a:lnTo>
                    <a:pt x="71" y="73"/>
                  </a:lnTo>
                  <a:lnTo>
                    <a:pt x="75" y="65"/>
                  </a:lnTo>
                  <a:lnTo>
                    <a:pt x="80" y="57"/>
                  </a:lnTo>
                  <a:lnTo>
                    <a:pt x="84" y="49"/>
                  </a:lnTo>
                  <a:lnTo>
                    <a:pt x="89" y="42"/>
                  </a:lnTo>
                  <a:lnTo>
                    <a:pt x="94" y="34"/>
                  </a:lnTo>
                  <a:lnTo>
                    <a:pt x="41" y="0"/>
                  </a:lnTo>
                  <a:lnTo>
                    <a:pt x="36" y="8"/>
                  </a:lnTo>
                  <a:lnTo>
                    <a:pt x="30" y="16"/>
                  </a:lnTo>
                  <a:lnTo>
                    <a:pt x="26" y="25"/>
                  </a:lnTo>
                  <a:lnTo>
                    <a:pt x="20" y="33"/>
                  </a:lnTo>
                  <a:lnTo>
                    <a:pt x="15" y="42"/>
                  </a:lnTo>
                  <a:lnTo>
                    <a:pt x="10" y="50"/>
                  </a:lnTo>
                  <a:lnTo>
                    <a:pt x="5" y="60"/>
                  </a:lnTo>
                  <a:lnTo>
                    <a:pt x="0" y="68"/>
                  </a:lnTo>
                  <a:lnTo>
                    <a:pt x="57" y="96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69"/>
            <p:cNvSpPr/>
            <p:nvPr/>
          </p:nvSpPr>
          <p:spPr>
            <a:xfrm>
              <a:off x="8073720" y="5174640"/>
              <a:ext cx="61920" cy="6699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w="101" h="1078">
                  <a:moveTo>
                    <a:pt x="79" y="533"/>
                  </a:moveTo>
                  <a:lnTo>
                    <a:pt x="78" y="534"/>
                  </a:lnTo>
                  <a:lnTo>
                    <a:pt x="76" y="535"/>
                  </a:lnTo>
                  <a:lnTo>
                    <a:pt x="74" y="538"/>
                  </a:lnTo>
                  <a:lnTo>
                    <a:pt x="72" y="539"/>
                  </a:lnTo>
                  <a:lnTo>
                    <a:pt x="71" y="538"/>
                  </a:lnTo>
                  <a:lnTo>
                    <a:pt x="69" y="536"/>
                  </a:lnTo>
                  <a:lnTo>
                    <a:pt x="67" y="536"/>
                  </a:lnTo>
                  <a:lnTo>
                    <a:pt x="65" y="536"/>
                  </a:lnTo>
                  <a:lnTo>
                    <a:pt x="62" y="538"/>
                  </a:lnTo>
                  <a:lnTo>
                    <a:pt x="58" y="541"/>
                  </a:lnTo>
                  <a:lnTo>
                    <a:pt x="55" y="546"/>
                  </a:lnTo>
                  <a:lnTo>
                    <a:pt x="53" y="551"/>
                  </a:lnTo>
                  <a:lnTo>
                    <a:pt x="51" y="463"/>
                  </a:lnTo>
                  <a:lnTo>
                    <a:pt x="71" y="458"/>
                  </a:lnTo>
                  <a:lnTo>
                    <a:pt x="70" y="0"/>
                  </a:lnTo>
                  <a:lnTo>
                    <a:pt x="0" y="12"/>
                  </a:lnTo>
                  <a:lnTo>
                    <a:pt x="1" y="472"/>
                  </a:lnTo>
                  <a:lnTo>
                    <a:pt x="13" y="470"/>
                  </a:lnTo>
                  <a:lnTo>
                    <a:pt x="15" y="766"/>
                  </a:lnTo>
                  <a:lnTo>
                    <a:pt x="27" y="769"/>
                  </a:lnTo>
                  <a:lnTo>
                    <a:pt x="28" y="1038"/>
                  </a:lnTo>
                  <a:lnTo>
                    <a:pt x="34" y="1078"/>
                  </a:lnTo>
                  <a:lnTo>
                    <a:pt x="40" y="1035"/>
                  </a:lnTo>
                  <a:lnTo>
                    <a:pt x="39" y="768"/>
                  </a:lnTo>
                  <a:lnTo>
                    <a:pt x="54" y="759"/>
                  </a:lnTo>
                  <a:lnTo>
                    <a:pt x="53" y="649"/>
                  </a:lnTo>
                  <a:lnTo>
                    <a:pt x="55" y="655"/>
                  </a:lnTo>
                  <a:lnTo>
                    <a:pt x="58" y="659"/>
                  </a:lnTo>
                  <a:lnTo>
                    <a:pt x="62" y="660"/>
                  </a:lnTo>
                  <a:lnTo>
                    <a:pt x="65" y="661"/>
                  </a:lnTo>
                  <a:lnTo>
                    <a:pt x="67" y="660"/>
                  </a:lnTo>
                  <a:lnTo>
                    <a:pt x="70" y="659"/>
                  </a:lnTo>
                  <a:lnTo>
                    <a:pt x="71" y="656"/>
                  </a:lnTo>
                  <a:lnTo>
                    <a:pt x="73" y="655"/>
                  </a:lnTo>
                  <a:lnTo>
                    <a:pt x="76" y="656"/>
                  </a:lnTo>
                  <a:lnTo>
                    <a:pt x="77" y="657"/>
                  </a:lnTo>
                  <a:lnTo>
                    <a:pt x="79" y="657"/>
                  </a:lnTo>
                  <a:lnTo>
                    <a:pt x="80" y="657"/>
                  </a:lnTo>
                  <a:lnTo>
                    <a:pt x="88" y="651"/>
                  </a:lnTo>
                  <a:lnTo>
                    <a:pt x="95" y="637"/>
                  </a:lnTo>
                  <a:lnTo>
                    <a:pt x="100" y="616"/>
                  </a:lnTo>
                  <a:lnTo>
                    <a:pt x="101" y="592"/>
                  </a:lnTo>
                  <a:lnTo>
                    <a:pt x="99" y="568"/>
                  </a:lnTo>
                  <a:lnTo>
                    <a:pt x="94" y="549"/>
                  </a:lnTo>
                  <a:lnTo>
                    <a:pt x="87" y="536"/>
                  </a:lnTo>
                  <a:lnTo>
                    <a:pt x="79" y="53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70"/>
            <p:cNvSpPr/>
            <p:nvPr/>
          </p:nvSpPr>
          <p:spPr>
            <a:xfrm>
              <a:off x="7575120" y="5155920"/>
              <a:ext cx="520560" cy="5727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837" h="922">
                  <a:moveTo>
                    <a:pt x="837" y="40"/>
                  </a:moveTo>
                  <a:lnTo>
                    <a:pt x="793" y="0"/>
                  </a:lnTo>
                  <a:lnTo>
                    <a:pt x="213" y="667"/>
                  </a:lnTo>
                  <a:lnTo>
                    <a:pt x="220" y="674"/>
                  </a:lnTo>
                  <a:lnTo>
                    <a:pt x="26" y="886"/>
                  </a:lnTo>
                  <a:lnTo>
                    <a:pt x="0" y="922"/>
                  </a:lnTo>
                  <a:lnTo>
                    <a:pt x="33" y="892"/>
                  </a:lnTo>
                  <a:lnTo>
                    <a:pt x="228" y="681"/>
                  </a:lnTo>
                  <a:lnTo>
                    <a:pt x="241" y="692"/>
                  </a:lnTo>
                  <a:lnTo>
                    <a:pt x="837" y="4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71"/>
            <p:cNvSpPr/>
            <p:nvPr/>
          </p:nvSpPr>
          <p:spPr>
            <a:xfrm>
              <a:off x="8046720" y="4961880"/>
              <a:ext cx="122760" cy="2397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98" h="387">
                  <a:moveTo>
                    <a:pt x="108" y="238"/>
                  </a:moveTo>
                  <a:lnTo>
                    <a:pt x="115" y="217"/>
                  </a:lnTo>
                  <a:lnTo>
                    <a:pt x="131" y="220"/>
                  </a:lnTo>
                  <a:lnTo>
                    <a:pt x="198" y="8"/>
                  </a:lnTo>
                  <a:lnTo>
                    <a:pt x="143" y="0"/>
                  </a:lnTo>
                  <a:lnTo>
                    <a:pt x="76" y="212"/>
                  </a:lnTo>
                  <a:lnTo>
                    <a:pt x="93" y="214"/>
                  </a:lnTo>
                  <a:lnTo>
                    <a:pt x="86" y="235"/>
                  </a:lnTo>
                  <a:lnTo>
                    <a:pt x="72" y="236"/>
                  </a:lnTo>
                  <a:lnTo>
                    <a:pt x="60" y="240"/>
                  </a:lnTo>
                  <a:lnTo>
                    <a:pt x="47" y="246"/>
                  </a:lnTo>
                  <a:lnTo>
                    <a:pt x="35" y="253"/>
                  </a:lnTo>
                  <a:lnTo>
                    <a:pt x="25" y="263"/>
                  </a:lnTo>
                  <a:lnTo>
                    <a:pt x="16" y="274"/>
                  </a:lnTo>
                  <a:lnTo>
                    <a:pt x="9" y="286"/>
                  </a:lnTo>
                  <a:lnTo>
                    <a:pt x="3" y="300"/>
                  </a:lnTo>
                  <a:lnTo>
                    <a:pt x="0" y="315"/>
                  </a:lnTo>
                  <a:lnTo>
                    <a:pt x="0" y="330"/>
                  </a:lnTo>
                  <a:lnTo>
                    <a:pt x="2" y="344"/>
                  </a:lnTo>
                  <a:lnTo>
                    <a:pt x="7" y="357"/>
                  </a:lnTo>
                  <a:lnTo>
                    <a:pt x="15" y="367"/>
                  </a:lnTo>
                  <a:lnTo>
                    <a:pt x="25" y="375"/>
                  </a:lnTo>
                  <a:lnTo>
                    <a:pt x="37" y="382"/>
                  </a:lnTo>
                  <a:lnTo>
                    <a:pt x="50" y="386"/>
                  </a:lnTo>
                  <a:lnTo>
                    <a:pt x="65" y="387"/>
                  </a:lnTo>
                  <a:lnTo>
                    <a:pt x="79" y="383"/>
                  </a:lnTo>
                  <a:lnTo>
                    <a:pt x="94" y="379"/>
                  </a:lnTo>
                  <a:lnTo>
                    <a:pt x="107" y="371"/>
                  </a:lnTo>
                  <a:lnTo>
                    <a:pt x="120" y="361"/>
                  </a:lnTo>
                  <a:lnTo>
                    <a:pt x="130" y="350"/>
                  </a:lnTo>
                  <a:lnTo>
                    <a:pt x="138" y="336"/>
                  </a:lnTo>
                  <a:lnTo>
                    <a:pt x="145" y="321"/>
                  </a:lnTo>
                  <a:lnTo>
                    <a:pt x="148" y="307"/>
                  </a:lnTo>
                  <a:lnTo>
                    <a:pt x="148" y="295"/>
                  </a:lnTo>
                  <a:lnTo>
                    <a:pt x="147" y="282"/>
                  </a:lnTo>
                  <a:lnTo>
                    <a:pt x="143" y="270"/>
                  </a:lnTo>
                  <a:lnTo>
                    <a:pt x="137" y="260"/>
                  </a:lnTo>
                  <a:lnTo>
                    <a:pt x="129" y="251"/>
                  </a:lnTo>
                  <a:lnTo>
                    <a:pt x="120" y="244"/>
                  </a:lnTo>
                  <a:lnTo>
                    <a:pt x="108" y="238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Freeform 72"/>
            <p:cNvSpPr/>
            <p:nvPr/>
          </p:nvSpPr>
          <p:spPr>
            <a:xfrm>
              <a:off x="7564320" y="5526360"/>
              <a:ext cx="1088640" cy="307080"/>
            </a:xfrm>
            <a:custGeom>
              <a:avLst/>
              <a:gdLst>
                <a:gd name="textAreaLeft" fmla="*/ 0 w 1088640"/>
                <a:gd name="textAreaRight" fmla="*/ 1089000 w 108864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1753" h="494">
                  <a:moveTo>
                    <a:pt x="58" y="284"/>
                  </a:moveTo>
                  <a:lnTo>
                    <a:pt x="73" y="269"/>
                  </a:lnTo>
                  <a:lnTo>
                    <a:pt x="89" y="254"/>
                  </a:lnTo>
                  <a:lnTo>
                    <a:pt x="106" y="240"/>
                  </a:lnTo>
                  <a:lnTo>
                    <a:pt x="124" y="226"/>
                  </a:lnTo>
                  <a:lnTo>
                    <a:pt x="142" y="212"/>
                  </a:lnTo>
                  <a:lnTo>
                    <a:pt x="161" y="200"/>
                  </a:lnTo>
                  <a:lnTo>
                    <a:pt x="180" y="187"/>
                  </a:lnTo>
                  <a:lnTo>
                    <a:pt x="201" y="174"/>
                  </a:lnTo>
                  <a:lnTo>
                    <a:pt x="222" y="163"/>
                  </a:lnTo>
                  <a:lnTo>
                    <a:pt x="244" y="151"/>
                  </a:lnTo>
                  <a:lnTo>
                    <a:pt x="265" y="140"/>
                  </a:lnTo>
                  <a:lnTo>
                    <a:pt x="288" y="129"/>
                  </a:lnTo>
                  <a:lnTo>
                    <a:pt x="313" y="119"/>
                  </a:lnTo>
                  <a:lnTo>
                    <a:pt x="336" y="109"/>
                  </a:lnTo>
                  <a:lnTo>
                    <a:pt x="361" y="99"/>
                  </a:lnTo>
                  <a:lnTo>
                    <a:pt x="386" y="91"/>
                  </a:lnTo>
                  <a:lnTo>
                    <a:pt x="412" y="82"/>
                  </a:lnTo>
                  <a:lnTo>
                    <a:pt x="437" y="74"/>
                  </a:lnTo>
                  <a:lnTo>
                    <a:pt x="463" y="67"/>
                  </a:lnTo>
                  <a:lnTo>
                    <a:pt x="490" y="60"/>
                  </a:lnTo>
                  <a:lnTo>
                    <a:pt x="518" y="53"/>
                  </a:lnTo>
                  <a:lnTo>
                    <a:pt x="545" y="48"/>
                  </a:lnTo>
                  <a:lnTo>
                    <a:pt x="573" y="42"/>
                  </a:lnTo>
                  <a:lnTo>
                    <a:pt x="602" y="37"/>
                  </a:lnTo>
                  <a:lnTo>
                    <a:pt x="630" y="33"/>
                  </a:lnTo>
                  <a:lnTo>
                    <a:pt x="659" y="29"/>
                  </a:lnTo>
                  <a:lnTo>
                    <a:pt x="688" y="26"/>
                  </a:lnTo>
                  <a:lnTo>
                    <a:pt x="718" y="22"/>
                  </a:lnTo>
                  <a:lnTo>
                    <a:pt x="748" y="20"/>
                  </a:lnTo>
                  <a:lnTo>
                    <a:pt x="778" y="19"/>
                  </a:lnTo>
                  <a:lnTo>
                    <a:pt x="808" y="18"/>
                  </a:lnTo>
                  <a:lnTo>
                    <a:pt x="838" y="16"/>
                  </a:lnTo>
                  <a:lnTo>
                    <a:pt x="868" y="16"/>
                  </a:lnTo>
                  <a:lnTo>
                    <a:pt x="898" y="16"/>
                  </a:lnTo>
                  <a:lnTo>
                    <a:pt x="928" y="18"/>
                  </a:lnTo>
                  <a:lnTo>
                    <a:pt x="958" y="20"/>
                  </a:lnTo>
                  <a:lnTo>
                    <a:pt x="986" y="22"/>
                  </a:lnTo>
                  <a:lnTo>
                    <a:pt x="1016" y="24"/>
                  </a:lnTo>
                  <a:lnTo>
                    <a:pt x="1045" y="28"/>
                  </a:lnTo>
                  <a:lnTo>
                    <a:pt x="1074" y="31"/>
                  </a:lnTo>
                  <a:lnTo>
                    <a:pt x="1102" y="36"/>
                  </a:lnTo>
                  <a:lnTo>
                    <a:pt x="1130" y="41"/>
                  </a:lnTo>
                  <a:lnTo>
                    <a:pt x="1158" y="46"/>
                  </a:lnTo>
                  <a:lnTo>
                    <a:pt x="1186" y="52"/>
                  </a:lnTo>
                  <a:lnTo>
                    <a:pt x="1212" y="59"/>
                  </a:lnTo>
                  <a:lnTo>
                    <a:pt x="1239" y="66"/>
                  </a:lnTo>
                  <a:lnTo>
                    <a:pt x="1265" y="73"/>
                  </a:lnTo>
                  <a:lnTo>
                    <a:pt x="1290" y="81"/>
                  </a:lnTo>
                  <a:lnTo>
                    <a:pt x="1316" y="89"/>
                  </a:lnTo>
                  <a:lnTo>
                    <a:pt x="1340" y="98"/>
                  </a:lnTo>
                  <a:lnTo>
                    <a:pt x="1364" y="107"/>
                  </a:lnTo>
                  <a:lnTo>
                    <a:pt x="1388" y="117"/>
                  </a:lnTo>
                  <a:lnTo>
                    <a:pt x="1411" y="127"/>
                  </a:lnTo>
                  <a:lnTo>
                    <a:pt x="1433" y="137"/>
                  </a:lnTo>
                  <a:lnTo>
                    <a:pt x="1455" y="149"/>
                  </a:lnTo>
                  <a:lnTo>
                    <a:pt x="1477" y="159"/>
                  </a:lnTo>
                  <a:lnTo>
                    <a:pt x="1498" y="172"/>
                  </a:lnTo>
                  <a:lnTo>
                    <a:pt x="1517" y="183"/>
                  </a:lnTo>
                  <a:lnTo>
                    <a:pt x="1537" y="196"/>
                  </a:lnTo>
                  <a:lnTo>
                    <a:pt x="1555" y="210"/>
                  </a:lnTo>
                  <a:lnTo>
                    <a:pt x="1574" y="223"/>
                  </a:lnTo>
                  <a:lnTo>
                    <a:pt x="1590" y="236"/>
                  </a:lnTo>
                  <a:lnTo>
                    <a:pt x="1607" y="250"/>
                  </a:lnTo>
                  <a:lnTo>
                    <a:pt x="1622" y="265"/>
                  </a:lnTo>
                  <a:lnTo>
                    <a:pt x="1647" y="292"/>
                  </a:lnTo>
                  <a:lnTo>
                    <a:pt x="1669" y="319"/>
                  </a:lnTo>
                  <a:lnTo>
                    <a:pt x="1688" y="347"/>
                  </a:lnTo>
                  <a:lnTo>
                    <a:pt x="1705" y="376"/>
                  </a:lnTo>
                  <a:lnTo>
                    <a:pt x="1718" y="405"/>
                  </a:lnTo>
                  <a:lnTo>
                    <a:pt x="1728" y="435"/>
                  </a:lnTo>
                  <a:lnTo>
                    <a:pt x="1735" y="464"/>
                  </a:lnTo>
                  <a:lnTo>
                    <a:pt x="1738" y="494"/>
                  </a:lnTo>
                  <a:lnTo>
                    <a:pt x="1753" y="482"/>
                  </a:lnTo>
                  <a:lnTo>
                    <a:pt x="1749" y="452"/>
                  </a:lnTo>
                  <a:lnTo>
                    <a:pt x="1741" y="422"/>
                  </a:lnTo>
                  <a:lnTo>
                    <a:pt x="1729" y="392"/>
                  </a:lnTo>
                  <a:lnTo>
                    <a:pt x="1715" y="363"/>
                  </a:lnTo>
                  <a:lnTo>
                    <a:pt x="1699" y="335"/>
                  </a:lnTo>
                  <a:lnTo>
                    <a:pt x="1680" y="308"/>
                  </a:lnTo>
                  <a:lnTo>
                    <a:pt x="1658" y="281"/>
                  </a:lnTo>
                  <a:lnTo>
                    <a:pt x="1633" y="255"/>
                  </a:lnTo>
                  <a:lnTo>
                    <a:pt x="1616" y="240"/>
                  </a:lnTo>
                  <a:lnTo>
                    <a:pt x="1600" y="225"/>
                  </a:lnTo>
                  <a:lnTo>
                    <a:pt x="1583" y="211"/>
                  </a:lnTo>
                  <a:lnTo>
                    <a:pt x="1565" y="197"/>
                  </a:lnTo>
                  <a:lnTo>
                    <a:pt x="1546" y="185"/>
                  </a:lnTo>
                  <a:lnTo>
                    <a:pt x="1527" y="171"/>
                  </a:lnTo>
                  <a:lnTo>
                    <a:pt x="1506" y="158"/>
                  </a:lnTo>
                  <a:lnTo>
                    <a:pt x="1485" y="147"/>
                  </a:lnTo>
                  <a:lnTo>
                    <a:pt x="1463" y="135"/>
                  </a:lnTo>
                  <a:lnTo>
                    <a:pt x="1441" y="124"/>
                  </a:lnTo>
                  <a:lnTo>
                    <a:pt x="1418" y="113"/>
                  </a:lnTo>
                  <a:lnTo>
                    <a:pt x="1395" y="103"/>
                  </a:lnTo>
                  <a:lnTo>
                    <a:pt x="1371" y="92"/>
                  </a:lnTo>
                  <a:lnTo>
                    <a:pt x="1347" y="83"/>
                  </a:lnTo>
                  <a:lnTo>
                    <a:pt x="1322" y="74"/>
                  </a:lnTo>
                  <a:lnTo>
                    <a:pt x="1296" y="66"/>
                  </a:lnTo>
                  <a:lnTo>
                    <a:pt x="1270" y="58"/>
                  </a:lnTo>
                  <a:lnTo>
                    <a:pt x="1243" y="50"/>
                  </a:lnTo>
                  <a:lnTo>
                    <a:pt x="1217" y="43"/>
                  </a:lnTo>
                  <a:lnTo>
                    <a:pt x="1189" y="37"/>
                  </a:lnTo>
                  <a:lnTo>
                    <a:pt x="1161" y="30"/>
                  </a:lnTo>
                  <a:lnTo>
                    <a:pt x="1134" y="26"/>
                  </a:lnTo>
                  <a:lnTo>
                    <a:pt x="1105" y="20"/>
                  </a:lnTo>
                  <a:lnTo>
                    <a:pt x="1076" y="16"/>
                  </a:lnTo>
                  <a:lnTo>
                    <a:pt x="1047" y="12"/>
                  </a:lnTo>
                  <a:lnTo>
                    <a:pt x="1019" y="8"/>
                  </a:lnTo>
                  <a:lnTo>
                    <a:pt x="989" y="6"/>
                  </a:lnTo>
                  <a:lnTo>
                    <a:pt x="959" y="4"/>
                  </a:lnTo>
                  <a:lnTo>
                    <a:pt x="929" y="1"/>
                  </a:lnTo>
                  <a:lnTo>
                    <a:pt x="899" y="0"/>
                  </a:lnTo>
                  <a:lnTo>
                    <a:pt x="868" y="0"/>
                  </a:lnTo>
                  <a:lnTo>
                    <a:pt x="838" y="0"/>
                  </a:lnTo>
                  <a:lnTo>
                    <a:pt x="802" y="1"/>
                  </a:lnTo>
                  <a:lnTo>
                    <a:pt x="768" y="3"/>
                  </a:lnTo>
                  <a:lnTo>
                    <a:pt x="733" y="5"/>
                  </a:lnTo>
                  <a:lnTo>
                    <a:pt x="698" y="8"/>
                  </a:lnTo>
                  <a:lnTo>
                    <a:pt x="665" y="12"/>
                  </a:lnTo>
                  <a:lnTo>
                    <a:pt x="632" y="16"/>
                  </a:lnTo>
                  <a:lnTo>
                    <a:pt x="599" y="21"/>
                  </a:lnTo>
                  <a:lnTo>
                    <a:pt x="567" y="27"/>
                  </a:lnTo>
                  <a:lnTo>
                    <a:pt x="535" y="34"/>
                  </a:lnTo>
                  <a:lnTo>
                    <a:pt x="504" y="41"/>
                  </a:lnTo>
                  <a:lnTo>
                    <a:pt x="473" y="49"/>
                  </a:lnTo>
                  <a:lnTo>
                    <a:pt x="443" y="57"/>
                  </a:lnTo>
                  <a:lnTo>
                    <a:pt x="413" y="65"/>
                  </a:lnTo>
                  <a:lnTo>
                    <a:pt x="384" y="75"/>
                  </a:lnTo>
                  <a:lnTo>
                    <a:pt x="356" y="84"/>
                  </a:lnTo>
                  <a:lnTo>
                    <a:pt x="329" y="95"/>
                  </a:lnTo>
                  <a:lnTo>
                    <a:pt x="301" y="106"/>
                  </a:lnTo>
                  <a:lnTo>
                    <a:pt x="276" y="118"/>
                  </a:lnTo>
                  <a:lnTo>
                    <a:pt x="250" y="130"/>
                  </a:lnTo>
                  <a:lnTo>
                    <a:pt x="225" y="143"/>
                  </a:lnTo>
                  <a:lnTo>
                    <a:pt x="202" y="156"/>
                  </a:lnTo>
                  <a:lnTo>
                    <a:pt x="179" y="170"/>
                  </a:lnTo>
                  <a:lnTo>
                    <a:pt x="157" y="183"/>
                  </a:lnTo>
                  <a:lnTo>
                    <a:pt x="135" y="198"/>
                  </a:lnTo>
                  <a:lnTo>
                    <a:pt x="116" y="213"/>
                  </a:lnTo>
                  <a:lnTo>
                    <a:pt x="96" y="228"/>
                  </a:lnTo>
                  <a:lnTo>
                    <a:pt x="78" y="244"/>
                  </a:lnTo>
                  <a:lnTo>
                    <a:pt x="60" y="261"/>
                  </a:lnTo>
                  <a:lnTo>
                    <a:pt x="43" y="277"/>
                  </a:lnTo>
                  <a:lnTo>
                    <a:pt x="28" y="294"/>
                  </a:lnTo>
                  <a:lnTo>
                    <a:pt x="14" y="311"/>
                  </a:lnTo>
                  <a:lnTo>
                    <a:pt x="0" y="329"/>
                  </a:lnTo>
                  <a:lnTo>
                    <a:pt x="20" y="329"/>
                  </a:lnTo>
                  <a:lnTo>
                    <a:pt x="25" y="323"/>
                  </a:lnTo>
                  <a:lnTo>
                    <a:pt x="29" y="317"/>
                  </a:lnTo>
                  <a:lnTo>
                    <a:pt x="34" y="311"/>
                  </a:lnTo>
                  <a:lnTo>
                    <a:pt x="38" y="306"/>
                  </a:lnTo>
                  <a:lnTo>
                    <a:pt x="43" y="301"/>
                  </a:lnTo>
                  <a:lnTo>
                    <a:pt x="48" y="295"/>
                  </a:lnTo>
                  <a:lnTo>
                    <a:pt x="53" y="289"/>
                  </a:lnTo>
                  <a:lnTo>
                    <a:pt x="58" y="284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Freeform 73"/>
            <p:cNvSpPr/>
            <p:nvPr/>
          </p:nvSpPr>
          <p:spPr>
            <a:xfrm>
              <a:off x="8060040" y="5130000"/>
              <a:ext cx="55800" cy="48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88" h="79">
                  <a:moveTo>
                    <a:pt x="19" y="0"/>
                  </a:moveTo>
                  <a:lnTo>
                    <a:pt x="18" y="3"/>
                  </a:lnTo>
                  <a:lnTo>
                    <a:pt x="14" y="10"/>
                  </a:lnTo>
                  <a:lnTo>
                    <a:pt x="9" y="19"/>
                  </a:lnTo>
                  <a:lnTo>
                    <a:pt x="3" y="30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4" y="65"/>
                  </a:lnTo>
                  <a:lnTo>
                    <a:pt x="14" y="73"/>
                  </a:lnTo>
                  <a:lnTo>
                    <a:pt x="26" y="78"/>
                  </a:lnTo>
                  <a:lnTo>
                    <a:pt x="40" y="79"/>
                  </a:lnTo>
                  <a:lnTo>
                    <a:pt x="53" y="78"/>
                  </a:lnTo>
                  <a:lnTo>
                    <a:pt x="64" y="75"/>
                  </a:lnTo>
                  <a:lnTo>
                    <a:pt x="74" y="73"/>
                  </a:lnTo>
                  <a:lnTo>
                    <a:pt x="82" y="71"/>
                  </a:lnTo>
                  <a:lnTo>
                    <a:pt x="86" y="68"/>
                  </a:lnTo>
                  <a:lnTo>
                    <a:pt x="88" y="67"/>
                  </a:lnTo>
                  <a:lnTo>
                    <a:pt x="86" y="68"/>
                  </a:lnTo>
                  <a:lnTo>
                    <a:pt x="82" y="71"/>
                  </a:lnTo>
                  <a:lnTo>
                    <a:pt x="72" y="73"/>
                  </a:lnTo>
                  <a:lnTo>
                    <a:pt x="62" y="75"/>
                  </a:lnTo>
                  <a:lnTo>
                    <a:pt x="50" y="76"/>
                  </a:lnTo>
                  <a:lnTo>
                    <a:pt x="38" y="75"/>
                  </a:lnTo>
                  <a:lnTo>
                    <a:pt x="25" y="71"/>
                  </a:lnTo>
                  <a:lnTo>
                    <a:pt x="14" y="61"/>
                  </a:lnTo>
                  <a:lnTo>
                    <a:pt x="6" y="51"/>
                  </a:lnTo>
                  <a:lnTo>
                    <a:pt x="2" y="40"/>
                  </a:lnTo>
                  <a:lnTo>
                    <a:pt x="3" y="29"/>
                  </a:lnTo>
                  <a:lnTo>
                    <a:pt x="6" y="20"/>
                  </a:lnTo>
                  <a:lnTo>
                    <a:pt x="10" y="12"/>
                  </a:lnTo>
                  <a:lnTo>
                    <a:pt x="15" y="6"/>
                  </a:lnTo>
                  <a:lnTo>
                    <a:pt x="18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Freeform 74"/>
            <p:cNvSpPr/>
            <p:nvPr/>
          </p:nvSpPr>
          <p:spPr>
            <a:xfrm>
              <a:off x="7715880" y="5186880"/>
              <a:ext cx="335160" cy="37908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539" h="612">
                  <a:moveTo>
                    <a:pt x="539" y="0"/>
                  </a:moveTo>
                  <a:lnTo>
                    <a:pt x="0" y="612"/>
                  </a:lnTo>
                  <a:lnTo>
                    <a:pt x="239" y="370"/>
                  </a:lnTo>
                  <a:lnTo>
                    <a:pt x="247" y="372"/>
                  </a:lnTo>
                  <a:lnTo>
                    <a:pt x="256" y="359"/>
                  </a:lnTo>
                  <a:lnTo>
                    <a:pt x="531" y="59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75"/>
            <p:cNvSpPr/>
            <p:nvPr/>
          </p:nvSpPr>
          <p:spPr>
            <a:xfrm>
              <a:off x="8105040" y="55137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1" h="14">
                  <a:moveTo>
                    <a:pt x="21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76"/>
            <p:cNvSpPr/>
            <p:nvPr/>
          </p:nvSpPr>
          <p:spPr>
            <a:xfrm>
              <a:off x="8101080" y="5525280"/>
              <a:ext cx="13320" cy="72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2" h="12">
                  <a:moveTo>
                    <a:pt x="22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77"/>
            <p:cNvSpPr/>
            <p:nvPr/>
          </p:nvSpPr>
          <p:spPr>
            <a:xfrm>
              <a:off x="8101080" y="5537520"/>
              <a:ext cx="13320" cy="61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2" h="10">
                  <a:moveTo>
                    <a:pt x="22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78"/>
            <p:cNvSpPr/>
            <p:nvPr/>
          </p:nvSpPr>
          <p:spPr>
            <a:xfrm>
              <a:off x="8092440" y="5461560"/>
              <a:ext cx="9720" cy="583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5" h="93">
                  <a:moveTo>
                    <a:pt x="0" y="6"/>
                  </a:moveTo>
                  <a:lnTo>
                    <a:pt x="4" y="93"/>
                  </a:lnTo>
                  <a:lnTo>
                    <a:pt x="12" y="67"/>
                  </a:lnTo>
                  <a:lnTo>
                    <a:pt x="15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79"/>
            <p:cNvSpPr/>
            <p:nvPr/>
          </p:nvSpPr>
          <p:spPr>
            <a:xfrm>
              <a:off x="8093520" y="5578560"/>
              <a:ext cx="7560" cy="63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0" h="101">
                  <a:moveTo>
                    <a:pt x="10" y="17"/>
                  </a:moveTo>
                  <a:lnTo>
                    <a:pt x="10" y="99"/>
                  </a:lnTo>
                  <a:lnTo>
                    <a:pt x="1" y="101"/>
                  </a:lnTo>
                  <a:lnTo>
                    <a:pt x="0" y="0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80"/>
            <p:cNvSpPr/>
            <p:nvPr/>
          </p:nvSpPr>
          <p:spPr>
            <a:xfrm>
              <a:off x="8092440" y="5191920"/>
              <a:ext cx="18360" cy="831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28" h="135">
                  <a:moveTo>
                    <a:pt x="28" y="82"/>
                  </a:moveTo>
                  <a:lnTo>
                    <a:pt x="28" y="0"/>
                  </a:lnTo>
                  <a:lnTo>
                    <a:pt x="0" y="17"/>
                  </a:lnTo>
                  <a:lnTo>
                    <a:pt x="1" y="135"/>
                  </a:lnTo>
                  <a:lnTo>
                    <a:pt x="5" y="123"/>
                  </a:lnTo>
                  <a:lnTo>
                    <a:pt x="12" y="106"/>
                  </a:lnTo>
                  <a:lnTo>
                    <a:pt x="20" y="93"/>
                  </a:lnTo>
                  <a:lnTo>
                    <a:pt x="28" y="82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81"/>
            <p:cNvSpPr/>
            <p:nvPr/>
          </p:nvSpPr>
          <p:spPr>
            <a:xfrm>
              <a:off x="8093520" y="5303880"/>
              <a:ext cx="17280" cy="1465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29" h="237">
                  <a:moveTo>
                    <a:pt x="0" y="0"/>
                  </a:moveTo>
                  <a:lnTo>
                    <a:pt x="3" y="237"/>
                  </a:lnTo>
                  <a:lnTo>
                    <a:pt x="27" y="235"/>
                  </a:lnTo>
                  <a:lnTo>
                    <a:pt x="29" y="51"/>
                  </a:lnTo>
                  <a:lnTo>
                    <a:pt x="21" y="42"/>
                  </a:lnTo>
                  <a:lnTo>
                    <a:pt x="12" y="27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82"/>
            <p:cNvSpPr/>
            <p:nvPr/>
          </p:nvSpPr>
          <p:spPr>
            <a:xfrm>
              <a:off x="8036280" y="5406840"/>
              <a:ext cx="39600" cy="284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4" h="46">
                  <a:moveTo>
                    <a:pt x="0" y="20"/>
                  </a:moveTo>
                  <a:lnTo>
                    <a:pt x="1" y="21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11" y="27"/>
                  </a:lnTo>
                  <a:lnTo>
                    <a:pt x="17" y="29"/>
                  </a:lnTo>
                  <a:lnTo>
                    <a:pt x="24" y="30"/>
                  </a:lnTo>
                  <a:lnTo>
                    <a:pt x="31" y="29"/>
                  </a:lnTo>
                  <a:lnTo>
                    <a:pt x="39" y="27"/>
                  </a:lnTo>
                  <a:lnTo>
                    <a:pt x="51" y="19"/>
                  </a:lnTo>
                  <a:lnTo>
                    <a:pt x="60" y="9"/>
                  </a:lnTo>
                  <a:lnTo>
                    <a:pt x="63" y="2"/>
                  </a:lnTo>
                  <a:lnTo>
                    <a:pt x="64" y="0"/>
                  </a:lnTo>
                  <a:lnTo>
                    <a:pt x="61" y="17"/>
                  </a:lnTo>
                  <a:lnTo>
                    <a:pt x="60" y="19"/>
                  </a:lnTo>
                  <a:lnTo>
                    <a:pt x="58" y="22"/>
                  </a:lnTo>
                  <a:lnTo>
                    <a:pt x="55" y="28"/>
                  </a:lnTo>
                  <a:lnTo>
                    <a:pt x="50" y="33"/>
                  </a:lnTo>
                  <a:lnTo>
                    <a:pt x="45" y="38"/>
                  </a:lnTo>
                  <a:lnTo>
                    <a:pt x="39" y="43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9" y="40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83"/>
            <p:cNvSpPr/>
            <p:nvPr/>
          </p:nvSpPr>
          <p:spPr>
            <a:xfrm>
              <a:off x="8127000" y="5282640"/>
              <a:ext cx="45720" cy="47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4" h="75">
                  <a:moveTo>
                    <a:pt x="0" y="56"/>
                  </a:moveTo>
                  <a:lnTo>
                    <a:pt x="0" y="60"/>
                  </a:lnTo>
                  <a:lnTo>
                    <a:pt x="2" y="65"/>
                  </a:lnTo>
                  <a:lnTo>
                    <a:pt x="6" y="72"/>
                  </a:lnTo>
                  <a:lnTo>
                    <a:pt x="14" y="75"/>
                  </a:lnTo>
                  <a:lnTo>
                    <a:pt x="19" y="74"/>
                  </a:lnTo>
                  <a:lnTo>
                    <a:pt x="26" y="70"/>
                  </a:lnTo>
                  <a:lnTo>
                    <a:pt x="34" y="65"/>
                  </a:lnTo>
                  <a:lnTo>
                    <a:pt x="41" y="61"/>
                  </a:lnTo>
                  <a:lnTo>
                    <a:pt x="48" y="56"/>
                  </a:lnTo>
                  <a:lnTo>
                    <a:pt x="55" y="52"/>
                  </a:lnTo>
                  <a:lnTo>
                    <a:pt x="60" y="48"/>
                  </a:lnTo>
                  <a:lnTo>
                    <a:pt x="63" y="46"/>
                  </a:lnTo>
                  <a:lnTo>
                    <a:pt x="68" y="40"/>
                  </a:lnTo>
                  <a:lnTo>
                    <a:pt x="70" y="32"/>
                  </a:lnTo>
                  <a:lnTo>
                    <a:pt x="72" y="25"/>
                  </a:lnTo>
                  <a:lnTo>
                    <a:pt x="74" y="22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7" y="6"/>
                  </a:lnTo>
                  <a:lnTo>
                    <a:pt x="67" y="11"/>
                  </a:lnTo>
                  <a:lnTo>
                    <a:pt x="63" y="16"/>
                  </a:lnTo>
                  <a:lnTo>
                    <a:pt x="59" y="18"/>
                  </a:lnTo>
                  <a:lnTo>
                    <a:pt x="53" y="23"/>
                  </a:lnTo>
                  <a:lnTo>
                    <a:pt x="47" y="27"/>
                  </a:lnTo>
                  <a:lnTo>
                    <a:pt x="39" y="32"/>
                  </a:lnTo>
                  <a:lnTo>
                    <a:pt x="33" y="37"/>
                  </a:lnTo>
                  <a:lnTo>
                    <a:pt x="28" y="40"/>
                  </a:lnTo>
                  <a:lnTo>
                    <a:pt x="23" y="42"/>
                  </a:lnTo>
                  <a:lnTo>
                    <a:pt x="22" y="44"/>
                  </a:lnTo>
                  <a:lnTo>
                    <a:pt x="59" y="27"/>
                  </a:lnTo>
                  <a:lnTo>
                    <a:pt x="60" y="3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Freeform 84"/>
            <p:cNvSpPr/>
            <p:nvPr/>
          </p:nvSpPr>
          <p:spPr>
            <a:xfrm>
              <a:off x="8364600" y="5254200"/>
              <a:ext cx="33480" cy="44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5" h="72">
                  <a:moveTo>
                    <a:pt x="0" y="13"/>
                  </a:moveTo>
                  <a:lnTo>
                    <a:pt x="2" y="17"/>
                  </a:lnTo>
                  <a:lnTo>
                    <a:pt x="8" y="26"/>
                  </a:lnTo>
                  <a:lnTo>
                    <a:pt x="14" y="39"/>
                  </a:lnTo>
                  <a:lnTo>
                    <a:pt x="16" y="53"/>
                  </a:lnTo>
                  <a:lnTo>
                    <a:pt x="16" y="64"/>
                  </a:lnTo>
                  <a:lnTo>
                    <a:pt x="20" y="70"/>
                  </a:lnTo>
                  <a:lnTo>
                    <a:pt x="25" y="72"/>
                  </a:lnTo>
                  <a:lnTo>
                    <a:pt x="36" y="71"/>
                  </a:lnTo>
                  <a:lnTo>
                    <a:pt x="46" y="63"/>
                  </a:lnTo>
                  <a:lnTo>
                    <a:pt x="53" y="48"/>
                  </a:lnTo>
                  <a:lnTo>
                    <a:pt x="55" y="32"/>
                  </a:lnTo>
                  <a:lnTo>
                    <a:pt x="55" y="19"/>
                  </a:lnTo>
                  <a:lnTo>
                    <a:pt x="55" y="11"/>
                  </a:lnTo>
                  <a:lnTo>
                    <a:pt x="55" y="4"/>
                  </a:lnTo>
                  <a:lnTo>
                    <a:pt x="54" y="1"/>
                  </a:lnTo>
                  <a:lnTo>
                    <a:pt x="54" y="0"/>
                  </a:lnTo>
                  <a:lnTo>
                    <a:pt x="52" y="1"/>
                  </a:lnTo>
                  <a:lnTo>
                    <a:pt x="46" y="3"/>
                  </a:lnTo>
                  <a:lnTo>
                    <a:pt x="36" y="7"/>
                  </a:lnTo>
                  <a:lnTo>
                    <a:pt x="24" y="9"/>
                  </a:lnTo>
                  <a:lnTo>
                    <a:pt x="13" y="10"/>
                  </a:lnTo>
                  <a:lnTo>
                    <a:pt x="6" y="12"/>
                  </a:lnTo>
                  <a:lnTo>
                    <a:pt x="1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Freeform 85"/>
            <p:cNvSpPr/>
            <p:nvPr/>
          </p:nvSpPr>
          <p:spPr>
            <a:xfrm>
              <a:off x="8229240" y="5240520"/>
              <a:ext cx="8640" cy="284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46">
                  <a:moveTo>
                    <a:pt x="0" y="0"/>
                  </a:moveTo>
                  <a:lnTo>
                    <a:pt x="1" y="3"/>
                  </a:lnTo>
                  <a:lnTo>
                    <a:pt x="5" y="10"/>
                  </a:lnTo>
                  <a:lnTo>
                    <a:pt x="9" y="22"/>
                  </a:lnTo>
                  <a:lnTo>
                    <a:pt x="10" y="32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Freeform 86"/>
            <p:cNvSpPr/>
            <p:nvPr/>
          </p:nvSpPr>
          <p:spPr>
            <a:xfrm>
              <a:off x="8246520" y="5248080"/>
              <a:ext cx="4680" cy="158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28">
                  <a:moveTo>
                    <a:pt x="0" y="0"/>
                  </a:moveTo>
                  <a:lnTo>
                    <a:pt x="2" y="28"/>
                  </a:lnTo>
                  <a:lnTo>
                    <a:pt x="8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87"/>
            <p:cNvSpPr/>
            <p:nvPr/>
          </p:nvSpPr>
          <p:spPr>
            <a:xfrm>
              <a:off x="8124480" y="4977000"/>
              <a:ext cx="36000" cy="1116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59" h="180">
                  <a:moveTo>
                    <a:pt x="51" y="0"/>
                  </a:moveTo>
                  <a:lnTo>
                    <a:pt x="0" y="18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88"/>
            <p:cNvSpPr/>
            <p:nvPr/>
          </p:nvSpPr>
          <p:spPr>
            <a:xfrm>
              <a:off x="8114760" y="4974480"/>
              <a:ext cx="36000" cy="1105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58" h="180">
                  <a:moveTo>
                    <a:pt x="0" y="180"/>
                  </a:moveTo>
                  <a:lnTo>
                    <a:pt x="58" y="4"/>
                  </a:lnTo>
                  <a:lnTo>
                    <a:pt x="57" y="3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1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89"/>
            <p:cNvSpPr/>
            <p:nvPr/>
          </p:nvSpPr>
          <p:spPr>
            <a:xfrm>
              <a:off x="8106120" y="4966920"/>
              <a:ext cx="36000" cy="1155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59" h="185">
                  <a:moveTo>
                    <a:pt x="0" y="185"/>
                  </a:moveTo>
                  <a:lnTo>
                    <a:pt x="59" y="7"/>
                  </a:lnTo>
                  <a:lnTo>
                    <a:pt x="58" y="5"/>
                  </a:lnTo>
                  <a:lnTo>
                    <a:pt x="56" y="3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90"/>
            <p:cNvSpPr/>
            <p:nvPr/>
          </p:nvSpPr>
          <p:spPr>
            <a:xfrm>
              <a:off x="8022960" y="5034240"/>
              <a:ext cx="74160" cy="705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20" h="114">
                  <a:moveTo>
                    <a:pt x="75" y="27"/>
                  </a:moveTo>
                  <a:lnTo>
                    <a:pt x="64" y="28"/>
                  </a:lnTo>
                  <a:lnTo>
                    <a:pt x="55" y="27"/>
                  </a:lnTo>
                  <a:lnTo>
                    <a:pt x="46" y="23"/>
                  </a:lnTo>
                  <a:lnTo>
                    <a:pt x="37" y="20"/>
                  </a:lnTo>
                  <a:lnTo>
                    <a:pt x="27" y="15"/>
                  </a:lnTo>
                  <a:lnTo>
                    <a:pt x="18" y="9"/>
                  </a:lnTo>
                  <a:lnTo>
                    <a:pt x="9" y="5"/>
                  </a:lnTo>
                  <a:lnTo>
                    <a:pt x="0" y="0"/>
                  </a:lnTo>
                  <a:lnTo>
                    <a:pt x="3" y="7"/>
                  </a:lnTo>
                  <a:lnTo>
                    <a:pt x="9" y="14"/>
                  </a:lnTo>
                  <a:lnTo>
                    <a:pt x="15" y="20"/>
                  </a:lnTo>
                  <a:lnTo>
                    <a:pt x="22" y="25"/>
                  </a:lnTo>
                  <a:lnTo>
                    <a:pt x="29" y="30"/>
                  </a:lnTo>
                  <a:lnTo>
                    <a:pt x="35" y="35"/>
                  </a:lnTo>
                  <a:lnTo>
                    <a:pt x="44" y="39"/>
                  </a:lnTo>
                  <a:lnTo>
                    <a:pt x="50" y="43"/>
                  </a:lnTo>
                  <a:lnTo>
                    <a:pt x="46" y="43"/>
                  </a:lnTo>
                  <a:lnTo>
                    <a:pt x="42" y="43"/>
                  </a:lnTo>
                  <a:lnTo>
                    <a:pt x="38" y="41"/>
                  </a:lnTo>
                  <a:lnTo>
                    <a:pt x="33" y="41"/>
                  </a:lnTo>
                  <a:lnTo>
                    <a:pt x="29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6" y="43"/>
                  </a:lnTo>
                  <a:lnTo>
                    <a:pt x="16" y="44"/>
                  </a:lnTo>
                  <a:lnTo>
                    <a:pt x="16" y="45"/>
                  </a:lnTo>
                  <a:lnTo>
                    <a:pt x="16" y="48"/>
                  </a:lnTo>
                  <a:lnTo>
                    <a:pt x="16" y="51"/>
                  </a:lnTo>
                  <a:lnTo>
                    <a:pt x="23" y="55"/>
                  </a:lnTo>
                  <a:lnTo>
                    <a:pt x="30" y="58"/>
                  </a:lnTo>
                  <a:lnTo>
                    <a:pt x="38" y="59"/>
                  </a:lnTo>
                  <a:lnTo>
                    <a:pt x="46" y="59"/>
                  </a:lnTo>
                  <a:lnTo>
                    <a:pt x="47" y="60"/>
                  </a:lnTo>
                  <a:lnTo>
                    <a:pt x="48" y="61"/>
                  </a:lnTo>
                  <a:lnTo>
                    <a:pt x="48" y="65"/>
                  </a:lnTo>
                  <a:lnTo>
                    <a:pt x="48" y="67"/>
                  </a:lnTo>
                  <a:lnTo>
                    <a:pt x="44" y="67"/>
                  </a:lnTo>
                  <a:lnTo>
                    <a:pt x="40" y="70"/>
                  </a:lnTo>
                  <a:lnTo>
                    <a:pt x="39" y="74"/>
                  </a:lnTo>
                  <a:lnTo>
                    <a:pt x="40" y="77"/>
                  </a:lnTo>
                  <a:lnTo>
                    <a:pt x="49" y="84"/>
                  </a:lnTo>
                  <a:lnTo>
                    <a:pt x="50" y="93"/>
                  </a:lnTo>
                  <a:lnTo>
                    <a:pt x="47" y="104"/>
                  </a:lnTo>
                  <a:lnTo>
                    <a:pt x="46" y="114"/>
                  </a:lnTo>
                  <a:lnTo>
                    <a:pt x="48" y="114"/>
                  </a:lnTo>
                  <a:lnTo>
                    <a:pt x="49" y="114"/>
                  </a:lnTo>
                  <a:lnTo>
                    <a:pt x="52" y="114"/>
                  </a:lnTo>
                  <a:lnTo>
                    <a:pt x="54" y="114"/>
                  </a:lnTo>
                  <a:lnTo>
                    <a:pt x="59" y="104"/>
                  </a:lnTo>
                  <a:lnTo>
                    <a:pt x="63" y="93"/>
                  </a:lnTo>
                  <a:lnTo>
                    <a:pt x="67" y="81"/>
                  </a:lnTo>
                  <a:lnTo>
                    <a:pt x="70" y="69"/>
                  </a:lnTo>
                  <a:lnTo>
                    <a:pt x="72" y="65"/>
                  </a:lnTo>
                  <a:lnTo>
                    <a:pt x="76" y="60"/>
                  </a:lnTo>
                  <a:lnTo>
                    <a:pt x="80" y="56"/>
                  </a:lnTo>
                  <a:lnTo>
                    <a:pt x="85" y="53"/>
                  </a:lnTo>
                  <a:lnTo>
                    <a:pt x="90" y="50"/>
                  </a:lnTo>
                  <a:lnTo>
                    <a:pt x="95" y="46"/>
                  </a:lnTo>
                  <a:lnTo>
                    <a:pt x="100" y="41"/>
                  </a:lnTo>
                  <a:lnTo>
                    <a:pt x="105" y="37"/>
                  </a:lnTo>
                  <a:lnTo>
                    <a:pt x="110" y="29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2"/>
                  </a:lnTo>
                  <a:lnTo>
                    <a:pt x="116" y="6"/>
                  </a:lnTo>
                  <a:lnTo>
                    <a:pt x="113" y="9"/>
                  </a:lnTo>
                  <a:lnTo>
                    <a:pt x="109" y="13"/>
                  </a:lnTo>
                  <a:lnTo>
                    <a:pt x="105" y="15"/>
                  </a:lnTo>
                  <a:lnTo>
                    <a:pt x="100" y="17"/>
                  </a:lnTo>
                  <a:lnTo>
                    <a:pt x="94" y="20"/>
                  </a:lnTo>
                  <a:lnTo>
                    <a:pt x="88" y="21"/>
                  </a:lnTo>
                  <a:lnTo>
                    <a:pt x="83" y="21"/>
                  </a:lnTo>
                  <a:lnTo>
                    <a:pt x="75" y="27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91"/>
            <p:cNvSpPr/>
            <p:nvPr/>
          </p:nvSpPr>
          <p:spPr>
            <a:xfrm>
              <a:off x="8010360" y="5143320"/>
              <a:ext cx="27000" cy="54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45" h="88">
                  <a:moveTo>
                    <a:pt x="45" y="0"/>
                  </a:moveTo>
                  <a:lnTo>
                    <a:pt x="44" y="13"/>
                  </a:lnTo>
                  <a:lnTo>
                    <a:pt x="40" y="24"/>
                  </a:lnTo>
                  <a:lnTo>
                    <a:pt x="36" y="36"/>
                  </a:lnTo>
                  <a:lnTo>
                    <a:pt x="30" y="47"/>
                  </a:lnTo>
                  <a:lnTo>
                    <a:pt x="23" y="58"/>
                  </a:lnTo>
                  <a:lnTo>
                    <a:pt x="16" y="68"/>
                  </a:lnTo>
                  <a:lnTo>
                    <a:pt x="8" y="77"/>
                  </a:lnTo>
                  <a:lnTo>
                    <a:pt x="0" y="88"/>
                  </a:lnTo>
                  <a:lnTo>
                    <a:pt x="15" y="85"/>
                  </a:lnTo>
                  <a:lnTo>
                    <a:pt x="25" y="80"/>
                  </a:lnTo>
                  <a:lnTo>
                    <a:pt x="32" y="69"/>
                  </a:lnTo>
                  <a:lnTo>
                    <a:pt x="38" y="57"/>
                  </a:lnTo>
                  <a:lnTo>
                    <a:pt x="40" y="42"/>
                  </a:lnTo>
                  <a:lnTo>
                    <a:pt x="43" y="28"/>
                  </a:lnTo>
                  <a:lnTo>
                    <a:pt x="44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92"/>
            <p:cNvSpPr/>
            <p:nvPr/>
          </p:nvSpPr>
          <p:spPr>
            <a:xfrm>
              <a:off x="8244000" y="5056200"/>
              <a:ext cx="18360" cy="59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29" h="94">
                  <a:moveTo>
                    <a:pt x="0" y="0"/>
                  </a:moveTo>
                  <a:lnTo>
                    <a:pt x="14" y="21"/>
                  </a:lnTo>
                  <a:lnTo>
                    <a:pt x="17" y="44"/>
                  </a:lnTo>
                  <a:lnTo>
                    <a:pt x="17" y="68"/>
                  </a:lnTo>
                  <a:lnTo>
                    <a:pt x="18" y="93"/>
                  </a:lnTo>
                  <a:lnTo>
                    <a:pt x="21" y="94"/>
                  </a:lnTo>
                  <a:lnTo>
                    <a:pt x="24" y="94"/>
                  </a:lnTo>
                  <a:lnTo>
                    <a:pt x="27" y="93"/>
                  </a:lnTo>
                  <a:lnTo>
                    <a:pt x="29" y="91"/>
                  </a:lnTo>
                  <a:lnTo>
                    <a:pt x="29" y="75"/>
                  </a:lnTo>
                  <a:lnTo>
                    <a:pt x="25" y="62"/>
                  </a:lnTo>
                  <a:lnTo>
                    <a:pt x="21" y="49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4" y="16"/>
                  </a:lnTo>
                  <a:lnTo>
                    <a:pt x="10" y="9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Freeform 93"/>
            <p:cNvSpPr/>
            <p:nvPr/>
          </p:nvSpPr>
          <p:spPr>
            <a:xfrm>
              <a:off x="8242920" y="5018040"/>
              <a:ext cx="19800" cy="309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3" h="49">
                  <a:moveTo>
                    <a:pt x="0" y="7"/>
                  </a:moveTo>
                  <a:lnTo>
                    <a:pt x="5" y="8"/>
                  </a:lnTo>
                  <a:lnTo>
                    <a:pt x="10" y="11"/>
                  </a:lnTo>
                  <a:lnTo>
                    <a:pt x="13" y="16"/>
                  </a:lnTo>
                  <a:lnTo>
                    <a:pt x="16" y="19"/>
                  </a:lnTo>
                  <a:lnTo>
                    <a:pt x="21" y="26"/>
                  </a:lnTo>
                  <a:lnTo>
                    <a:pt x="23" y="34"/>
                  </a:lnTo>
                  <a:lnTo>
                    <a:pt x="27" y="42"/>
                  </a:lnTo>
                  <a:lnTo>
                    <a:pt x="33" y="49"/>
                  </a:lnTo>
                  <a:lnTo>
                    <a:pt x="33" y="38"/>
                  </a:lnTo>
                  <a:lnTo>
                    <a:pt x="30" y="25"/>
                  </a:lnTo>
                  <a:lnTo>
                    <a:pt x="26" y="14"/>
                  </a:lnTo>
                  <a:lnTo>
                    <a:pt x="16" y="3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5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Freeform 94"/>
            <p:cNvSpPr/>
            <p:nvPr/>
          </p:nvSpPr>
          <p:spPr>
            <a:xfrm>
              <a:off x="8172000" y="5069160"/>
              <a:ext cx="30960" cy="482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50" h="79">
                  <a:moveTo>
                    <a:pt x="0" y="73"/>
                  </a:moveTo>
                  <a:lnTo>
                    <a:pt x="9" y="66"/>
                  </a:lnTo>
                  <a:lnTo>
                    <a:pt x="17" y="58"/>
                  </a:lnTo>
                  <a:lnTo>
                    <a:pt x="25" y="50"/>
                  </a:lnTo>
                  <a:lnTo>
                    <a:pt x="32" y="42"/>
                  </a:lnTo>
                  <a:lnTo>
                    <a:pt x="38" y="33"/>
                  </a:lnTo>
                  <a:lnTo>
                    <a:pt x="44" y="22"/>
                  </a:lnTo>
                  <a:lnTo>
                    <a:pt x="48" y="12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50" y="18"/>
                  </a:lnTo>
                  <a:lnTo>
                    <a:pt x="50" y="25"/>
                  </a:lnTo>
                  <a:lnTo>
                    <a:pt x="47" y="30"/>
                  </a:lnTo>
                  <a:lnTo>
                    <a:pt x="42" y="37"/>
                  </a:lnTo>
                  <a:lnTo>
                    <a:pt x="37" y="44"/>
                  </a:lnTo>
                  <a:lnTo>
                    <a:pt x="32" y="51"/>
                  </a:lnTo>
                  <a:lnTo>
                    <a:pt x="27" y="57"/>
                  </a:lnTo>
                  <a:lnTo>
                    <a:pt x="21" y="64"/>
                  </a:lnTo>
                  <a:lnTo>
                    <a:pt x="14" y="68"/>
                  </a:lnTo>
                  <a:lnTo>
                    <a:pt x="7" y="74"/>
                  </a:lnTo>
                  <a:lnTo>
                    <a:pt x="0" y="79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R Term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uring Voyag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 Over Ground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ntaneous direction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ual pa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gr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 Over Ground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made good at any instant alo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(COG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 Through the Water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arent speed over CO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450"/>
                            </p:stCondLst>
                            <p:childTnLst>
                              <p:par>
                                <p:cTn id="2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19B7-C571-4F30-B10E-54ED9D5A97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5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4" descr="bd10938_"/>
          <p:cNvPicPr/>
          <p:nvPr/>
        </p:nvPicPr>
        <p:blipFill>
          <a:blip r:embed="rId1"/>
          <a:stretch/>
        </p:blipFill>
        <p:spPr>
          <a:xfrm>
            <a:off x="6324480" y="4327560"/>
            <a:ext cx="2819520" cy="24541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R Term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fter Voyag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 Made Good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M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ant direction from the beginn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e voyage to the 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 Made Good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M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39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verall actual speed of voy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400"/>
                            </p:stCondLst>
                            <p:childTnLst>
                              <p:par>
                                <p:cTn id="2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4:37:09Z</dcterms:created>
  <dc:creator>jan</dc:creator>
  <dc:description/>
  <dc:language>en-US</dc:language>
  <cp:lastModifiedBy>Cypherja</cp:lastModifiedBy>
  <dcterms:modified xsi:type="dcterms:W3CDTF">2010-10-01T11:11:40Z</dcterms:modified>
  <cp:revision>87</cp:revision>
  <dc:subject/>
  <dc:title>PowerPoint Presentation</dc:title>
</cp:coreProperties>
</file>