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bomb.wav" ContentType="audio/x-wav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wind.wav" ContentType="audio/x-wav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F72A-C77A-40B6-9B44-EC68C207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C13A-CB2A-4F91-B04C-7CB2F9CA80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D4F4-6772-466E-80AF-50C2F489F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4464-AA91-44B4-84EF-8F9D67761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BA2B-FD0B-4902-A8F7-558BE33C6B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105-8969-477D-895C-20334A0365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9E51-849C-48EB-9A2E-C1BC292A92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2762-C7E6-449B-9B9A-E68314198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50F7-4E63-4241-9B3A-38EEAC08D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8DB-E103-4777-AF4C-94DAA38BB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822-C9C0-45AE-8390-4EB673AA7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A04-696C-490A-A712-7456C793D7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0D4-F6D0-4015-80BE-49DCDE565B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954-37BF-40FD-9BA1-14F4FF8F3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27BC-A979-49F8-B9FA-109BA62C0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D5F8-41F0-425A-ABD2-EDD3E8479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CFB2-E187-49B2-AFCE-DE9B5D2B0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A60-BC2B-47B7-A868-54B0DB48F7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CA3C-BAF2-4D7F-85D0-DD09E73332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84A7-40A0-42F8-8E24-F39D463FEA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7F37-2D71-4EC4-9980-FEB22F560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1E70-41D5-4F96-86CE-3A9F138E20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64E-A75A-4049-B7EA-5A42DA8595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ADF-35BB-4575-9DB9-B5EDC1D53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8C57-5524-4295-AFEA-7359452AE3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F8FB-40BA-4070-A1BA-CCDDEDD8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1ECD-C0BB-400F-BCE6-823611D2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753C-93FF-4E13-9161-C4EF4829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7513-EDFD-4B05-9DA7-BFF13DA3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8A68-34B3-4806-B3CD-1422E694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4F8E-7D83-480B-8A82-E093EC6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A7D6-1018-41FF-A539-669F8E9C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37E2-43DD-499D-AC35-F5FFF024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2072-70DA-4157-9891-70229B97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38CD-71F1-4C54-AF8B-42173B5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536D-6E88-4F26-AAA8-0260E52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A653-A7A1-4BEE-AA21-04120952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485-F58D-4E44-BD6B-47C0DEE8F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943-3195-4924-850C-E065F58D7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nge and Endur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a vess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travel on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 of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u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a vess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operate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ad of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pend on how fast the vessel ru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3733920" y="1692360"/>
            <a:ext cx="5181480" cy="3321000"/>
            <a:chOff x="3733920" y="1692360"/>
            <a:chExt cx="5181480" cy="3321000"/>
          </a:xfrm>
        </p:grpSpPr>
        <p:pic>
          <p:nvPicPr>
            <p:cNvPr id="157" name="Picture 13" descr="npo00001c"/>
            <p:cNvPicPr/>
            <p:nvPr/>
          </p:nvPicPr>
          <p:blipFill>
            <a:blip r:embed="rId6"/>
            <a:stretch/>
          </p:blipFill>
          <p:spPr>
            <a:xfrm>
              <a:off x="3733920" y="2068560"/>
              <a:ext cx="5181480" cy="294480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58" name="Text Box 15"/>
            <p:cNvSpPr/>
            <p:nvPr/>
          </p:nvSpPr>
          <p:spPr>
            <a:xfrm>
              <a:off x="4730760" y="1692360"/>
              <a:ext cx="318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Basis:  200 Gal Fuel Capa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BA87-EECA-46DF-BF16-DA185F95C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nge Ch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3" name="Picture 5" descr="npo00001e"/>
          <p:cNvPicPr/>
          <p:nvPr/>
        </p:nvPicPr>
        <p:blipFill>
          <a:blip r:embed="rId1"/>
          <a:stretch/>
        </p:blipFill>
        <p:spPr>
          <a:xfrm>
            <a:off x="5505480" y="1828800"/>
            <a:ext cx="3181320" cy="45655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199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haps a more eye opening look at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on a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lear that range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ramatic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fect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engine 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too, is the amount of time the voyage will tak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5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C983-40EF-4F0E-B3BB-9FBF311A5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Efficiency Fact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2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and water tank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ll condition … recently repainted &amp; cl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s … diameter,  pitch &amp; cond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of passengers &amp; s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1160" y="1828800"/>
            <a:ext cx="422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m tab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 tune-up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 ventilation &amp;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7C1-9969-4B30-8192-B0EB59C10D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26"/>
          <p:cNvGrpSpPr/>
          <p:nvPr/>
        </p:nvGrpSpPr>
        <p:grpSpPr>
          <a:xfrm>
            <a:off x="7848720" y="4815000"/>
            <a:ext cx="1066320" cy="1585440"/>
            <a:chOff x="7848720" y="4815000"/>
            <a:chExt cx="1066320" cy="1585440"/>
          </a:xfrm>
        </p:grpSpPr>
        <p:sp>
          <p:nvSpPr>
            <p:cNvPr id="175" name="Freeform 5"/>
            <p:cNvSpPr/>
            <p:nvPr/>
          </p:nvSpPr>
          <p:spPr>
            <a:xfrm>
              <a:off x="8406360" y="4876200"/>
              <a:ext cx="335160" cy="40572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510" h="616">
                  <a:moveTo>
                    <a:pt x="34" y="296"/>
                  </a:moveTo>
                  <a:lnTo>
                    <a:pt x="73" y="207"/>
                  </a:lnTo>
                  <a:lnTo>
                    <a:pt x="153" y="115"/>
                  </a:lnTo>
                  <a:lnTo>
                    <a:pt x="234" y="58"/>
                  </a:lnTo>
                  <a:lnTo>
                    <a:pt x="322" y="12"/>
                  </a:lnTo>
                  <a:lnTo>
                    <a:pt x="406" y="0"/>
                  </a:lnTo>
                  <a:lnTo>
                    <a:pt x="464" y="20"/>
                  </a:lnTo>
                  <a:lnTo>
                    <a:pt x="498" y="66"/>
                  </a:lnTo>
                  <a:lnTo>
                    <a:pt x="510" y="123"/>
                  </a:lnTo>
                  <a:lnTo>
                    <a:pt x="498" y="196"/>
                  </a:lnTo>
                  <a:lnTo>
                    <a:pt x="471" y="276"/>
                  </a:lnTo>
                  <a:lnTo>
                    <a:pt x="406" y="353"/>
                  </a:lnTo>
                  <a:lnTo>
                    <a:pt x="333" y="437"/>
                  </a:lnTo>
                  <a:lnTo>
                    <a:pt x="379" y="587"/>
                  </a:lnTo>
                  <a:lnTo>
                    <a:pt x="368" y="616"/>
                  </a:lnTo>
                  <a:lnTo>
                    <a:pt x="345" y="610"/>
                  </a:lnTo>
                  <a:lnTo>
                    <a:pt x="287" y="491"/>
                  </a:lnTo>
                  <a:lnTo>
                    <a:pt x="207" y="541"/>
                  </a:lnTo>
                  <a:lnTo>
                    <a:pt x="107" y="560"/>
                  </a:lnTo>
                  <a:lnTo>
                    <a:pt x="46" y="552"/>
                  </a:lnTo>
                  <a:lnTo>
                    <a:pt x="4" y="506"/>
                  </a:lnTo>
                  <a:lnTo>
                    <a:pt x="0" y="434"/>
                  </a:lnTo>
                  <a:lnTo>
                    <a:pt x="0" y="368"/>
                  </a:lnTo>
                  <a:lnTo>
                    <a:pt x="34" y="29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8122680" y="4815000"/>
              <a:ext cx="376560" cy="45324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572" h="690">
                  <a:moveTo>
                    <a:pt x="236" y="496"/>
                  </a:moveTo>
                  <a:lnTo>
                    <a:pt x="259" y="519"/>
                  </a:lnTo>
                  <a:lnTo>
                    <a:pt x="274" y="561"/>
                  </a:lnTo>
                  <a:lnTo>
                    <a:pt x="282" y="645"/>
                  </a:lnTo>
                  <a:lnTo>
                    <a:pt x="228" y="690"/>
                  </a:lnTo>
                  <a:lnTo>
                    <a:pt x="156" y="653"/>
                  </a:lnTo>
                  <a:lnTo>
                    <a:pt x="126" y="538"/>
                  </a:lnTo>
                  <a:lnTo>
                    <a:pt x="53" y="355"/>
                  </a:lnTo>
                  <a:lnTo>
                    <a:pt x="19" y="195"/>
                  </a:lnTo>
                  <a:lnTo>
                    <a:pt x="0" y="46"/>
                  </a:lnTo>
                  <a:lnTo>
                    <a:pt x="19" y="0"/>
                  </a:lnTo>
                  <a:lnTo>
                    <a:pt x="46" y="0"/>
                  </a:lnTo>
                  <a:lnTo>
                    <a:pt x="179" y="38"/>
                  </a:lnTo>
                  <a:lnTo>
                    <a:pt x="351" y="103"/>
                  </a:lnTo>
                  <a:lnTo>
                    <a:pt x="397" y="107"/>
                  </a:lnTo>
                  <a:lnTo>
                    <a:pt x="434" y="96"/>
                  </a:lnTo>
                  <a:lnTo>
                    <a:pt x="465" y="149"/>
                  </a:lnTo>
                  <a:lnTo>
                    <a:pt x="572" y="229"/>
                  </a:lnTo>
                  <a:lnTo>
                    <a:pt x="572" y="252"/>
                  </a:lnTo>
                  <a:lnTo>
                    <a:pt x="549" y="263"/>
                  </a:lnTo>
                  <a:lnTo>
                    <a:pt x="469" y="195"/>
                  </a:lnTo>
                  <a:lnTo>
                    <a:pt x="442" y="218"/>
                  </a:lnTo>
                  <a:lnTo>
                    <a:pt x="343" y="244"/>
                  </a:lnTo>
                  <a:lnTo>
                    <a:pt x="286" y="218"/>
                  </a:lnTo>
                  <a:lnTo>
                    <a:pt x="294" y="165"/>
                  </a:lnTo>
                  <a:lnTo>
                    <a:pt x="240" y="126"/>
                  </a:lnTo>
                  <a:lnTo>
                    <a:pt x="144" y="92"/>
                  </a:lnTo>
                  <a:lnTo>
                    <a:pt x="76" y="73"/>
                  </a:lnTo>
                  <a:lnTo>
                    <a:pt x="76" y="126"/>
                  </a:lnTo>
                  <a:lnTo>
                    <a:pt x="92" y="244"/>
                  </a:lnTo>
                  <a:lnTo>
                    <a:pt x="122" y="332"/>
                  </a:lnTo>
                  <a:lnTo>
                    <a:pt x="167" y="428"/>
                  </a:lnTo>
                  <a:lnTo>
                    <a:pt x="236" y="49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>
              <a:off x="8389080" y="5108760"/>
              <a:ext cx="525960" cy="3826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801" h="584">
                  <a:moveTo>
                    <a:pt x="121" y="352"/>
                  </a:moveTo>
                  <a:lnTo>
                    <a:pt x="67" y="310"/>
                  </a:lnTo>
                  <a:lnTo>
                    <a:pt x="17" y="310"/>
                  </a:lnTo>
                  <a:lnTo>
                    <a:pt x="0" y="356"/>
                  </a:lnTo>
                  <a:lnTo>
                    <a:pt x="17" y="444"/>
                  </a:lnTo>
                  <a:lnTo>
                    <a:pt x="132" y="513"/>
                  </a:lnTo>
                  <a:lnTo>
                    <a:pt x="342" y="575"/>
                  </a:lnTo>
                  <a:lnTo>
                    <a:pt x="384" y="584"/>
                  </a:lnTo>
                  <a:lnTo>
                    <a:pt x="430" y="584"/>
                  </a:lnTo>
                  <a:lnTo>
                    <a:pt x="514" y="584"/>
                  </a:lnTo>
                  <a:lnTo>
                    <a:pt x="663" y="536"/>
                  </a:lnTo>
                  <a:lnTo>
                    <a:pt x="797" y="494"/>
                  </a:lnTo>
                  <a:lnTo>
                    <a:pt x="801" y="467"/>
                  </a:lnTo>
                  <a:lnTo>
                    <a:pt x="732" y="310"/>
                  </a:lnTo>
                  <a:lnTo>
                    <a:pt x="651" y="191"/>
                  </a:lnTo>
                  <a:lnTo>
                    <a:pt x="605" y="134"/>
                  </a:lnTo>
                  <a:lnTo>
                    <a:pt x="605" y="92"/>
                  </a:lnTo>
                  <a:lnTo>
                    <a:pt x="536" y="92"/>
                  </a:lnTo>
                  <a:lnTo>
                    <a:pt x="434" y="0"/>
                  </a:lnTo>
                  <a:lnTo>
                    <a:pt x="407" y="0"/>
                  </a:lnTo>
                  <a:lnTo>
                    <a:pt x="407" y="30"/>
                  </a:lnTo>
                  <a:lnTo>
                    <a:pt x="503" y="99"/>
                  </a:lnTo>
                  <a:lnTo>
                    <a:pt x="503" y="138"/>
                  </a:lnTo>
                  <a:lnTo>
                    <a:pt x="526" y="237"/>
                  </a:lnTo>
                  <a:lnTo>
                    <a:pt x="571" y="249"/>
                  </a:lnTo>
                  <a:lnTo>
                    <a:pt x="617" y="253"/>
                  </a:lnTo>
                  <a:lnTo>
                    <a:pt x="670" y="318"/>
                  </a:lnTo>
                  <a:lnTo>
                    <a:pt x="705" y="433"/>
                  </a:lnTo>
                  <a:lnTo>
                    <a:pt x="682" y="471"/>
                  </a:lnTo>
                  <a:lnTo>
                    <a:pt x="578" y="502"/>
                  </a:lnTo>
                  <a:lnTo>
                    <a:pt x="480" y="506"/>
                  </a:lnTo>
                  <a:lnTo>
                    <a:pt x="399" y="506"/>
                  </a:lnTo>
                  <a:lnTo>
                    <a:pt x="296" y="479"/>
                  </a:lnTo>
                  <a:lnTo>
                    <a:pt x="201" y="425"/>
                  </a:lnTo>
                  <a:lnTo>
                    <a:pt x="121" y="35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>
              <a:off x="8008560" y="5197680"/>
              <a:ext cx="413640" cy="6188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32" h="942">
                  <a:moveTo>
                    <a:pt x="172" y="60"/>
                  </a:moveTo>
                  <a:lnTo>
                    <a:pt x="257" y="22"/>
                  </a:lnTo>
                  <a:lnTo>
                    <a:pt x="356" y="3"/>
                  </a:lnTo>
                  <a:lnTo>
                    <a:pt x="475" y="0"/>
                  </a:lnTo>
                  <a:lnTo>
                    <a:pt x="544" y="14"/>
                  </a:lnTo>
                  <a:lnTo>
                    <a:pt x="621" y="60"/>
                  </a:lnTo>
                  <a:lnTo>
                    <a:pt x="632" y="106"/>
                  </a:lnTo>
                  <a:lnTo>
                    <a:pt x="625" y="164"/>
                  </a:lnTo>
                  <a:lnTo>
                    <a:pt x="590" y="217"/>
                  </a:lnTo>
                  <a:lnTo>
                    <a:pt x="552" y="244"/>
                  </a:lnTo>
                  <a:lnTo>
                    <a:pt x="487" y="275"/>
                  </a:lnTo>
                  <a:lnTo>
                    <a:pt x="425" y="321"/>
                  </a:lnTo>
                  <a:lnTo>
                    <a:pt x="395" y="371"/>
                  </a:lnTo>
                  <a:lnTo>
                    <a:pt x="379" y="463"/>
                  </a:lnTo>
                  <a:lnTo>
                    <a:pt x="402" y="532"/>
                  </a:lnTo>
                  <a:lnTo>
                    <a:pt x="448" y="601"/>
                  </a:lnTo>
                  <a:lnTo>
                    <a:pt x="483" y="700"/>
                  </a:lnTo>
                  <a:lnTo>
                    <a:pt x="487" y="815"/>
                  </a:lnTo>
                  <a:lnTo>
                    <a:pt x="464" y="884"/>
                  </a:lnTo>
                  <a:lnTo>
                    <a:pt x="406" y="930"/>
                  </a:lnTo>
                  <a:lnTo>
                    <a:pt x="337" y="942"/>
                  </a:lnTo>
                  <a:lnTo>
                    <a:pt x="234" y="911"/>
                  </a:lnTo>
                  <a:lnTo>
                    <a:pt x="142" y="842"/>
                  </a:lnTo>
                  <a:lnTo>
                    <a:pt x="80" y="758"/>
                  </a:lnTo>
                  <a:lnTo>
                    <a:pt x="23" y="624"/>
                  </a:lnTo>
                  <a:lnTo>
                    <a:pt x="0" y="459"/>
                  </a:lnTo>
                  <a:lnTo>
                    <a:pt x="15" y="313"/>
                  </a:lnTo>
                  <a:lnTo>
                    <a:pt x="57" y="187"/>
                  </a:lnTo>
                  <a:lnTo>
                    <a:pt x="115" y="11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>
              <a:off x="7848720" y="5690520"/>
              <a:ext cx="461160" cy="70992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703" h="1081">
                  <a:moveTo>
                    <a:pt x="614" y="234"/>
                  </a:moveTo>
                  <a:lnTo>
                    <a:pt x="541" y="142"/>
                  </a:lnTo>
                  <a:lnTo>
                    <a:pt x="441" y="12"/>
                  </a:lnTo>
                  <a:lnTo>
                    <a:pt x="361" y="0"/>
                  </a:lnTo>
                  <a:lnTo>
                    <a:pt x="303" y="12"/>
                  </a:lnTo>
                  <a:lnTo>
                    <a:pt x="288" y="69"/>
                  </a:lnTo>
                  <a:lnTo>
                    <a:pt x="326" y="153"/>
                  </a:lnTo>
                  <a:lnTo>
                    <a:pt x="449" y="257"/>
                  </a:lnTo>
                  <a:lnTo>
                    <a:pt x="556" y="359"/>
                  </a:lnTo>
                  <a:lnTo>
                    <a:pt x="602" y="413"/>
                  </a:lnTo>
                  <a:lnTo>
                    <a:pt x="602" y="440"/>
                  </a:lnTo>
                  <a:lnTo>
                    <a:pt x="568" y="505"/>
                  </a:lnTo>
                  <a:lnTo>
                    <a:pt x="487" y="578"/>
                  </a:lnTo>
                  <a:lnTo>
                    <a:pt x="384" y="624"/>
                  </a:lnTo>
                  <a:lnTo>
                    <a:pt x="269" y="647"/>
                  </a:lnTo>
                  <a:lnTo>
                    <a:pt x="161" y="666"/>
                  </a:lnTo>
                  <a:lnTo>
                    <a:pt x="96" y="677"/>
                  </a:lnTo>
                  <a:lnTo>
                    <a:pt x="35" y="670"/>
                  </a:lnTo>
                  <a:lnTo>
                    <a:pt x="0" y="693"/>
                  </a:lnTo>
                  <a:lnTo>
                    <a:pt x="0" y="737"/>
                  </a:lnTo>
                  <a:lnTo>
                    <a:pt x="23" y="756"/>
                  </a:lnTo>
                  <a:lnTo>
                    <a:pt x="161" y="802"/>
                  </a:lnTo>
                  <a:lnTo>
                    <a:pt x="276" y="871"/>
                  </a:lnTo>
                  <a:lnTo>
                    <a:pt x="372" y="979"/>
                  </a:lnTo>
                  <a:lnTo>
                    <a:pt x="403" y="1036"/>
                  </a:lnTo>
                  <a:lnTo>
                    <a:pt x="414" y="1078"/>
                  </a:lnTo>
                  <a:lnTo>
                    <a:pt x="460" y="1081"/>
                  </a:lnTo>
                  <a:lnTo>
                    <a:pt x="533" y="1059"/>
                  </a:lnTo>
                  <a:lnTo>
                    <a:pt x="529" y="1002"/>
                  </a:lnTo>
                  <a:lnTo>
                    <a:pt x="453" y="917"/>
                  </a:lnTo>
                  <a:lnTo>
                    <a:pt x="357" y="841"/>
                  </a:lnTo>
                  <a:lnTo>
                    <a:pt x="276" y="795"/>
                  </a:lnTo>
                  <a:lnTo>
                    <a:pt x="188" y="760"/>
                  </a:lnTo>
                  <a:lnTo>
                    <a:pt x="127" y="737"/>
                  </a:lnTo>
                  <a:lnTo>
                    <a:pt x="131" y="726"/>
                  </a:lnTo>
                  <a:lnTo>
                    <a:pt x="257" y="712"/>
                  </a:lnTo>
                  <a:lnTo>
                    <a:pt x="384" y="689"/>
                  </a:lnTo>
                  <a:lnTo>
                    <a:pt x="499" y="654"/>
                  </a:lnTo>
                  <a:lnTo>
                    <a:pt x="568" y="624"/>
                  </a:lnTo>
                  <a:lnTo>
                    <a:pt x="644" y="551"/>
                  </a:lnTo>
                  <a:lnTo>
                    <a:pt x="683" y="470"/>
                  </a:lnTo>
                  <a:lnTo>
                    <a:pt x="703" y="394"/>
                  </a:lnTo>
                  <a:lnTo>
                    <a:pt x="690" y="334"/>
                  </a:lnTo>
                  <a:lnTo>
                    <a:pt x="648" y="288"/>
                  </a:lnTo>
                  <a:lnTo>
                    <a:pt x="614" y="23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>
              <a:off x="8232840" y="5635440"/>
              <a:ext cx="386640" cy="74700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588" h="1138">
                  <a:moveTo>
                    <a:pt x="73" y="0"/>
                  </a:moveTo>
                  <a:lnTo>
                    <a:pt x="4" y="3"/>
                  </a:lnTo>
                  <a:lnTo>
                    <a:pt x="0" y="56"/>
                  </a:lnTo>
                  <a:lnTo>
                    <a:pt x="23" y="114"/>
                  </a:lnTo>
                  <a:lnTo>
                    <a:pt x="81" y="183"/>
                  </a:lnTo>
                  <a:lnTo>
                    <a:pt x="138" y="256"/>
                  </a:lnTo>
                  <a:lnTo>
                    <a:pt x="198" y="415"/>
                  </a:lnTo>
                  <a:lnTo>
                    <a:pt x="218" y="526"/>
                  </a:lnTo>
                  <a:lnTo>
                    <a:pt x="210" y="630"/>
                  </a:lnTo>
                  <a:lnTo>
                    <a:pt x="175" y="767"/>
                  </a:lnTo>
                  <a:lnTo>
                    <a:pt x="138" y="885"/>
                  </a:lnTo>
                  <a:lnTo>
                    <a:pt x="104" y="1008"/>
                  </a:lnTo>
                  <a:lnTo>
                    <a:pt x="81" y="1066"/>
                  </a:lnTo>
                  <a:lnTo>
                    <a:pt x="69" y="1123"/>
                  </a:lnTo>
                  <a:lnTo>
                    <a:pt x="96" y="1138"/>
                  </a:lnTo>
                  <a:lnTo>
                    <a:pt x="164" y="1115"/>
                  </a:lnTo>
                  <a:lnTo>
                    <a:pt x="290" y="1092"/>
                  </a:lnTo>
                  <a:lnTo>
                    <a:pt x="405" y="1104"/>
                  </a:lnTo>
                  <a:lnTo>
                    <a:pt x="519" y="1138"/>
                  </a:lnTo>
                  <a:lnTo>
                    <a:pt x="542" y="1135"/>
                  </a:lnTo>
                  <a:lnTo>
                    <a:pt x="588" y="1066"/>
                  </a:lnTo>
                  <a:lnTo>
                    <a:pt x="588" y="1035"/>
                  </a:lnTo>
                  <a:lnTo>
                    <a:pt x="492" y="1020"/>
                  </a:lnTo>
                  <a:lnTo>
                    <a:pt x="371" y="1020"/>
                  </a:lnTo>
                  <a:lnTo>
                    <a:pt x="256" y="1043"/>
                  </a:lnTo>
                  <a:lnTo>
                    <a:pt x="149" y="1077"/>
                  </a:lnTo>
                  <a:lnTo>
                    <a:pt x="138" y="1058"/>
                  </a:lnTo>
                  <a:lnTo>
                    <a:pt x="160" y="1008"/>
                  </a:lnTo>
                  <a:lnTo>
                    <a:pt x="221" y="862"/>
                  </a:lnTo>
                  <a:lnTo>
                    <a:pt x="264" y="714"/>
                  </a:lnTo>
                  <a:lnTo>
                    <a:pt x="287" y="584"/>
                  </a:lnTo>
                  <a:lnTo>
                    <a:pt x="287" y="515"/>
                  </a:lnTo>
                  <a:lnTo>
                    <a:pt x="275" y="412"/>
                  </a:lnTo>
                  <a:lnTo>
                    <a:pt x="244" y="313"/>
                  </a:lnTo>
                  <a:lnTo>
                    <a:pt x="218" y="244"/>
                  </a:lnTo>
                  <a:lnTo>
                    <a:pt x="175" y="152"/>
                  </a:lnTo>
                  <a:lnTo>
                    <a:pt x="131" y="4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6483240" y="4281480"/>
            <a:ext cx="1719360" cy="1731960"/>
            <a:chOff x="6483240" y="4281480"/>
            <a:chExt cx="1719360" cy="1731960"/>
          </a:xfrm>
        </p:grpSpPr>
        <p:sp>
          <p:nvSpPr>
            <p:cNvPr id="182" name="Freeform 12"/>
            <p:cNvSpPr/>
            <p:nvPr/>
          </p:nvSpPr>
          <p:spPr>
            <a:xfrm>
              <a:off x="6954840" y="4872240"/>
              <a:ext cx="746280" cy="642960"/>
            </a:xfrm>
            <a:custGeom>
              <a:avLst/>
              <a:gdLst>
                <a:gd name="textAreaLeft" fmla="*/ 0 w 746280"/>
                <a:gd name="textAreaRight" fmla="*/ 746640 w 74628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134" h="978">
                  <a:moveTo>
                    <a:pt x="617" y="49"/>
                  </a:moveTo>
                  <a:lnTo>
                    <a:pt x="594" y="84"/>
                  </a:lnTo>
                  <a:lnTo>
                    <a:pt x="529" y="69"/>
                  </a:lnTo>
                  <a:lnTo>
                    <a:pt x="490" y="38"/>
                  </a:lnTo>
                  <a:lnTo>
                    <a:pt x="448" y="26"/>
                  </a:lnTo>
                  <a:lnTo>
                    <a:pt x="375" y="38"/>
                  </a:lnTo>
                  <a:lnTo>
                    <a:pt x="295" y="80"/>
                  </a:lnTo>
                  <a:lnTo>
                    <a:pt x="241" y="130"/>
                  </a:lnTo>
                  <a:lnTo>
                    <a:pt x="218" y="187"/>
                  </a:lnTo>
                  <a:lnTo>
                    <a:pt x="207" y="251"/>
                  </a:lnTo>
                  <a:lnTo>
                    <a:pt x="237" y="332"/>
                  </a:lnTo>
                  <a:lnTo>
                    <a:pt x="287" y="366"/>
                  </a:lnTo>
                  <a:lnTo>
                    <a:pt x="283" y="382"/>
                  </a:lnTo>
                  <a:lnTo>
                    <a:pt x="207" y="389"/>
                  </a:lnTo>
                  <a:lnTo>
                    <a:pt x="126" y="424"/>
                  </a:lnTo>
                  <a:lnTo>
                    <a:pt x="80" y="485"/>
                  </a:lnTo>
                  <a:lnTo>
                    <a:pt x="46" y="562"/>
                  </a:lnTo>
                  <a:lnTo>
                    <a:pt x="46" y="623"/>
                  </a:lnTo>
                  <a:lnTo>
                    <a:pt x="69" y="658"/>
                  </a:lnTo>
                  <a:lnTo>
                    <a:pt x="111" y="665"/>
                  </a:lnTo>
                  <a:lnTo>
                    <a:pt x="180" y="646"/>
                  </a:lnTo>
                  <a:lnTo>
                    <a:pt x="203" y="631"/>
                  </a:lnTo>
                  <a:lnTo>
                    <a:pt x="184" y="654"/>
                  </a:lnTo>
                  <a:lnTo>
                    <a:pt x="157" y="727"/>
                  </a:lnTo>
                  <a:lnTo>
                    <a:pt x="157" y="760"/>
                  </a:lnTo>
                  <a:lnTo>
                    <a:pt x="191" y="794"/>
                  </a:lnTo>
                  <a:lnTo>
                    <a:pt x="249" y="794"/>
                  </a:lnTo>
                  <a:lnTo>
                    <a:pt x="249" y="829"/>
                  </a:lnTo>
                  <a:lnTo>
                    <a:pt x="264" y="894"/>
                  </a:lnTo>
                  <a:lnTo>
                    <a:pt x="310" y="921"/>
                  </a:lnTo>
                  <a:lnTo>
                    <a:pt x="391" y="940"/>
                  </a:lnTo>
                  <a:lnTo>
                    <a:pt x="460" y="940"/>
                  </a:lnTo>
                  <a:lnTo>
                    <a:pt x="529" y="898"/>
                  </a:lnTo>
                  <a:lnTo>
                    <a:pt x="559" y="852"/>
                  </a:lnTo>
                  <a:lnTo>
                    <a:pt x="575" y="794"/>
                  </a:lnTo>
                  <a:lnTo>
                    <a:pt x="575" y="737"/>
                  </a:lnTo>
                  <a:lnTo>
                    <a:pt x="571" y="681"/>
                  </a:lnTo>
                  <a:lnTo>
                    <a:pt x="529" y="635"/>
                  </a:lnTo>
                  <a:lnTo>
                    <a:pt x="502" y="573"/>
                  </a:lnTo>
                  <a:lnTo>
                    <a:pt x="513" y="562"/>
                  </a:lnTo>
                  <a:lnTo>
                    <a:pt x="559" y="589"/>
                  </a:lnTo>
                  <a:lnTo>
                    <a:pt x="594" y="612"/>
                  </a:lnTo>
                  <a:lnTo>
                    <a:pt x="651" y="623"/>
                  </a:lnTo>
                  <a:lnTo>
                    <a:pt x="701" y="623"/>
                  </a:lnTo>
                  <a:lnTo>
                    <a:pt x="747" y="589"/>
                  </a:lnTo>
                  <a:lnTo>
                    <a:pt x="759" y="520"/>
                  </a:lnTo>
                  <a:lnTo>
                    <a:pt x="743" y="474"/>
                  </a:lnTo>
                  <a:lnTo>
                    <a:pt x="697" y="428"/>
                  </a:lnTo>
                  <a:lnTo>
                    <a:pt x="644" y="370"/>
                  </a:lnTo>
                  <a:lnTo>
                    <a:pt x="571" y="324"/>
                  </a:lnTo>
                  <a:lnTo>
                    <a:pt x="517" y="309"/>
                  </a:lnTo>
                  <a:lnTo>
                    <a:pt x="483" y="301"/>
                  </a:lnTo>
                  <a:lnTo>
                    <a:pt x="513" y="278"/>
                  </a:lnTo>
                  <a:lnTo>
                    <a:pt x="663" y="244"/>
                  </a:lnTo>
                  <a:lnTo>
                    <a:pt x="759" y="207"/>
                  </a:lnTo>
                  <a:lnTo>
                    <a:pt x="885" y="141"/>
                  </a:lnTo>
                  <a:lnTo>
                    <a:pt x="950" y="107"/>
                  </a:lnTo>
                  <a:lnTo>
                    <a:pt x="954" y="138"/>
                  </a:lnTo>
                  <a:lnTo>
                    <a:pt x="816" y="199"/>
                  </a:lnTo>
                  <a:lnTo>
                    <a:pt x="732" y="244"/>
                  </a:lnTo>
                  <a:lnTo>
                    <a:pt x="640" y="301"/>
                  </a:lnTo>
                  <a:lnTo>
                    <a:pt x="663" y="336"/>
                  </a:lnTo>
                  <a:lnTo>
                    <a:pt x="839" y="435"/>
                  </a:lnTo>
                  <a:lnTo>
                    <a:pt x="1000" y="516"/>
                  </a:lnTo>
                  <a:lnTo>
                    <a:pt x="1134" y="562"/>
                  </a:lnTo>
                  <a:lnTo>
                    <a:pt x="1123" y="573"/>
                  </a:lnTo>
                  <a:lnTo>
                    <a:pt x="916" y="504"/>
                  </a:lnTo>
                  <a:lnTo>
                    <a:pt x="782" y="458"/>
                  </a:lnTo>
                  <a:lnTo>
                    <a:pt x="770" y="474"/>
                  </a:lnTo>
                  <a:lnTo>
                    <a:pt x="793" y="527"/>
                  </a:lnTo>
                  <a:lnTo>
                    <a:pt x="793" y="589"/>
                  </a:lnTo>
                  <a:lnTo>
                    <a:pt x="766" y="654"/>
                  </a:lnTo>
                  <a:lnTo>
                    <a:pt x="701" y="669"/>
                  </a:lnTo>
                  <a:lnTo>
                    <a:pt x="628" y="669"/>
                  </a:lnTo>
                  <a:lnTo>
                    <a:pt x="609" y="669"/>
                  </a:lnTo>
                  <a:lnTo>
                    <a:pt x="632" y="744"/>
                  </a:lnTo>
                  <a:lnTo>
                    <a:pt x="617" y="817"/>
                  </a:lnTo>
                  <a:lnTo>
                    <a:pt x="582" y="905"/>
                  </a:lnTo>
                  <a:lnTo>
                    <a:pt x="513" y="967"/>
                  </a:lnTo>
                  <a:lnTo>
                    <a:pt x="433" y="978"/>
                  </a:lnTo>
                  <a:lnTo>
                    <a:pt x="318" y="974"/>
                  </a:lnTo>
                  <a:lnTo>
                    <a:pt x="264" y="944"/>
                  </a:lnTo>
                  <a:lnTo>
                    <a:pt x="230" y="905"/>
                  </a:lnTo>
                  <a:lnTo>
                    <a:pt x="218" y="848"/>
                  </a:lnTo>
                  <a:lnTo>
                    <a:pt x="218" y="829"/>
                  </a:lnTo>
                  <a:lnTo>
                    <a:pt x="149" y="829"/>
                  </a:lnTo>
                  <a:lnTo>
                    <a:pt x="126" y="794"/>
                  </a:lnTo>
                  <a:lnTo>
                    <a:pt x="126" y="760"/>
                  </a:lnTo>
                  <a:lnTo>
                    <a:pt x="126" y="723"/>
                  </a:lnTo>
                  <a:lnTo>
                    <a:pt x="138" y="688"/>
                  </a:lnTo>
                  <a:lnTo>
                    <a:pt x="88" y="692"/>
                  </a:lnTo>
                  <a:lnTo>
                    <a:pt x="23" y="669"/>
                  </a:lnTo>
                  <a:lnTo>
                    <a:pt x="7" y="619"/>
                  </a:lnTo>
                  <a:lnTo>
                    <a:pt x="0" y="550"/>
                  </a:lnTo>
                  <a:lnTo>
                    <a:pt x="23" y="485"/>
                  </a:lnTo>
                  <a:lnTo>
                    <a:pt x="69" y="428"/>
                  </a:lnTo>
                  <a:lnTo>
                    <a:pt x="115" y="393"/>
                  </a:lnTo>
                  <a:lnTo>
                    <a:pt x="168" y="359"/>
                  </a:lnTo>
                  <a:lnTo>
                    <a:pt x="214" y="359"/>
                  </a:lnTo>
                  <a:lnTo>
                    <a:pt x="184" y="297"/>
                  </a:lnTo>
                  <a:lnTo>
                    <a:pt x="180" y="251"/>
                  </a:lnTo>
                  <a:lnTo>
                    <a:pt x="184" y="207"/>
                  </a:lnTo>
                  <a:lnTo>
                    <a:pt x="207" y="138"/>
                  </a:lnTo>
                  <a:lnTo>
                    <a:pt x="241" y="72"/>
                  </a:lnTo>
                  <a:lnTo>
                    <a:pt x="299" y="38"/>
                  </a:lnTo>
                  <a:lnTo>
                    <a:pt x="391" y="0"/>
                  </a:lnTo>
                  <a:lnTo>
                    <a:pt x="494" y="3"/>
                  </a:lnTo>
                  <a:lnTo>
                    <a:pt x="571" y="11"/>
                  </a:lnTo>
                  <a:lnTo>
                    <a:pt x="605" y="26"/>
                  </a:lnTo>
                  <a:lnTo>
                    <a:pt x="617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13"/>
            <p:cNvSpPr/>
            <p:nvPr/>
          </p:nvSpPr>
          <p:spPr>
            <a:xfrm>
              <a:off x="7170840" y="5108760"/>
              <a:ext cx="85680" cy="82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2" h="128">
                  <a:moveTo>
                    <a:pt x="4" y="46"/>
                  </a:moveTo>
                  <a:lnTo>
                    <a:pt x="46" y="80"/>
                  </a:lnTo>
                  <a:lnTo>
                    <a:pt x="57" y="115"/>
                  </a:lnTo>
                  <a:lnTo>
                    <a:pt x="84" y="128"/>
                  </a:lnTo>
                  <a:lnTo>
                    <a:pt x="92" y="92"/>
                  </a:lnTo>
                  <a:lnTo>
                    <a:pt x="132" y="69"/>
                  </a:lnTo>
                  <a:lnTo>
                    <a:pt x="92" y="42"/>
                  </a:lnTo>
                  <a:lnTo>
                    <a:pt x="96" y="0"/>
                  </a:lnTo>
                  <a:lnTo>
                    <a:pt x="57" y="11"/>
                  </a:lnTo>
                  <a:lnTo>
                    <a:pt x="0" y="19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4"/>
            <p:cNvSpPr/>
            <p:nvPr/>
          </p:nvSpPr>
          <p:spPr>
            <a:xfrm>
              <a:off x="7418520" y="4697640"/>
              <a:ext cx="530280" cy="8334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806" h="1266">
                  <a:moveTo>
                    <a:pt x="277" y="72"/>
                  </a:moveTo>
                  <a:lnTo>
                    <a:pt x="220" y="46"/>
                  </a:lnTo>
                  <a:lnTo>
                    <a:pt x="86" y="23"/>
                  </a:lnTo>
                  <a:lnTo>
                    <a:pt x="40" y="50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36" y="138"/>
                  </a:lnTo>
                  <a:lnTo>
                    <a:pt x="82" y="103"/>
                  </a:lnTo>
                  <a:lnTo>
                    <a:pt x="128" y="69"/>
                  </a:lnTo>
                  <a:lnTo>
                    <a:pt x="174" y="69"/>
                  </a:lnTo>
                  <a:lnTo>
                    <a:pt x="220" y="92"/>
                  </a:lnTo>
                  <a:lnTo>
                    <a:pt x="258" y="126"/>
                  </a:lnTo>
                  <a:lnTo>
                    <a:pt x="258" y="141"/>
                  </a:lnTo>
                  <a:lnTo>
                    <a:pt x="189" y="233"/>
                  </a:lnTo>
                  <a:lnTo>
                    <a:pt x="178" y="291"/>
                  </a:lnTo>
                  <a:lnTo>
                    <a:pt x="201" y="314"/>
                  </a:lnTo>
                  <a:lnTo>
                    <a:pt x="243" y="287"/>
                  </a:lnTo>
                  <a:lnTo>
                    <a:pt x="270" y="230"/>
                  </a:lnTo>
                  <a:lnTo>
                    <a:pt x="293" y="207"/>
                  </a:lnTo>
                  <a:lnTo>
                    <a:pt x="327" y="233"/>
                  </a:lnTo>
                  <a:lnTo>
                    <a:pt x="358" y="245"/>
                  </a:lnTo>
                  <a:lnTo>
                    <a:pt x="438" y="253"/>
                  </a:lnTo>
                  <a:lnTo>
                    <a:pt x="519" y="279"/>
                  </a:lnTo>
                  <a:lnTo>
                    <a:pt x="565" y="320"/>
                  </a:lnTo>
                  <a:lnTo>
                    <a:pt x="592" y="359"/>
                  </a:lnTo>
                  <a:lnTo>
                    <a:pt x="603" y="405"/>
                  </a:lnTo>
                  <a:lnTo>
                    <a:pt x="599" y="447"/>
                  </a:lnTo>
                  <a:lnTo>
                    <a:pt x="592" y="481"/>
                  </a:lnTo>
                  <a:lnTo>
                    <a:pt x="565" y="497"/>
                  </a:lnTo>
                  <a:lnTo>
                    <a:pt x="500" y="508"/>
                  </a:lnTo>
                  <a:lnTo>
                    <a:pt x="427" y="527"/>
                  </a:lnTo>
                  <a:lnTo>
                    <a:pt x="427" y="543"/>
                  </a:lnTo>
                  <a:lnTo>
                    <a:pt x="523" y="543"/>
                  </a:lnTo>
                  <a:lnTo>
                    <a:pt x="634" y="562"/>
                  </a:lnTo>
                  <a:lnTo>
                    <a:pt x="707" y="608"/>
                  </a:lnTo>
                  <a:lnTo>
                    <a:pt x="749" y="669"/>
                  </a:lnTo>
                  <a:lnTo>
                    <a:pt x="764" y="792"/>
                  </a:lnTo>
                  <a:lnTo>
                    <a:pt x="749" y="895"/>
                  </a:lnTo>
                  <a:lnTo>
                    <a:pt x="718" y="930"/>
                  </a:lnTo>
                  <a:lnTo>
                    <a:pt x="684" y="955"/>
                  </a:lnTo>
                  <a:lnTo>
                    <a:pt x="661" y="974"/>
                  </a:lnTo>
                  <a:lnTo>
                    <a:pt x="718" y="990"/>
                  </a:lnTo>
                  <a:lnTo>
                    <a:pt x="760" y="1032"/>
                  </a:lnTo>
                  <a:lnTo>
                    <a:pt x="772" y="1093"/>
                  </a:lnTo>
                  <a:lnTo>
                    <a:pt x="753" y="1170"/>
                  </a:lnTo>
                  <a:lnTo>
                    <a:pt x="714" y="1204"/>
                  </a:lnTo>
                  <a:lnTo>
                    <a:pt x="649" y="1239"/>
                  </a:lnTo>
                  <a:lnTo>
                    <a:pt x="557" y="1239"/>
                  </a:lnTo>
                  <a:lnTo>
                    <a:pt x="461" y="1208"/>
                  </a:lnTo>
                  <a:lnTo>
                    <a:pt x="396" y="1158"/>
                  </a:lnTo>
                  <a:lnTo>
                    <a:pt x="346" y="1124"/>
                  </a:lnTo>
                  <a:lnTo>
                    <a:pt x="323" y="1185"/>
                  </a:lnTo>
                  <a:lnTo>
                    <a:pt x="350" y="1227"/>
                  </a:lnTo>
                  <a:lnTo>
                    <a:pt x="519" y="1262"/>
                  </a:lnTo>
                  <a:lnTo>
                    <a:pt x="645" y="1266"/>
                  </a:lnTo>
                  <a:lnTo>
                    <a:pt x="737" y="1231"/>
                  </a:lnTo>
                  <a:lnTo>
                    <a:pt x="783" y="1181"/>
                  </a:lnTo>
                  <a:lnTo>
                    <a:pt x="806" y="1116"/>
                  </a:lnTo>
                  <a:lnTo>
                    <a:pt x="799" y="1036"/>
                  </a:lnTo>
                  <a:lnTo>
                    <a:pt x="783" y="978"/>
                  </a:lnTo>
                  <a:lnTo>
                    <a:pt x="760" y="955"/>
                  </a:lnTo>
                  <a:lnTo>
                    <a:pt x="776" y="907"/>
                  </a:lnTo>
                  <a:lnTo>
                    <a:pt x="795" y="815"/>
                  </a:lnTo>
                  <a:lnTo>
                    <a:pt x="787" y="681"/>
                  </a:lnTo>
                  <a:lnTo>
                    <a:pt x="753" y="608"/>
                  </a:lnTo>
                  <a:lnTo>
                    <a:pt x="695" y="543"/>
                  </a:lnTo>
                  <a:lnTo>
                    <a:pt x="634" y="497"/>
                  </a:lnTo>
                  <a:lnTo>
                    <a:pt x="649" y="424"/>
                  </a:lnTo>
                  <a:lnTo>
                    <a:pt x="622" y="314"/>
                  </a:lnTo>
                  <a:lnTo>
                    <a:pt x="553" y="256"/>
                  </a:lnTo>
                  <a:lnTo>
                    <a:pt x="484" y="233"/>
                  </a:lnTo>
                  <a:lnTo>
                    <a:pt x="408" y="207"/>
                  </a:lnTo>
                  <a:lnTo>
                    <a:pt x="358" y="195"/>
                  </a:lnTo>
                  <a:lnTo>
                    <a:pt x="327" y="161"/>
                  </a:lnTo>
                  <a:lnTo>
                    <a:pt x="327" y="138"/>
                  </a:lnTo>
                  <a:lnTo>
                    <a:pt x="392" y="0"/>
                  </a:lnTo>
                  <a:lnTo>
                    <a:pt x="293" y="95"/>
                  </a:lnTo>
                  <a:lnTo>
                    <a:pt x="277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5"/>
            <p:cNvSpPr/>
            <p:nvPr/>
          </p:nvSpPr>
          <p:spPr>
            <a:xfrm>
              <a:off x="7904160" y="4799160"/>
              <a:ext cx="142920" cy="85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8" h="131">
                  <a:moveTo>
                    <a:pt x="23" y="112"/>
                  </a:moveTo>
                  <a:lnTo>
                    <a:pt x="188" y="0"/>
                  </a:lnTo>
                  <a:lnTo>
                    <a:pt x="218" y="11"/>
                  </a:lnTo>
                  <a:lnTo>
                    <a:pt x="211" y="41"/>
                  </a:lnTo>
                  <a:lnTo>
                    <a:pt x="0" y="131"/>
                  </a:lnTo>
                  <a:lnTo>
                    <a:pt x="23" y="1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16"/>
            <p:cNvSpPr/>
            <p:nvPr/>
          </p:nvSpPr>
          <p:spPr>
            <a:xfrm>
              <a:off x="7645320" y="5761080"/>
              <a:ext cx="138240" cy="2286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0" h="349">
                  <a:moveTo>
                    <a:pt x="210" y="349"/>
                  </a:moveTo>
                  <a:lnTo>
                    <a:pt x="131" y="126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0" y="34"/>
                  </a:lnTo>
                  <a:lnTo>
                    <a:pt x="69" y="115"/>
                  </a:lnTo>
                  <a:lnTo>
                    <a:pt x="138" y="222"/>
                  </a:lnTo>
                  <a:lnTo>
                    <a:pt x="210" y="3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6862680" y="5397480"/>
              <a:ext cx="746280" cy="615960"/>
            </a:xfrm>
            <a:custGeom>
              <a:avLst/>
              <a:gdLst>
                <a:gd name="textAreaLeft" fmla="*/ 0 w 746280"/>
                <a:gd name="textAreaRight" fmla="*/ 746640 w 7462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1135" h="936">
                  <a:moveTo>
                    <a:pt x="1033" y="0"/>
                  </a:moveTo>
                  <a:lnTo>
                    <a:pt x="1102" y="130"/>
                  </a:lnTo>
                  <a:lnTo>
                    <a:pt x="1117" y="218"/>
                  </a:lnTo>
                  <a:lnTo>
                    <a:pt x="1135" y="314"/>
                  </a:lnTo>
                  <a:lnTo>
                    <a:pt x="1117" y="406"/>
                  </a:lnTo>
                  <a:lnTo>
                    <a:pt x="1067" y="441"/>
                  </a:lnTo>
                  <a:lnTo>
                    <a:pt x="1002" y="452"/>
                  </a:lnTo>
                  <a:lnTo>
                    <a:pt x="933" y="437"/>
                  </a:lnTo>
                  <a:lnTo>
                    <a:pt x="964" y="521"/>
                  </a:lnTo>
                  <a:lnTo>
                    <a:pt x="968" y="667"/>
                  </a:lnTo>
                  <a:lnTo>
                    <a:pt x="952" y="763"/>
                  </a:lnTo>
                  <a:lnTo>
                    <a:pt x="899" y="832"/>
                  </a:lnTo>
                  <a:lnTo>
                    <a:pt x="841" y="874"/>
                  </a:lnTo>
                  <a:lnTo>
                    <a:pt x="784" y="912"/>
                  </a:lnTo>
                  <a:lnTo>
                    <a:pt x="701" y="931"/>
                  </a:lnTo>
                  <a:lnTo>
                    <a:pt x="555" y="936"/>
                  </a:lnTo>
                  <a:lnTo>
                    <a:pt x="440" y="936"/>
                  </a:lnTo>
                  <a:lnTo>
                    <a:pt x="326" y="912"/>
                  </a:lnTo>
                  <a:lnTo>
                    <a:pt x="234" y="843"/>
                  </a:lnTo>
                  <a:lnTo>
                    <a:pt x="196" y="770"/>
                  </a:lnTo>
                  <a:lnTo>
                    <a:pt x="177" y="682"/>
                  </a:lnTo>
                  <a:lnTo>
                    <a:pt x="108" y="648"/>
                  </a:lnTo>
                  <a:lnTo>
                    <a:pt x="39" y="586"/>
                  </a:lnTo>
                  <a:lnTo>
                    <a:pt x="16" y="521"/>
                  </a:lnTo>
                  <a:lnTo>
                    <a:pt x="0" y="441"/>
                  </a:lnTo>
                  <a:lnTo>
                    <a:pt x="0" y="349"/>
                  </a:lnTo>
                  <a:lnTo>
                    <a:pt x="35" y="241"/>
                  </a:lnTo>
                  <a:lnTo>
                    <a:pt x="92" y="241"/>
                  </a:lnTo>
                  <a:lnTo>
                    <a:pt x="104" y="276"/>
                  </a:lnTo>
                  <a:lnTo>
                    <a:pt x="81" y="314"/>
                  </a:lnTo>
                  <a:lnTo>
                    <a:pt x="50" y="360"/>
                  </a:lnTo>
                  <a:lnTo>
                    <a:pt x="39" y="464"/>
                  </a:lnTo>
                  <a:lnTo>
                    <a:pt x="50" y="529"/>
                  </a:lnTo>
                  <a:lnTo>
                    <a:pt x="104" y="586"/>
                  </a:lnTo>
                  <a:lnTo>
                    <a:pt x="161" y="586"/>
                  </a:lnTo>
                  <a:lnTo>
                    <a:pt x="230" y="563"/>
                  </a:lnTo>
                  <a:lnTo>
                    <a:pt x="322" y="506"/>
                  </a:lnTo>
                  <a:lnTo>
                    <a:pt x="311" y="552"/>
                  </a:lnTo>
                  <a:lnTo>
                    <a:pt x="211" y="621"/>
                  </a:lnTo>
                  <a:lnTo>
                    <a:pt x="200" y="671"/>
                  </a:lnTo>
                  <a:lnTo>
                    <a:pt x="223" y="724"/>
                  </a:lnTo>
                  <a:lnTo>
                    <a:pt x="246" y="786"/>
                  </a:lnTo>
                  <a:lnTo>
                    <a:pt x="303" y="855"/>
                  </a:lnTo>
                  <a:lnTo>
                    <a:pt x="394" y="885"/>
                  </a:lnTo>
                  <a:lnTo>
                    <a:pt x="451" y="862"/>
                  </a:lnTo>
                  <a:lnTo>
                    <a:pt x="471" y="816"/>
                  </a:lnTo>
                  <a:lnTo>
                    <a:pt x="494" y="816"/>
                  </a:lnTo>
                  <a:lnTo>
                    <a:pt x="517" y="889"/>
                  </a:lnTo>
                  <a:lnTo>
                    <a:pt x="574" y="908"/>
                  </a:lnTo>
                  <a:lnTo>
                    <a:pt x="647" y="908"/>
                  </a:lnTo>
                  <a:lnTo>
                    <a:pt x="727" y="889"/>
                  </a:lnTo>
                  <a:lnTo>
                    <a:pt x="795" y="851"/>
                  </a:lnTo>
                  <a:lnTo>
                    <a:pt x="876" y="805"/>
                  </a:lnTo>
                  <a:lnTo>
                    <a:pt x="910" y="751"/>
                  </a:lnTo>
                  <a:lnTo>
                    <a:pt x="922" y="690"/>
                  </a:lnTo>
                  <a:lnTo>
                    <a:pt x="922" y="613"/>
                  </a:lnTo>
                  <a:lnTo>
                    <a:pt x="918" y="529"/>
                  </a:lnTo>
                  <a:lnTo>
                    <a:pt x="906" y="464"/>
                  </a:lnTo>
                  <a:lnTo>
                    <a:pt x="883" y="414"/>
                  </a:lnTo>
                  <a:lnTo>
                    <a:pt x="853" y="337"/>
                  </a:lnTo>
                  <a:lnTo>
                    <a:pt x="872" y="322"/>
                  </a:lnTo>
                  <a:lnTo>
                    <a:pt x="952" y="391"/>
                  </a:lnTo>
                  <a:lnTo>
                    <a:pt x="991" y="406"/>
                  </a:lnTo>
                  <a:lnTo>
                    <a:pt x="1037" y="406"/>
                  </a:lnTo>
                  <a:lnTo>
                    <a:pt x="1071" y="383"/>
                  </a:lnTo>
                  <a:lnTo>
                    <a:pt x="1102" y="337"/>
                  </a:lnTo>
                  <a:lnTo>
                    <a:pt x="1094" y="268"/>
                  </a:lnTo>
                  <a:lnTo>
                    <a:pt x="1083" y="199"/>
                  </a:lnTo>
                  <a:lnTo>
                    <a:pt x="1048" y="115"/>
                  </a:lnTo>
                  <a:lnTo>
                    <a:pt x="1021" y="38"/>
                  </a:lnTo>
                  <a:lnTo>
                    <a:pt x="1010" y="0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7270920" y="4281480"/>
              <a:ext cx="136440" cy="290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206" h="440">
                  <a:moveTo>
                    <a:pt x="8" y="380"/>
                  </a:moveTo>
                  <a:lnTo>
                    <a:pt x="71" y="200"/>
                  </a:lnTo>
                  <a:lnTo>
                    <a:pt x="140" y="69"/>
                  </a:lnTo>
                  <a:lnTo>
                    <a:pt x="206" y="0"/>
                  </a:lnTo>
                  <a:lnTo>
                    <a:pt x="164" y="96"/>
                  </a:lnTo>
                  <a:lnTo>
                    <a:pt x="105" y="242"/>
                  </a:lnTo>
                  <a:lnTo>
                    <a:pt x="71" y="368"/>
                  </a:lnTo>
                  <a:lnTo>
                    <a:pt x="42" y="430"/>
                  </a:lnTo>
                  <a:lnTo>
                    <a:pt x="8" y="440"/>
                  </a:lnTo>
                  <a:lnTo>
                    <a:pt x="0" y="403"/>
                  </a:lnTo>
                  <a:lnTo>
                    <a:pt x="8" y="3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7267680" y="4660920"/>
              <a:ext cx="61920" cy="42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5" h="66">
                  <a:moveTo>
                    <a:pt x="95" y="25"/>
                  </a:moveTo>
                  <a:lnTo>
                    <a:pt x="63" y="0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24" y="66"/>
                  </a:lnTo>
                  <a:lnTo>
                    <a:pt x="72" y="66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0"/>
            <p:cNvSpPr/>
            <p:nvPr/>
          </p:nvSpPr>
          <p:spPr>
            <a:xfrm>
              <a:off x="7705800" y="4356360"/>
              <a:ext cx="651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21"/>
            <p:cNvSpPr/>
            <p:nvPr/>
          </p:nvSpPr>
          <p:spPr>
            <a:xfrm>
              <a:off x="8132760" y="449424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4" h="82">
                  <a:moveTo>
                    <a:pt x="65" y="12"/>
                  </a:moveTo>
                  <a:lnTo>
                    <a:pt x="35" y="0"/>
                  </a:lnTo>
                  <a:lnTo>
                    <a:pt x="19" y="4"/>
                  </a:lnTo>
                  <a:lnTo>
                    <a:pt x="0" y="50"/>
                  </a:lnTo>
                  <a:lnTo>
                    <a:pt x="35" y="82"/>
                  </a:lnTo>
                  <a:lnTo>
                    <a:pt x="104" y="46"/>
                  </a:lnTo>
                  <a:lnTo>
                    <a:pt x="92" y="23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22"/>
            <p:cNvSpPr/>
            <p:nvPr/>
          </p:nvSpPr>
          <p:spPr>
            <a:xfrm>
              <a:off x="7697880" y="4638960"/>
              <a:ext cx="42840" cy="42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7" h="66">
                  <a:moveTo>
                    <a:pt x="67" y="0"/>
                  </a:moveTo>
                  <a:lnTo>
                    <a:pt x="22" y="9"/>
                  </a:lnTo>
                  <a:lnTo>
                    <a:pt x="0" y="6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23"/>
            <p:cNvSpPr/>
            <p:nvPr/>
          </p:nvSpPr>
          <p:spPr>
            <a:xfrm>
              <a:off x="6483240" y="4557960"/>
              <a:ext cx="552600" cy="88884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839" h="1353">
                  <a:moveTo>
                    <a:pt x="134" y="1181"/>
                  </a:moveTo>
                  <a:lnTo>
                    <a:pt x="161" y="1238"/>
                  </a:lnTo>
                  <a:lnTo>
                    <a:pt x="249" y="1342"/>
                  </a:lnTo>
                  <a:lnTo>
                    <a:pt x="299" y="1353"/>
                  </a:lnTo>
                  <a:lnTo>
                    <a:pt x="353" y="1353"/>
                  </a:lnTo>
                  <a:lnTo>
                    <a:pt x="380" y="1319"/>
                  </a:lnTo>
                  <a:lnTo>
                    <a:pt x="361" y="1288"/>
                  </a:lnTo>
                  <a:lnTo>
                    <a:pt x="303" y="1284"/>
                  </a:lnTo>
                  <a:lnTo>
                    <a:pt x="246" y="1280"/>
                  </a:lnTo>
                  <a:lnTo>
                    <a:pt x="211" y="1250"/>
                  </a:lnTo>
                  <a:lnTo>
                    <a:pt x="192" y="1204"/>
                  </a:lnTo>
                  <a:lnTo>
                    <a:pt x="184" y="1150"/>
                  </a:lnTo>
                  <a:lnTo>
                    <a:pt x="196" y="1139"/>
                  </a:lnTo>
                  <a:lnTo>
                    <a:pt x="307" y="1116"/>
                  </a:lnTo>
                  <a:lnTo>
                    <a:pt x="353" y="1081"/>
                  </a:lnTo>
                  <a:lnTo>
                    <a:pt x="353" y="1047"/>
                  </a:lnTo>
                  <a:lnTo>
                    <a:pt x="303" y="1039"/>
                  </a:lnTo>
                  <a:lnTo>
                    <a:pt x="246" y="1066"/>
                  </a:lnTo>
                  <a:lnTo>
                    <a:pt x="211" y="1070"/>
                  </a:lnTo>
                  <a:lnTo>
                    <a:pt x="203" y="1024"/>
                  </a:lnTo>
                  <a:lnTo>
                    <a:pt x="188" y="997"/>
                  </a:lnTo>
                  <a:lnTo>
                    <a:pt x="134" y="939"/>
                  </a:lnTo>
                  <a:lnTo>
                    <a:pt x="88" y="867"/>
                  </a:lnTo>
                  <a:lnTo>
                    <a:pt x="85" y="801"/>
                  </a:lnTo>
                  <a:lnTo>
                    <a:pt x="88" y="755"/>
                  </a:lnTo>
                  <a:lnTo>
                    <a:pt x="108" y="713"/>
                  </a:lnTo>
                  <a:lnTo>
                    <a:pt x="138" y="686"/>
                  </a:lnTo>
                  <a:lnTo>
                    <a:pt x="169" y="663"/>
                  </a:lnTo>
                  <a:lnTo>
                    <a:pt x="200" y="671"/>
                  </a:lnTo>
                  <a:lnTo>
                    <a:pt x="253" y="706"/>
                  </a:lnTo>
                  <a:lnTo>
                    <a:pt x="322" y="736"/>
                  </a:lnTo>
                  <a:lnTo>
                    <a:pt x="334" y="725"/>
                  </a:lnTo>
                  <a:lnTo>
                    <a:pt x="261" y="663"/>
                  </a:lnTo>
                  <a:lnTo>
                    <a:pt x="188" y="575"/>
                  </a:lnTo>
                  <a:lnTo>
                    <a:pt x="165" y="491"/>
                  </a:lnTo>
                  <a:lnTo>
                    <a:pt x="173" y="418"/>
                  </a:lnTo>
                  <a:lnTo>
                    <a:pt x="242" y="315"/>
                  </a:lnTo>
                  <a:lnTo>
                    <a:pt x="322" y="249"/>
                  </a:lnTo>
                  <a:lnTo>
                    <a:pt x="368" y="242"/>
                  </a:lnTo>
                  <a:lnTo>
                    <a:pt x="410" y="246"/>
                  </a:lnTo>
                  <a:lnTo>
                    <a:pt x="441" y="246"/>
                  </a:lnTo>
                  <a:lnTo>
                    <a:pt x="407" y="196"/>
                  </a:lnTo>
                  <a:lnTo>
                    <a:pt x="403" y="138"/>
                  </a:lnTo>
                  <a:lnTo>
                    <a:pt x="433" y="81"/>
                  </a:lnTo>
                  <a:lnTo>
                    <a:pt x="499" y="39"/>
                  </a:lnTo>
                  <a:lnTo>
                    <a:pt x="552" y="35"/>
                  </a:lnTo>
                  <a:lnTo>
                    <a:pt x="621" y="54"/>
                  </a:lnTo>
                  <a:lnTo>
                    <a:pt x="690" y="115"/>
                  </a:lnTo>
                  <a:lnTo>
                    <a:pt x="744" y="200"/>
                  </a:lnTo>
                  <a:lnTo>
                    <a:pt x="759" y="280"/>
                  </a:lnTo>
                  <a:lnTo>
                    <a:pt x="775" y="338"/>
                  </a:lnTo>
                  <a:lnTo>
                    <a:pt x="832" y="307"/>
                  </a:lnTo>
                  <a:lnTo>
                    <a:pt x="839" y="257"/>
                  </a:lnTo>
                  <a:lnTo>
                    <a:pt x="736" y="123"/>
                  </a:lnTo>
                  <a:lnTo>
                    <a:pt x="644" y="35"/>
                  </a:lnTo>
                  <a:lnTo>
                    <a:pt x="552" y="0"/>
                  </a:lnTo>
                  <a:lnTo>
                    <a:pt x="483" y="8"/>
                  </a:lnTo>
                  <a:lnTo>
                    <a:pt x="422" y="42"/>
                  </a:lnTo>
                  <a:lnTo>
                    <a:pt x="376" y="108"/>
                  </a:lnTo>
                  <a:lnTo>
                    <a:pt x="349" y="161"/>
                  </a:lnTo>
                  <a:lnTo>
                    <a:pt x="353" y="196"/>
                  </a:lnTo>
                  <a:lnTo>
                    <a:pt x="307" y="223"/>
                  </a:lnTo>
                  <a:lnTo>
                    <a:pt x="234" y="280"/>
                  </a:lnTo>
                  <a:lnTo>
                    <a:pt x="150" y="384"/>
                  </a:lnTo>
                  <a:lnTo>
                    <a:pt x="131" y="464"/>
                  </a:lnTo>
                  <a:lnTo>
                    <a:pt x="131" y="548"/>
                  </a:lnTo>
                  <a:lnTo>
                    <a:pt x="146" y="625"/>
                  </a:lnTo>
                  <a:lnTo>
                    <a:pt x="88" y="671"/>
                  </a:lnTo>
                  <a:lnTo>
                    <a:pt x="35" y="771"/>
                  </a:lnTo>
                  <a:lnTo>
                    <a:pt x="50" y="859"/>
                  </a:lnTo>
                  <a:lnTo>
                    <a:pt x="85" y="920"/>
                  </a:lnTo>
                  <a:lnTo>
                    <a:pt x="127" y="993"/>
                  </a:lnTo>
                  <a:lnTo>
                    <a:pt x="157" y="1035"/>
                  </a:lnTo>
                  <a:lnTo>
                    <a:pt x="157" y="1081"/>
                  </a:lnTo>
                  <a:lnTo>
                    <a:pt x="142" y="1096"/>
                  </a:lnTo>
                  <a:lnTo>
                    <a:pt x="0" y="1158"/>
                  </a:lnTo>
                  <a:lnTo>
                    <a:pt x="138" y="1150"/>
                  </a:lnTo>
                  <a:lnTo>
                    <a:pt x="134" y="11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24"/>
            <p:cNvSpPr/>
            <p:nvPr/>
          </p:nvSpPr>
          <p:spPr>
            <a:xfrm>
              <a:off x="6761160" y="4902480"/>
              <a:ext cx="246240" cy="16020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71" h="243">
                  <a:moveTo>
                    <a:pt x="363" y="243"/>
                  </a:moveTo>
                  <a:lnTo>
                    <a:pt x="371" y="211"/>
                  </a:lnTo>
                  <a:lnTo>
                    <a:pt x="348" y="176"/>
                  </a:lnTo>
                  <a:lnTo>
                    <a:pt x="185" y="69"/>
                  </a:lnTo>
                  <a:lnTo>
                    <a:pt x="0" y="0"/>
                  </a:lnTo>
                  <a:lnTo>
                    <a:pt x="139" y="92"/>
                  </a:lnTo>
                  <a:lnTo>
                    <a:pt x="254" y="165"/>
                  </a:lnTo>
                  <a:lnTo>
                    <a:pt x="325" y="234"/>
                  </a:lnTo>
                  <a:lnTo>
                    <a:pt x="363" y="2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Reserv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898280"/>
            <a:ext cx="800100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s, so far, have left no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wise approach to cru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hard rules for setting reserve am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predictability of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llow 10%-2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end, it’s up to the individual to dec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50"/>
                            </p:stCondLst>
                            <p:childTnLst>
                              <p:par>
                                <p:cTn id="5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5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8CE-142F-46E0-9688-C76B515FC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ange &amp; Enduranc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Effects of Reserv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52574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xpected, both range and endurance reduced when making reserve allow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1333440" y="1600200"/>
            <a:ext cx="6934320" cy="3616200"/>
            <a:chOff x="1333440" y="1600200"/>
            <a:chExt cx="6934320" cy="3616200"/>
          </a:xfrm>
        </p:grpSpPr>
        <p:pic>
          <p:nvPicPr>
            <p:cNvPr id="203" name="Picture 5" descr="npo000020"/>
            <p:cNvPicPr/>
            <p:nvPr/>
          </p:nvPicPr>
          <p:blipFill>
            <a:blip r:embed="rId1"/>
            <a:stretch/>
          </p:blipFill>
          <p:spPr>
            <a:xfrm>
              <a:off x="1333440" y="1981080"/>
              <a:ext cx="6934320" cy="32353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04" name="Text Box 6"/>
            <p:cNvSpPr/>
            <p:nvPr/>
          </p:nvSpPr>
          <p:spPr>
            <a:xfrm>
              <a:off x="3203640" y="1600200"/>
              <a:ext cx="319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Basis:  200 Gal Fuel Capa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150"/>
                            </p:stCondLst>
                            <p:childTnLst>
                              <p:par>
                                <p:cTn id="5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AB7C-E106-449F-AB17-371250BB4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ffect of Curr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n Ran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 of current can be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range and E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on slower bo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understand tradeoffs under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throttle setting for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n reserv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7" descr="npo000022"/>
          <p:cNvPicPr/>
          <p:nvPr/>
        </p:nvPicPr>
        <p:blipFill>
          <a:blip r:embed="rId7"/>
          <a:stretch/>
        </p:blipFill>
        <p:spPr>
          <a:xfrm>
            <a:off x="5975280" y="2386080"/>
            <a:ext cx="2711520" cy="11318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600"/>
                            </p:stCondLst>
                            <p:childTnLst>
                              <p:par>
                                <p:cTn id="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7744-0A36-4061-ABBD-53253A1AD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lculating Effect of Current on Ran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54864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ting makes it easier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eff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14"/>
          <p:cNvGrpSpPr/>
          <p:nvPr/>
        </p:nvGrpSpPr>
        <p:grpSpPr>
          <a:xfrm>
            <a:off x="1905120" y="1589040"/>
            <a:ext cx="5790960" cy="3821040"/>
            <a:chOff x="1905120" y="1589040"/>
            <a:chExt cx="5790960" cy="3821040"/>
          </a:xfrm>
        </p:grpSpPr>
        <p:pic>
          <p:nvPicPr>
            <p:cNvPr id="217" name="Picture 4" descr="npo000024"/>
            <p:cNvPicPr/>
            <p:nvPr/>
          </p:nvPicPr>
          <p:blipFill>
            <a:blip r:embed="rId1"/>
            <a:stretch/>
          </p:blipFill>
          <p:spPr>
            <a:xfrm>
              <a:off x="1905120" y="1882800"/>
              <a:ext cx="5790960" cy="352728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218" name="Text Box 6"/>
            <p:cNvSpPr/>
            <p:nvPr/>
          </p:nvSpPr>
          <p:spPr>
            <a:xfrm>
              <a:off x="3203640" y="1589040"/>
              <a:ext cx="3193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Basis:  200 Gal Fuel Capa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100"/>
                            </p:stCondLst>
                            <p:childTnLst>
                              <p:par>
                                <p:cTn id="6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FBA9-25D2-43C5-B1E7-B98B35B91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harted Effect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rrent on Rang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Picture 3" descr="npo000026"/>
          <p:cNvPicPr/>
          <p:nvPr/>
        </p:nvPicPr>
        <p:blipFill>
          <a:blip r:embed="rId1"/>
          <a:stretch/>
        </p:blipFill>
        <p:spPr>
          <a:xfrm>
            <a:off x="4362480" y="1828800"/>
            <a:ext cx="4324320" cy="45687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981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at a maximum range occurs with foul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um RPM increases slightly with increas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l cur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950"/>
                            </p:stCondLst>
                            <p:childTnLst>
                              <p:par>
                                <p:cTn id="6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849-ACB8-486F-BB29-0D8AF46CE1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eping Track of Progres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ve covered fuel consumption to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oya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depar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fuel le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ck” the tan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 tool to follow progres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derw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GOZIT chart is such a t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B966-2067-4C05-BDAF-4FDBAE4C31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OWGOZIT Char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epar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to a “Danger Bear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chart fr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lin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No Reser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line for “Reserve”,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se,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npo000028"/>
          <p:cNvPicPr/>
          <p:nvPr/>
        </p:nvPicPr>
        <p:blipFill>
          <a:blip r:embed="rId5"/>
          <a:stretch/>
        </p:blipFill>
        <p:spPr>
          <a:xfrm>
            <a:off x="3500280" y="1828800"/>
            <a:ext cx="5415120" cy="4156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36" name="Line 4"/>
          <p:cNvSpPr/>
          <p:nvPr/>
        </p:nvSpPr>
        <p:spPr>
          <a:xfrm>
            <a:off x="3716280" y="2374920"/>
            <a:ext cx="4152960" cy="2851200"/>
          </a:xfrm>
          <a:prstGeom prst="line">
            <a:avLst/>
          </a:prstGeom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3722760" y="2374920"/>
            <a:ext cx="4146480" cy="22669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70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uel &amp; Voyage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dvanc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4114-BD13-4843-A468-152105F9B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3" descr="npo000028"/>
          <p:cNvPicPr/>
          <p:nvPr/>
        </p:nvPicPr>
        <p:blipFill>
          <a:blip r:embed="rId1"/>
          <a:stretch/>
        </p:blipFill>
        <p:spPr>
          <a:xfrm>
            <a:off x="3500280" y="1828800"/>
            <a:ext cx="5415120" cy="4156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42" name="Line 28"/>
          <p:cNvSpPr/>
          <p:nvPr/>
        </p:nvSpPr>
        <p:spPr>
          <a:xfrm>
            <a:off x="3716280" y="2374920"/>
            <a:ext cx="4152960" cy="2851200"/>
          </a:xfrm>
          <a:prstGeom prst="line">
            <a:avLst/>
          </a:prstGeom>
          <a:ln w="25560">
            <a:solidFill>
              <a:srgbClr val="1102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29"/>
          <p:cNvSpPr/>
          <p:nvPr/>
        </p:nvSpPr>
        <p:spPr>
          <a:xfrm>
            <a:off x="3722760" y="2374920"/>
            <a:ext cx="4146480" cy="226692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OWGOZIT Char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Underwa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205160" y="2573280"/>
            <a:ext cx="10008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4649760" y="2752560"/>
            <a:ext cx="100080" cy="105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013360" y="2949480"/>
            <a:ext cx="10008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5303880" y="3282840"/>
            <a:ext cx="10008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2"/>
          <p:cNvSpPr/>
          <p:nvPr/>
        </p:nvSpPr>
        <p:spPr>
          <a:xfrm>
            <a:off x="5595840" y="3584520"/>
            <a:ext cx="10008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3"/>
          <p:cNvSpPr/>
          <p:nvPr/>
        </p:nvSpPr>
        <p:spPr>
          <a:xfrm>
            <a:off x="5802480" y="3978360"/>
            <a:ext cx="9972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304920" y="1828800"/>
            <a:ext cx="3200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plot fuel remai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 if point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r abo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Reserve” 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 if point between li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if point below “No Reserve” l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066-E707-4FED-8517-634CFF451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mproving Fuel Manageme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fuel vs. throttle setting cur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voyage routing &amp; timing to minimize foul currents, adverse we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fuel availability on rou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necessary fuel reser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peed vs. fuel consumption tradeof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C57-6FEB-4DFD-8A8C-EBDA4A2EF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mproving Fuel Manageme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Unde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ust gauges.  Verify fuel levels befo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uring tr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“HOWGOZIT Chart” or mainta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el lo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prepared to divert to an alternate dest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19E2-11DB-4402-8466-11AB18B18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mproving Fuel Managemen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engines tu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bottom period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tanks after each trip to minimize conden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ssel Equipment;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stallation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tank cross-f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management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m tab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84A-38FB-46CC-9DB1-E10A933E3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of Chapter 1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1" name="Picture 3" descr="eagle"/>
          <p:cNvPicPr/>
          <p:nvPr/>
        </p:nvPicPr>
        <p:blipFill>
          <a:blip r:embed="rId1"/>
          <a:stretch/>
        </p:blipFill>
        <p:spPr>
          <a:xfrm>
            <a:off x="1628640" y="292572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9B5-22BB-4D06-B55E-43EF110A4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83059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and Storage Plan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to re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p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current on fuel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velop “Howgozit” planning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npo00000d"/>
          <p:cNvPicPr/>
          <p:nvPr/>
        </p:nvPicPr>
        <p:blipFill>
          <a:blip r:embed="rId8"/>
          <a:stretch/>
        </p:blipFill>
        <p:spPr>
          <a:xfrm>
            <a:off x="6000840" y="1828800"/>
            <a:ext cx="2685960" cy="19191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5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EAA3-BFE1-43FC-A537-69927AD4CA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Consumption Cha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7640"/>
            <a:ext cx="4343400" cy="2845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5960" indent="-34596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s vessel’s speed curve and engine fuel consumption data to fuel consumed at 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4724280" y="1523880"/>
            <a:ext cx="1828800" cy="1752480"/>
            <a:chOff x="4724280" y="1523880"/>
            <a:chExt cx="1828800" cy="1752480"/>
          </a:xfrm>
        </p:grpSpPr>
        <p:sp>
          <p:nvSpPr>
            <p:cNvPr id="107" name="Rectangle 21"/>
            <p:cNvSpPr/>
            <p:nvPr/>
          </p:nvSpPr>
          <p:spPr>
            <a:xfrm>
              <a:off x="4775040" y="1523880"/>
              <a:ext cx="1727280" cy="1752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4724280" y="20491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essel Speed Cur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Group 28"/>
          <p:cNvGrpSpPr/>
          <p:nvPr/>
        </p:nvGrpSpPr>
        <p:grpSpPr>
          <a:xfrm>
            <a:off x="7010280" y="1523880"/>
            <a:ext cx="1828800" cy="1752480"/>
            <a:chOff x="7010280" y="1523880"/>
            <a:chExt cx="1828800" cy="1752480"/>
          </a:xfrm>
        </p:grpSpPr>
        <p:sp>
          <p:nvSpPr>
            <p:cNvPr id="110" name="Rectangle 20"/>
            <p:cNvSpPr/>
            <p:nvPr/>
          </p:nvSpPr>
          <p:spPr>
            <a:xfrm>
              <a:off x="7061040" y="1523880"/>
              <a:ext cx="1727280" cy="1752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7010280" y="20491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ngine Fuel Burn R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29"/>
          <p:cNvGrpSpPr/>
          <p:nvPr/>
        </p:nvGrpSpPr>
        <p:grpSpPr>
          <a:xfrm>
            <a:off x="5867280" y="4191120"/>
            <a:ext cx="1828800" cy="1828800"/>
            <a:chOff x="5867280" y="4191120"/>
            <a:chExt cx="1828800" cy="1828800"/>
          </a:xfrm>
        </p:grpSpPr>
        <p:sp>
          <p:nvSpPr>
            <p:cNvPr id="113" name="Rectangle 19"/>
            <p:cNvSpPr/>
            <p:nvPr/>
          </p:nvSpPr>
          <p:spPr>
            <a:xfrm>
              <a:off x="5867280" y="4191120"/>
              <a:ext cx="1828800" cy="1828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5867280" y="456408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uel Consumption Cha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1"/>
          <p:cNvGraphicFramePr/>
          <p:nvPr/>
        </p:nvGraphicFramePr>
        <p:xfrm>
          <a:off x="5567400" y="3290760"/>
          <a:ext cx="252720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7400" y="3290760"/>
                    <a:ext cx="252720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6E39-595E-4825-96FD-DF472EBE6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rting the Dat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3520" y="1828800"/>
            <a:ext cx="4978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develop the d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ine R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Through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Consump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able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accuracy improves fuel plann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7" descr="npo00000e"/>
          <p:cNvPicPr/>
          <p:nvPr/>
        </p:nvPicPr>
        <p:blipFill>
          <a:blip r:embed="rId7"/>
          <a:stretch/>
        </p:blipFill>
        <p:spPr>
          <a:xfrm>
            <a:off x="5345280" y="1828800"/>
            <a:ext cx="3570120" cy="4400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BE90-95FD-4FDD-95B0-297286860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Consumption Dat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test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manuals &amp; periodic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verify for your ve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d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flow meters are probably b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ment of fuel used after period of running - low tech but tedi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trust fuel gau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0"/>
          <p:cNvGraphicFramePr/>
          <p:nvPr/>
        </p:nvGraphicFramePr>
        <p:xfrm>
          <a:off x="6775560" y="1600200"/>
          <a:ext cx="1888920" cy="2819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" name="Object 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75560" y="1600200"/>
                    <a:ext cx="1888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5939-A20B-4B56-AA91-2E2A125F62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Efficien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4" name="Picture 5" descr="npo000011"/>
          <p:cNvPicPr/>
          <p:nvPr/>
        </p:nvPicPr>
        <p:blipFill>
          <a:blip r:embed="rId1"/>
          <a:stretch/>
        </p:blipFill>
        <p:spPr>
          <a:xfrm>
            <a:off x="5487840" y="1828800"/>
            <a:ext cx="3198960" cy="45705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8006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ost obviously plotted as FCR vs.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useful to compu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raph fuel efficiency (MPG) vs.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P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Speed) / (FC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npo000013"/>
          <p:cNvPicPr/>
          <p:nvPr/>
        </p:nvPicPr>
        <p:blipFill>
          <a:blip r:embed="rId4"/>
          <a:stretch/>
        </p:blipFill>
        <p:spPr>
          <a:xfrm>
            <a:off x="1171440" y="4551480"/>
            <a:ext cx="3476880" cy="1697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5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2AC5-89AA-41C1-BA97-499EF17AD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Efficien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3" descr="npo000015"/>
          <p:cNvPicPr/>
          <p:nvPr/>
        </p:nvPicPr>
        <p:blipFill>
          <a:blip r:embed="rId1"/>
          <a:stretch/>
        </p:blipFill>
        <p:spPr>
          <a:xfrm>
            <a:off x="5487840" y="1828800"/>
            <a:ext cx="3198960" cy="45705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5118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ntura has typical displacement hull efficiency characteri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 levels off just under 6 knots, approaching Aventura’s hull speed (H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1.34 (LWL)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 declines rapidly thereaf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7ECF-93FE-4B2F-9750-233F51617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dvanced Coastal Navigation - Chapter 1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uel Efficien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6986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ing hull vessels have very different efficiency cur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, efficiency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t low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es deeply through transi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laning m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s, again, when on plane; sometimes higher than at low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6629400" y="1676520"/>
            <a:ext cx="2163600" cy="2361960"/>
            <a:chOff x="6629400" y="1676520"/>
            <a:chExt cx="2163600" cy="2361960"/>
          </a:xfrm>
        </p:grpSpPr>
        <p:pic>
          <p:nvPicPr>
            <p:cNvPr id="149" name="Picture 3" descr="npo000019"/>
            <p:cNvPicPr/>
            <p:nvPr/>
          </p:nvPicPr>
          <p:blipFill>
            <a:blip r:embed="rId6"/>
            <a:stretch/>
          </p:blipFill>
          <p:spPr>
            <a:xfrm>
              <a:off x="6629400" y="1676520"/>
              <a:ext cx="1706400" cy="236196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150" name="Freeform 5"/>
            <p:cNvSpPr/>
            <p:nvPr/>
          </p:nvSpPr>
          <p:spPr>
            <a:xfrm>
              <a:off x="6940440" y="2362320"/>
              <a:ext cx="1852560" cy="982440"/>
            </a:xfrm>
            <a:custGeom>
              <a:avLst/>
              <a:gdLst>
                <a:gd name="textAreaLeft" fmla="*/ 0 w 1852560"/>
                <a:gd name="textAreaRight" fmla="*/ 1852920 w 185256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1167" h="619">
                  <a:moveTo>
                    <a:pt x="0" y="0"/>
                  </a:moveTo>
                  <a:cubicBezTo>
                    <a:pt x="32" y="51"/>
                    <a:pt x="126" y="225"/>
                    <a:pt x="192" y="309"/>
                  </a:cubicBezTo>
                  <a:cubicBezTo>
                    <a:pt x="258" y="393"/>
                    <a:pt x="327" y="455"/>
                    <a:pt x="396" y="504"/>
                  </a:cubicBezTo>
                  <a:cubicBezTo>
                    <a:pt x="465" y="553"/>
                    <a:pt x="544" y="594"/>
                    <a:pt x="609" y="606"/>
                  </a:cubicBezTo>
                  <a:cubicBezTo>
                    <a:pt x="674" y="618"/>
                    <a:pt x="741" y="619"/>
                    <a:pt x="789" y="579"/>
                  </a:cubicBezTo>
                  <a:cubicBezTo>
                    <a:pt x="837" y="539"/>
                    <a:pt x="864" y="437"/>
                    <a:pt x="897" y="366"/>
                  </a:cubicBezTo>
                  <a:cubicBezTo>
                    <a:pt x="930" y="295"/>
                    <a:pt x="945" y="207"/>
                    <a:pt x="990" y="150"/>
                  </a:cubicBezTo>
                  <a:cubicBezTo>
                    <a:pt x="1035" y="93"/>
                    <a:pt x="1130" y="50"/>
                    <a:pt x="1167" y="2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9:59Z</dcterms:created>
  <dc:creator>jan</dc:creator>
  <dc:description/>
  <dc:language>en-US</dc:language>
  <cp:lastModifiedBy>Cypherja</cp:lastModifiedBy>
  <dcterms:modified xsi:type="dcterms:W3CDTF">2010-10-01T11:10:45Z</dcterms:modified>
  <cp:revision>97</cp:revision>
  <dc:subject/>
  <dc:title>UNITED STATES COAST GUARD AUXILIARY</dc:title>
</cp:coreProperties>
</file>