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25.wmf" ContentType="image/x-wmf"/>
  <Override PartName="/ppt/media/image23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9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CBCA-D267-4F78-8FCC-499A62EAE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50B3-DD0B-4A42-91F3-E7FFC841E9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90A2-9765-46FF-9DB6-1F1E5AE5DE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6455-5F52-4F07-9534-E1381CF64B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C621-6E42-4292-8125-5B7FEE6ED9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AD51-5E69-412A-A679-6367624983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55DD-BBE3-4960-9143-4F1025787F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3D46-F677-4258-8EE1-E8152E7569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6236-2E7E-48E4-94D1-33AC886E7C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0E68-FA91-4A2D-8F18-4DD2D517AA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3878-6C1E-4361-A99D-94E3B6E30C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A32E-8A18-4B16-AA7B-D2403496D8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7B7D-AF8C-422E-AC92-19903BAA9D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DED4-ED75-47B8-B4DF-7F37AB9102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5A23-0854-4975-972F-308856652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50F4-D9B6-465E-B8B5-5F74B81B8C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2C68-5ED2-4B06-8A11-D045700C59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0FA5-9117-428E-9D25-8BE569472B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7976-028F-42B7-8188-A27ED9FC17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3FC4-7F00-45AC-BB0C-320529134C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C543-3E09-4ABA-AEAC-4852CB090C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89FB-791B-4611-88D0-F6ACE2EA86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6443-94FD-4334-A58D-647AAA0FC4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067A-0EC6-4DE7-B069-E0D99B8D55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45AF-5CA1-4F1B-A364-1743855379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D127-ABD9-489C-A01A-F3E29E7654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A09C-998C-4310-96EA-823AAAF94D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1ADD-9520-44A8-BB3B-C33DF62F89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1CD1-A712-4C3B-B2B8-5125FB8F12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4981-169D-4E1C-B97C-CBD6DDB35B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9F80-A375-42D6-A9B4-BB418111C0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018C-CBC8-4492-A2B4-D95B571335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0C42-04AD-463A-B3C2-EED49B894D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5A51-5561-4F33-9F8C-46359D3EAF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7080-9F52-4A0A-B9AF-36EA83780F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EB1D-6E61-4040-B20E-EF17926E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0D43-F9CF-44BD-B881-011B8285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D0DB-1EB4-4720-8425-5A4CC50C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B119-33A7-49F7-8C02-C073D79B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5092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279F-56FA-40BD-842A-61BEF385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51D5-3354-48F4-8EAC-4EB6FB8B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5DA8-AA6D-4B2A-99E8-284F388B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624A-3CE5-437F-B1A6-BEEC0882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5092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8BDC-F73B-4B74-8187-9885FC3D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92DE-C1A7-4F92-8A77-1AB3A338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48B8-E543-478A-82CE-83D4E5E7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9A5E-FF7D-440C-9DBE-6032C310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4" descr="3logo"/>
          <p:cNvPicPr/>
          <p:nvPr/>
        </p:nvPicPr>
        <p:blipFill>
          <a:blip r:embed="rId10"/>
          <a:stretch/>
        </p:blipFill>
        <p:spPr>
          <a:xfrm>
            <a:off x="214200" y="546120"/>
            <a:ext cx="70020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76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289D-F5A7-4EBE-B5EF-615646AAA5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0456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914400" y="471600"/>
            <a:ext cx="7772400" cy="886320"/>
            <a:chOff x="914400" y="471600"/>
            <a:chExt cx="7772400" cy="886320"/>
          </a:xfrm>
        </p:grpSpPr>
        <p:pic>
          <p:nvPicPr>
            <p:cNvPr id="43" name="Picture 5" descr="RacingStripe copy"/>
            <p:cNvPicPr/>
            <p:nvPr/>
          </p:nvPicPr>
          <p:blipFill>
            <a:blip r:embed="rId3"/>
            <a:srcRect l="0" t="15805" r="0" b="15805"/>
            <a:stretch/>
          </p:blipFill>
          <p:spPr>
            <a:xfrm>
              <a:off x="914400" y="577800"/>
              <a:ext cx="1349280" cy="722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</p:pic>
        <p:sp>
          <p:nvSpPr>
            <p:cNvPr id="44" name="Text Box 6"/>
            <p:cNvSpPr/>
            <p:nvPr/>
          </p:nvSpPr>
          <p:spPr>
            <a:xfrm>
              <a:off x="914400" y="471600"/>
              <a:ext cx="7772400" cy="88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nited States Coast Guard</a:t>
              </a:r>
              <a:br>
                <a:rPr sz="28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.S. Coast Guard Auxili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952560" y="25146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information contained within this document is copyright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00BA-647A-4A22-BA1F-2B0F07C76E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76360" y="1773360"/>
            <a:ext cx="4147920" cy="38653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s of a Compa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2" name="Group 20"/>
          <p:cNvGrpSpPr/>
          <p:nvPr/>
        </p:nvGrpSpPr>
        <p:grpSpPr>
          <a:xfrm>
            <a:off x="2971800" y="2819520"/>
            <a:ext cx="5867280" cy="1295280"/>
            <a:chOff x="2971800" y="2819520"/>
            <a:chExt cx="5867280" cy="1295280"/>
          </a:xfrm>
        </p:grpSpPr>
        <p:sp>
          <p:nvSpPr>
            <p:cNvPr id="153" name="Rectangle 18"/>
            <p:cNvSpPr/>
            <p:nvPr/>
          </p:nvSpPr>
          <p:spPr>
            <a:xfrm>
              <a:off x="5257800" y="2819520"/>
              <a:ext cx="35812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pherical bowl with expansion diaphragm.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 flipV="1">
              <a:off x="2971800" y="3048120"/>
              <a:ext cx="2286000" cy="838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B674-E6B4-4FB9-B50E-B67201BA77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576360" y="1773360"/>
            <a:ext cx="4147920" cy="38653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s of a Compa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3048120" y="2819520"/>
            <a:ext cx="5790960" cy="1295280"/>
            <a:chOff x="3048120" y="2819520"/>
            <a:chExt cx="5790960" cy="1295280"/>
          </a:xfrm>
        </p:grpSpPr>
        <p:sp>
          <p:nvSpPr>
            <p:cNvPr id="161" name="Rectangle 6"/>
            <p:cNvSpPr/>
            <p:nvPr/>
          </p:nvSpPr>
          <p:spPr>
            <a:xfrm>
              <a:off x="5257800" y="2819520"/>
              <a:ext cx="35812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luid filled damping system to impede rapid card movement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7"/>
            <p:cNvSpPr/>
            <p:nvPr/>
          </p:nvSpPr>
          <p:spPr>
            <a:xfrm flipV="1">
              <a:off x="3048120" y="3047760"/>
              <a:ext cx="2209680" cy="609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B5D7-E36D-45FE-9C2C-5369261A53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6360" y="1773360"/>
            <a:ext cx="4147920" cy="38653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s of a Compa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68" name="Group 8"/>
          <p:cNvGrpSpPr/>
          <p:nvPr/>
        </p:nvGrpSpPr>
        <p:grpSpPr>
          <a:xfrm>
            <a:off x="3581280" y="2819520"/>
            <a:ext cx="5257800" cy="1981080"/>
            <a:chOff x="3581280" y="2819520"/>
            <a:chExt cx="5257800" cy="1981080"/>
          </a:xfrm>
        </p:grpSpPr>
        <p:sp>
          <p:nvSpPr>
            <p:cNvPr id="169" name="Rectangle 6"/>
            <p:cNvSpPr/>
            <p:nvPr/>
          </p:nvSpPr>
          <p:spPr>
            <a:xfrm>
              <a:off x="5257800" y="2819520"/>
              <a:ext cx="35812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mpensation system to reduce deviation error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 flipV="1">
              <a:off x="3581280" y="3048120"/>
              <a:ext cx="1676520" cy="1752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F89F-C227-4EFE-B65A-9F13EE8177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026"/>
          <p:cNvSpPr/>
          <p:nvPr/>
        </p:nvSpPr>
        <p:spPr>
          <a:xfrm>
            <a:off x="6094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 Reading 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used in binnacle steering st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ering Compass Styl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Rectangle 1028"/>
          <p:cNvSpPr/>
          <p:nvPr/>
        </p:nvSpPr>
        <p:spPr>
          <a:xfrm>
            <a:off x="4572000" y="1905120"/>
            <a:ext cx="412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ont Reading 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when compas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ed on bulkhe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1029" descr=""/>
          <p:cNvPicPr/>
          <p:nvPr/>
        </p:nvPicPr>
        <p:blipFill>
          <a:blip r:embed="rId1"/>
          <a:stretch/>
        </p:blipFill>
        <p:spPr>
          <a:xfrm>
            <a:off x="1015920" y="1752480"/>
            <a:ext cx="2573280" cy="3048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30" descr=""/>
          <p:cNvPicPr/>
          <p:nvPr/>
        </p:nvPicPr>
        <p:blipFill>
          <a:blip r:embed="rId2"/>
          <a:stretch/>
        </p:blipFill>
        <p:spPr>
          <a:xfrm>
            <a:off x="5423040" y="3429000"/>
            <a:ext cx="2419200" cy="279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A55D-533F-4539-8851-B2CCEB5EAC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925040" cy="12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nd Bearing Compass Styl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380880" y="3352680"/>
            <a:ext cx="3429000" cy="2917800"/>
            <a:chOff x="380880" y="3352680"/>
            <a:chExt cx="3429000" cy="2917800"/>
          </a:xfrm>
        </p:grpSpPr>
        <p:pic>
          <p:nvPicPr>
            <p:cNvPr id="184" name="Picture 1028" descr=""/>
            <p:cNvPicPr/>
            <p:nvPr/>
          </p:nvPicPr>
          <p:blipFill>
            <a:blip r:embed="rId1"/>
            <a:stretch/>
          </p:blipFill>
          <p:spPr>
            <a:xfrm>
              <a:off x="380880" y="3733920"/>
              <a:ext cx="3429000" cy="25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029"/>
            <p:cNvSpPr/>
            <p:nvPr/>
          </p:nvSpPr>
          <p:spPr>
            <a:xfrm>
              <a:off x="460800" y="3352680"/>
              <a:ext cx="271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ont/Top Read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1051"/>
          <p:cNvGrpSpPr/>
          <p:nvPr/>
        </p:nvGrpSpPr>
        <p:grpSpPr>
          <a:xfrm>
            <a:off x="3657600" y="1905120"/>
            <a:ext cx="4264200" cy="2178000"/>
            <a:chOff x="3657600" y="1905120"/>
            <a:chExt cx="4264200" cy="2178000"/>
          </a:xfrm>
        </p:grpSpPr>
        <p:pic>
          <p:nvPicPr>
            <p:cNvPr id="187" name="Picture 1031" descr=""/>
            <p:cNvPicPr/>
            <p:nvPr/>
          </p:nvPicPr>
          <p:blipFill>
            <a:blip r:embed="rId2"/>
            <a:stretch/>
          </p:blipFill>
          <p:spPr>
            <a:xfrm>
              <a:off x="3657600" y="1905120"/>
              <a:ext cx="215280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032"/>
            <p:cNvSpPr/>
            <p:nvPr/>
          </p:nvSpPr>
          <p:spPr>
            <a:xfrm>
              <a:off x="5964120" y="2286000"/>
              <a:ext cx="195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ckey Puc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Group 9"/>
          <p:cNvGrpSpPr/>
          <p:nvPr/>
        </p:nvGrpSpPr>
        <p:grpSpPr>
          <a:xfrm>
            <a:off x="5638680" y="3936960"/>
            <a:ext cx="3124440" cy="2311560"/>
            <a:chOff x="5638680" y="3936960"/>
            <a:chExt cx="3124440" cy="2311560"/>
          </a:xfrm>
        </p:grpSpPr>
        <p:pic>
          <p:nvPicPr>
            <p:cNvPr id="190" name="Picture 1034" descr=""/>
            <p:cNvPicPr/>
            <p:nvPr/>
          </p:nvPicPr>
          <p:blipFill>
            <a:blip r:embed="rId3"/>
            <a:stretch/>
          </p:blipFill>
          <p:spPr>
            <a:xfrm>
              <a:off x="5638680" y="3936960"/>
              <a:ext cx="312444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35"/>
            <p:cNvSpPr/>
            <p:nvPr/>
          </p:nvSpPr>
          <p:spPr>
            <a:xfrm>
              <a:off x="5718240" y="5775480"/>
              <a:ext cx="27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gital/Scope Sty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E928-6082-4259-8D4C-C9CF9669E6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npo00001b"/>
          <p:cNvPicPr/>
          <p:nvPr/>
        </p:nvPicPr>
        <p:blipFill>
          <a:blip r:embed="rId1"/>
          <a:stretch/>
        </p:blipFill>
        <p:spPr>
          <a:xfrm>
            <a:off x="6108840" y="2819520"/>
            <a:ext cx="2647800" cy="26668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ass Car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5410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ted in degrees from 000 to 35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ted in 1, 2, 5 degree inc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s spaced eve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-30 degre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show cardinal points:   N, S, E &amp; 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show intercardinal points: NE, SE, SW &amp; N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4FB4-B204-4371-8C3A-0F13A8E079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ass Errors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eviation and Vari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4191120" y="2116080"/>
            <a:ext cx="4038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ugly Truth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ompasse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don’t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point to True North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Object 4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439720" cy="44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4AB6-6201-4440-8D14-AEC09A2FA0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ass Err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16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graphic (true) vs. magnetic no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o all parts of the glo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d on every chart’s compass rose(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vi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shipboard magnetic influ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s on all vessels; different for each vess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s on vessel's hea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vary wid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B28E-2F04-4962-B6C2-AFA35F8AF5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aria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arth - A Magn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5283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cating exact source of magnetism difficult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gnment of magnetism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 of pull varies over earth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0" descr="npo00001d"/>
          <p:cNvPicPr/>
          <p:nvPr/>
        </p:nvPicPr>
        <p:blipFill>
          <a:blip r:embed="rId4"/>
          <a:stretch/>
        </p:blipFill>
        <p:spPr>
          <a:xfrm>
            <a:off x="6019920" y="3206880"/>
            <a:ext cx="2895480" cy="28890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65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570A-E7AB-41C2-B4DB-FCEFC4DCE7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2989440" y="1981080"/>
          <a:ext cx="5849640" cy="42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1981080"/>
                    <a:ext cx="5849640" cy="4240440"/>
                  </a:xfrm>
                  <a:prstGeom prst="rect">
                    <a:avLst/>
                  </a:prstGeom>
                  <a:ln cap="sq" w="255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rld-Wide Var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232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gonic Cha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trates magnetic variation (19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4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asic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oastal Navig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Marine Magnetic Comp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F381-93AA-4DE7-AA8C-6D95D49EB5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viation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oat-Specific Err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37920" y="171936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 to on-board magnetic influen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etic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ms to which magnets are attra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s carrying DC electrical cur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effects as much as possi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ompass away from infl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st nearby DC wire pai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can’t eliminate them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AF7B-DF51-4987-B350-AC3354AFA5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5"/>
          <p:cNvGraphicFramePr/>
          <p:nvPr/>
        </p:nvGraphicFramePr>
        <p:xfrm>
          <a:off x="6904080" y="4572000"/>
          <a:ext cx="2087640" cy="18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080" y="4572000"/>
                    <a:ext cx="208764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ens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ation often greater than 10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magnets (compensators) installed in compasse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u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rr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passes come with i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, engage services of professional compass adju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till have significant devi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 after compens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5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8AB3-8A07-4D23-A607-8A33A3CD64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6524640" y="431496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winging Ship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of measuring residual deviation error after compens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determined in 15º - 30º heading incr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ed in form of deviation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ss adjuster can provide 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, you can do it yourself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15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95B0-1EDC-4D7A-8966-81C249097B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Object 1028" descr=""/>
          <p:cNvPicPr/>
          <p:nvPr/>
        </p:nvPicPr>
        <p:blipFill>
          <a:blip r:embed="rId1"/>
          <a:stretch/>
        </p:blipFill>
        <p:spPr>
          <a:xfrm>
            <a:off x="5029200" y="3471840"/>
            <a:ext cx="3759120" cy="30052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asuring Devia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self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’ll get to that l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you have to know how to do some compass calcul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8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7DC6-40E8-4511-AD01-8706D1D4E2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2" descr="npo00001e"/>
          <p:cNvPicPr/>
          <p:nvPr/>
        </p:nvPicPr>
        <p:blipFill>
          <a:blip r:embed="rId1">
            <a:grayscl/>
            <a:lum bright="60000"/>
          </a:blip>
          <a:stretch/>
        </p:blipFill>
        <p:spPr>
          <a:xfrm>
            <a:off x="2262240" y="1714680"/>
            <a:ext cx="5433840" cy="47750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ditive Effec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f Compass Error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51" name="Group 33"/>
          <p:cNvGrpSpPr/>
          <p:nvPr/>
        </p:nvGrpSpPr>
        <p:grpSpPr>
          <a:xfrm>
            <a:off x="2389320" y="1800360"/>
            <a:ext cx="2514240" cy="2695320"/>
            <a:chOff x="2389320" y="1800360"/>
            <a:chExt cx="2514240" cy="2695320"/>
          </a:xfrm>
        </p:grpSpPr>
        <p:sp>
          <p:nvSpPr>
            <p:cNvPr id="252" name="Text Box 21"/>
            <p:cNvSpPr/>
            <p:nvPr/>
          </p:nvSpPr>
          <p:spPr>
            <a:xfrm>
              <a:off x="2389320" y="1800360"/>
              <a:ext cx="1998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 Black"/>
                </a:rPr>
                <a:t>Error due to 015° W vari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24"/>
            <p:cNvSpPr/>
            <p:nvPr/>
          </p:nvSpPr>
          <p:spPr>
            <a:xfrm flipH="1" flipV="1">
              <a:off x="4294080" y="2209680"/>
              <a:ext cx="609480" cy="228600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Group 34"/>
          <p:cNvGrpSpPr/>
          <p:nvPr/>
        </p:nvGrpSpPr>
        <p:grpSpPr>
          <a:xfrm>
            <a:off x="2389320" y="2309760"/>
            <a:ext cx="2518560" cy="2200320"/>
            <a:chOff x="2389320" y="2309760"/>
            <a:chExt cx="2518560" cy="2200320"/>
          </a:xfrm>
        </p:grpSpPr>
        <p:sp>
          <p:nvSpPr>
            <p:cNvPr id="255" name="Text Box 23"/>
            <p:cNvSpPr/>
            <p:nvPr/>
          </p:nvSpPr>
          <p:spPr>
            <a:xfrm>
              <a:off x="2389320" y="2971800"/>
              <a:ext cx="190476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 Black"/>
                </a:rPr>
                <a:t>Additional error due to 005° W devi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25"/>
            <p:cNvSpPr/>
            <p:nvPr/>
          </p:nvSpPr>
          <p:spPr>
            <a:xfrm flipH="1" flipV="1">
              <a:off x="4103280" y="2309760"/>
              <a:ext cx="804600" cy="2200320"/>
            </a:xfrm>
            <a:prstGeom prst="line">
              <a:avLst/>
            </a:prstGeom>
            <a:ln cap="sq"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Group 35"/>
          <p:cNvGrpSpPr/>
          <p:nvPr/>
        </p:nvGrpSpPr>
        <p:grpSpPr>
          <a:xfrm>
            <a:off x="4908600" y="2323800"/>
            <a:ext cx="2662200" cy="2705400"/>
            <a:chOff x="4908600" y="2323800"/>
            <a:chExt cx="2662200" cy="2705400"/>
          </a:xfrm>
        </p:grpSpPr>
        <p:sp>
          <p:nvSpPr>
            <p:cNvPr id="258" name="Text Box 29"/>
            <p:cNvSpPr/>
            <p:nvPr/>
          </p:nvSpPr>
          <p:spPr>
            <a:xfrm>
              <a:off x="5208480" y="3809880"/>
              <a:ext cx="2362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Compass heading must be adjusted 020° to compensat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30"/>
            <p:cNvSpPr/>
            <p:nvPr/>
          </p:nvSpPr>
          <p:spPr>
            <a:xfrm flipV="1">
              <a:off x="4908600" y="2323800"/>
              <a:ext cx="814320" cy="2181240"/>
            </a:xfrm>
            <a:prstGeom prst="line">
              <a:avLst/>
            </a:prstGeom>
            <a:ln cap="sq"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Group 32"/>
          <p:cNvGrpSpPr/>
          <p:nvPr/>
        </p:nvGrpSpPr>
        <p:grpSpPr>
          <a:xfrm>
            <a:off x="4908600" y="2123640"/>
            <a:ext cx="2738160" cy="2381400"/>
            <a:chOff x="4908600" y="2123640"/>
            <a:chExt cx="2738160" cy="2381400"/>
          </a:xfrm>
        </p:grpSpPr>
        <p:sp>
          <p:nvSpPr>
            <p:cNvPr id="261" name="Text Box 14"/>
            <p:cNvSpPr/>
            <p:nvPr/>
          </p:nvSpPr>
          <p:spPr>
            <a:xfrm>
              <a:off x="5665680" y="2819520"/>
              <a:ext cx="19810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ac"/>
                  </a:solidFill>
                  <a:latin typeface="Arial Black"/>
                </a:rPr>
                <a:t>Desired True head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31"/>
            <p:cNvSpPr/>
            <p:nvPr/>
          </p:nvSpPr>
          <p:spPr>
            <a:xfrm flipV="1">
              <a:off x="4908600" y="2123640"/>
              <a:ext cx="0" cy="2381400"/>
            </a:xfrm>
            <a:prstGeom prst="line">
              <a:avLst/>
            </a:prstGeom>
            <a:ln cap="sq"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64EE-80E7-4657-9C1F-3588A95B35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171880" y="2025360"/>
            <a:ext cx="438912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H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tion on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etic H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ss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ut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ass Corre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68" name="Group 8"/>
          <p:cNvGrpSpPr/>
          <p:nvPr/>
        </p:nvGrpSpPr>
        <p:grpSpPr>
          <a:xfrm>
            <a:off x="457200" y="2438280"/>
            <a:ext cx="1600200" cy="2819520"/>
            <a:chOff x="457200" y="2438280"/>
            <a:chExt cx="1600200" cy="2819520"/>
          </a:xfrm>
        </p:grpSpPr>
        <p:sp>
          <p:nvSpPr>
            <p:cNvPr id="269" name="Text Box 5"/>
            <p:cNvSpPr/>
            <p:nvPr/>
          </p:nvSpPr>
          <p:spPr>
            <a:xfrm>
              <a:off x="457200" y="342900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+W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AutoShape 6"/>
            <p:cNvSpPr/>
            <p:nvPr/>
          </p:nvSpPr>
          <p:spPr>
            <a:xfrm>
              <a:off x="1600200" y="2438280"/>
              <a:ext cx="457200" cy="2819520"/>
            </a:xfrm>
            <a:prstGeom prst="downArrow">
              <a:avLst>
                <a:gd name="adj1" fmla="val 50000"/>
                <a:gd name="adj2" fmla="val 154173"/>
              </a:avLst>
            </a:prstGeom>
            <a:solidFill>
              <a:srgbClr val="ff0000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Rectangle 7"/>
          <p:cNvSpPr/>
          <p:nvPr/>
        </p:nvSpPr>
        <p:spPr>
          <a:xfrm>
            <a:off x="6705720" y="2021040"/>
            <a:ext cx="1523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15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05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07F5-B078-40E8-8438-62B256F455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ut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ass Corre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76" name="Group 15"/>
          <p:cNvGrpSpPr/>
          <p:nvPr/>
        </p:nvGrpSpPr>
        <p:grpSpPr>
          <a:xfrm>
            <a:off x="457200" y="2025720"/>
            <a:ext cx="2590920" cy="4235400"/>
            <a:chOff x="457200" y="2025720"/>
            <a:chExt cx="2590920" cy="4235400"/>
          </a:xfrm>
        </p:grpSpPr>
        <p:sp>
          <p:nvSpPr>
            <p:cNvPr id="277" name="Rectangle 14"/>
            <p:cNvSpPr/>
            <p:nvPr/>
          </p:nvSpPr>
          <p:spPr>
            <a:xfrm>
              <a:off x="2171880" y="2025720"/>
              <a:ext cx="876240" cy="42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461880" indent="-461880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4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61880" indent="-4618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61880" indent="-461880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61880" indent="-4618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61880" indent="-4618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C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Text Box 5"/>
            <p:cNvSpPr/>
            <p:nvPr/>
          </p:nvSpPr>
          <p:spPr>
            <a:xfrm>
              <a:off x="457200" y="342900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+W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AutoShape 6"/>
            <p:cNvSpPr/>
            <p:nvPr/>
          </p:nvSpPr>
          <p:spPr>
            <a:xfrm>
              <a:off x="1600200" y="2438280"/>
              <a:ext cx="457200" cy="2819520"/>
            </a:xfrm>
            <a:prstGeom prst="downArrow">
              <a:avLst>
                <a:gd name="adj1" fmla="val 50000"/>
                <a:gd name="adj2" fmla="val 154173"/>
              </a:avLst>
            </a:prstGeom>
            <a:solidFill>
              <a:srgbClr val="ff0000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471480" y="2111040"/>
            <a:ext cx="487692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Memorize it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’re going to use it again and again and agai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C643-EF3E-4754-A6BF-5A5B55AB30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asuring Deviation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854360"/>
            <a:ext cx="830592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15º - 30º, you need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exactly what direc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gnetic) your boat is po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with compass rea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 dev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to puzzle is knowing exactl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rection you’re hea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ral ways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Object 4" descr=""/>
          <p:cNvPicPr/>
          <p:nvPr/>
        </p:nvPicPr>
        <p:blipFill>
          <a:blip r:embed="rId7"/>
          <a:stretch/>
        </p:blipFill>
        <p:spPr>
          <a:xfrm>
            <a:off x="6858000" y="4800600"/>
            <a:ext cx="1778040" cy="142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7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5C3A-4162-45FC-B64B-AC3BF888A8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 Way t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now Your Heading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alm water with minimal curr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in vicinity of ATON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bo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ss head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relative bear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15° -- 30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VMDC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 devi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heading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26"/>
          <p:cNvGrpSpPr/>
          <p:nvPr/>
        </p:nvGrpSpPr>
        <p:grpSpPr>
          <a:xfrm>
            <a:off x="6076800" y="2271240"/>
            <a:ext cx="1853280" cy="2819160"/>
            <a:chOff x="6076800" y="2271240"/>
            <a:chExt cx="1853280" cy="2819160"/>
          </a:xfrm>
        </p:grpSpPr>
        <p:sp>
          <p:nvSpPr>
            <p:cNvPr id="293" name="Line 14"/>
            <p:cNvSpPr/>
            <p:nvPr/>
          </p:nvSpPr>
          <p:spPr>
            <a:xfrm flipV="1">
              <a:off x="6076800" y="2271240"/>
              <a:ext cx="1828800" cy="2819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17"/>
            <p:cNvSpPr/>
            <p:nvPr/>
          </p:nvSpPr>
          <p:spPr>
            <a:xfrm>
              <a:off x="7030080" y="3490560"/>
              <a:ext cx="900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now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re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Group 32"/>
          <p:cNvGrpSpPr/>
          <p:nvPr/>
        </p:nvGrpSpPr>
        <p:grpSpPr>
          <a:xfrm>
            <a:off x="5924520" y="4404960"/>
            <a:ext cx="1434600" cy="1280880"/>
            <a:chOff x="5924520" y="4404960"/>
            <a:chExt cx="1434600" cy="1280880"/>
          </a:xfrm>
        </p:grpSpPr>
        <p:sp>
          <p:nvSpPr>
            <p:cNvPr id="296" name="Text Box 16"/>
            <p:cNvSpPr/>
            <p:nvPr/>
          </p:nvSpPr>
          <p:spPr>
            <a:xfrm>
              <a:off x="6521760" y="4862520"/>
              <a:ext cx="8373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ose 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i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AutoShape 8"/>
            <p:cNvSpPr/>
            <p:nvPr/>
          </p:nvSpPr>
          <p:spPr>
            <a:xfrm flipV="1">
              <a:off x="5973840" y="4828320"/>
              <a:ext cx="228600" cy="382680"/>
            </a:xfrm>
            <a:custGeom>
              <a:avLst/>
              <a:gdLst>
                <a:gd name="textAreaLeft" fmla="*/ 47520 w 228600"/>
                <a:gd name="textAreaRight" fmla="*/ 181080 w 228600"/>
                <a:gd name="textAreaTop" fmla="*/ 79200 h 382680"/>
                <a:gd name="textAreaBottom" fmla="*/ 303480 h 38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AutoShape 9"/>
            <p:cNvSpPr/>
            <p:nvPr/>
          </p:nvSpPr>
          <p:spPr>
            <a:xfrm flipV="1">
              <a:off x="5924520" y="4404600"/>
              <a:ext cx="338040" cy="374760"/>
            </a:xfrm>
            <a:prstGeom prst="sun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Group 25"/>
          <p:cNvGrpSpPr/>
          <p:nvPr/>
        </p:nvGrpSpPr>
        <p:grpSpPr>
          <a:xfrm>
            <a:off x="7753320" y="1662120"/>
            <a:ext cx="1238400" cy="1097640"/>
            <a:chOff x="7753320" y="1662120"/>
            <a:chExt cx="1238400" cy="1097640"/>
          </a:xfrm>
        </p:grpSpPr>
        <p:sp>
          <p:nvSpPr>
            <p:cNvPr id="300" name="Text Box 15"/>
            <p:cNvSpPr/>
            <p:nvPr/>
          </p:nvSpPr>
          <p:spPr>
            <a:xfrm>
              <a:off x="8134560" y="1662120"/>
              <a:ext cx="8571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+ Mi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t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13"/>
            <p:cNvGrpSpPr/>
            <p:nvPr/>
          </p:nvGrpSpPr>
          <p:grpSpPr>
            <a:xfrm>
              <a:off x="7753320" y="2119320"/>
              <a:ext cx="304920" cy="304920"/>
              <a:chOff x="7753320" y="2119320"/>
              <a:chExt cx="304920" cy="304920"/>
            </a:xfrm>
          </p:grpSpPr>
          <p:sp>
            <p:nvSpPr>
              <p:cNvPr id="302" name="Oval 11"/>
              <p:cNvSpPr/>
              <p:nvPr/>
            </p:nvSpPr>
            <p:spPr>
              <a:xfrm>
                <a:off x="7753320" y="2119320"/>
                <a:ext cx="304920" cy="30492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Oval 12"/>
              <p:cNvSpPr/>
              <p:nvPr/>
            </p:nvSpPr>
            <p:spPr>
              <a:xfrm>
                <a:off x="7867800" y="223380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AutoShape 5"/>
          <p:cNvSpPr/>
          <p:nvPr/>
        </p:nvSpPr>
        <p:spPr>
          <a:xfrm rot="20280000">
            <a:off x="5118120" y="5303880"/>
            <a:ext cx="549360" cy="1096920"/>
          </a:xfrm>
          <a:prstGeom prst="pentagon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Group 33"/>
          <p:cNvGrpSpPr/>
          <p:nvPr/>
        </p:nvGrpSpPr>
        <p:grpSpPr>
          <a:xfrm>
            <a:off x="3809880" y="3567240"/>
            <a:ext cx="2143080" cy="2395800"/>
            <a:chOff x="3809880" y="3567240"/>
            <a:chExt cx="2143080" cy="2395800"/>
          </a:xfrm>
        </p:grpSpPr>
        <p:sp>
          <p:nvSpPr>
            <p:cNvPr id="306" name="Line 18"/>
            <p:cNvSpPr/>
            <p:nvPr/>
          </p:nvSpPr>
          <p:spPr>
            <a:xfrm>
              <a:off x="5119560" y="5177520"/>
              <a:ext cx="319320" cy="7855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 flipV="1">
              <a:off x="5433840" y="5268600"/>
              <a:ext cx="519120" cy="68580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Text Box 20"/>
            <p:cNvSpPr/>
            <p:nvPr/>
          </p:nvSpPr>
          <p:spPr>
            <a:xfrm>
              <a:off x="3809880" y="3567240"/>
              <a:ext cx="15109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s to Tak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a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ar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23"/>
            <p:cNvSpPr/>
            <p:nvPr/>
          </p:nvSpPr>
          <p:spPr>
            <a:xfrm>
              <a:off x="4629240" y="4405320"/>
              <a:ext cx="853920" cy="1050840"/>
            </a:xfrm>
            <a:custGeom>
              <a:avLst/>
              <a:gdLst>
                <a:gd name="textAreaLeft" fmla="*/ 0 w 853920"/>
                <a:gd name="textAreaRight" fmla="*/ 854280 w 8539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538" h="662">
                  <a:moveTo>
                    <a:pt x="0" y="0"/>
                  </a:moveTo>
                  <a:cubicBezTo>
                    <a:pt x="37" y="48"/>
                    <a:pt x="172" y="256"/>
                    <a:pt x="222" y="288"/>
                  </a:cubicBezTo>
                  <a:cubicBezTo>
                    <a:pt x="272" y="320"/>
                    <a:pt x="247" y="130"/>
                    <a:pt x="300" y="192"/>
                  </a:cubicBezTo>
                  <a:cubicBezTo>
                    <a:pt x="353" y="254"/>
                    <a:pt x="489" y="564"/>
                    <a:pt x="538" y="66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DDEF-7A20-475E-B1CE-B5A97F8319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easuring Relative Bearings:</a:t>
            </a:r>
            <a:br>
              <a:rPr sz="36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Pelor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1200" y="1747800"/>
            <a:ext cx="579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ed parallel to vessel’s keel with all-around vi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º aligned with ke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gn targets in sigh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relative bear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sca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7" descr="npo000021"/>
          <p:cNvPicPr/>
          <p:nvPr/>
        </p:nvPicPr>
        <p:blipFill>
          <a:blip r:embed="rId5"/>
          <a:stretch/>
        </p:blipFill>
        <p:spPr>
          <a:xfrm>
            <a:off x="6332400" y="1981080"/>
            <a:ext cx="2430720" cy="38768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3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A979-1AE8-409B-A9DE-62C5EF95B9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We’ll Cov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19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ef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ss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of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ation &amp; swinging 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ss calc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npo00000d"/>
          <p:cNvPicPr/>
          <p:nvPr/>
        </p:nvPicPr>
        <p:blipFill>
          <a:blip r:embed="rId6"/>
          <a:stretch/>
        </p:blipFill>
        <p:spPr>
          <a:xfrm>
            <a:off x="6172200" y="3048120"/>
            <a:ext cx="2077920" cy="27018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5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5710-A1EC-4F3C-8E60-069B4A67DF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1066680"/>
            <a:ext cx="86104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passe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ion &amp; Mount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2690280"/>
            <a:ext cx="39621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you can aff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l large enough for easy rea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yle suitable for mounting 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held compass recommended for taking bea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00240" y="2666880"/>
            <a:ext cx="388620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ily visible to hel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ay from magnetic influe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gn lubber 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dev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heck when new equipment insta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1450800" y="2114640"/>
            <a:ext cx="1761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e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5557680" y="2114640"/>
            <a:ext cx="1776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ou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900"/>
                            </p:stCondLst>
                            <p:childTnLst>
                              <p:par>
                                <p:cTn id="8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5309-D240-422D-82D9-06C29D89C8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7" descr="16 copy"/>
          <p:cNvPicPr/>
          <p:nvPr/>
        </p:nvPicPr>
        <p:blipFill>
          <a:blip r:embed="rId1"/>
          <a:stretch/>
        </p:blipFill>
        <p:spPr>
          <a:xfrm>
            <a:off x="6248520" y="453564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ectronic Steering Compass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30" name="Picture 14" descr=""/>
          <p:cNvPicPr/>
          <p:nvPr/>
        </p:nvPicPr>
        <p:blipFill>
          <a:blip r:embed="rId2"/>
          <a:stretch/>
        </p:blipFill>
        <p:spPr>
          <a:xfrm>
            <a:off x="5486400" y="1835280"/>
            <a:ext cx="3581280" cy="25081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5"/>
          <p:cNvSpPr/>
          <p:nvPr/>
        </p:nvSpPr>
        <p:spPr>
          <a:xfrm>
            <a:off x="958536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fluxgate transducers and digital displ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ducer can be mounted remotely, away from magnetic influ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utom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viation elimina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800"/>
                            </p:stCondLst>
                            <p:childTnLst>
                              <p:par>
                                <p:cTn id="9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3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9E21-15E5-4E6B-A025-9A303AE845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Group 169"/>
          <p:cNvGrpSpPr/>
          <p:nvPr/>
        </p:nvGrpSpPr>
        <p:grpSpPr>
          <a:xfrm>
            <a:off x="4724640" y="3505320"/>
            <a:ext cx="4190760" cy="3499200"/>
            <a:chOff x="4724640" y="3505320"/>
            <a:chExt cx="4190760" cy="3499200"/>
          </a:xfrm>
        </p:grpSpPr>
        <p:grpSp>
          <p:nvGrpSpPr>
            <p:cNvPr id="337" name="Group 91"/>
            <p:cNvGrpSpPr/>
            <p:nvPr/>
          </p:nvGrpSpPr>
          <p:grpSpPr>
            <a:xfrm>
              <a:off x="4724640" y="4109760"/>
              <a:ext cx="4190760" cy="2894760"/>
              <a:chOff x="4724640" y="4109760"/>
              <a:chExt cx="4190760" cy="2894760"/>
            </a:xfrm>
          </p:grpSpPr>
          <p:sp>
            <p:nvSpPr>
              <p:cNvPr id="338" name="Line 92"/>
              <p:cNvSpPr/>
              <p:nvPr/>
            </p:nvSpPr>
            <p:spPr>
              <a:xfrm flipH="1">
                <a:off x="4724640" y="6032160"/>
                <a:ext cx="928800" cy="144360"/>
              </a:xfrm>
              <a:prstGeom prst="line">
                <a:avLst/>
              </a:prstGeom>
              <a:ln w="11160">
                <a:solidFill>
                  <a:srgbClr val="00e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Line 93"/>
              <p:cNvSpPr/>
              <p:nvPr/>
            </p:nvSpPr>
            <p:spPr>
              <a:xfrm flipH="1">
                <a:off x="4842000" y="6222600"/>
                <a:ext cx="760320" cy="81720"/>
              </a:xfrm>
              <a:prstGeom prst="line">
                <a:avLst/>
              </a:prstGeom>
              <a:ln w="11160">
                <a:solidFill>
                  <a:srgbClr val="00e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94"/>
              <p:cNvSpPr/>
              <p:nvPr/>
            </p:nvSpPr>
            <p:spPr>
              <a:xfrm flipH="1">
                <a:off x="5333760" y="6221160"/>
                <a:ext cx="571680" cy="191880"/>
              </a:xfrm>
              <a:prstGeom prst="line">
                <a:avLst/>
              </a:prstGeom>
              <a:ln w="11160">
                <a:solidFill>
                  <a:srgbClr val="00e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95"/>
              <p:cNvSpPr/>
              <p:nvPr/>
            </p:nvSpPr>
            <p:spPr>
              <a:xfrm flipH="1">
                <a:off x="5673960" y="6163560"/>
                <a:ext cx="561600" cy="620280"/>
              </a:xfrm>
              <a:prstGeom prst="line">
                <a:avLst/>
              </a:prstGeom>
              <a:ln w="11160">
                <a:solidFill>
                  <a:srgbClr val="00e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Line 96"/>
              <p:cNvSpPr/>
              <p:nvPr/>
            </p:nvSpPr>
            <p:spPr>
              <a:xfrm flipH="1">
                <a:off x="5888520" y="6304320"/>
                <a:ext cx="328320" cy="700200"/>
              </a:xfrm>
              <a:prstGeom prst="line">
                <a:avLst/>
              </a:prstGeom>
              <a:ln w="11160">
                <a:solidFill>
                  <a:srgbClr val="00e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Line 97"/>
              <p:cNvSpPr/>
              <p:nvPr/>
            </p:nvSpPr>
            <p:spPr>
              <a:xfrm flipH="1">
                <a:off x="6158880" y="6375960"/>
                <a:ext cx="129240" cy="416160"/>
              </a:xfrm>
              <a:prstGeom prst="line">
                <a:avLst/>
              </a:prstGeom>
              <a:ln w="11160">
                <a:solidFill>
                  <a:srgbClr val="00e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Line 98"/>
              <p:cNvSpPr/>
              <p:nvPr/>
            </p:nvSpPr>
            <p:spPr>
              <a:xfrm>
                <a:off x="6528240" y="6183720"/>
                <a:ext cx="333360" cy="294120"/>
              </a:xfrm>
              <a:prstGeom prst="line">
                <a:avLst/>
              </a:prstGeom>
              <a:ln w="11160">
                <a:solidFill>
                  <a:srgbClr val="00e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Line 99"/>
              <p:cNvSpPr/>
              <p:nvPr/>
            </p:nvSpPr>
            <p:spPr>
              <a:xfrm>
                <a:off x="6477480" y="6091920"/>
                <a:ext cx="802800" cy="385920"/>
              </a:xfrm>
              <a:prstGeom prst="line">
                <a:avLst/>
              </a:prstGeom>
              <a:ln w="11160">
                <a:solidFill>
                  <a:srgbClr val="00e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Freeform 100"/>
              <p:cNvSpPr/>
              <p:nvPr/>
            </p:nvSpPr>
            <p:spPr>
              <a:xfrm flipH="1">
                <a:off x="6907320" y="4312080"/>
                <a:ext cx="1795320" cy="2002320"/>
              </a:xfrm>
              <a:custGeom>
                <a:avLst/>
                <a:gdLst>
                  <a:gd name="textAreaLeft" fmla="*/ -360 w 1795320"/>
                  <a:gd name="textAreaRight" fmla="*/ 1795320 w 1795320"/>
                  <a:gd name="textAreaTop" fmla="*/ 0 h 2002320"/>
                  <a:gd name="textAreaBottom" fmla="*/ 2002680 h 2002320"/>
                </a:gdLst>
                <a:ahLst/>
                <a:rect l="textAreaLeft" t="textAreaTop" r="textAreaRight" b="textAreaBottom"/>
                <a:pathLst>
                  <a:path w="1055" h="1178">
                    <a:moveTo>
                      <a:pt x="613" y="0"/>
                    </a:moveTo>
                    <a:lnTo>
                      <a:pt x="506" y="52"/>
                    </a:lnTo>
                    <a:lnTo>
                      <a:pt x="400" y="123"/>
                    </a:lnTo>
                    <a:lnTo>
                      <a:pt x="299" y="213"/>
                    </a:lnTo>
                    <a:lnTo>
                      <a:pt x="200" y="317"/>
                    </a:lnTo>
                    <a:lnTo>
                      <a:pt x="129" y="410"/>
                    </a:lnTo>
                    <a:lnTo>
                      <a:pt x="94" y="471"/>
                    </a:lnTo>
                    <a:lnTo>
                      <a:pt x="46" y="582"/>
                    </a:lnTo>
                    <a:lnTo>
                      <a:pt x="16" y="683"/>
                    </a:lnTo>
                    <a:lnTo>
                      <a:pt x="0" y="778"/>
                    </a:lnTo>
                    <a:lnTo>
                      <a:pt x="11" y="884"/>
                    </a:lnTo>
                    <a:lnTo>
                      <a:pt x="52" y="960"/>
                    </a:lnTo>
                    <a:lnTo>
                      <a:pt x="105" y="1019"/>
                    </a:lnTo>
                    <a:lnTo>
                      <a:pt x="153" y="1061"/>
                    </a:lnTo>
                    <a:lnTo>
                      <a:pt x="246" y="1119"/>
                    </a:lnTo>
                    <a:lnTo>
                      <a:pt x="329" y="1149"/>
                    </a:lnTo>
                    <a:lnTo>
                      <a:pt x="430" y="1172"/>
                    </a:lnTo>
                    <a:lnTo>
                      <a:pt x="595" y="1178"/>
                    </a:lnTo>
                    <a:lnTo>
                      <a:pt x="819" y="1149"/>
                    </a:lnTo>
                    <a:lnTo>
                      <a:pt x="930" y="1101"/>
                    </a:lnTo>
                    <a:lnTo>
                      <a:pt x="1055" y="995"/>
                    </a:lnTo>
                  </a:path>
                </a:pathLst>
              </a:custGeom>
              <a:noFill/>
              <a:ln w="11160">
                <a:solidFill>
                  <a:srgbClr val="00e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Freeform 101"/>
              <p:cNvSpPr/>
              <p:nvPr/>
            </p:nvSpPr>
            <p:spPr>
              <a:xfrm flipH="1">
                <a:off x="6930000" y="4109760"/>
                <a:ext cx="1803600" cy="1871640"/>
              </a:xfrm>
              <a:custGeom>
                <a:avLst/>
                <a:gdLst/>
                <a:ahLst/>
                <a:rect l="l" t="t" r="r" b="b"/>
                <a:pathLst>
                  <a:path w="1060" h="1101">
                    <a:moveTo>
                      <a:pt x="617" y="0"/>
                    </a:moveTo>
                    <a:lnTo>
                      <a:pt x="509" y="50"/>
                    </a:lnTo>
                    <a:lnTo>
                      <a:pt x="402" y="115"/>
                    </a:lnTo>
                    <a:lnTo>
                      <a:pt x="300" y="198"/>
                    </a:lnTo>
                    <a:lnTo>
                      <a:pt x="202" y="298"/>
                    </a:lnTo>
                    <a:lnTo>
                      <a:pt x="130" y="384"/>
                    </a:lnTo>
                    <a:lnTo>
                      <a:pt x="93" y="440"/>
                    </a:lnTo>
                    <a:lnTo>
                      <a:pt x="46" y="545"/>
                    </a:lnTo>
                    <a:lnTo>
                      <a:pt x="18" y="639"/>
                    </a:lnTo>
                    <a:lnTo>
                      <a:pt x="0" y="728"/>
                    </a:lnTo>
                    <a:lnTo>
                      <a:pt x="12" y="828"/>
                    </a:lnTo>
                    <a:lnTo>
                      <a:pt x="52" y="899"/>
                    </a:lnTo>
                    <a:lnTo>
                      <a:pt x="105" y="954"/>
                    </a:lnTo>
                    <a:lnTo>
                      <a:pt x="153" y="992"/>
                    </a:lnTo>
                    <a:lnTo>
                      <a:pt x="247" y="1047"/>
                    </a:lnTo>
                    <a:lnTo>
                      <a:pt x="330" y="1074"/>
                    </a:lnTo>
                    <a:lnTo>
                      <a:pt x="431" y="1097"/>
                    </a:lnTo>
                    <a:lnTo>
                      <a:pt x="599" y="1101"/>
                    </a:lnTo>
                    <a:lnTo>
                      <a:pt x="823" y="1074"/>
                    </a:lnTo>
                    <a:lnTo>
                      <a:pt x="936" y="1031"/>
                    </a:lnTo>
                    <a:lnTo>
                      <a:pt x="1060" y="932"/>
                    </a:lnTo>
                  </a:path>
                </a:pathLst>
              </a:custGeom>
              <a:noFill/>
              <a:ln w="11160">
                <a:solidFill>
                  <a:srgbClr val="00e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Freeform 102"/>
              <p:cNvSpPr/>
              <p:nvPr/>
            </p:nvSpPr>
            <p:spPr>
              <a:xfrm flipH="1">
                <a:off x="7564680" y="4300200"/>
                <a:ext cx="1350720" cy="1582560"/>
              </a:xfrm>
              <a:custGeom>
                <a:avLst/>
                <a:gdLst>
                  <a:gd name="textAreaLeft" fmla="*/ 360 w 1350720"/>
                  <a:gd name="textAreaRight" fmla="*/ 1351440 w 135072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794" h="931">
                    <a:moveTo>
                      <a:pt x="460" y="0"/>
                    </a:moveTo>
                    <a:lnTo>
                      <a:pt x="379" y="42"/>
                    </a:lnTo>
                    <a:lnTo>
                      <a:pt x="302" y="97"/>
                    </a:lnTo>
                    <a:lnTo>
                      <a:pt x="226" y="167"/>
                    </a:lnTo>
                    <a:lnTo>
                      <a:pt x="150" y="248"/>
                    </a:lnTo>
                    <a:lnTo>
                      <a:pt x="97" y="324"/>
                    </a:lnTo>
                    <a:lnTo>
                      <a:pt x="70" y="371"/>
                    </a:lnTo>
                    <a:lnTo>
                      <a:pt x="35" y="459"/>
                    </a:lnTo>
                    <a:lnTo>
                      <a:pt x="13" y="538"/>
                    </a:lnTo>
                    <a:lnTo>
                      <a:pt x="0" y="614"/>
                    </a:lnTo>
                    <a:lnTo>
                      <a:pt x="8" y="699"/>
                    </a:lnTo>
                    <a:lnTo>
                      <a:pt x="39" y="758"/>
                    </a:lnTo>
                    <a:lnTo>
                      <a:pt x="80" y="805"/>
                    </a:lnTo>
                    <a:lnTo>
                      <a:pt x="115" y="837"/>
                    </a:lnTo>
                    <a:lnTo>
                      <a:pt x="186" y="885"/>
                    </a:lnTo>
                    <a:lnTo>
                      <a:pt x="249" y="908"/>
                    </a:lnTo>
                    <a:lnTo>
                      <a:pt x="324" y="927"/>
                    </a:lnTo>
                    <a:lnTo>
                      <a:pt x="447" y="931"/>
                    </a:lnTo>
                    <a:lnTo>
                      <a:pt x="617" y="908"/>
                    </a:lnTo>
                    <a:lnTo>
                      <a:pt x="702" y="869"/>
                    </a:lnTo>
                    <a:lnTo>
                      <a:pt x="794" y="787"/>
                    </a:lnTo>
                  </a:path>
                </a:pathLst>
              </a:custGeom>
              <a:noFill/>
              <a:ln w="11160">
                <a:solidFill>
                  <a:srgbClr val="00e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9" name="Line 103"/>
            <p:cNvSpPr/>
            <p:nvPr/>
          </p:nvSpPr>
          <p:spPr>
            <a:xfrm flipH="1">
              <a:off x="4879440" y="5904360"/>
              <a:ext cx="3333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0" name="Group 105"/>
            <p:cNvGrpSpPr/>
            <p:nvPr/>
          </p:nvGrpSpPr>
          <p:grpSpPr>
            <a:xfrm>
              <a:off x="6056280" y="4370040"/>
              <a:ext cx="1346760" cy="1123200"/>
              <a:chOff x="6056280" y="4370040"/>
              <a:chExt cx="1346760" cy="1123200"/>
            </a:xfrm>
          </p:grpSpPr>
          <p:sp>
            <p:nvSpPr>
              <p:cNvPr id="351" name="Freeform 106"/>
              <p:cNvSpPr/>
              <p:nvPr/>
            </p:nvSpPr>
            <p:spPr>
              <a:xfrm flipH="1">
                <a:off x="6528240" y="4370040"/>
                <a:ext cx="874440" cy="700200"/>
              </a:xfrm>
              <a:custGeom>
                <a:avLst/>
                <a:gdLst>
                  <a:gd name="textAreaLeft" fmla="*/ -360 w 874440"/>
                  <a:gd name="textAreaRight" fmla="*/ 874440 w 874440"/>
                  <a:gd name="textAreaTop" fmla="*/ 0 h 700200"/>
                  <a:gd name="textAreaBottom" fmla="*/ 700560 h 700200"/>
                </a:gdLst>
                <a:ahLst/>
                <a:rect l="textAreaLeft" t="textAreaTop" r="textAreaRight" b="textAreaBottom"/>
                <a:pathLst>
                  <a:path w="514" h="412">
                    <a:moveTo>
                      <a:pt x="353" y="163"/>
                    </a:moveTo>
                    <a:lnTo>
                      <a:pt x="425" y="197"/>
                    </a:lnTo>
                    <a:lnTo>
                      <a:pt x="446" y="227"/>
                    </a:lnTo>
                    <a:lnTo>
                      <a:pt x="463" y="304"/>
                    </a:lnTo>
                    <a:lnTo>
                      <a:pt x="491" y="360"/>
                    </a:lnTo>
                    <a:lnTo>
                      <a:pt x="514" y="412"/>
                    </a:lnTo>
                    <a:lnTo>
                      <a:pt x="458" y="365"/>
                    </a:lnTo>
                    <a:lnTo>
                      <a:pt x="413" y="342"/>
                    </a:lnTo>
                    <a:lnTo>
                      <a:pt x="348" y="295"/>
                    </a:lnTo>
                    <a:lnTo>
                      <a:pt x="322" y="250"/>
                    </a:lnTo>
                    <a:lnTo>
                      <a:pt x="306" y="186"/>
                    </a:lnTo>
                    <a:lnTo>
                      <a:pt x="72" y="91"/>
                    </a:lnTo>
                    <a:lnTo>
                      <a:pt x="0" y="3"/>
                    </a:lnTo>
                    <a:lnTo>
                      <a:pt x="35" y="0"/>
                    </a:lnTo>
                    <a:lnTo>
                      <a:pt x="112" y="28"/>
                    </a:lnTo>
                    <a:lnTo>
                      <a:pt x="353" y="163"/>
                    </a:lnTo>
                    <a:close/>
                  </a:path>
                </a:pathLst>
              </a:custGeom>
              <a:solidFill>
                <a:srgbClr val="e040a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2" name="Group 107"/>
              <p:cNvGrpSpPr/>
              <p:nvPr/>
            </p:nvGrpSpPr>
            <p:grpSpPr>
              <a:xfrm>
                <a:off x="6056280" y="4771080"/>
                <a:ext cx="720720" cy="722160"/>
                <a:chOff x="6056280" y="4771080"/>
                <a:chExt cx="720720" cy="722160"/>
              </a:xfrm>
            </p:grpSpPr>
            <p:sp>
              <p:nvSpPr>
                <p:cNvPr id="353" name="Freeform 108"/>
                <p:cNvSpPr/>
                <p:nvPr/>
              </p:nvSpPr>
              <p:spPr>
                <a:xfrm flipH="1">
                  <a:off x="6056280" y="4771080"/>
                  <a:ext cx="720720" cy="722160"/>
                </a:xfrm>
                <a:custGeom>
                  <a:avLst/>
                  <a:gdLst>
                    <a:gd name="textAreaLeft" fmla="*/ 360 w 720720"/>
                    <a:gd name="textAreaRight" fmla="*/ 721440 w 720720"/>
                    <a:gd name="textAreaTop" fmla="*/ 0 h 722160"/>
                    <a:gd name="textAreaBottom" fmla="*/ 722520 h 722160"/>
                  </a:gdLst>
                  <a:ahLst/>
                  <a:rect l="textAreaLeft" t="textAreaTop" r="textAreaRight" b="textAreaBottom"/>
                  <a:pathLst>
                    <a:path w="424" h="425">
                      <a:moveTo>
                        <a:pt x="0" y="345"/>
                      </a:moveTo>
                      <a:lnTo>
                        <a:pt x="57" y="321"/>
                      </a:lnTo>
                      <a:lnTo>
                        <a:pt x="73" y="284"/>
                      </a:lnTo>
                      <a:lnTo>
                        <a:pt x="87" y="250"/>
                      </a:lnTo>
                      <a:lnTo>
                        <a:pt x="89" y="208"/>
                      </a:lnTo>
                      <a:lnTo>
                        <a:pt x="78" y="155"/>
                      </a:lnTo>
                      <a:lnTo>
                        <a:pt x="68" y="100"/>
                      </a:lnTo>
                      <a:lnTo>
                        <a:pt x="83" y="90"/>
                      </a:lnTo>
                      <a:lnTo>
                        <a:pt x="102" y="88"/>
                      </a:lnTo>
                      <a:lnTo>
                        <a:pt x="125" y="100"/>
                      </a:lnTo>
                      <a:lnTo>
                        <a:pt x="148" y="130"/>
                      </a:lnTo>
                      <a:lnTo>
                        <a:pt x="174" y="193"/>
                      </a:lnTo>
                      <a:lnTo>
                        <a:pt x="197" y="140"/>
                      </a:lnTo>
                      <a:lnTo>
                        <a:pt x="232" y="98"/>
                      </a:lnTo>
                      <a:lnTo>
                        <a:pt x="266" y="71"/>
                      </a:lnTo>
                      <a:lnTo>
                        <a:pt x="313" y="29"/>
                      </a:lnTo>
                      <a:lnTo>
                        <a:pt x="348" y="2"/>
                      </a:lnTo>
                      <a:lnTo>
                        <a:pt x="371" y="0"/>
                      </a:lnTo>
                      <a:lnTo>
                        <a:pt x="386" y="14"/>
                      </a:lnTo>
                      <a:lnTo>
                        <a:pt x="379" y="35"/>
                      </a:lnTo>
                      <a:lnTo>
                        <a:pt x="359" y="71"/>
                      </a:lnTo>
                      <a:lnTo>
                        <a:pt x="330" y="115"/>
                      </a:lnTo>
                      <a:lnTo>
                        <a:pt x="293" y="161"/>
                      </a:lnTo>
                      <a:lnTo>
                        <a:pt x="344" y="149"/>
                      </a:lnTo>
                      <a:lnTo>
                        <a:pt x="385" y="150"/>
                      </a:lnTo>
                      <a:lnTo>
                        <a:pt x="406" y="161"/>
                      </a:lnTo>
                      <a:lnTo>
                        <a:pt x="406" y="183"/>
                      </a:lnTo>
                      <a:lnTo>
                        <a:pt x="395" y="203"/>
                      </a:lnTo>
                      <a:lnTo>
                        <a:pt x="374" y="224"/>
                      </a:lnTo>
                      <a:lnTo>
                        <a:pt x="339" y="236"/>
                      </a:lnTo>
                      <a:lnTo>
                        <a:pt x="379" y="233"/>
                      </a:lnTo>
                      <a:lnTo>
                        <a:pt x="412" y="243"/>
                      </a:lnTo>
                      <a:lnTo>
                        <a:pt x="424" y="271"/>
                      </a:lnTo>
                      <a:lnTo>
                        <a:pt x="413" y="294"/>
                      </a:lnTo>
                      <a:lnTo>
                        <a:pt x="387" y="306"/>
                      </a:lnTo>
                      <a:lnTo>
                        <a:pt x="319" y="302"/>
                      </a:lnTo>
                      <a:lnTo>
                        <a:pt x="352" y="314"/>
                      </a:lnTo>
                      <a:lnTo>
                        <a:pt x="368" y="327"/>
                      </a:lnTo>
                      <a:lnTo>
                        <a:pt x="380" y="345"/>
                      </a:lnTo>
                      <a:lnTo>
                        <a:pt x="376" y="372"/>
                      </a:lnTo>
                      <a:lnTo>
                        <a:pt x="356" y="388"/>
                      </a:lnTo>
                      <a:lnTo>
                        <a:pt x="334" y="387"/>
                      </a:lnTo>
                      <a:lnTo>
                        <a:pt x="304" y="378"/>
                      </a:lnTo>
                      <a:lnTo>
                        <a:pt x="275" y="363"/>
                      </a:lnTo>
                      <a:lnTo>
                        <a:pt x="257" y="390"/>
                      </a:lnTo>
                      <a:lnTo>
                        <a:pt x="238" y="410"/>
                      </a:lnTo>
                      <a:lnTo>
                        <a:pt x="216" y="420"/>
                      </a:lnTo>
                      <a:lnTo>
                        <a:pt x="188" y="425"/>
                      </a:lnTo>
                      <a:lnTo>
                        <a:pt x="71" y="396"/>
                      </a:lnTo>
                      <a:lnTo>
                        <a:pt x="0" y="345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" name="Group 109"/>
                <p:cNvGrpSpPr/>
                <p:nvPr/>
              </p:nvGrpSpPr>
              <p:grpSpPr>
                <a:xfrm>
                  <a:off x="6179040" y="5078520"/>
                  <a:ext cx="499320" cy="365400"/>
                  <a:chOff x="6179040" y="5078520"/>
                  <a:chExt cx="499320" cy="365400"/>
                </a:xfrm>
              </p:grpSpPr>
              <p:sp>
                <p:nvSpPr>
                  <p:cNvPr id="355" name="Freeform 110"/>
                  <p:cNvSpPr/>
                  <p:nvPr/>
                </p:nvSpPr>
                <p:spPr>
                  <a:xfrm flipH="1">
                    <a:off x="6178680" y="5081760"/>
                    <a:ext cx="163080" cy="103320"/>
                  </a:xfrm>
                  <a:custGeom>
                    <a:avLst/>
                    <a:gdLst>
                      <a:gd name="textAreaLeft" fmla="*/ -360 w 163080"/>
                      <a:gd name="textAreaRight" fmla="*/ 163080 w 163080"/>
                      <a:gd name="textAreaTop" fmla="*/ 0 h 103320"/>
                      <a:gd name="textAreaBottom" fmla="*/ 103680 h 103320"/>
                    </a:gdLst>
                    <a:ahLst/>
                    <a:rect l="textAreaLeft" t="textAreaTop" r="textAreaRight" b="textAreaBottom"/>
                    <a:pathLst>
                      <a:path w="96" h="61">
                        <a:moveTo>
                          <a:pt x="96" y="54"/>
                        </a:moveTo>
                        <a:lnTo>
                          <a:pt x="60" y="61"/>
                        </a:lnTo>
                        <a:lnTo>
                          <a:pt x="30" y="59"/>
                        </a:lnTo>
                        <a:lnTo>
                          <a:pt x="9" y="49"/>
                        </a:lnTo>
                        <a:lnTo>
                          <a:pt x="0" y="31"/>
                        </a:lnTo>
                        <a:lnTo>
                          <a:pt x="6" y="12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Freeform 111"/>
                  <p:cNvSpPr/>
                  <p:nvPr/>
                </p:nvSpPr>
                <p:spPr>
                  <a:xfrm flipH="1">
                    <a:off x="6195960" y="5185440"/>
                    <a:ext cx="174960" cy="108360"/>
                  </a:xfrm>
                  <a:custGeom>
                    <a:avLst/>
                    <a:gdLst>
                      <a:gd name="textAreaLeft" fmla="*/ 360 w 174960"/>
                      <a:gd name="textAreaRight" fmla="*/ 175680 w 17496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103" h="64">
                        <a:moveTo>
                          <a:pt x="103" y="62"/>
                        </a:moveTo>
                        <a:lnTo>
                          <a:pt x="67" y="64"/>
                        </a:lnTo>
                        <a:lnTo>
                          <a:pt x="35" y="60"/>
                        </a:lnTo>
                        <a:lnTo>
                          <a:pt x="13" y="51"/>
                        </a:lnTo>
                        <a:lnTo>
                          <a:pt x="0" y="33"/>
                        </a:lnTo>
                        <a:lnTo>
                          <a:pt x="5" y="17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Freeform 112"/>
                  <p:cNvSpPr/>
                  <p:nvPr/>
                </p:nvSpPr>
                <p:spPr>
                  <a:xfrm flipH="1">
                    <a:off x="6311520" y="5262120"/>
                    <a:ext cx="111960" cy="132480"/>
                  </a:xfrm>
                  <a:custGeom>
                    <a:avLst/>
                    <a:gdLst>
                      <a:gd name="textAreaLeft" fmla="*/ -360 w 111960"/>
                      <a:gd name="textAreaRight" fmla="*/ 111960 w 111960"/>
                      <a:gd name="textAreaTop" fmla="*/ 0 h 132480"/>
                      <a:gd name="textAreaBottom" fmla="*/ 132840 h 132480"/>
                    </a:gdLst>
                    <a:ahLst/>
                    <a:rect l="textAreaLeft" t="textAreaTop" r="textAreaRight" b="textAreaBottom"/>
                    <a:pathLst>
                      <a:path w="66" h="78">
                        <a:moveTo>
                          <a:pt x="66" y="78"/>
                        </a:moveTo>
                        <a:lnTo>
                          <a:pt x="33" y="65"/>
                        </a:lnTo>
                        <a:lnTo>
                          <a:pt x="13" y="50"/>
                        </a:lnTo>
                        <a:lnTo>
                          <a:pt x="0" y="28"/>
                        </a:lnTo>
                        <a:lnTo>
                          <a:pt x="7" y="7"/>
                        </a:lnTo>
                        <a:lnTo>
                          <a:pt x="23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Freeform 113"/>
                  <p:cNvSpPr/>
                  <p:nvPr/>
                </p:nvSpPr>
                <p:spPr>
                  <a:xfrm flipH="1">
                    <a:off x="6457680" y="5078520"/>
                    <a:ext cx="23760" cy="126000"/>
                  </a:xfrm>
                  <a:custGeom>
                    <a:avLst/>
                    <a:gdLst>
                      <a:gd name="textAreaLeft" fmla="*/ 360 w 23760"/>
                      <a:gd name="textAreaRight" fmla="*/ 24480 w 2376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14" h="74">
                        <a:moveTo>
                          <a:pt x="0" y="0"/>
                        </a:moveTo>
                        <a:lnTo>
                          <a:pt x="12" y="33"/>
                        </a:lnTo>
                        <a:lnTo>
                          <a:pt x="14" y="52"/>
                        </a:lnTo>
                        <a:lnTo>
                          <a:pt x="12" y="74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Freeform 114"/>
                  <p:cNvSpPr/>
                  <p:nvPr/>
                </p:nvSpPr>
                <p:spPr>
                  <a:xfrm flipH="1">
                    <a:off x="6391440" y="5078520"/>
                    <a:ext cx="95040" cy="49320"/>
                  </a:xfrm>
                  <a:custGeom>
                    <a:avLst/>
                    <a:gdLst>
                      <a:gd name="textAreaLeft" fmla="*/ 360 w 95040"/>
                      <a:gd name="textAreaRight" fmla="*/ 95760 w 9504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56" h="29">
                        <a:moveTo>
                          <a:pt x="0" y="0"/>
                        </a:moveTo>
                        <a:lnTo>
                          <a:pt x="24" y="3"/>
                        </a:lnTo>
                        <a:lnTo>
                          <a:pt x="42" y="12"/>
                        </a:lnTo>
                        <a:lnTo>
                          <a:pt x="56" y="29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Freeform 115"/>
                  <p:cNvSpPr/>
                  <p:nvPr/>
                </p:nvSpPr>
                <p:spPr>
                  <a:xfrm flipH="1">
                    <a:off x="6514920" y="5308200"/>
                    <a:ext cx="163080" cy="135720"/>
                  </a:xfrm>
                  <a:custGeom>
                    <a:avLst/>
                    <a:gdLst>
                      <a:gd name="textAreaLeft" fmla="*/ -360 w 163080"/>
                      <a:gd name="textAreaRight" fmla="*/ 163080 w 163080"/>
                      <a:gd name="textAreaTop" fmla="*/ 0 h 135720"/>
                      <a:gd name="textAreaBottom" fmla="*/ 136080 h 135720"/>
                    </a:gdLst>
                    <a:ahLst/>
                    <a:rect l="textAreaLeft" t="textAreaTop" r="textAreaRight" b="textAreaBottom"/>
                    <a:pathLst>
                      <a:path w="96" h="80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6"/>
                        </a:lnTo>
                        <a:lnTo>
                          <a:pt x="12" y="36"/>
                        </a:lnTo>
                        <a:lnTo>
                          <a:pt x="27" y="47"/>
                        </a:lnTo>
                        <a:lnTo>
                          <a:pt x="45" y="55"/>
                        </a:lnTo>
                        <a:lnTo>
                          <a:pt x="65" y="56"/>
                        </a:lnTo>
                        <a:lnTo>
                          <a:pt x="80" y="60"/>
                        </a:lnTo>
                        <a:lnTo>
                          <a:pt x="90" y="70"/>
                        </a:lnTo>
                        <a:lnTo>
                          <a:pt x="96" y="79"/>
                        </a:lnTo>
                        <a:lnTo>
                          <a:pt x="96" y="8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61" name="Group 116"/>
            <p:cNvGrpSpPr/>
            <p:nvPr/>
          </p:nvGrpSpPr>
          <p:grpSpPr>
            <a:xfrm>
              <a:off x="5932440" y="3505320"/>
              <a:ext cx="1890360" cy="2541600"/>
              <a:chOff x="5932440" y="3505320"/>
              <a:chExt cx="1890360" cy="2541600"/>
            </a:xfrm>
          </p:grpSpPr>
          <p:grpSp>
            <p:nvGrpSpPr>
              <p:cNvPr id="362" name="Group 117"/>
              <p:cNvGrpSpPr/>
              <p:nvPr/>
            </p:nvGrpSpPr>
            <p:grpSpPr>
              <a:xfrm>
                <a:off x="5988960" y="3505320"/>
                <a:ext cx="1502280" cy="1408680"/>
                <a:chOff x="5988960" y="3505320"/>
                <a:chExt cx="1502280" cy="1408680"/>
              </a:xfrm>
            </p:grpSpPr>
            <p:sp>
              <p:nvSpPr>
                <p:cNvPr id="363" name="Freeform 118"/>
                <p:cNvSpPr/>
                <p:nvPr/>
              </p:nvSpPr>
              <p:spPr>
                <a:xfrm flipH="1">
                  <a:off x="6006600" y="3505320"/>
                  <a:ext cx="1343520" cy="1408680"/>
                </a:xfrm>
                <a:custGeom>
                  <a:avLst/>
                  <a:gdLst>
                    <a:gd name="textAreaLeft" fmla="*/ 360 w 1343520"/>
                    <a:gd name="textAreaRight" fmla="*/ 1344240 w 1343520"/>
                    <a:gd name="textAreaTop" fmla="*/ 0 h 1408680"/>
                    <a:gd name="textAreaBottom" fmla="*/ 1408680 h 1408680"/>
                  </a:gdLst>
                  <a:ahLst/>
                  <a:rect l="textAreaLeft" t="textAreaTop" r="textAreaRight" b="textAreaBottom"/>
                  <a:pathLst>
                    <a:path w="790" h="829">
                      <a:moveTo>
                        <a:pt x="97" y="657"/>
                      </a:moveTo>
                      <a:lnTo>
                        <a:pt x="135" y="586"/>
                      </a:lnTo>
                      <a:lnTo>
                        <a:pt x="135" y="565"/>
                      </a:lnTo>
                      <a:lnTo>
                        <a:pt x="121" y="537"/>
                      </a:lnTo>
                      <a:lnTo>
                        <a:pt x="100" y="506"/>
                      </a:lnTo>
                      <a:lnTo>
                        <a:pt x="61" y="477"/>
                      </a:lnTo>
                      <a:lnTo>
                        <a:pt x="36" y="437"/>
                      </a:lnTo>
                      <a:lnTo>
                        <a:pt x="24" y="402"/>
                      </a:lnTo>
                      <a:lnTo>
                        <a:pt x="9" y="376"/>
                      </a:lnTo>
                      <a:lnTo>
                        <a:pt x="9" y="345"/>
                      </a:lnTo>
                      <a:lnTo>
                        <a:pt x="0" y="274"/>
                      </a:lnTo>
                      <a:lnTo>
                        <a:pt x="9" y="220"/>
                      </a:lnTo>
                      <a:lnTo>
                        <a:pt x="26" y="173"/>
                      </a:lnTo>
                      <a:lnTo>
                        <a:pt x="50" y="123"/>
                      </a:lnTo>
                      <a:lnTo>
                        <a:pt x="79" y="94"/>
                      </a:lnTo>
                      <a:lnTo>
                        <a:pt x="133" y="59"/>
                      </a:lnTo>
                      <a:lnTo>
                        <a:pt x="192" y="35"/>
                      </a:lnTo>
                      <a:lnTo>
                        <a:pt x="254" y="14"/>
                      </a:lnTo>
                      <a:lnTo>
                        <a:pt x="333" y="2"/>
                      </a:lnTo>
                      <a:lnTo>
                        <a:pt x="389" y="0"/>
                      </a:lnTo>
                      <a:lnTo>
                        <a:pt x="445" y="5"/>
                      </a:lnTo>
                      <a:lnTo>
                        <a:pt x="516" y="19"/>
                      </a:lnTo>
                      <a:lnTo>
                        <a:pt x="581" y="40"/>
                      </a:lnTo>
                      <a:lnTo>
                        <a:pt x="628" y="64"/>
                      </a:lnTo>
                      <a:lnTo>
                        <a:pt x="687" y="109"/>
                      </a:lnTo>
                      <a:lnTo>
                        <a:pt x="727" y="162"/>
                      </a:lnTo>
                      <a:lnTo>
                        <a:pt x="757" y="211"/>
                      </a:lnTo>
                      <a:lnTo>
                        <a:pt x="772" y="247"/>
                      </a:lnTo>
                      <a:lnTo>
                        <a:pt x="790" y="309"/>
                      </a:lnTo>
                      <a:lnTo>
                        <a:pt x="790" y="357"/>
                      </a:lnTo>
                      <a:lnTo>
                        <a:pt x="778" y="426"/>
                      </a:lnTo>
                      <a:lnTo>
                        <a:pt x="760" y="482"/>
                      </a:lnTo>
                      <a:lnTo>
                        <a:pt x="733" y="529"/>
                      </a:lnTo>
                      <a:lnTo>
                        <a:pt x="710" y="556"/>
                      </a:lnTo>
                      <a:lnTo>
                        <a:pt x="676" y="586"/>
                      </a:lnTo>
                      <a:lnTo>
                        <a:pt x="620" y="609"/>
                      </a:lnTo>
                      <a:lnTo>
                        <a:pt x="578" y="624"/>
                      </a:lnTo>
                      <a:lnTo>
                        <a:pt x="531" y="638"/>
                      </a:lnTo>
                      <a:lnTo>
                        <a:pt x="457" y="645"/>
                      </a:lnTo>
                      <a:lnTo>
                        <a:pt x="393" y="657"/>
                      </a:lnTo>
                      <a:lnTo>
                        <a:pt x="351" y="666"/>
                      </a:lnTo>
                      <a:lnTo>
                        <a:pt x="339" y="686"/>
                      </a:lnTo>
                      <a:lnTo>
                        <a:pt x="342" y="711"/>
                      </a:lnTo>
                      <a:lnTo>
                        <a:pt x="339" y="735"/>
                      </a:lnTo>
                      <a:lnTo>
                        <a:pt x="330" y="752"/>
                      </a:lnTo>
                      <a:lnTo>
                        <a:pt x="325" y="785"/>
                      </a:lnTo>
                      <a:lnTo>
                        <a:pt x="327" y="829"/>
                      </a:lnTo>
                      <a:lnTo>
                        <a:pt x="274" y="756"/>
                      </a:lnTo>
                      <a:lnTo>
                        <a:pt x="204" y="696"/>
                      </a:lnTo>
                      <a:lnTo>
                        <a:pt x="145" y="668"/>
                      </a:lnTo>
                      <a:lnTo>
                        <a:pt x="97" y="657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" name="Group 119"/>
                <p:cNvGrpSpPr/>
                <p:nvPr/>
              </p:nvGrpSpPr>
              <p:grpSpPr>
                <a:xfrm>
                  <a:off x="6231600" y="3505320"/>
                  <a:ext cx="1259640" cy="973080"/>
                  <a:chOff x="6231600" y="3505320"/>
                  <a:chExt cx="1259640" cy="973080"/>
                </a:xfrm>
              </p:grpSpPr>
              <p:grpSp>
                <p:nvGrpSpPr>
                  <p:cNvPr id="365" name="Group 120"/>
                  <p:cNvGrpSpPr/>
                  <p:nvPr/>
                </p:nvGrpSpPr>
                <p:grpSpPr>
                  <a:xfrm>
                    <a:off x="6287760" y="3505320"/>
                    <a:ext cx="866880" cy="293040"/>
                    <a:chOff x="6287760" y="3505320"/>
                    <a:chExt cx="866880" cy="293040"/>
                  </a:xfrm>
                </p:grpSpPr>
                <p:sp>
                  <p:nvSpPr>
                    <p:cNvPr id="366" name="Freeform 121"/>
                    <p:cNvSpPr/>
                    <p:nvPr/>
                  </p:nvSpPr>
                  <p:spPr>
                    <a:xfrm flipH="1">
                      <a:off x="6287400" y="3549240"/>
                      <a:ext cx="797400" cy="249120"/>
                    </a:xfrm>
                    <a:custGeom>
                      <a:avLst/>
                      <a:gdLst>
                        <a:gd name="textAreaLeft" fmla="*/ -360 w 797400"/>
                        <a:gd name="textAreaRight" fmla="*/ 797400 w 797400"/>
                        <a:gd name="textAreaTop" fmla="*/ 0 h 249120"/>
                        <a:gd name="textAreaBottom" fmla="*/ 249480 h 249120"/>
                      </a:gdLst>
                      <a:ahLst/>
                      <a:rect l="textAreaLeft" t="textAreaTop" r="textAreaRight" b="textAreaBottom"/>
                      <a:pathLst>
                        <a:path w="469" h="147">
                          <a:moveTo>
                            <a:pt x="0" y="147"/>
                          </a:moveTo>
                          <a:lnTo>
                            <a:pt x="36" y="101"/>
                          </a:lnTo>
                          <a:lnTo>
                            <a:pt x="83" y="65"/>
                          </a:lnTo>
                          <a:lnTo>
                            <a:pt x="139" y="35"/>
                          </a:lnTo>
                          <a:lnTo>
                            <a:pt x="195" y="17"/>
                          </a:lnTo>
                          <a:lnTo>
                            <a:pt x="257" y="5"/>
                          </a:lnTo>
                          <a:lnTo>
                            <a:pt x="337" y="0"/>
                          </a:lnTo>
                          <a:lnTo>
                            <a:pt x="396" y="9"/>
                          </a:lnTo>
                          <a:lnTo>
                            <a:pt x="469" y="33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Freeform 122"/>
                    <p:cNvSpPr/>
                    <p:nvPr/>
                  </p:nvSpPr>
                  <p:spPr>
                    <a:xfrm flipH="1">
                      <a:off x="6331680" y="3505320"/>
                      <a:ext cx="822960" cy="274680"/>
                    </a:xfrm>
                    <a:custGeom>
                      <a:avLst/>
                      <a:gdLst>
                        <a:gd name="textAreaLeft" fmla="*/ 360 w 822960"/>
                        <a:gd name="textAreaRight" fmla="*/ 823680 w 822960"/>
                        <a:gd name="textAreaTop" fmla="*/ 0 h 274680"/>
                        <a:gd name="textAreaBottom" fmla="*/ 274680 h 274680"/>
                      </a:gdLst>
                      <a:ahLst/>
                      <a:rect l="textAreaLeft" t="textAreaTop" r="textAreaRight" b="textAreaBottom"/>
                      <a:pathLst>
                        <a:path w="484" h="162">
                          <a:moveTo>
                            <a:pt x="0" y="162"/>
                          </a:moveTo>
                          <a:lnTo>
                            <a:pt x="23" y="115"/>
                          </a:lnTo>
                          <a:lnTo>
                            <a:pt x="51" y="82"/>
                          </a:lnTo>
                          <a:lnTo>
                            <a:pt x="82" y="55"/>
                          </a:lnTo>
                          <a:lnTo>
                            <a:pt x="139" y="26"/>
                          </a:lnTo>
                          <a:lnTo>
                            <a:pt x="212" y="5"/>
                          </a:lnTo>
                          <a:lnTo>
                            <a:pt x="280" y="0"/>
                          </a:lnTo>
                          <a:lnTo>
                            <a:pt x="354" y="8"/>
                          </a:lnTo>
                          <a:lnTo>
                            <a:pt x="421" y="29"/>
                          </a:lnTo>
                          <a:lnTo>
                            <a:pt x="454" y="38"/>
                          </a:lnTo>
                          <a:lnTo>
                            <a:pt x="484" y="47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Group 123"/>
                  <p:cNvGrpSpPr/>
                  <p:nvPr/>
                </p:nvGrpSpPr>
                <p:grpSpPr>
                  <a:xfrm>
                    <a:off x="7018920" y="3687120"/>
                    <a:ext cx="472320" cy="477000"/>
                    <a:chOff x="7018920" y="3687120"/>
                    <a:chExt cx="472320" cy="477000"/>
                  </a:xfrm>
                </p:grpSpPr>
                <p:sp>
                  <p:nvSpPr>
                    <p:cNvPr id="369" name="Freeform 124"/>
                    <p:cNvSpPr/>
                    <p:nvPr/>
                  </p:nvSpPr>
                  <p:spPr>
                    <a:xfrm flipH="1">
                      <a:off x="7018920" y="3687120"/>
                      <a:ext cx="472320" cy="477000"/>
                    </a:xfrm>
                    <a:custGeom>
                      <a:avLst/>
                      <a:gdLst>
                        <a:gd name="textAreaLeft" fmla="*/ 360 w 472320"/>
                        <a:gd name="textAreaRight" fmla="*/ 473040 w 472320"/>
                        <a:gd name="textAreaTop" fmla="*/ 0 h 477000"/>
                        <a:gd name="textAreaBottom" fmla="*/ 477360 h 477000"/>
                      </a:gdLst>
                      <a:ahLst/>
                      <a:rect l="textAreaLeft" t="textAreaTop" r="textAreaRight" b="textAreaBottom"/>
                      <a:pathLst>
                        <a:path w="278" h="281">
                          <a:moveTo>
                            <a:pt x="51" y="267"/>
                          </a:moveTo>
                          <a:lnTo>
                            <a:pt x="15" y="233"/>
                          </a:lnTo>
                          <a:lnTo>
                            <a:pt x="0" y="184"/>
                          </a:lnTo>
                          <a:lnTo>
                            <a:pt x="8" y="122"/>
                          </a:lnTo>
                          <a:lnTo>
                            <a:pt x="29" y="76"/>
                          </a:lnTo>
                          <a:lnTo>
                            <a:pt x="46" y="53"/>
                          </a:lnTo>
                          <a:lnTo>
                            <a:pt x="65" y="23"/>
                          </a:lnTo>
                          <a:lnTo>
                            <a:pt x="74" y="13"/>
                          </a:lnTo>
                          <a:lnTo>
                            <a:pt x="87" y="2"/>
                          </a:lnTo>
                          <a:lnTo>
                            <a:pt x="101" y="0"/>
                          </a:lnTo>
                          <a:lnTo>
                            <a:pt x="109" y="12"/>
                          </a:lnTo>
                          <a:lnTo>
                            <a:pt x="116" y="25"/>
                          </a:lnTo>
                          <a:lnTo>
                            <a:pt x="121" y="16"/>
                          </a:lnTo>
                          <a:lnTo>
                            <a:pt x="137" y="14"/>
                          </a:lnTo>
                          <a:lnTo>
                            <a:pt x="146" y="25"/>
                          </a:lnTo>
                          <a:lnTo>
                            <a:pt x="150" y="41"/>
                          </a:lnTo>
                          <a:lnTo>
                            <a:pt x="153" y="63"/>
                          </a:lnTo>
                          <a:lnTo>
                            <a:pt x="165" y="58"/>
                          </a:lnTo>
                          <a:lnTo>
                            <a:pt x="178" y="64"/>
                          </a:lnTo>
                          <a:lnTo>
                            <a:pt x="181" y="71"/>
                          </a:lnTo>
                          <a:lnTo>
                            <a:pt x="180" y="83"/>
                          </a:lnTo>
                          <a:lnTo>
                            <a:pt x="178" y="95"/>
                          </a:lnTo>
                          <a:lnTo>
                            <a:pt x="186" y="87"/>
                          </a:lnTo>
                          <a:lnTo>
                            <a:pt x="198" y="81"/>
                          </a:lnTo>
                          <a:lnTo>
                            <a:pt x="217" y="83"/>
                          </a:lnTo>
                          <a:lnTo>
                            <a:pt x="218" y="93"/>
                          </a:lnTo>
                          <a:lnTo>
                            <a:pt x="219" y="102"/>
                          </a:lnTo>
                          <a:lnTo>
                            <a:pt x="219" y="113"/>
                          </a:lnTo>
                          <a:lnTo>
                            <a:pt x="231" y="111"/>
                          </a:lnTo>
                          <a:lnTo>
                            <a:pt x="243" y="116"/>
                          </a:lnTo>
                          <a:lnTo>
                            <a:pt x="249" y="125"/>
                          </a:lnTo>
                          <a:lnTo>
                            <a:pt x="252" y="140"/>
                          </a:lnTo>
                          <a:lnTo>
                            <a:pt x="263" y="144"/>
                          </a:lnTo>
                          <a:lnTo>
                            <a:pt x="269" y="161"/>
                          </a:lnTo>
                          <a:lnTo>
                            <a:pt x="267" y="179"/>
                          </a:lnTo>
                          <a:lnTo>
                            <a:pt x="263" y="210"/>
                          </a:lnTo>
                          <a:lnTo>
                            <a:pt x="266" y="227"/>
                          </a:lnTo>
                          <a:lnTo>
                            <a:pt x="272" y="239"/>
                          </a:lnTo>
                          <a:lnTo>
                            <a:pt x="278" y="251"/>
                          </a:lnTo>
                          <a:lnTo>
                            <a:pt x="278" y="266"/>
                          </a:lnTo>
                          <a:lnTo>
                            <a:pt x="269" y="278"/>
                          </a:lnTo>
                          <a:lnTo>
                            <a:pt x="260" y="281"/>
                          </a:lnTo>
                          <a:lnTo>
                            <a:pt x="249" y="281"/>
                          </a:lnTo>
                          <a:lnTo>
                            <a:pt x="238" y="279"/>
                          </a:lnTo>
                          <a:lnTo>
                            <a:pt x="225" y="267"/>
                          </a:lnTo>
                          <a:lnTo>
                            <a:pt x="218" y="257"/>
                          </a:lnTo>
                          <a:lnTo>
                            <a:pt x="216" y="251"/>
                          </a:lnTo>
                          <a:lnTo>
                            <a:pt x="204" y="255"/>
                          </a:lnTo>
                          <a:lnTo>
                            <a:pt x="189" y="254"/>
                          </a:lnTo>
                          <a:lnTo>
                            <a:pt x="180" y="249"/>
                          </a:lnTo>
                          <a:lnTo>
                            <a:pt x="177" y="245"/>
                          </a:lnTo>
                          <a:lnTo>
                            <a:pt x="165" y="245"/>
                          </a:lnTo>
                          <a:lnTo>
                            <a:pt x="158" y="242"/>
                          </a:lnTo>
                          <a:lnTo>
                            <a:pt x="153" y="240"/>
                          </a:lnTo>
                          <a:lnTo>
                            <a:pt x="144" y="240"/>
                          </a:lnTo>
                          <a:lnTo>
                            <a:pt x="137" y="238"/>
                          </a:lnTo>
                          <a:lnTo>
                            <a:pt x="130" y="227"/>
                          </a:lnTo>
                          <a:lnTo>
                            <a:pt x="126" y="221"/>
                          </a:lnTo>
                          <a:lnTo>
                            <a:pt x="121" y="227"/>
                          </a:lnTo>
                          <a:lnTo>
                            <a:pt x="117" y="238"/>
                          </a:lnTo>
                          <a:lnTo>
                            <a:pt x="108" y="242"/>
                          </a:lnTo>
                          <a:lnTo>
                            <a:pt x="98" y="243"/>
                          </a:lnTo>
                          <a:lnTo>
                            <a:pt x="93" y="243"/>
                          </a:lnTo>
                          <a:lnTo>
                            <a:pt x="90" y="249"/>
                          </a:lnTo>
                          <a:lnTo>
                            <a:pt x="83" y="257"/>
                          </a:lnTo>
                          <a:lnTo>
                            <a:pt x="74" y="267"/>
                          </a:lnTo>
                          <a:lnTo>
                            <a:pt x="51" y="267"/>
                          </a:lnTo>
                          <a:close/>
                        </a:path>
                      </a:pathLst>
                    </a:custGeom>
                    <a:solidFill>
                      <a:srgbClr val="c0804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0" name="Group 125"/>
                    <p:cNvGrpSpPr/>
                    <p:nvPr/>
                  </p:nvGrpSpPr>
                  <p:grpSpPr>
                    <a:xfrm>
                      <a:off x="7109640" y="3712320"/>
                      <a:ext cx="357840" cy="415440"/>
                      <a:chOff x="7109640" y="3712320"/>
                      <a:chExt cx="357840" cy="415440"/>
                    </a:xfrm>
                  </p:grpSpPr>
                  <p:sp>
                    <p:nvSpPr>
                      <p:cNvPr id="371" name="Freeform 126"/>
                      <p:cNvSpPr/>
                      <p:nvPr/>
                    </p:nvSpPr>
                    <p:spPr>
                      <a:xfrm flipH="1">
                        <a:off x="7109280" y="3990600"/>
                        <a:ext cx="70920" cy="88200"/>
                      </a:xfrm>
                      <a:custGeom>
                        <a:avLst/>
                        <a:gdLst>
                          <a:gd name="textAreaLeft" fmla="*/ -360 w 70920"/>
                          <a:gd name="textAreaRight" fmla="*/ 70920 w 70920"/>
                          <a:gd name="textAreaTop" fmla="*/ 0 h 88200"/>
                          <a:gd name="textAreaBottom" fmla="*/ 88560 h 88200"/>
                        </a:gdLst>
                        <a:ahLst/>
                        <a:rect l="textAreaLeft" t="textAreaTop" r="textAreaRight" b="textAreaBottom"/>
                        <a:pathLst>
                          <a:path w="42" h="52">
                            <a:moveTo>
                              <a:pt x="12" y="52"/>
                            </a:moveTo>
                            <a:lnTo>
                              <a:pt x="9" y="25"/>
                            </a:lnTo>
                            <a:lnTo>
                              <a:pt x="17" y="11"/>
                            </a:lnTo>
                            <a:lnTo>
                              <a:pt x="42" y="0"/>
                            </a:lnTo>
                            <a:lnTo>
                              <a:pt x="26" y="2"/>
                            </a:lnTo>
                            <a:lnTo>
                              <a:pt x="6" y="8"/>
                            </a:lnTo>
                            <a:lnTo>
                              <a:pt x="0" y="21"/>
                            </a:lnTo>
                            <a:lnTo>
                              <a:pt x="12" y="52"/>
                            </a:lnTo>
                            <a:close/>
                          </a:path>
                        </a:pathLst>
                      </a:custGeom>
                      <a:solidFill>
                        <a:srgbClr val="8040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760" bIns="4176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Freeform 127"/>
                      <p:cNvSpPr/>
                      <p:nvPr/>
                    </p:nvSpPr>
                    <p:spPr>
                      <a:xfrm flipH="1">
                        <a:off x="7201080" y="3848040"/>
                        <a:ext cx="113400" cy="213480"/>
                      </a:xfrm>
                      <a:custGeom>
                        <a:avLst/>
                        <a:gdLst>
                          <a:gd name="textAreaLeft" fmla="*/ -360 w 113400"/>
                          <a:gd name="textAreaRight" fmla="*/ 113400 w 113400"/>
                          <a:gd name="textAreaTop" fmla="*/ 0 h 213480"/>
                          <a:gd name="textAreaBottom" fmla="*/ 213840 h 213480"/>
                        </a:gdLst>
                        <a:ahLst/>
                        <a:rect l="textAreaLeft" t="textAreaTop" r="textAreaRight" b="textAreaBottom"/>
                        <a:pathLst>
                          <a:path w="67" h="126">
                            <a:moveTo>
                              <a:pt x="27" y="126"/>
                            </a:moveTo>
                            <a:lnTo>
                              <a:pt x="15" y="98"/>
                            </a:lnTo>
                            <a:lnTo>
                              <a:pt x="15" y="60"/>
                            </a:lnTo>
                            <a:lnTo>
                              <a:pt x="38" y="30"/>
                            </a:lnTo>
                            <a:lnTo>
                              <a:pt x="67" y="0"/>
                            </a:lnTo>
                            <a:lnTo>
                              <a:pt x="49" y="17"/>
                            </a:lnTo>
                            <a:lnTo>
                              <a:pt x="21" y="38"/>
                            </a:lnTo>
                            <a:lnTo>
                              <a:pt x="0" y="56"/>
                            </a:lnTo>
                            <a:lnTo>
                              <a:pt x="4" y="71"/>
                            </a:lnTo>
                            <a:lnTo>
                              <a:pt x="3" y="88"/>
                            </a:lnTo>
                            <a:lnTo>
                              <a:pt x="3" y="107"/>
                            </a:lnTo>
                            <a:lnTo>
                              <a:pt x="27" y="126"/>
                            </a:lnTo>
                            <a:close/>
                          </a:path>
                        </a:pathLst>
                      </a:custGeom>
                      <a:solidFill>
                        <a:srgbClr val="8040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" name="Freeform 128"/>
                      <p:cNvSpPr/>
                      <p:nvPr/>
                    </p:nvSpPr>
                    <p:spPr>
                      <a:xfrm flipH="1">
                        <a:off x="7389000" y="3963600"/>
                        <a:ext cx="78120" cy="164160"/>
                      </a:xfrm>
                      <a:custGeom>
                        <a:avLst/>
                        <a:gdLst>
                          <a:gd name="textAreaLeft" fmla="*/ -360 w 78120"/>
                          <a:gd name="textAreaRight" fmla="*/ 78120 w 78120"/>
                          <a:gd name="textAreaTop" fmla="*/ 0 h 164160"/>
                          <a:gd name="textAreaBottom" fmla="*/ 164520 h 164160"/>
                        </a:gdLst>
                        <a:ahLst/>
                        <a:rect l="textAreaLeft" t="textAreaTop" r="textAreaRight" b="textAreaBottom"/>
                        <a:pathLst>
                          <a:path w="46" h="97">
                            <a:moveTo>
                              <a:pt x="20" y="81"/>
                            </a:moveTo>
                            <a:lnTo>
                              <a:pt x="0" y="51"/>
                            </a:lnTo>
                            <a:lnTo>
                              <a:pt x="8" y="30"/>
                            </a:lnTo>
                            <a:lnTo>
                              <a:pt x="25" y="0"/>
                            </a:lnTo>
                            <a:lnTo>
                              <a:pt x="11" y="52"/>
                            </a:lnTo>
                            <a:lnTo>
                              <a:pt x="22" y="75"/>
                            </a:lnTo>
                            <a:lnTo>
                              <a:pt x="46" y="97"/>
                            </a:lnTo>
                            <a:lnTo>
                              <a:pt x="20" y="81"/>
                            </a:lnTo>
                            <a:close/>
                          </a:path>
                        </a:pathLst>
                      </a:custGeom>
                      <a:solidFill>
                        <a:srgbClr val="8040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Freeform 129"/>
                      <p:cNvSpPr/>
                      <p:nvPr/>
                    </p:nvSpPr>
                    <p:spPr>
                      <a:xfrm flipH="1">
                        <a:off x="7297560" y="3712320"/>
                        <a:ext cx="106920" cy="164520"/>
                      </a:xfrm>
                      <a:custGeom>
                        <a:avLst/>
                        <a:gdLst>
                          <a:gd name="textAreaLeft" fmla="*/ -360 w 106920"/>
                          <a:gd name="textAreaRight" fmla="*/ 106920 w 106920"/>
                          <a:gd name="textAreaTop" fmla="*/ 0 h 164520"/>
                          <a:gd name="textAreaBottom" fmla="*/ 164880 h 164520"/>
                        </a:gdLst>
                        <a:ahLst/>
                        <a:rect l="textAreaLeft" t="textAreaTop" r="textAreaRight" b="textAreaBottom"/>
                        <a:pathLst>
                          <a:path w="63" h="97">
                            <a:moveTo>
                              <a:pt x="63" y="0"/>
                            </a:moveTo>
                            <a:lnTo>
                              <a:pt x="33" y="24"/>
                            </a:lnTo>
                            <a:lnTo>
                              <a:pt x="9" y="48"/>
                            </a:lnTo>
                            <a:lnTo>
                              <a:pt x="5" y="68"/>
                            </a:lnTo>
                            <a:lnTo>
                              <a:pt x="0" y="97"/>
                            </a:lnTo>
                            <a:lnTo>
                              <a:pt x="10" y="74"/>
                            </a:lnTo>
                            <a:lnTo>
                              <a:pt x="19" y="50"/>
                            </a:lnTo>
                            <a:lnTo>
                              <a:pt x="45" y="21"/>
                            </a:lnTo>
                            <a:lnTo>
                              <a:pt x="63" y="0"/>
                            </a:lnTo>
                            <a:close/>
                          </a:path>
                        </a:pathLst>
                      </a:custGeom>
                      <a:solidFill>
                        <a:srgbClr val="8040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5" name="Freeform 130"/>
                      <p:cNvSpPr/>
                      <p:nvPr/>
                    </p:nvSpPr>
                    <p:spPr>
                      <a:xfrm flipH="1">
                        <a:off x="7357680" y="4024440"/>
                        <a:ext cx="59040" cy="103320"/>
                      </a:xfrm>
                      <a:custGeom>
                        <a:avLst/>
                        <a:gdLst>
                          <a:gd name="textAreaLeft" fmla="*/ 360 w 59040"/>
                          <a:gd name="textAreaRight" fmla="*/ 59760 w 59040"/>
                          <a:gd name="textAreaTop" fmla="*/ 0 h 103320"/>
                          <a:gd name="textAreaBottom" fmla="*/ 103680 h 103320"/>
                        </a:gdLst>
                        <a:ahLst/>
                        <a:rect l="textAreaLeft" t="textAreaTop" r="textAreaRight" b="textAreaBottom"/>
                        <a:pathLst>
                          <a:path w="35" h="61">
                            <a:moveTo>
                              <a:pt x="14" y="61"/>
                            </a:moveTo>
                            <a:lnTo>
                              <a:pt x="5" y="41"/>
                            </a:lnTo>
                            <a:lnTo>
                              <a:pt x="0" y="30"/>
                            </a:lnTo>
                            <a:lnTo>
                              <a:pt x="10" y="13"/>
                            </a:lnTo>
                            <a:lnTo>
                              <a:pt x="32" y="0"/>
                            </a:lnTo>
                            <a:lnTo>
                              <a:pt x="19" y="17"/>
                            </a:lnTo>
                            <a:lnTo>
                              <a:pt x="12" y="36"/>
                            </a:lnTo>
                            <a:lnTo>
                              <a:pt x="23" y="41"/>
                            </a:lnTo>
                            <a:lnTo>
                              <a:pt x="35" y="27"/>
                            </a:lnTo>
                            <a:lnTo>
                              <a:pt x="29" y="40"/>
                            </a:lnTo>
                            <a:lnTo>
                              <a:pt x="14" y="61"/>
                            </a:lnTo>
                            <a:close/>
                          </a:path>
                        </a:pathLst>
                      </a:custGeom>
                      <a:solidFill>
                        <a:srgbClr val="8040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76" name="Group 131"/>
                  <p:cNvGrpSpPr/>
                  <p:nvPr/>
                </p:nvGrpSpPr>
                <p:grpSpPr>
                  <a:xfrm>
                    <a:off x="6231600" y="4229280"/>
                    <a:ext cx="508320" cy="249120"/>
                    <a:chOff x="6231600" y="4229280"/>
                    <a:chExt cx="508320" cy="249120"/>
                  </a:xfrm>
                </p:grpSpPr>
                <p:sp>
                  <p:nvSpPr>
                    <p:cNvPr id="377" name="Freeform 132"/>
                    <p:cNvSpPr/>
                    <p:nvPr/>
                  </p:nvSpPr>
                  <p:spPr>
                    <a:xfrm flipH="1">
                      <a:off x="6231600" y="4229280"/>
                      <a:ext cx="508320" cy="249120"/>
                    </a:xfrm>
                    <a:custGeom>
                      <a:avLst/>
                      <a:gdLst>
                        <a:gd name="textAreaLeft" fmla="*/ 360 w 508320"/>
                        <a:gd name="textAreaRight" fmla="*/ 509040 w 508320"/>
                        <a:gd name="textAreaTop" fmla="*/ 0 h 249120"/>
                        <a:gd name="textAreaBottom" fmla="*/ 249480 h 249120"/>
                      </a:gdLst>
                      <a:ahLst/>
                      <a:rect l="textAreaLeft" t="textAreaTop" r="textAreaRight" b="textAreaBottom"/>
                      <a:pathLst>
                        <a:path w="299" h="147">
                          <a:moveTo>
                            <a:pt x="18" y="36"/>
                          </a:moveTo>
                          <a:lnTo>
                            <a:pt x="72" y="39"/>
                          </a:lnTo>
                          <a:lnTo>
                            <a:pt x="110" y="38"/>
                          </a:lnTo>
                          <a:lnTo>
                            <a:pt x="155" y="18"/>
                          </a:lnTo>
                          <a:lnTo>
                            <a:pt x="193" y="2"/>
                          </a:lnTo>
                          <a:lnTo>
                            <a:pt x="227" y="0"/>
                          </a:lnTo>
                          <a:lnTo>
                            <a:pt x="242" y="14"/>
                          </a:lnTo>
                          <a:lnTo>
                            <a:pt x="265" y="23"/>
                          </a:lnTo>
                          <a:lnTo>
                            <a:pt x="292" y="26"/>
                          </a:lnTo>
                          <a:lnTo>
                            <a:pt x="299" y="39"/>
                          </a:lnTo>
                          <a:lnTo>
                            <a:pt x="296" y="67"/>
                          </a:lnTo>
                          <a:lnTo>
                            <a:pt x="290" y="85"/>
                          </a:lnTo>
                          <a:lnTo>
                            <a:pt x="277" y="100"/>
                          </a:lnTo>
                          <a:lnTo>
                            <a:pt x="257" y="118"/>
                          </a:lnTo>
                          <a:lnTo>
                            <a:pt x="248" y="134"/>
                          </a:lnTo>
                          <a:lnTo>
                            <a:pt x="234" y="146"/>
                          </a:lnTo>
                          <a:lnTo>
                            <a:pt x="222" y="147"/>
                          </a:lnTo>
                          <a:lnTo>
                            <a:pt x="205" y="132"/>
                          </a:lnTo>
                          <a:lnTo>
                            <a:pt x="195" y="138"/>
                          </a:lnTo>
                          <a:lnTo>
                            <a:pt x="177" y="139"/>
                          </a:lnTo>
                          <a:lnTo>
                            <a:pt x="165" y="117"/>
                          </a:lnTo>
                          <a:lnTo>
                            <a:pt x="157" y="120"/>
                          </a:lnTo>
                          <a:lnTo>
                            <a:pt x="146" y="120"/>
                          </a:lnTo>
                          <a:lnTo>
                            <a:pt x="139" y="109"/>
                          </a:lnTo>
                          <a:lnTo>
                            <a:pt x="126" y="117"/>
                          </a:lnTo>
                          <a:lnTo>
                            <a:pt x="114" y="123"/>
                          </a:lnTo>
                          <a:lnTo>
                            <a:pt x="98" y="117"/>
                          </a:lnTo>
                          <a:lnTo>
                            <a:pt x="95" y="106"/>
                          </a:lnTo>
                          <a:lnTo>
                            <a:pt x="93" y="93"/>
                          </a:lnTo>
                          <a:lnTo>
                            <a:pt x="69" y="96"/>
                          </a:lnTo>
                          <a:lnTo>
                            <a:pt x="50" y="100"/>
                          </a:lnTo>
                          <a:lnTo>
                            <a:pt x="46" y="93"/>
                          </a:lnTo>
                          <a:lnTo>
                            <a:pt x="30" y="93"/>
                          </a:lnTo>
                          <a:lnTo>
                            <a:pt x="8" y="77"/>
                          </a:lnTo>
                          <a:lnTo>
                            <a:pt x="0" y="60"/>
                          </a:lnTo>
                          <a:lnTo>
                            <a:pt x="4" y="52"/>
                          </a:lnTo>
                          <a:lnTo>
                            <a:pt x="1" y="38"/>
                          </a:lnTo>
                          <a:lnTo>
                            <a:pt x="18" y="36"/>
                          </a:lnTo>
                          <a:close/>
                        </a:path>
                      </a:pathLst>
                    </a:custGeom>
                    <a:solidFill>
                      <a:srgbClr val="c0804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78" name="Group 133"/>
                    <p:cNvGrpSpPr/>
                    <p:nvPr/>
                  </p:nvGrpSpPr>
                  <p:grpSpPr>
                    <a:xfrm>
                      <a:off x="6283080" y="4268160"/>
                      <a:ext cx="380160" cy="189720"/>
                      <a:chOff x="6283080" y="4268160"/>
                      <a:chExt cx="380160" cy="189720"/>
                    </a:xfrm>
                  </p:grpSpPr>
                  <p:sp>
                    <p:nvSpPr>
                      <p:cNvPr id="379" name="Freeform 134"/>
                      <p:cNvSpPr/>
                      <p:nvPr/>
                    </p:nvSpPr>
                    <p:spPr>
                      <a:xfrm flipH="1">
                        <a:off x="6545880" y="4330800"/>
                        <a:ext cx="117000" cy="56160"/>
                      </a:xfrm>
                      <a:custGeom>
                        <a:avLst/>
                        <a:gdLst>
                          <a:gd name="textAreaLeft" fmla="*/ -360 w 117000"/>
                          <a:gd name="textAreaRight" fmla="*/ 117000 w 117000"/>
                          <a:gd name="textAreaTop" fmla="*/ 0 h 56160"/>
                          <a:gd name="textAreaBottom" fmla="*/ 56520 h 56160"/>
                        </a:gdLst>
                        <a:ahLst/>
                        <a:rect l="textAreaLeft" t="textAreaTop" r="textAreaRight" b="textAreaBottom"/>
                        <a:pathLst>
                          <a:path w="69" h="33">
                            <a:moveTo>
                              <a:pt x="0" y="33"/>
                            </a:moveTo>
                            <a:lnTo>
                              <a:pt x="35" y="22"/>
                            </a:lnTo>
                            <a:lnTo>
                              <a:pt x="69" y="0"/>
                            </a:lnTo>
                            <a:lnTo>
                              <a:pt x="56" y="17"/>
                            </a:lnTo>
                            <a:lnTo>
                              <a:pt x="41" y="28"/>
                            </a:lnTo>
                            <a:lnTo>
                              <a:pt x="0" y="33"/>
                            </a:lnTo>
                            <a:close/>
                          </a:path>
                        </a:pathLst>
                      </a:custGeom>
                      <a:solidFill>
                        <a:srgbClr val="8040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" name="Freeform 135"/>
                      <p:cNvSpPr/>
                      <p:nvPr/>
                    </p:nvSpPr>
                    <p:spPr>
                      <a:xfrm flipH="1">
                        <a:off x="6413760" y="4268160"/>
                        <a:ext cx="95040" cy="152640"/>
                      </a:xfrm>
                      <a:custGeom>
                        <a:avLst/>
                        <a:gdLst>
                          <a:gd name="textAreaLeft" fmla="*/ 360 w 95040"/>
                          <a:gd name="textAreaRight" fmla="*/ 95760 w 95040"/>
                          <a:gd name="textAreaTop" fmla="*/ 0 h 152640"/>
                          <a:gd name="textAreaBottom" fmla="*/ 153000 h 152640"/>
                        </a:gdLst>
                        <a:ahLst/>
                        <a:rect l="textAreaLeft" t="textAreaTop" r="textAreaRight" b="textAreaBottom"/>
                        <a:pathLst>
                          <a:path w="56" h="90">
                            <a:moveTo>
                              <a:pt x="0" y="90"/>
                            </a:moveTo>
                            <a:lnTo>
                              <a:pt x="19" y="60"/>
                            </a:lnTo>
                            <a:lnTo>
                              <a:pt x="56" y="0"/>
                            </a:lnTo>
                            <a:lnTo>
                              <a:pt x="45" y="36"/>
                            </a:lnTo>
                            <a:lnTo>
                              <a:pt x="38" y="62"/>
                            </a:lnTo>
                            <a:lnTo>
                              <a:pt x="0" y="90"/>
                            </a:lnTo>
                            <a:close/>
                          </a:path>
                        </a:pathLst>
                      </a:custGeom>
                      <a:solidFill>
                        <a:srgbClr val="8040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Freeform 136"/>
                      <p:cNvSpPr/>
                      <p:nvPr/>
                    </p:nvSpPr>
                    <p:spPr>
                      <a:xfrm flipH="1">
                        <a:off x="6328800" y="4275000"/>
                        <a:ext cx="67680" cy="182880"/>
                      </a:xfrm>
                      <a:custGeom>
                        <a:avLst/>
                        <a:gdLst>
                          <a:gd name="textAreaLeft" fmla="*/ 360 w 67680"/>
                          <a:gd name="textAreaRight" fmla="*/ 68400 w 67680"/>
                          <a:gd name="textAreaTop" fmla="*/ 0 h 182880"/>
                          <a:gd name="textAreaBottom" fmla="*/ 183240 h 182880"/>
                        </a:gdLst>
                        <a:ahLst/>
                        <a:rect l="textAreaLeft" t="textAreaTop" r="textAreaRight" b="textAreaBottom"/>
                        <a:pathLst>
                          <a:path w="40" h="108">
                            <a:moveTo>
                              <a:pt x="0" y="108"/>
                            </a:moveTo>
                            <a:lnTo>
                              <a:pt x="29" y="84"/>
                            </a:lnTo>
                            <a:lnTo>
                              <a:pt x="28" y="35"/>
                            </a:lnTo>
                            <a:lnTo>
                              <a:pt x="8" y="0"/>
                            </a:lnTo>
                            <a:lnTo>
                              <a:pt x="32" y="33"/>
                            </a:lnTo>
                            <a:lnTo>
                              <a:pt x="40" y="66"/>
                            </a:lnTo>
                            <a:lnTo>
                              <a:pt x="38" y="94"/>
                            </a:lnTo>
                            <a:lnTo>
                              <a:pt x="0" y="108"/>
                            </a:lnTo>
                            <a:close/>
                          </a:path>
                        </a:pathLst>
                      </a:custGeom>
                      <a:solidFill>
                        <a:srgbClr val="8040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Freeform 137"/>
                      <p:cNvSpPr/>
                      <p:nvPr/>
                    </p:nvSpPr>
                    <p:spPr>
                      <a:xfrm flipH="1">
                        <a:off x="6283080" y="4334040"/>
                        <a:ext cx="20160" cy="69480"/>
                      </a:xfrm>
                      <a:custGeom>
                        <a:avLst/>
                        <a:gdLst>
                          <a:gd name="textAreaLeft" fmla="*/ 360 w 20160"/>
                          <a:gd name="textAreaRight" fmla="*/ 20880 w 20160"/>
                          <a:gd name="textAreaTop" fmla="*/ 0 h 69480"/>
                          <a:gd name="textAreaBottom" fmla="*/ 69840 h 69480"/>
                        </a:gdLst>
                        <a:ahLst/>
                        <a:rect l="textAreaLeft" t="textAreaTop" r="textAreaRight" b="textAreaBottom"/>
                        <a:pathLst>
                          <a:path w="12" h="41">
                            <a:moveTo>
                              <a:pt x="0" y="0"/>
                            </a:moveTo>
                            <a:lnTo>
                              <a:pt x="12" y="27"/>
                            </a:lnTo>
                            <a:lnTo>
                              <a:pt x="8" y="41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3" name="Group 138"/>
                <p:cNvGrpSpPr/>
                <p:nvPr/>
              </p:nvGrpSpPr>
              <p:grpSpPr>
                <a:xfrm>
                  <a:off x="5988960" y="3804120"/>
                  <a:ext cx="604800" cy="521280"/>
                  <a:chOff x="5988960" y="3804120"/>
                  <a:chExt cx="604800" cy="521280"/>
                </a:xfrm>
              </p:grpSpPr>
              <p:sp>
                <p:nvSpPr>
                  <p:cNvPr id="384" name="Freeform 139"/>
                  <p:cNvSpPr/>
                  <p:nvPr/>
                </p:nvSpPr>
                <p:spPr>
                  <a:xfrm flipH="1">
                    <a:off x="6038280" y="3992760"/>
                    <a:ext cx="288360" cy="267840"/>
                  </a:xfrm>
                  <a:custGeom>
                    <a:avLst/>
                    <a:gdLst>
                      <a:gd name="textAreaLeft" fmla="*/ -360 w 288360"/>
                      <a:gd name="textAreaRight" fmla="*/ 288360 w 288360"/>
                      <a:gd name="textAreaTop" fmla="*/ 0 h 267840"/>
                      <a:gd name="textAreaBottom" fmla="*/ 268200 h 267840"/>
                    </a:gdLst>
                    <a:ahLst/>
                    <a:rect l="textAreaLeft" t="textAreaTop" r="textAreaRight" b="textAreaBottom"/>
                    <a:pathLst>
                      <a:path w="170" h="158">
                        <a:moveTo>
                          <a:pt x="12" y="63"/>
                        </a:moveTo>
                        <a:lnTo>
                          <a:pt x="32" y="32"/>
                        </a:lnTo>
                        <a:lnTo>
                          <a:pt x="44" y="21"/>
                        </a:lnTo>
                        <a:lnTo>
                          <a:pt x="71" y="7"/>
                        </a:lnTo>
                        <a:lnTo>
                          <a:pt x="101" y="0"/>
                        </a:lnTo>
                        <a:lnTo>
                          <a:pt x="128" y="0"/>
                        </a:lnTo>
                        <a:lnTo>
                          <a:pt x="145" y="5"/>
                        </a:lnTo>
                        <a:lnTo>
                          <a:pt x="160" y="24"/>
                        </a:lnTo>
                        <a:lnTo>
                          <a:pt x="170" y="51"/>
                        </a:lnTo>
                        <a:lnTo>
                          <a:pt x="167" y="79"/>
                        </a:lnTo>
                        <a:lnTo>
                          <a:pt x="152" y="104"/>
                        </a:lnTo>
                        <a:lnTo>
                          <a:pt x="141" y="123"/>
                        </a:lnTo>
                        <a:lnTo>
                          <a:pt x="110" y="141"/>
                        </a:lnTo>
                        <a:lnTo>
                          <a:pt x="71" y="150"/>
                        </a:lnTo>
                        <a:lnTo>
                          <a:pt x="37" y="158"/>
                        </a:lnTo>
                        <a:lnTo>
                          <a:pt x="14" y="150"/>
                        </a:lnTo>
                        <a:lnTo>
                          <a:pt x="2" y="135"/>
                        </a:lnTo>
                        <a:lnTo>
                          <a:pt x="0" y="109"/>
                        </a:lnTo>
                        <a:lnTo>
                          <a:pt x="12" y="63"/>
                        </a:lnTo>
                        <a:close/>
                      </a:path>
                    </a:pathLst>
                  </a:custGeom>
                  <a:solidFill>
                    <a:srgbClr val="f0f0ff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Freeform 140"/>
                  <p:cNvSpPr/>
                  <p:nvPr/>
                </p:nvSpPr>
                <p:spPr>
                  <a:xfrm flipH="1">
                    <a:off x="5988960" y="3909600"/>
                    <a:ext cx="213840" cy="166320"/>
                  </a:xfrm>
                  <a:custGeom>
                    <a:avLst/>
                    <a:gdLst>
                      <a:gd name="textAreaLeft" fmla="*/ 360 w 213840"/>
                      <a:gd name="textAreaRight" fmla="*/ 214560 w 213840"/>
                      <a:gd name="textAreaTop" fmla="*/ 0 h 166320"/>
                      <a:gd name="textAreaBottom" fmla="*/ 166320 h 166320"/>
                    </a:gdLst>
                    <a:ahLst/>
                    <a:rect l="textAreaLeft" t="textAreaTop" r="textAreaRight" b="textAreaBottom"/>
                    <a:pathLst>
                      <a:path w="126" h="98">
                        <a:moveTo>
                          <a:pt x="16" y="0"/>
                        </a:moveTo>
                        <a:lnTo>
                          <a:pt x="121" y="58"/>
                        </a:lnTo>
                        <a:lnTo>
                          <a:pt x="125" y="66"/>
                        </a:lnTo>
                        <a:lnTo>
                          <a:pt x="126" y="78"/>
                        </a:lnTo>
                        <a:lnTo>
                          <a:pt x="124" y="87"/>
                        </a:lnTo>
                        <a:lnTo>
                          <a:pt x="121" y="95"/>
                        </a:lnTo>
                        <a:lnTo>
                          <a:pt x="116" y="98"/>
                        </a:lnTo>
                        <a:lnTo>
                          <a:pt x="106" y="98"/>
                        </a:lnTo>
                        <a:lnTo>
                          <a:pt x="10" y="43"/>
                        </a:lnTo>
                        <a:lnTo>
                          <a:pt x="2" y="35"/>
                        </a:lnTo>
                        <a:lnTo>
                          <a:pt x="0" y="24"/>
                        </a:lnTo>
                        <a:lnTo>
                          <a:pt x="2" y="12"/>
                        </a:lnTo>
                        <a:lnTo>
                          <a:pt x="6" y="6"/>
                        </a:lnTo>
                        <a:lnTo>
                          <a:pt x="11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c0804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Freeform 141"/>
                  <p:cNvSpPr/>
                  <p:nvPr/>
                </p:nvSpPr>
                <p:spPr>
                  <a:xfrm flipH="1">
                    <a:off x="6005520" y="3919680"/>
                    <a:ext cx="390600" cy="405720"/>
                  </a:xfrm>
                  <a:custGeom>
                    <a:avLst/>
                    <a:gdLst>
                      <a:gd name="textAreaLeft" fmla="*/ -360 w 390600"/>
                      <a:gd name="textAreaRight" fmla="*/ 390600 w 390600"/>
                      <a:gd name="textAreaTop" fmla="*/ 0 h 405720"/>
                      <a:gd name="textAreaBottom" fmla="*/ 406080 h 405720"/>
                    </a:gdLst>
                    <a:ahLst/>
                    <a:rect l="textAreaLeft" t="textAreaTop" r="textAreaRight" b="textAreaBottom"/>
                    <a:pathLst>
                      <a:path w="230" h="239">
                        <a:moveTo>
                          <a:pt x="71" y="0"/>
                        </a:moveTo>
                        <a:lnTo>
                          <a:pt x="138" y="55"/>
                        </a:lnTo>
                        <a:lnTo>
                          <a:pt x="166" y="80"/>
                        </a:lnTo>
                        <a:lnTo>
                          <a:pt x="194" y="109"/>
                        </a:lnTo>
                        <a:lnTo>
                          <a:pt x="211" y="132"/>
                        </a:lnTo>
                        <a:lnTo>
                          <a:pt x="226" y="155"/>
                        </a:lnTo>
                        <a:lnTo>
                          <a:pt x="230" y="182"/>
                        </a:lnTo>
                        <a:lnTo>
                          <a:pt x="227" y="210"/>
                        </a:lnTo>
                        <a:lnTo>
                          <a:pt x="215" y="227"/>
                        </a:lnTo>
                        <a:lnTo>
                          <a:pt x="194" y="239"/>
                        </a:lnTo>
                        <a:lnTo>
                          <a:pt x="143" y="239"/>
                        </a:lnTo>
                        <a:lnTo>
                          <a:pt x="107" y="234"/>
                        </a:lnTo>
                        <a:lnTo>
                          <a:pt x="53" y="219"/>
                        </a:lnTo>
                        <a:lnTo>
                          <a:pt x="43" y="203"/>
                        </a:lnTo>
                        <a:lnTo>
                          <a:pt x="27" y="182"/>
                        </a:lnTo>
                        <a:lnTo>
                          <a:pt x="0" y="171"/>
                        </a:lnTo>
                        <a:lnTo>
                          <a:pt x="24" y="136"/>
                        </a:lnTo>
                        <a:lnTo>
                          <a:pt x="24" y="55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7" name="Group 142"/>
                  <p:cNvGrpSpPr/>
                  <p:nvPr/>
                </p:nvGrpSpPr>
                <p:grpSpPr>
                  <a:xfrm>
                    <a:off x="6226920" y="3804120"/>
                    <a:ext cx="366840" cy="354600"/>
                    <a:chOff x="6226920" y="3804120"/>
                    <a:chExt cx="366840" cy="354600"/>
                  </a:xfrm>
                </p:grpSpPr>
                <p:sp>
                  <p:nvSpPr>
                    <p:cNvPr id="388" name="Freeform 143"/>
                    <p:cNvSpPr/>
                    <p:nvPr/>
                  </p:nvSpPr>
                  <p:spPr>
                    <a:xfrm flipH="1">
                      <a:off x="6303600" y="3890520"/>
                      <a:ext cx="290160" cy="268200"/>
                    </a:xfrm>
                    <a:custGeom>
                      <a:avLst/>
                      <a:gdLst>
                        <a:gd name="textAreaLeft" fmla="*/ 360 w 290160"/>
                        <a:gd name="textAreaRight" fmla="*/ 290880 w 290160"/>
                        <a:gd name="textAreaTop" fmla="*/ 0 h 268200"/>
                        <a:gd name="textAreaBottom" fmla="*/ 268560 h 268200"/>
                      </a:gdLst>
                      <a:ahLst/>
                      <a:rect l="textAreaLeft" t="textAreaTop" r="textAreaRight" b="textAreaBottom"/>
                      <a:pathLst>
                        <a:path w="171" h="158">
                          <a:moveTo>
                            <a:pt x="12" y="64"/>
                          </a:moveTo>
                          <a:lnTo>
                            <a:pt x="32" y="33"/>
                          </a:lnTo>
                          <a:lnTo>
                            <a:pt x="44" y="20"/>
                          </a:lnTo>
                          <a:lnTo>
                            <a:pt x="71" y="6"/>
                          </a:lnTo>
                          <a:lnTo>
                            <a:pt x="103" y="0"/>
                          </a:lnTo>
                          <a:lnTo>
                            <a:pt x="130" y="0"/>
                          </a:lnTo>
                          <a:lnTo>
                            <a:pt x="147" y="5"/>
                          </a:lnTo>
                          <a:lnTo>
                            <a:pt x="163" y="24"/>
                          </a:lnTo>
                          <a:lnTo>
                            <a:pt x="171" y="51"/>
                          </a:lnTo>
                          <a:lnTo>
                            <a:pt x="169" y="81"/>
                          </a:lnTo>
                          <a:lnTo>
                            <a:pt x="154" y="106"/>
                          </a:lnTo>
                          <a:lnTo>
                            <a:pt x="142" y="123"/>
                          </a:lnTo>
                          <a:lnTo>
                            <a:pt x="111" y="140"/>
                          </a:lnTo>
                          <a:lnTo>
                            <a:pt x="71" y="150"/>
                          </a:lnTo>
                          <a:lnTo>
                            <a:pt x="39" y="158"/>
                          </a:lnTo>
                          <a:lnTo>
                            <a:pt x="16" y="150"/>
                          </a:lnTo>
                          <a:lnTo>
                            <a:pt x="4" y="135"/>
                          </a:lnTo>
                          <a:lnTo>
                            <a:pt x="0" y="110"/>
                          </a:lnTo>
                          <a:lnTo>
                            <a:pt x="12" y="64"/>
                          </a:lnTo>
                          <a:close/>
                        </a:path>
                      </a:pathLst>
                    </a:custGeom>
                    <a:solidFill>
                      <a:srgbClr val="f0f0ff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Oval 144"/>
                    <p:cNvSpPr/>
                    <p:nvPr/>
                  </p:nvSpPr>
                  <p:spPr>
                    <a:xfrm flipH="1">
                      <a:off x="6478200" y="4080600"/>
                      <a:ext cx="81000" cy="78120"/>
                    </a:xfrm>
                    <a:prstGeom prst="ellipse">
                      <a:avLst/>
                    </a:prstGeom>
                    <a:solidFill>
                      <a:srgbClr val="00808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Freeform 145"/>
                    <p:cNvSpPr/>
                    <p:nvPr/>
                  </p:nvSpPr>
                  <p:spPr>
                    <a:xfrm flipH="1">
                      <a:off x="6226560" y="3804120"/>
                      <a:ext cx="300600" cy="174600"/>
                    </a:xfrm>
                    <a:custGeom>
                      <a:avLst/>
                      <a:gdLst>
                        <a:gd name="textAreaLeft" fmla="*/ -360 w 300600"/>
                        <a:gd name="textAreaRight" fmla="*/ 300600 w 300600"/>
                        <a:gd name="textAreaTop" fmla="*/ 0 h 174600"/>
                        <a:gd name="textAreaBottom" fmla="*/ 174600 h 174600"/>
                      </a:gdLst>
                      <a:ahLst/>
                      <a:rect l="textAreaLeft" t="textAreaTop" r="textAreaRight" b="textAreaBottom"/>
                      <a:pathLst>
                        <a:path w="177" h="103">
                          <a:moveTo>
                            <a:pt x="25" y="0"/>
                          </a:moveTo>
                          <a:lnTo>
                            <a:pt x="170" y="61"/>
                          </a:lnTo>
                          <a:lnTo>
                            <a:pt x="175" y="69"/>
                          </a:lnTo>
                          <a:lnTo>
                            <a:pt x="177" y="82"/>
                          </a:lnTo>
                          <a:lnTo>
                            <a:pt x="174" y="91"/>
                          </a:lnTo>
                          <a:lnTo>
                            <a:pt x="169" y="99"/>
                          </a:lnTo>
                          <a:lnTo>
                            <a:pt x="162" y="102"/>
                          </a:lnTo>
                          <a:lnTo>
                            <a:pt x="149" y="103"/>
                          </a:lnTo>
                          <a:lnTo>
                            <a:pt x="14" y="45"/>
                          </a:lnTo>
                          <a:lnTo>
                            <a:pt x="3" y="37"/>
                          </a:lnTo>
                          <a:lnTo>
                            <a:pt x="0" y="25"/>
                          </a:lnTo>
                          <a:lnTo>
                            <a:pt x="3" y="13"/>
                          </a:lnTo>
                          <a:lnTo>
                            <a:pt x="8" y="7"/>
                          </a:lnTo>
                          <a:lnTo>
                            <a:pt x="15" y="2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c0804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91" name="Group 146"/>
                <p:cNvGrpSpPr/>
                <p:nvPr/>
              </p:nvGrpSpPr>
              <p:grpSpPr>
                <a:xfrm>
                  <a:off x="7072560" y="4065840"/>
                  <a:ext cx="289800" cy="335880"/>
                  <a:chOff x="7072560" y="4065840"/>
                  <a:chExt cx="289800" cy="335880"/>
                </a:xfrm>
              </p:grpSpPr>
              <p:sp>
                <p:nvSpPr>
                  <p:cNvPr id="392" name="Freeform 147"/>
                  <p:cNvSpPr/>
                  <p:nvPr/>
                </p:nvSpPr>
                <p:spPr>
                  <a:xfrm flipH="1">
                    <a:off x="7106040" y="4065840"/>
                    <a:ext cx="256320" cy="327600"/>
                  </a:xfrm>
                  <a:custGeom>
                    <a:avLst/>
                    <a:gdLst>
                      <a:gd name="textAreaLeft" fmla="*/ 360 w 256320"/>
                      <a:gd name="textAreaRight" fmla="*/ 257040 w 256320"/>
                      <a:gd name="textAreaTop" fmla="*/ 0 h 327600"/>
                      <a:gd name="textAreaBottom" fmla="*/ 327960 h 327600"/>
                    </a:gdLst>
                    <a:ahLst/>
                    <a:rect l="textAreaLeft" t="textAreaTop" r="textAreaRight" b="textAreaBottom"/>
                    <a:pathLst>
                      <a:path w="151" h="193">
                        <a:moveTo>
                          <a:pt x="123" y="30"/>
                        </a:moveTo>
                        <a:lnTo>
                          <a:pt x="99" y="5"/>
                        </a:lnTo>
                        <a:lnTo>
                          <a:pt x="82" y="1"/>
                        </a:lnTo>
                        <a:lnTo>
                          <a:pt x="53" y="0"/>
                        </a:lnTo>
                        <a:lnTo>
                          <a:pt x="28" y="14"/>
                        </a:lnTo>
                        <a:lnTo>
                          <a:pt x="14" y="30"/>
                        </a:lnTo>
                        <a:lnTo>
                          <a:pt x="4" y="49"/>
                        </a:lnTo>
                        <a:lnTo>
                          <a:pt x="0" y="71"/>
                        </a:lnTo>
                        <a:lnTo>
                          <a:pt x="1" y="96"/>
                        </a:lnTo>
                        <a:lnTo>
                          <a:pt x="9" y="124"/>
                        </a:lnTo>
                        <a:lnTo>
                          <a:pt x="26" y="146"/>
                        </a:lnTo>
                        <a:lnTo>
                          <a:pt x="44" y="158"/>
                        </a:lnTo>
                        <a:lnTo>
                          <a:pt x="67" y="167"/>
                        </a:lnTo>
                        <a:lnTo>
                          <a:pt x="79" y="185"/>
                        </a:lnTo>
                        <a:lnTo>
                          <a:pt x="91" y="191"/>
                        </a:lnTo>
                        <a:lnTo>
                          <a:pt x="105" y="193"/>
                        </a:lnTo>
                        <a:lnTo>
                          <a:pt x="122" y="189"/>
                        </a:lnTo>
                        <a:lnTo>
                          <a:pt x="139" y="178"/>
                        </a:lnTo>
                        <a:lnTo>
                          <a:pt x="147" y="162"/>
                        </a:lnTo>
                        <a:lnTo>
                          <a:pt x="151" y="138"/>
                        </a:lnTo>
                        <a:lnTo>
                          <a:pt x="142" y="115"/>
                        </a:lnTo>
                        <a:lnTo>
                          <a:pt x="141" y="91"/>
                        </a:lnTo>
                        <a:lnTo>
                          <a:pt x="134" y="58"/>
                        </a:lnTo>
                        <a:lnTo>
                          <a:pt x="123" y="30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Freeform 148"/>
                  <p:cNvSpPr/>
                  <p:nvPr/>
                </p:nvSpPr>
                <p:spPr>
                  <a:xfrm flipH="1">
                    <a:off x="7072560" y="4084560"/>
                    <a:ext cx="262800" cy="317160"/>
                  </a:xfrm>
                  <a:custGeom>
                    <a:avLst/>
                    <a:gdLst>
                      <a:gd name="textAreaLeft" fmla="*/ 360 w 262800"/>
                      <a:gd name="textAreaRight" fmla="*/ 263520 w 262800"/>
                      <a:gd name="textAreaTop" fmla="*/ 0 h 317160"/>
                      <a:gd name="textAreaBottom" fmla="*/ 317520 h 317160"/>
                    </a:gdLst>
                    <a:ahLst/>
                    <a:rect l="textAreaLeft" t="textAreaTop" r="textAreaRight" b="textAreaBottom"/>
                    <a:pathLst>
                      <a:path w="155" h="187">
                        <a:moveTo>
                          <a:pt x="127" y="28"/>
                        </a:moveTo>
                        <a:lnTo>
                          <a:pt x="101" y="5"/>
                        </a:lnTo>
                        <a:lnTo>
                          <a:pt x="84" y="1"/>
                        </a:lnTo>
                        <a:lnTo>
                          <a:pt x="54" y="0"/>
                        </a:lnTo>
                        <a:lnTo>
                          <a:pt x="28" y="12"/>
                        </a:lnTo>
                        <a:lnTo>
                          <a:pt x="14" y="28"/>
                        </a:lnTo>
                        <a:lnTo>
                          <a:pt x="4" y="48"/>
                        </a:lnTo>
                        <a:lnTo>
                          <a:pt x="0" y="69"/>
                        </a:lnTo>
                        <a:lnTo>
                          <a:pt x="1" y="93"/>
                        </a:lnTo>
                        <a:lnTo>
                          <a:pt x="9" y="120"/>
                        </a:lnTo>
                        <a:lnTo>
                          <a:pt x="26" y="142"/>
                        </a:lnTo>
                        <a:lnTo>
                          <a:pt x="46" y="154"/>
                        </a:lnTo>
                        <a:lnTo>
                          <a:pt x="68" y="162"/>
                        </a:lnTo>
                        <a:lnTo>
                          <a:pt x="81" y="179"/>
                        </a:lnTo>
                        <a:lnTo>
                          <a:pt x="93" y="185"/>
                        </a:lnTo>
                        <a:lnTo>
                          <a:pt x="107" y="187"/>
                        </a:lnTo>
                        <a:lnTo>
                          <a:pt x="126" y="182"/>
                        </a:lnTo>
                        <a:lnTo>
                          <a:pt x="143" y="173"/>
                        </a:lnTo>
                        <a:lnTo>
                          <a:pt x="151" y="158"/>
                        </a:lnTo>
                        <a:lnTo>
                          <a:pt x="155" y="133"/>
                        </a:lnTo>
                        <a:lnTo>
                          <a:pt x="146" y="111"/>
                        </a:lnTo>
                        <a:lnTo>
                          <a:pt x="145" y="88"/>
                        </a:lnTo>
                        <a:lnTo>
                          <a:pt x="138" y="57"/>
                        </a:lnTo>
                        <a:lnTo>
                          <a:pt x="127" y="28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" name="Group 149"/>
              <p:cNvGrpSpPr/>
              <p:nvPr/>
            </p:nvGrpSpPr>
            <p:grpSpPr>
              <a:xfrm>
                <a:off x="5932440" y="4381920"/>
                <a:ext cx="1890360" cy="1665000"/>
                <a:chOff x="5932440" y="4381920"/>
                <a:chExt cx="1890360" cy="1665000"/>
              </a:xfrm>
            </p:grpSpPr>
            <p:sp>
              <p:nvSpPr>
                <p:cNvPr id="395" name="Freeform 150"/>
                <p:cNvSpPr/>
                <p:nvPr/>
              </p:nvSpPr>
              <p:spPr>
                <a:xfrm flipH="1">
                  <a:off x="6297120" y="4381920"/>
                  <a:ext cx="1525320" cy="1510920"/>
                </a:xfrm>
                <a:custGeom>
                  <a:avLst/>
                  <a:gdLst>
                    <a:gd name="textAreaLeft" fmla="*/ -360 w 1525320"/>
                    <a:gd name="textAreaRight" fmla="*/ 1525320 w 1525320"/>
                    <a:gd name="textAreaTop" fmla="*/ 0 h 1510920"/>
                    <a:gd name="textAreaBottom" fmla="*/ 1511280 h 1510920"/>
                  </a:gdLst>
                  <a:ahLst/>
                  <a:rect l="textAreaLeft" t="textAreaTop" r="textAreaRight" b="textAreaBottom"/>
                  <a:pathLst>
                    <a:path w="897" h="889">
                      <a:moveTo>
                        <a:pt x="244" y="0"/>
                      </a:moveTo>
                      <a:lnTo>
                        <a:pt x="301" y="38"/>
                      </a:lnTo>
                      <a:lnTo>
                        <a:pt x="359" y="76"/>
                      </a:lnTo>
                      <a:lnTo>
                        <a:pt x="410" y="100"/>
                      </a:lnTo>
                      <a:lnTo>
                        <a:pt x="583" y="172"/>
                      </a:lnTo>
                      <a:lnTo>
                        <a:pt x="609" y="281"/>
                      </a:lnTo>
                      <a:lnTo>
                        <a:pt x="631" y="338"/>
                      </a:lnTo>
                      <a:lnTo>
                        <a:pt x="650" y="380"/>
                      </a:lnTo>
                      <a:lnTo>
                        <a:pt x="664" y="422"/>
                      </a:lnTo>
                      <a:lnTo>
                        <a:pt x="673" y="465"/>
                      </a:lnTo>
                      <a:lnTo>
                        <a:pt x="672" y="492"/>
                      </a:lnTo>
                      <a:lnTo>
                        <a:pt x="666" y="524"/>
                      </a:lnTo>
                      <a:lnTo>
                        <a:pt x="670" y="562"/>
                      </a:lnTo>
                      <a:lnTo>
                        <a:pt x="684" y="601"/>
                      </a:lnTo>
                      <a:lnTo>
                        <a:pt x="720" y="616"/>
                      </a:lnTo>
                      <a:lnTo>
                        <a:pt x="775" y="630"/>
                      </a:lnTo>
                      <a:lnTo>
                        <a:pt x="813" y="642"/>
                      </a:lnTo>
                      <a:lnTo>
                        <a:pt x="851" y="671"/>
                      </a:lnTo>
                      <a:lnTo>
                        <a:pt x="875" y="703"/>
                      </a:lnTo>
                      <a:lnTo>
                        <a:pt x="890" y="742"/>
                      </a:lnTo>
                      <a:lnTo>
                        <a:pt x="897" y="787"/>
                      </a:lnTo>
                      <a:lnTo>
                        <a:pt x="888" y="855"/>
                      </a:lnTo>
                      <a:lnTo>
                        <a:pt x="213" y="889"/>
                      </a:lnTo>
                      <a:lnTo>
                        <a:pt x="89" y="887"/>
                      </a:lnTo>
                      <a:lnTo>
                        <a:pt x="65" y="855"/>
                      </a:lnTo>
                      <a:lnTo>
                        <a:pt x="42" y="805"/>
                      </a:lnTo>
                      <a:lnTo>
                        <a:pt x="23" y="749"/>
                      </a:lnTo>
                      <a:lnTo>
                        <a:pt x="12" y="702"/>
                      </a:lnTo>
                      <a:lnTo>
                        <a:pt x="3" y="651"/>
                      </a:lnTo>
                      <a:lnTo>
                        <a:pt x="0" y="604"/>
                      </a:lnTo>
                      <a:lnTo>
                        <a:pt x="9" y="527"/>
                      </a:lnTo>
                      <a:lnTo>
                        <a:pt x="23" y="465"/>
                      </a:lnTo>
                      <a:lnTo>
                        <a:pt x="44" y="397"/>
                      </a:lnTo>
                      <a:lnTo>
                        <a:pt x="68" y="332"/>
                      </a:lnTo>
                      <a:lnTo>
                        <a:pt x="95" y="279"/>
                      </a:lnTo>
                      <a:lnTo>
                        <a:pt x="131" y="220"/>
                      </a:lnTo>
                      <a:lnTo>
                        <a:pt x="176" y="172"/>
                      </a:lnTo>
                      <a:lnTo>
                        <a:pt x="218" y="130"/>
                      </a:lnTo>
                      <a:lnTo>
                        <a:pt x="247" y="109"/>
                      </a:lnTo>
                      <a:lnTo>
                        <a:pt x="179" y="76"/>
                      </a:lnTo>
                      <a:lnTo>
                        <a:pt x="244" y="0"/>
                      </a:lnTo>
                      <a:close/>
                    </a:path>
                  </a:pathLst>
                </a:custGeom>
                <a:solidFill>
                  <a:srgbClr val="ff6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151"/>
                <p:cNvSpPr/>
                <p:nvPr/>
              </p:nvSpPr>
              <p:spPr>
                <a:xfrm flipH="1">
                  <a:off x="6379200" y="5180760"/>
                  <a:ext cx="426600" cy="554040"/>
                </a:xfrm>
                <a:custGeom>
                  <a:avLst/>
                  <a:gdLst>
                    <a:gd name="textAreaLeft" fmla="*/ -360 w 426600"/>
                    <a:gd name="textAreaRight" fmla="*/ 426600 w 426600"/>
                    <a:gd name="textAreaTop" fmla="*/ 0 h 554040"/>
                    <a:gd name="textAreaBottom" fmla="*/ 554400 h 554040"/>
                  </a:gdLst>
                  <a:ahLst/>
                  <a:rect l="textAreaLeft" t="textAreaTop" r="textAreaRight" b="textAreaBottom"/>
                  <a:pathLst>
                    <a:path w="251" h="326">
                      <a:moveTo>
                        <a:pt x="0" y="0"/>
                      </a:moveTo>
                      <a:lnTo>
                        <a:pt x="9" y="61"/>
                      </a:lnTo>
                      <a:lnTo>
                        <a:pt x="19" y="110"/>
                      </a:lnTo>
                      <a:lnTo>
                        <a:pt x="39" y="149"/>
                      </a:lnTo>
                      <a:lnTo>
                        <a:pt x="55" y="171"/>
                      </a:lnTo>
                      <a:lnTo>
                        <a:pt x="86" y="188"/>
                      </a:lnTo>
                      <a:lnTo>
                        <a:pt x="142" y="209"/>
                      </a:lnTo>
                      <a:lnTo>
                        <a:pt x="189" y="228"/>
                      </a:lnTo>
                      <a:lnTo>
                        <a:pt x="212" y="238"/>
                      </a:lnTo>
                      <a:lnTo>
                        <a:pt x="233" y="260"/>
                      </a:lnTo>
                      <a:lnTo>
                        <a:pt x="245" y="290"/>
                      </a:lnTo>
                      <a:lnTo>
                        <a:pt x="251" y="32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152"/>
                <p:cNvSpPr/>
                <p:nvPr/>
              </p:nvSpPr>
              <p:spPr>
                <a:xfrm flipH="1">
                  <a:off x="6786000" y="4575600"/>
                  <a:ext cx="627120" cy="609840"/>
                </a:xfrm>
                <a:custGeom>
                  <a:avLst/>
                  <a:gdLst>
                    <a:gd name="textAreaLeft" fmla="*/ 360 w 627120"/>
                    <a:gd name="textAreaRight" fmla="*/ 627840 w 627120"/>
                    <a:gd name="textAreaTop" fmla="*/ 0 h 609840"/>
                    <a:gd name="textAreaBottom" fmla="*/ 610200 h 609840"/>
                  </a:gdLst>
                  <a:ahLst/>
                  <a:rect l="textAreaLeft" t="textAreaTop" r="textAreaRight" b="textAreaBottom"/>
                  <a:pathLst>
                    <a:path w="369" h="359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50" y="28"/>
                      </a:lnTo>
                      <a:lnTo>
                        <a:pt x="100" y="58"/>
                      </a:lnTo>
                      <a:lnTo>
                        <a:pt x="141" y="76"/>
                      </a:lnTo>
                      <a:lnTo>
                        <a:pt x="183" y="99"/>
                      </a:lnTo>
                      <a:lnTo>
                        <a:pt x="242" y="129"/>
                      </a:lnTo>
                      <a:lnTo>
                        <a:pt x="278" y="186"/>
                      </a:lnTo>
                      <a:lnTo>
                        <a:pt x="306" y="286"/>
                      </a:lnTo>
                      <a:lnTo>
                        <a:pt x="333" y="204"/>
                      </a:lnTo>
                      <a:lnTo>
                        <a:pt x="354" y="150"/>
                      </a:lnTo>
                      <a:lnTo>
                        <a:pt x="350" y="117"/>
                      </a:lnTo>
                      <a:lnTo>
                        <a:pt x="362" y="167"/>
                      </a:lnTo>
                      <a:lnTo>
                        <a:pt x="369" y="193"/>
                      </a:lnTo>
                      <a:lnTo>
                        <a:pt x="357" y="216"/>
                      </a:lnTo>
                      <a:lnTo>
                        <a:pt x="339" y="259"/>
                      </a:lnTo>
                      <a:lnTo>
                        <a:pt x="318" y="312"/>
                      </a:lnTo>
                      <a:lnTo>
                        <a:pt x="301" y="359"/>
                      </a:lnTo>
                      <a:lnTo>
                        <a:pt x="278" y="279"/>
                      </a:lnTo>
                      <a:lnTo>
                        <a:pt x="257" y="224"/>
                      </a:lnTo>
                      <a:lnTo>
                        <a:pt x="245" y="171"/>
                      </a:lnTo>
                      <a:lnTo>
                        <a:pt x="186" y="117"/>
                      </a:lnTo>
                      <a:lnTo>
                        <a:pt x="83" y="6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040a0"/>
                </a:solidFill>
                <a:ln w="11160">
                  <a:solidFill>
                    <a:srgbClr val="e04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153"/>
                <p:cNvSpPr/>
                <p:nvPr/>
              </p:nvSpPr>
              <p:spPr>
                <a:xfrm flipH="1">
                  <a:off x="7112160" y="4897080"/>
                  <a:ext cx="263160" cy="511200"/>
                </a:xfrm>
                <a:custGeom>
                  <a:avLst/>
                  <a:gdLst>
                    <a:gd name="textAreaLeft" fmla="*/ -360 w 263160"/>
                    <a:gd name="textAreaRight" fmla="*/ 263160 w 263160"/>
                    <a:gd name="textAreaTop" fmla="*/ 0 h 511200"/>
                    <a:gd name="textAreaBottom" fmla="*/ 511560 h 511200"/>
                  </a:gdLst>
                  <a:ahLst/>
                  <a:rect l="textAreaLeft" t="textAreaTop" r="textAreaRight" b="textAreaBottom"/>
                  <a:pathLst>
                    <a:path w="155" h="301">
                      <a:moveTo>
                        <a:pt x="81" y="241"/>
                      </a:moveTo>
                      <a:lnTo>
                        <a:pt x="41" y="203"/>
                      </a:lnTo>
                      <a:lnTo>
                        <a:pt x="28" y="164"/>
                      </a:lnTo>
                      <a:lnTo>
                        <a:pt x="23" y="123"/>
                      </a:lnTo>
                      <a:lnTo>
                        <a:pt x="17" y="67"/>
                      </a:lnTo>
                      <a:lnTo>
                        <a:pt x="39" y="49"/>
                      </a:lnTo>
                      <a:lnTo>
                        <a:pt x="49" y="90"/>
                      </a:lnTo>
                      <a:lnTo>
                        <a:pt x="67" y="110"/>
                      </a:lnTo>
                      <a:lnTo>
                        <a:pt x="74" y="155"/>
                      </a:lnTo>
                      <a:lnTo>
                        <a:pt x="86" y="189"/>
                      </a:lnTo>
                      <a:lnTo>
                        <a:pt x="114" y="218"/>
                      </a:lnTo>
                      <a:lnTo>
                        <a:pt x="135" y="254"/>
                      </a:lnTo>
                      <a:lnTo>
                        <a:pt x="155" y="301"/>
                      </a:lnTo>
                      <a:lnTo>
                        <a:pt x="153" y="261"/>
                      </a:lnTo>
                      <a:lnTo>
                        <a:pt x="147" y="228"/>
                      </a:lnTo>
                      <a:lnTo>
                        <a:pt x="120" y="202"/>
                      </a:lnTo>
                      <a:lnTo>
                        <a:pt x="102" y="167"/>
                      </a:lnTo>
                      <a:lnTo>
                        <a:pt x="87" y="128"/>
                      </a:lnTo>
                      <a:lnTo>
                        <a:pt x="76" y="93"/>
                      </a:lnTo>
                      <a:lnTo>
                        <a:pt x="61" y="67"/>
                      </a:lnTo>
                      <a:lnTo>
                        <a:pt x="56" y="32"/>
                      </a:lnTo>
                      <a:lnTo>
                        <a:pt x="47" y="14"/>
                      </a:lnTo>
                      <a:lnTo>
                        <a:pt x="36" y="0"/>
                      </a:lnTo>
                      <a:lnTo>
                        <a:pt x="16" y="34"/>
                      </a:lnTo>
                      <a:lnTo>
                        <a:pt x="0" y="81"/>
                      </a:lnTo>
                      <a:lnTo>
                        <a:pt x="12" y="90"/>
                      </a:lnTo>
                      <a:lnTo>
                        <a:pt x="12" y="125"/>
                      </a:lnTo>
                      <a:lnTo>
                        <a:pt x="19" y="170"/>
                      </a:lnTo>
                      <a:lnTo>
                        <a:pt x="29" y="202"/>
                      </a:lnTo>
                      <a:lnTo>
                        <a:pt x="49" y="223"/>
                      </a:lnTo>
                      <a:lnTo>
                        <a:pt x="81" y="241"/>
                      </a:lnTo>
                      <a:close/>
                    </a:path>
                  </a:pathLst>
                </a:custGeom>
                <a:solidFill>
                  <a:srgbClr val="e040a0"/>
                </a:solidFill>
                <a:ln w="11160">
                  <a:solidFill>
                    <a:srgbClr val="e04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Freeform 154"/>
                <p:cNvSpPr/>
                <p:nvPr/>
              </p:nvSpPr>
              <p:spPr>
                <a:xfrm flipH="1">
                  <a:off x="7633800" y="5178960"/>
                  <a:ext cx="147960" cy="348120"/>
                </a:xfrm>
                <a:custGeom>
                  <a:avLst/>
                  <a:gdLst>
                    <a:gd name="textAreaLeft" fmla="*/ -360 w 147960"/>
                    <a:gd name="textAreaRight" fmla="*/ 147960 w 147960"/>
                    <a:gd name="textAreaTop" fmla="*/ 0 h 348120"/>
                    <a:gd name="textAreaBottom" fmla="*/ 348480 h 348120"/>
                  </a:gdLst>
                  <a:ahLst/>
                  <a:rect l="textAreaLeft" t="textAreaTop" r="textAreaRight" b="textAreaBottom"/>
                  <a:pathLst>
                    <a:path w="87" h="205">
                      <a:moveTo>
                        <a:pt x="87" y="205"/>
                      </a:moveTo>
                      <a:lnTo>
                        <a:pt x="64" y="197"/>
                      </a:lnTo>
                      <a:lnTo>
                        <a:pt x="42" y="174"/>
                      </a:lnTo>
                      <a:lnTo>
                        <a:pt x="32" y="158"/>
                      </a:lnTo>
                      <a:lnTo>
                        <a:pt x="22" y="120"/>
                      </a:lnTo>
                      <a:lnTo>
                        <a:pt x="16" y="95"/>
                      </a:lnTo>
                      <a:lnTo>
                        <a:pt x="4" y="69"/>
                      </a:lnTo>
                      <a:lnTo>
                        <a:pt x="0" y="40"/>
                      </a:lnTo>
                      <a:lnTo>
                        <a:pt x="8" y="21"/>
                      </a:lnTo>
                      <a:lnTo>
                        <a:pt x="30" y="0"/>
                      </a:lnTo>
                      <a:lnTo>
                        <a:pt x="8" y="20"/>
                      </a:lnTo>
                      <a:lnTo>
                        <a:pt x="2" y="41"/>
                      </a:lnTo>
                      <a:lnTo>
                        <a:pt x="3" y="68"/>
                      </a:lnTo>
                      <a:lnTo>
                        <a:pt x="14" y="91"/>
                      </a:lnTo>
                      <a:lnTo>
                        <a:pt x="25" y="129"/>
                      </a:lnTo>
                      <a:lnTo>
                        <a:pt x="31" y="151"/>
                      </a:lnTo>
                      <a:lnTo>
                        <a:pt x="42" y="176"/>
                      </a:lnTo>
                      <a:lnTo>
                        <a:pt x="66" y="19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Freeform 155"/>
                <p:cNvSpPr/>
                <p:nvPr/>
              </p:nvSpPr>
              <p:spPr>
                <a:xfrm flipH="1">
                  <a:off x="7623720" y="5178960"/>
                  <a:ext cx="144360" cy="348120"/>
                </a:xfrm>
                <a:custGeom>
                  <a:avLst/>
                  <a:gdLst>
                    <a:gd name="textAreaLeft" fmla="*/ -360 w 144360"/>
                    <a:gd name="textAreaRight" fmla="*/ 144360 w 144360"/>
                    <a:gd name="textAreaTop" fmla="*/ 0 h 348120"/>
                    <a:gd name="textAreaBottom" fmla="*/ 348480 h 348120"/>
                  </a:gdLst>
                  <a:ahLst/>
                  <a:rect l="textAreaLeft" t="textAreaTop" r="textAreaRight" b="textAreaBottom"/>
                  <a:pathLst>
                    <a:path w="85" h="205">
                      <a:moveTo>
                        <a:pt x="85" y="205"/>
                      </a:moveTo>
                      <a:lnTo>
                        <a:pt x="53" y="178"/>
                      </a:lnTo>
                      <a:lnTo>
                        <a:pt x="39" y="155"/>
                      </a:lnTo>
                      <a:lnTo>
                        <a:pt x="33" y="133"/>
                      </a:lnTo>
                      <a:lnTo>
                        <a:pt x="20" y="93"/>
                      </a:lnTo>
                      <a:lnTo>
                        <a:pt x="12" y="67"/>
                      </a:lnTo>
                      <a:lnTo>
                        <a:pt x="7" y="47"/>
                      </a:lnTo>
                      <a:lnTo>
                        <a:pt x="14" y="24"/>
                      </a:lnTo>
                      <a:lnTo>
                        <a:pt x="28" y="0"/>
                      </a:lnTo>
                      <a:lnTo>
                        <a:pt x="6" y="20"/>
                      </a:lnTo>
                      <a:lnTo>
                        <a:pt x="0" y="41"/>
                      </a:lnTo>
                      <a:lnTo>
                        <a:pt x="1" y="68"/>
                      </a:lnTo>
                      <a:lnTo>
                        <a:pt x="12" y="91"/>
                      </a:lnTo>
                      <a:lnTo>
                        <a:pt x="23" y="129"/>
                      </a:lnTo>
                      <a:lnTo>
                        <a:pt x="29" y="151"/>
                      </a:lnTo>
                      <a:lnTo>
                        <a:pt x="40" y="176"/>
                      </a:lnTo>
                      <a:lnTo>
                        <a:pt x="64" y="196"/>
                      </a:lnTo>
                      <a:lnTo>
                        <a:pt x="85" y="205"/>
                      </a:lnTo>
                      <a:close/>
                    </a:path>
                  </a:pathLst>
                </a:custGeom>
                <a:solidFill>
                  <a:srgbClr val="e040a0"/>
                </a:solidFill>
                <a:ln w="11160">
                  <a:solidFill>
                    <a:srgbClr val="e04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1" name="Group 156"/>
                <p:cNvGrpSpPr/>
                <p:nvPr/>
              </p:nvGrpSpPr>
              <p:grpSpPr>
                <a:xfrm>
                  <a:off x="5932440" y="5472720"/>
                  <a:ext cx="1591200" cy="574200"/>
                  <a:chOff x="5932440" y="5472720"/>
                  <a:chExt cx="1591200" cy="574200"/>
                </a:xfrm>
              </p:grpSpPr>
              <p:sp>
                <p:nvSpPr>
                  <p:cNvPr id="402" name="Freeform 157"/>
                  <p:cNvSpPr/>
                  <p:nvPr/>
                </p:nvSpPr>
                <p:spPr>
                  <a:xfrm flipH="1">
                    <a:off x="5940360" y="5472720"/>
                    <a:ext cx="1582920" cy="574200"/>
                  </a:xfrm>
                  <a:custGeom>
                    <a:avLst/>
                    <a:gdLst>
                      <a:gd name="textAreaLeft" fmla="*/ -360 w 1582920"/>
                      <a:gd name="textAreaRight" fmla="*/ 1582920 w 1582920"/>
                      <a:gd name="textAreaTop" fmla="*/ 0 h 574200"/>
                      <a:gd name="textAreaBottom" fmla="*/ 574560 h 574200"/>
                    </a:gdLst>
                    <a:ahLst/>
                    <a:rect l="textAreaLeft" t="textAreaTop" r="textAreaRight" b="textAreaBottom"/>
                    <a:pathLst>
                      <a:path w="931" h="338">
                        <a:moveTo>
                          <a:pt x="224" y="0"/>
                        </a:moveTo>
                        <a:lnTo>
                          <a:pt x="239" y="36"/>
                        </a:lnTo>
                        <a:lnTo>
                          <a:pt x="274" y="82"/>
                        </a:lnTo>
                        <a:lnTo>
                          <a:pt x="333" y="115"/>
                        </a:lnTo>
                        <a:lnTo>
                          <a:pt x="415" y="138"/>
                        </a:lnTo>
                        <a:lnTo>
                          <a:pt x="510" y="159"/>
                        </a:lnTo>
                        <a:lnTo>
                          <a:pt x="587" y="162"/>
                        </a:lnTo>
                        <a:lnTo>
                          <a:pt x="666" y="159"/>
                        </a:lnTo>
                        <a:lnTo>
                          <a:pt x="681" y="150"/>
                        </a:lnTo>
                        <a:lnTo>
                          <a:pt x="703" y="124"/>
                        </a:lnTo>
                        <a:lnTo>
                          <a:pt x="722" y="104"/>
                        </a:lnTo>
                        <a:lnTo>
                          <a:pt x="748" y="87"/>
                        </a:lnTo>
                        <a:lnTo>
                          <a:pt x="756" y="67"/>
                        </a:lnTo>
                        <a:lnTo>
                          <a:pt x="769" y="50"/>
                        </a:lnTo>
                        <a:lnTo>
                          <a:pt x="787" y="41"/>
                        </a:lnTo>
                        <a:lnTo>
                          <a:pt x="809" y="33"/>
                        </a:lnTo>
                        <a:lnTo>
                          <a:pt x="842" y="30"/>
                        </a:lnTo>
                        <a:lnTo>
                          <a:pt x="876" y="38"/>
                        </a:lnTo>
                        <a:lnTo>
                          <a:pt x="906" y="52"/>
                        </a:lnTo>
                        <a:lnTo>
                          <a:pt x="922" y="70"/>
                        </a:lnTo>
                        <a:lnTo>
                          <a:pt x="929" y="94"/>
                        </a:lnTo>
                        <a:lnTo>
                          <a:pt x="917" y="142"/>
                        </a:lnTo>
                        <a:lnTo>
                          <a:pt x="928" y="160"/>
                        </a:lnTo>
                        <a:lnTo>
                          <a:pt x="931" y="182"/>
                        </a:lnTo>
                        <a:lnTo>
                          <a:pt x="924" y="199"/>
                        </a:lnTo>
                        <a:lnTo>
                          <a:pt x="907" y="218"/>
                        </a:lnTo>
                        <a:lnTo>
                          <a:pt x="896" y="232"/>
                        </a:lnTo>
                        <a:lnTo>
                          <a:pt x="905" y="251"/>
                        </a:lnTo>
                        <a:lnTo>
                          <a:pt x="902" y="272"/>
                        </a:lnTo>
                        <a:lnTo>
                          <a:pt x="892" y="287"/>
                        </a:lnTo>
                        <a:lnTo>
                          <a:pt x="883" y="301"/>
                        </a:lnTo>
                        <a:lnTo>
                          <a:pt x="877" y="325"/>
                        </a:lnTo>
                        <a:lnTo>
                          <a:pt x="867" y="335"/>
                        </a:lnTo>
                        <a:lnTo>
                          <a:pt x="840" y="338"/>
                        </a:lnTo>
                        <a:lnTo>
                          <a:pt x="800" y="337"/>
                        </a:lnTo>
                        <a:lnTo>
                          <a:pt x="764" y="329"/>
                        </a:lnTo>
                        <a:lnTo>
                          <a:pt x="722" y="317"/>
                        </a:lnTo>
                        <a:lnTo>
                          <a:pt x="694" y="303"/>
                        </a:lnTo>
                        <a:lnTo>
                          <a:pt x="675" y="291"/>
                        </a:lnTo>
                        <a:lnTo>
                          <a:pt x="607" y="300"/>
                        </a:lnTo>
                        <a:lnTo>
                          <a:pt x="516" y="312"/>
                        </a:lnTo>
                        <a:lnTo>
                          <a:pt x="448" y="317"/>
                        </a:lnTo>
                        <a:lnTo>
                          <a:pt x="379" y="317"/>
                        </a:lnTo>
                        <a:lnTo>
                          <a:pt x="289" y="315"/>
                        </a:lnTo>
                        <a:lnTo>
                          <a:pt x="235" y="306"/>
                        </a:lnTo>
                        <a:lnTo>
                          <a:pt x="141" y="270"/>
                        </a:lnTo>
                        <a:lnTo>
                          <a:pt x="82" y="238"/>
                        </a:lnTo>
                        <a:lnTo>
                          <a:pt x="47" y="189"/>
                        </a:lnTo>
                        <a:lnTo>
                          <a:pt x="23" y="169"/>
                        </a:lnTo>
                        <a:lnTo>
                          <a:pt x="0" y="119"/>
                        </a:lnTo>
                        <a:lnTo>
                          <a:pt x="42" y="90"/>
                        </a:lnTo>
                        <a:lnTo>
                          <a:pt x="99" y="80"/>
                        </a:lnTo>
                        <a:lnTo>
                          <a:pt x="163" y="24"/>
                        </a:lnTo>
                        <a:lnTo>
                          <a:pt x="200" y="14"/>
                        </a:lnTo>
                        <a:lnTo>
                          <a:pt x="224" y="0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Freeform 158"/>
                  <p:cNvSpPr/>
                  <p:nvPr/>
                </p:nvSpPr>
                <p:spPr>
                  <a:xfrm flipH="1">
                    <a:off x="6127560" y="5583240"/>
                    <a:ext cx="35640" cy="132480"/>
                  </a:xfrm>
                  <a:custGeom>
                    <a:avLst/>
                    <a:gdLst>
                      <a:gd name="textAreaLeft" fmla="*/ -360 w 35640"/>
                      <a:gd name="textAreaRight" fmla="*/ 35640 w 35640"/>
                      <a:gd name="textAreaTop" fmla="*/ 0 h 132480"/>
                      <a:gd name="textAreaBottom" fmla="*/ 132840 h 132480"/>
                    </a:gdLst>
                    <a:ahLst/>
                    <a:rect l="textAreaLeft" t="textAreaTop" r="textAreaRight" b="textAreaBottom"/>
                    <a:pathLst>
                      <a:path w="21" h="78">
                        <a:moveTo>
                          <a:pt x="21" y="0"/>
                        </a:moveTo>
                        <a:lnTo>
                          <a:pt x="11" y="3"/>
                        </a:lnTo>
                        <a:lnTo>
                          <a:pt x="4" y="14"/>
                        </a:lnTo>
                        <a:lnTo>
                          <a:pt x="0" y="25"/>
                        </a:lnTo>
                        <a:lnTo>
                          <a:pt x="0" y="35"/>
                        </a:lnTo>
                        <a:lnTo>
                          <a:pt x="5" y="57"/>
                        </a:lnTo>
                        <a:lnTo>
                          <a:pt x="4" y="78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Freeform 159"/>
                  <p:cNvSpPr/>
                  <p:nvPr/>
                </p:nvSpPr>
                <p:spPr>
                  <a:xfrm flipH="1">
                    <a:off x="5932080" y="5753160"/>
                    <a:ext cx="64440" cy="18720"/>
                  </a:xfrm>
                  <a:custGeom>
                    <a:avLst/>
                    <a:gdLst>
                      <a:gd name="textAreaLeft" fmla="*/ -360 w 64440"/>
                      <a:gd name="textAreaRight" fmla="*/ 64440 w 6444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8" h="11">
                        <a:moveTo>
                          <a:pt x="38" y="5"/>
                        </a:moveTo>
                        <a:lnTo>
                          <a:pt x="25" y="11"/>
                        </a:lnTo>
                        <a:lnTo>
                          <a:pt x="9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Freeform 160"/>
                  <p:cNvSpPr/>
                  <p:nvPr/>
                </p:nvSpPr>
                <p:spPr>
                  <a:xfrm flipH="1">
                    <a:off x="5959800" y="5904360"/>
                    <a:ext cx="71280" cy="2196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42" h="13">
                        <a:moveTo>
                          <a:pt x="42" y="0"/>
                        </a:moveTo>
                        <a:lnTo>
                          <a:pt x="37" y="10"/>
                        </a:lnTo>
                        <a:lnTo>
                          <a:pt x="24" y="13"/>
                        </a:lnTo>
                        <a:lnTo>
                          <a:pt x="12" y="9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Freeform 161"/>
                  <p:cNvSpPr/>
                  <p:nvPr/>
                </p:nvSpPr>
                <p:spPr>
                  <a:xfrm flipH="1">
                    <a:off x="6355800" y="5795280"/>
                    <a:ext cx="90000" cy="171720"/>
                  </a:xfrm>
                  <a:custGeom>
                    <a:avLst/>
                    <a:gdLst>
                      <a:gd name="textAreaLeft" fmla="*/ 0 w 90000"/>
                      <a:gd name="textAreaRight" fmla="*/ 90000 w 900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53" h="101">
                        <a:moveTo>
                          <a:pt x="0" y="0"/>
                        </a:moveTo>
                        <a:lnTo>
                          <a:pt x="17" y="14"/>
                        </a:lnTo>
                        <a:lnTo>
                          <a:pt x="36" y="36"/>
                        </a:lnTo>
                        <a:lnTo>
                          <a:pt x="45" y="62"/>
                        </a:lnTo>
                        <a:lnTo>
                          <a:pt x="53" y="78"/>
                        </a:lnTo>
                        <a:lnTo>
                          <a:pt x="45" y="101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Freeform 162"/>
                  <p:cNvSpPr/>
                  <p:nvPr/>
                </p:nvSpPr>
                <p:spPr>
                  <a:xfrm flipH="1">
                    <a:off x="6063840" y="5691960"/>
                    <a:ext cx="91440" cy="45720"/>
                  </a:xfrm>
                  <a:custGeom>
                    <a:avLst/>
                    <a:gdLst>
                      <a:gd name="textAreaLeft" fmla="*/ 360 w 91440"/>
                      <a:gd name="textAreaRight" fmla="*/ 92160 w 914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54" h="27">
                        <a:moveTo>
                          <a:pt x="0" y="27"/>
                        </a:moveTo>
                        <a:lnTo>
                          <a:pt x="10" y="14"/>
                        </a:lnTo>
                        <a:lnTo>
                          <a:pt x="22" y="5"/>
                        </a:lnTo>
                        <a:lnTo>
                          <a:pt x="35" y="0"/>
                        </a:lnTo>
                        <a:lnTo>
                          <a:pt x="54" y="2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Freeform 163"/>
                  <p:cNvSpPr/>
                  <p:nvPr/>
                </p:nvSpPr>
                <p:spPr>
                  <a:xfrm flipH="1">
                    <a:off x="6023880" y="5642640"/>
                    <a:ext cx="59400" cy="49320"/>
                  </a:xfrm>
                  <a:custGeom>
                    <a:avLst/>
                    <a:gdLst>
                      <a:gd name="textAreaLeft" fmla="*/ -360 w 59400"/>
                      <a:gd name="textAreaRight" fmla="*/ 59400 w 5940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35" h="29">
                        <a:moveTo>
                          <a:pt x="35" y="0"/>
                        </a:moveTo>
                        <a:lnTo>
                          <a:pt x="24" y="0"/>
                        </a:lnTo>
                        <a:lnTo>
                          <a:pt x="15" y="5"/>
                        </a:lnTo>
                        <a:lnTo>
                          <a:pt x="8" y="10"/>
                        </a:lnTo>
                        <a:lnTo>
                          <a:pt x="2" y="19"/>
                        </a:lnTo>
                        <a:lnTo>
                          <a:pt x="0" y="29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Freeform 164"/>
                  <p:cNvSpPr/>
                  <p:nvPr/>
                </p:nvSpPr>
                <p:spPr>
                  <a:xfrm flipH="1">
                    <a:off x="6068520" y="5574600"/>
                    <a:ext cx="23760" cy="69480"/>
                  </a:xfrm>
                  <a:custGeom>
                    <a:avLst/>
                    <a:gdLst>
                      <a:gd name="textAreaLeft" fmla="*/ 360 w 23760"/>
                      <a:gd name="textAreaRight" fmla="*/ 24480 w 23760"/>
                      <a:gd name="textAreaTop" fmla="*/ 0 h 69480"/>
                      <a:gd name="textAreaBottom" fmla="*/ 69840 h 69480"/>
                    </a:gdLst>
                    <a:ahLst/>
                    <a:rect l="textAreaLeft" t="textAreaTop" r="textAreaRight" b="textAreaBottom"/>
                    <a:pathLst>
                      <a:path w="14" h="41">
                        <a:moveTo>
                          <a:pt x="14" y="0"/>
                        </a:moveTo>
                        <a:lnTo>
                          <a:pt x="8" y="5"/>
                        </a:lnTo>
                        <a:lnTo>
                          <a:pt x="3" y="17"/>
                        </a:lnTo>
                        <a:lnTo>
                          <a:pt x="0" y="29"/>
                        </a:lnTo>
                        <a:lnTo>
                          <a:pt x="0" y="41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Freeform 165"/>
                  <p:cNvSpPr/>
                  <p:nvPr/>
                </p:nvSpPr>
                <p:spPr>
                  <a:xfrm flipH="1">
                    <a:off x="6092280" y="5605200"/>
                    <a:ext cx="40680" cy="39240"/>
                  </a:xfrm>
                  <a:custGeom>
                    <a:avLst/>
                    <a:gdLst>
                      <a:gd name="textAreaLeft" fmla="*/ -360 w 40680"/>
                      <a:gd name="textAreaRight" fmla="*/ 40680 w 4068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24" h="23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8" y="13"/>
                        </a:lnTo>
                        <a:lnTo>
                          <a:pt x="24" y="23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Freeform 166"/>
                <p:cNvSpPr/>
                <p:nvPr/>
              </p:nvSpPr>
              <p:spPr>
                <a:xfrm flipH="1">
                  <a:off x="7119000" y="5308200"/>
                  <a:ext cx="522000" cy="419400"/>
                </a:xfrm>
                <a:custGeom>
                  <a:avLst/>
                  <a:gdLst>
                    <a:gd name="textAreaLeft" fmla="*/ 360 w 522000"/>
                    <a:gd name="textAreaRight" fmla="*/ 522720 w 52200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307" h="247">
                      <a:moveTo>
                        <a:pt x="0" y="129"/>
                      </a:moveTo>
                      <a:lnTo>
                        <a:pt x="3" y="157"/>
                      </a:lnTo>
                      <a:lnTo>
                        <a:pt x="17" y="176"/>
                      </a:lnTo>
                      <a:lnTo>
                        <a:pt x="18" y="180"/>
                      </a:lnTo>
                      <a:lnTo>
                        <a:pt x="35" y="205"/>
                      </a:lnTo>
                      <a:lnTo>
                        <a:pt x="33" y="209"/>
                      </a:lnTo>
                      <a:lnTo>
                        <a:pt x="51" y="229"/>
                      </a:lnTo>
                      <a:lnTo>
                        <a:pt x="78" y="247"/>
                      </a:lnTo>
                      <a:lnTo>
                        <a:pt x="92" y="229"/>
                      </a:lnTo>
                      <a:lnTo>
                        <a:pt x="111" y="213"/>
                      </a:lnTo>
                      <a:lnTo>
                        <a:pt x="130" y="199"/>
                      </a:lnTo>
                      <a:lnTo>
                        <a:pt x="151" y="197"/>
                      </a:lnTo>
                      <a:lnTo>
                        <a:pt x="181" y="196"/>
                      </a:lnTo>
                      <a:lnTo>
                        <a:pt x="197" y="175"/>
                      </a:lnTo>
                      <a:lnTo>
                        <a:pt x="212" y="157"/>
                      </a:lnTo>
                      <a:lnTo>
                        <a:pt x="231" y="146"/>
                      </a:lnTo>
                      <a:lnTo>
                        <a:pt x="251" y="138"/>
                      </a:lnTo>
                      <a:lnTo>
                        <a:pt x="282" y="132"/>
                      </a:lnTo>
                      <a:lnTo>
                        <a:pt x="302" y="120"/>
                      </a:lnTo>
                      <a:lnTo>
                        <a:pt x="307" y="108"/>
                      </a:lnTo>
                      <a:lnTo>
                        <a:pt x="301" y="78"/>
                      </a:lnTo>
                      <a:lnTo>
                        <a:pt x="298" y="79"/>
                      </a:lnTo>
                      <a:lnTo>
                        <a:pt x="284" y="53"/>
                      </a:lnTo>
                      <a:lnTo>
                        <a:pt x="278" y="40"/>
                      </a:lnTo>
                      <a:lnTo>
                        <a:pt x="278" y="38"/>
                      </a:lnTo>
                      <a:lnTo>
                        <a:pt x="266" y="21"/>
                      </a:lnTo>
                      <a:lnTo>
                        <a:pt x="243" y="0"/>
                      </a:lnTo>
                      <a:lnTo>
                        <a:pt x="203" y="17"/>
                      </a:lnTo>
                      <a:lnTo>
                        <a:pt x="179" y="50"/>
                      </a:lnTo>
                      <a:lnTo>
                        <a:pt x="148" y="64"/>
                      </a:lnTo>
                      <a:lnTo>
                        <a:pt x="101" y="82"/>
                      </a:lnTo>
                      <a:lnTo>
                        <a:pt x="87" y="106"/>
                      </a:lnTo>
                      <a:lnTo>
                        <a:pt x="66" y="108"/>
                      </a:lnTo>
                      <a:lnTo>
                        <a:pt x="37" y="120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e04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167"/>
                <p:cNvSpPr/>
                <p:nvPr/>
              </p:nvSpPr>
              <p:spPr>
                <a:xfrm flipH="1">
                  <a:off x="6810840" y="4555080"/>
                  <a:ext cx="608760" cy="494280"/>
                </a:xfrm>
                <a:custGeom>
                  <a:avLst/>
                  <a:gdLst>
                    <a:gd name="textAreaLeft" fmla="*/ -360 w 608760"/>
                    <a:gd name="textAreaRight" fmla="*/ 608760 w 608760"/>
                    <a:gd name="textAreaTop" fmla="*/ 0 h 494280"/>
                    <a:gd name="textAreaBottom" fmla="*/ 494640 h 494280"/>
                  </a:gdLst>
                  <a:ahLst/>
                  <a:rect l="textAreaLeft" t="textAreaTop" r="textAreaRight" b="textAreaBottom"/>
                  <a:pathLst>
                    <a:path w="358" h="291">
                      <a:moveTo>
                        <a:pt x="0" y="0"/>
                      </a:moveTo>
                      <a:lnTo>
                        <a:pt x="54" y="30"/>
                      </a:lnTo>
                      <a:lnTo>
                        <a:pt x="104" y="60"/>
                      </a:lnTo>
                      <a:lnTo>
                        <a:pt x="145" y="79"/>
                      </a:lnTo>
                      <a:lnTo>
                        <a:pt x="187" y="101"/>
                      </a:lnTo>
                      <a:lnTo>
                        <a:pt x="246" y="131"/>
                      </a:lnTo>
                      <a:lnTo>
                        <a:pt x="282" y="188"/>
                      </a:lnTo>
                      <a:lnTo>
                        <a:pt x="310" y="288"/>
                      </a:lnTo>
                      <a:lnTo>
                        <a:pt x="337" y="206"/>
                      </a:lnTo>
                      <a:lnTo>
                        <a:pt x="358" y="152"/>
                      </a:lnTo>
                      <a:lnTo>
                        <a:pt x="355" y="110"/>
                      </a:lnTo>
                      <a:lnTo>
                        <a:pt x="357" y="152"/>
                      </a:lnTo>
                      <a:lnTo>
                        <a:pt x="334" y="205"/>
                      </a:lnTo>
                      <a:lnTo>
                        <a:pt x="314" y="291"/>
                      </a:lnTo>
                      <a:lnTo>
                        <a:pt x="283" y="186"/>
                      </a:lnTo>
                      <a:lnTo>
                        <a:pt x="246" y="132"/>
                      </a:lnTo>
                      <a:lnTo>
                        <a:pt x="186" y="101"/>
                      </a:lnTo>
                      <a:lnTo>
                        <a:pt x="144" y="81"/>
                      </a:lnTo>
                      <a:lnTo>
                        <a:pt x="103" y="60"/>
                      </a:lnTo>
                      <a:lnTo>
                        <a:pt x="52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40a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168"/>
                <p:cNvSpPr/>
                <p:nvPr/>
              </p:nvSpPr>
              <p:spPr>
                <a:xfrm flipH="1">
                  <a:off x="7117560" y="4985280"/>
                  <a:ext cx="236160" cy="423000"/>
                </a:xfrm>
                <a:custGeom>
                  <a:avLst/>
                  <a:gdLst>
                    <a:gd name="textAreaLeft" fmla="*/ 360 w 236160"/>
                    <a:gd name="textAreaRight" fmla="*/ 236880 w 236160"/>
                    <a:gd name="textAreaTop" fmla="*/ 0 h 423000"/>
                    <a:gd name="textAreaBottom" fmla="*/ 423360 h 423000"/>
                  </a:gdLst>
                  <a:ahLst/>
                  <a:rect l="textAreaLeft" t="textAreaTop" r="textAreaRight" b="textAreaBottom"/>
                  <a:pathLst>
                    <a:path w="139" h="249">
                      <a:moveTo>
                        <a:pt x="65" y="189"/>
                      </a:moveTo>
                      <a:lnTo>
                        <a:pt x="25" y="151"/>
                      </a:lnTo>
                      <a:lnTo>
                        <a:pt x="12" y="112"/>
                      </a:lnTo>
                      <a:lnTo>
                        <a:pt x="7" y="71"/>
                      </a:lnTo>
                      <a:lnTo>
                        <a:pt x="1" y="15"/>
                      </a:lnTo>
                      <a:lnTo>
                        <a:pt x="14" y="5"/>
                      </a:lnTo>
                      <a:lnTo>
                        <a:pt x="25" y="4"/>
                      </a:lnTo>
                      <a:lnTo>
                        <a:pt x="33" y="38"/>
                      </a:lnTo>
                      <a:lnTo>
                        <a:pt x="51" y="58"/>
                      </a:lnTo>
                      <a:lnTo>
                        <a:pt x="58" y="103"/>
                      </a:lnTo>
                      <a:lnTo>
                        <a:pt x="70" y="137"/>
                      </a:lnTo>
                      <a:lnTo>
                        <a:pt x="98" y="166"/>
                      </a:lnTo>
                      <a:lnTo>
                        <a:pt x="119" y="202"/>
                      </a:lnTo>
                      <a:lnTo>
                        <a:pt x="139" y="249"/>
                      </a:lnTo>
                      <a:lnTo>
                        <a:pt x="116" y="202"/>
                      </a:lnTo>
                      <a:lnTo>
                        <a:pt x="95" y="165"/>
                      </a:lnTo>
                      <a:lnTo>
                        <a:pt x="68" y="136"/>
                      </a:lnTo>
                      <a:lnTo>
                        <a:pt x="57" y="103"/>
                      </a:lnTo>
                      <a:lnTo>
                        <a:pt x="54" y="59"/>
                      </a:lnTo>
                      <a:lnTo>
                        <a:pt x="33" y="42"/>
                      </a:lnTo>
                      <a:lnTo>
                        <a:pt x="29" y="0"/>
                      </a:lnTo>
                      <a:lnTo>
                        <a:pt x="16" y="4"/>
                      </a:lnTo>
                      <a:lnTo>
                        <a:pt x="0" y="15"/>
                      </a:lnTo>
                      <a:lnTo>
                        <a:pt x="2" y="38"/>
                      </a:lnTo>
                      <a:lnTo>
                        <a:pt x="7" y="73"/>
                      </a:lnTo>
                      <a:lnTo>
                        <a:pt x="12" y="106"/>
                      </a:lnTo>
                      <a:lnTo>
                        <a:pt x="25" y="14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cal Magnetic Disturba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7400" y="1828800"/>
            <a:ext cx="829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s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i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ems wro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ome locations there are local magnetic disturbances that can affect you comp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noted on ch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700"/>
                            </p:stCondLst>
                            <p:childTnLst>
                              <p:par>
                                <p:cTn id="9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3DDF-1367-4870-B27C-80AA409F1C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886680" y="3336840"/>
            <a:ext cx="360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Practice ..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2105640" y="4327560"/>
            <a:ext cx="360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Practice ..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248640" y="5318280"/>
            <a:ext cx="310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Practice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914400" y="1828800"/>
            <a:ext cx="77724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haps, but the best solution i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ll this sound complex?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24" name="Group 25"/>
          <p:cNvGrpSpPr/>
          <p:nvPr/>
        </p:nvGrpSpPr>
        <p:grpSpPr>
          <a:xfrm>
            <a:off x="7280280" y="3048120"/>
            <a:ext cx="1328400" cy="3428640"/>
            <a:chOff x="7280280" y="3048120"/>
            <a:chExt cx="1328400" cy="3428640"/>
          </a:xfrm>
        </p:grpSpPr>
        <p:sp>
          <p:nvSpPr>
            <p:cNvPr id="425" name="Freeform 26"/>
            <p:cNvSpPr/>
            <p:nvPr/>
          </p:nvSpPr>
          <p:spPr>
            <a:xfrm flipH="1">
              <a:off x="7912800" y="3282840"/>
              <a:ext cx="243720" cy="367560"/>
            </a:xfrm>
            <a:custGeom>
              <a:avLst/>
              <a:gdLst>
                <a:gd name="textAreaLeft" fmla="*/ -360 w 243720"/>
                <a:gd name="textAreaRight" fmla="*/ 243720 w 24372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167" h="504">
                  <a:moveTo>
                    <a:pt x="54" y="457"/>
                  </a:moveTo>
                  <a:lnTo>
                    <a:pt x="56" y="375"/>
                  </a:lnTo>
                  <a:lnTo>
                    <a:pt x="45" y="312"/>
                  </a:lnTo>
                  <a:lnTo>
                    <a:pt x="25" y="259"/>
                  </a:lnTo>
                  <a:lnTo>
                    <a:pt x="0" y="177"/>
                  </a:lnTo>
                  <a:lnTo>
                    <a:pt x="2" y="124"/>
                  </a:lnTo>
                  <a:lnTo>
                    <a:pt x="19" y="57"/>
                  </a:lnTo>
                  <a:lnTo>
                    <a:pt x="50" y="14"/>
                  </a:lnTo>
                  <a:lnTo>
                    <a:pt x="78" y="0"/>
                  </a:lnTo>
                  <a:lnTo>
                    <a:pt x="107" y="10"/>
                  </a:lnTo>
                  <a:lnTo>
                    <a:pt x="126" y="29"/>
                  </a:lnTo>
                  <a:lnTo>
                    <a:pt x="152" y="67"/>
                  </a:lnTo>
                  <a:lnTo>
                    <a:pt x="167" y="124"/>
                  </a:lnTo>
                  <a:lnTo>
                    <a:pt x="161" y="183"/>
                  </a:lnTo>
                  <a:lnTo>
                    <a:pt x="141" y="234"/>
                  </a:lnTo>
                  <a:lnTo>
                    <a:pt x="113" y="316"/>
                  </a:lnTo>
                  <a:lnTo>
                    <a:pt x="107" y="375"/>
                  </a:lnTo>
                  <a:lnTo>
                    <a:pt x="110" y="423"/>
                  </a:lnTo>
                  <a:lnTo>
                    <a:pt x="96" y="470"/>
                  </a:lnTo>
                  <a:lnTo>
                    <a:pt x="82" y="504"/>
                  </a:lnTo>
                  <a:lnTo>
                    <a:pt x="54" y="457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Freeform 27"/>
            <p:cNvSpPr/>
            <p:nvPr/>
          </p:nvSpPr>
          <p:spPr>
            <a:xfrm flipH="1">
              <a:off x="8240040" y="3262680"/>
              <a:ext cx="177840" cy="71280"/>
            </a:xfrm>
            <a:custGeom>
              <a:avLst/>
              <a:gdLst>
                <a:gd name="textAreaLeft" fmla="*/ 360 w 177840"/>
                <a:gd name="textAreaRight" fmla="*/ 178560 w 17784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122" h="97">
                  <a:moveTo>
                    <a:pt x="122" y="97"/>
                  </a:moveTo>
                  <a:lnTo>
                    <a:pt x="20" y="66"/>
                  </a:lnTo>
                  <a:lnTo>
                    <a:pt x="0" y="32"/>
                  </a:lnTo>
                  <a:lnTo>
                    <a:pt x="8" y="4"/>
                  </a:lnTo>
                  <a:lnTo>
                    <a:pt x="31" y="0"/>
                  </a:lnTo>
                  <a:lnTo>
                    <a:pt x="122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 flipH="1">
              <a:off x="8161200" y="3078720"/>
              <a:ext cx="78480" cy="116640"/>
            </a:xfrm>
            <a:custGeom>
              <a:avLst/>
              <a:gdLst>
                <a:gd name="textAreaLeft" fmla="*/ 360 w 78480"/>
                <a:gd name="textAreaRight" fmla="*/ 79200 w 7848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54" h="160">
                  <a:moveTo>
                    <a:pt x="54" y="160"/>
                  </a:moveTo>
                  <a:lnTo>
                    <a:pt x="0" y="59"/>
                  </a:lnTo>
                  <a:lnTo>
                    <a:pt x="5" y="15"/>
                  </a:lnTo>
                  <a:lnTo>
                    <a:pt x="31" y="0"/>
                  </a:lnTo>
                  <a:lnTo>
                    <a:pt x="46" y="30"/>
                  </a:lnTo>
                  <a:lnTo>
                    <a:pt x="54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 flipH="1">
              <a:off x="7922160" y="3048120"/>
              <a:ext cx="66960" cy="14004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46" h="192">
                  <a:moveTo>
                    <a:pt x="7" y="192"/>
                  </a:moveTo>
                  <a:lnTo>
                    <a:pt x="0" y="50"/>
                  </a:lnTo>
                  <a:lnTo>
                    <a:pt x="25" y="0"/>
                  </a:lnTo>
                  <a:lnTo>
                    <a:pt x="46" y="21"/>
                  </a:lnTo>
                  <a:lnTo>
                    <a:pt x="43" y="59"/>
                  </a:lnTo>
                  <a:lnTo>
                    <a:pt x="7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 flipH="1">
              <a:off x="7691400" y="3156120"/>
              <a:ext cx="160200" cy="87120"/>
            </a:xfrm>
            <a:custGeom>
              <a:avLst/>
              <a:gdLst>
                <a:gd name="textAreaLeft" fmla="*/ -360 w 160200"/>
                <a:gd name="textAreaRight" fmla="*/ 160200 w 1602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0" h="120">
                  <a:moveTo>
                    <a:pt x="0" y="120"/>
                  </a:moveTo>
                  <a:lnTo>
                    <a:pt x="82" y="0"/>
                  </a:lnTo>
                  <a:lnTo>
                    <a:pt x="110" y="23"/>
                  </a:lnTo>
                  <a:lnTo>
                    <a:pt x="108" y="63"/>
                  </a:lnTo>
                  <a:lnTo>
                    <a:pt x="93" y="82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 flipH="1">
              <a:off x="7701840" y="3784320"/>
              <a:ext cx="667440" cy="561240"/>
            </a:xfrm>
            <a:custGeom>
              <a:avLst/>
              <a:gdLst/>
              <a:ahLst/>
              <a:rect l="l" t="t" r="r" b="b"/>
              <a:pathLst>
                <a:path w="458" h="770">
                  <a:moveTo>
                    <a:pt x="299" y="222"/>
                  </a:moveTo>
                  <a:lnTo>
                    <a:pt x="243" y="78"/>
                  </a:lnTo>
                  <a:lnTo>
                    <a:pt x="186" y="0"/>
                  </a:lnTo>
                  <a:lnTo>
                    <a:pt x="119" y="0"/>
                  </a:lnTo>
                  <a:lnTo>
                    <a:pt x="45" y="49"/>
                  </a:lnTo>
                  <a:lnTo>
                    <a:pt x="12" y="135"/>
                  </a:lnTo>
                  <a:lnTo>
                    <a:pt x="0" y="251"/>
                  </a:lnTo>
                  <a:lnTo>
                    <a:pt x="12" y="405"/>
                  </a:lnTo>
                  <a:lnTo>
                    <a:pt x="56" y="578"/>
                  </a:lnTo>
                  <a:lnTo>
                    <a:pt x="136" y="694"/>
                  </a:lnTo>
                  <a:lnTo>
                    <a:pt x="197" y="751"/>
                  </a:lnTo>
                  <a:lnTo>
                    <a:pt x="260" y="770"/>
                  </a:lnTo>
                  <a:lnTo>
                    <a:pt x="310" y="741"/>
                  </a:lnTo>
                  <a:lnTo>
                    <a:pt x="338" y="694"/>
                  </a:lnTo>
                  <a:lnTo>
                    <a:pt x="356" y="578"/>
                  </a:lnTo>
                  <a:lnTo>
                    <a:pt x="351" y="443"/>
                  </a:lnTo>
                  <a:lnTo>
                    <a:pt x="333" y="329"/>
                  </a:lnTo>
                  <a:lnTo>
                    <a:pt x="446" y="222"/>
                  </a:lnTo>
                  <a:lnTo>
                    <a:pt x="458" y="175"/>
                  </a:lnTo>
                  <a:lnTo>
                    <a:pt x="446" y="154"/>
                  </a:lnTo>
                  <a:lnTo>
                    <a:pt x="322" y="279"/>
                  </a:lnTo>
                  <a:lnTo>
                    <a:pt x="299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 flipH="1">
              <a:off x="7296480" y="3252240"/>
              <a:ext cx="594720" cy="1253520"/>
            </a:xfrm>
            <a:custGeom>
              <a:avLst/>
              <a:gdLst>
                <a:gd name="textAreaLeft" fmla="*/ 360 w 594720"/>
                <a:gd name="textAreaRight" fmla="*/ 595440 w 594720"/>
                <a:gd name="textAreaTop" fmla="*/ 0 h 1253520"/>
                <a:gd name="textAreaBottom" fmla="*/ 1253880 h 1253520"/>
              </a:gdLst>
              <a:ahLst/>
              <a:rect l="textAreaLeft" t="textAreaTop" r="textAreaRight" b="textAreaBottom"/>
              <a:pathLst>
                <a:path w="408" h="1720">
                  <a:moveTo>
                    <a:pt x="113" y="1452"/>
                  </a:moveTo>
                  <a:lnTo>
                    <a:pt x="40" y="1547"/>
                  </a:lnTo>
                  <a:lnTo>
                    <a:pt x="17" y="1578"/>
                  </a:lnTo>
                  <a:lnTo>
                    <a:pt x="0" y="1644"/>
                  </a:lnTo>
                  <a:lnTo>
                    <a:pt x="23" y="1711"/>
                  </a:lnTo>
                  <a:lnTo>
                    <a:pt x="45" y="1720"/>
                  </a:lnTo>
                  <a:lnTo>
                    <a:pt x="113" y="1682"/>
                  </a:lnTo>
                  <a:lnTo>
                    <a:pt x="215" y="1547"/>
                  </a:lnTo>
                  <a:lnTo>
                    <a:pt x="306" y="1386"/>
                  </a:lnTo>
                  <a:lnTo>
                    <a:pt x="402" y="1201"/>
                  </a:lnTo>
                  <a:lnTo>
                    <a:pt x="408" y="1125"/>
                  </a:lnTo>
                  <a:lnTo>
                    <a:pt x="408" y="914"/>
                  </a:lnTo>
                  <a:lnTo>
                    <a:pt x="380" y="587"/>
                  </a:lnTo>
                  <a:lnTo>
                    <a:pt x="397" y="395"/>
                  </a:lnTo>
                  <a:lnTo>
                    <a:pt x="408" y="317"/>
                  </a:lnTo>
                  <a:lnTo>
                    <a:pt x="391" y="279"/>
                  </a:lnTo>
                  <a:lnTo>
                    <a:pt x="351" y="241"/>
                  </a:lnTo>
                  <a:lnTo>
                    <a:pt x="323" y="213"/>
                  </a:lnTo>
                  <a:lnTo>
                    <a:pt x="339" y="40"/>
                  </a:lnTo>
                  <a:lnTo>
                    <a:pt x="328" y="0"/>
                  </a:lnTo>
                  <a:lnTo>
                    <a:pt x="306" y="11"/>
                  </a:lnTo>
                  <a:lnTo>
                    <a:pt x="295" y="232"/>
                  </a:lnTo>
                  <a:lnTo>
                    <a:pt x="283" y="289"/>
                  </a:lnTo>
                  <a:lnTo>
                    <a:pt x="278" y="327"/>
                  </a:lnTo>
                  <a:lnTo>
                    <a:pt x="232" y="298"/>
                  </a:lnTo>
                  <a:lnTo>
                    <a:pt x="198" y="298"/>
                  </a:lnTo>
                  <a:lnTo>
                    <a:pt x="198" y="336"/>
                  </a:lnTo>
                  <a:lnTo>
                    <a:pt x="221" y="367"/>
                  </a:lnTo>
                  <a:lnTo>
                    <a:pt x="261" y="367"/>
                  </a:lnTo>
                  <a:lnTo>
                    <a:pt x="289" y="405"/>
                  </a:lnTo>
                  <a:lnTo>
                    <a:pt x="311" y="471"/>
                  </a:lnTo>
                  <a:lnTo>
                    <a:pt x="334" y="578"/>
                  </a:lnTo>
                  <a:lnTo>
                    <a:pt x="351" y="789"/>
                  </a:lnTo>
                  <a:lnTo>
                    <a:pt x="351" y="981"/>
                  </a:lnTo>
                  <a:lnTo>
                    <a:pt x="339" y="1135"/>
                  </a:lnTo>
                  <a:lnTo>
                    <a:pt x="317" y="1201"/>
                  </a:lnTo>
                  <a:lnTo>
                    <a:pt x="238" y="1298"/>
                  </a:lnTo>
                  <a:lnTo>
                    <a:pt x="153" y="1386"/>
                  </a:lnTo>
                  <a:lnTo>
                    <a:pt x="113" y="14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 flipH="1">
              <a:off x="8072280" y="4409640"/>
              <a:ext cx="536400" cy="756720"/>
            </a:xfrm>
            <a:custGeom>
              <a:avLst/>
              <a:gdLst>
                <a:gd name="textAreaLeft" fmla="*/ 360 w 536400"/>
                <a:gd name="textAreaRight" fmla="*/ 537120 w 536400"/>
                <a:gd name="textAreaTop" fmla="*/ 0 h 756720"/>
                <a:gd name="textAreaBottom" fmla="*/ 757080 h 756720"/>
              </a:gdLst>
              <a:ahLst/>
              <a:rect l="textAreaLeft" t="textAreaTop" r="textAreaRight" b="textAreaBottom"/>
              <a:pathLst>
                <a:path w="368" h="1038">
                  <a:moveTo>
                    <a:pt x="368" y="29"/>
                  </a:moveTo>
                  <a:lnTo>
                    <a:pt x="328" y="0"/>
                  </a:lnTo>
                  <a:lnTo>
                    <a:pt x="243" y="10"/>
                  </a:lnTo>
                  <a:lnTo>
                    <a:pt x="169" y="107"/>
                  </a:lnTo>
                  <a:lnTo>
                    <a:pt x="62" y="308"/>
                  </a:lnTo>
                  <a:lnTo>
                    <a:pt x="6" y="472"/>
                  </a:lnTo>
                  <a:lnTo>
                    <a:pt x="0" y="529"/>
                  </a:lnTo>
                  <a:lnTo>
                    <a:pt x="28" y="635"/>
                  </a:lnTo>
                  <a:lnTo>
                    <a:pt x="90" y="683"/>
                  </a:lnTo>
                  <a:lnTo>
                    <a:pt x="169" y="740"/>
                  </a:lnTo>
                  <a:lnTo>
                    <a:pt x="232" y="768"/>
                  </a:lnTo>
                  <a:lnTo>
                    <a:pt x="260" y="818"/>
                  </a:lnTo>
                  <a:lnTo>
                    <a:pt x="243" y="884"/>
                  </a:lnTo>
                  <a:lnTo>
                    <a:pt x="198" y="962"/>
                  </a:lnTo>
                  <a:lnTo>
                    <a:pt x="141" y="972"/>
                  </a:lnTo>
                  <a:lnTo>
                    <a:pt x="102" y="941"/>
                  </a:lnTo>
                  <a:lnTo>
                    <a:pt x="78" y="972"/>
                  </a:lnTo>
                  <a:lnTo>
                    <a:pt x="84" y="1010"/>
                  </a:lnTo>
                  <a:lnTo>
                    <a:pt x="130" y="1038"/>
                  </a:lnTo>
                  <a:lnTo>
                    <a:pt x="198" y="1038"/>
                  </a:lnTo>
                  <a:lnTo>
                    <a:pt x="260" y="1010"/>
                  </a:lnTo>
                  <a:lnTo>
                    <a:pt x="294" y="972"/>
                  </a:lnTo>
                  <a:lnTo>
                    <a:pt x="317" y="903"/>
                  </a:lnTo>
                  <a:lnTo>
                    <a:pt x="328" y="827"/>
                  </a:lnTo>
                  <a:lnTo>
                    <a:pt x="300" y="759"/>
                  </a:lnTo>
                  <a:lnTo>
                    <a:pt x="232" y="711"/>
                  </a:lnTo>
                  <a:lnTo>
                    <a:pt x="152" y="673"/>
                  </a:lnTo>
                  <a:lnTo>
                    <a:pt x="84" y="607"/>
                  </a:lnTo>
                  <a:lnTo>
                    <a:pt x="67" y="548"/>
                  </a:lnTo>
                  <a:lnTo>
                    <a:pt x="78" y="443"/>
                  </a:lnTo>
                  <a:lnTo>
                    <a:pt x="130" y="308"/>
                  </a:lnTo>
                  <a:lnTo>
                    <a:pt x="192" y="230"/>
                  </a:lnTo>
                  <a:lnTo>
                    <a:pt x="289" y="173"/>
                  </a:lnTo>
                  <a:lnTo>
                    <a:pt x="368" y="145"/>
                  </a:lnTo>
                  <a:lnTo>
                    <a:pt x="368" y="67"/>
                  </a:lnTo>
                  <a:lnTo>
                    <a:pt x="3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 flipH="1">
              <a:off x="7668000" y="4374720"/>
              <a:ext cx="503280" cy="93132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931320"/>
                <a:gd name="textAreaBottom" fmla="*/ 931680 h 931320"/>
              </a:gdLst>
              <a:ahLst/>
              <a:rect l="textAreaLeft" t="textAreaTop" r="textAreaRight" b="textAreaBottom"/>
              <a:pathLst>
                <a:path w="345" h="1277">
                  <a:moveTo>
                    <a:pt x="300" y="403"/>
                  </a:moveTo>
                  <a:lnTo>
                    <a:pt x="265" y="163"/>
                  </a:lnTo>
                  <a:lnTo>
                    <a:pt x="226" y="47"/>
                  </a:lnTo>
                  <a:lnTo>
                    <a:pt x="141" y="0"/>
                  </a:lnTo>
                  <a:lnTo>
                    <a:pt x="56" y="19"/>
                  </a:lnTo>
                  <a:lnTo>
                    <a:pt x="17" y="144"/>
                  </a:lnTo>
                  <a:lnTo>
                    <a:pt x="22" y="298"/>
                  </a:lnTo>
                  <a:lnTo>
                    <a:pt x="45" y="547"/>
                  </a:lnTo>
                  <a:lnTo>
                    <a:pt x="45" y="768"/>
                  </a:lnTo>
                  <a:lnTo>
                    <a:pt x="17" y="960"/>
                  </a:lnTo>
                  <a:lnTo>
                    <a:pt x="0" y="1066"/>
                  </a:lnTo>
                  <a:lnTo>
                    <a:pt x="11" y="1161"/>
                  </a:lnTo>
                  <a:lnTo>
                    <a:pt x="50" y="1211"/>
                  </a:lnTo>
                  <a:lnTo>
                    <a:pt x="102" y="1258"/>
                  </a:lnTo>
                  <a:lnTo>
                    <a:pt x="152" y="1277"/>
                  </a:lnTo>
                  <a:lnTo>
                    <a:pt x="215" y="1277"/>
                  </a:lnTo>
                  <a:lnTo>
                    <a:pt x="289" y="1180"/>
                  </a:lnTo>
                  <a:lnTo>
                    <a:pt x="345" y="979"/>
                  </a:lnTo>
                  <a:lnTo>
                    <a:pt x="339" y="796"/>
                  </a:lnTo>
                  <a:lnTo>
                    <a:pt x="305" y="585"/>
                  </a:lnTo>
                  <a:lnTo>
                    <a:pt x="300" y="4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 flipH="1">
              <a:off x="7939080" y="5131440"/>
              <a:ext cx="381960" cy="1345320"/>
            </a:xfrm>
            <a:custGeom>
              <a:avLst/>
              <a:gdLst>
                <a:gd name="textAreaLeft" fmla="*/ -360 w 381960"/>
                <a:gd name="textAreaRight" fmla="*/ 381960 w 381960"/>
                <a:gd name="textAreaTop" fmla="*/ 0 h 1345320"/>
                <a:gd name="textAreaBottom" fmla="*/ 1345320 h 1345320"/>
              </a:gdLst>
              <a:ahLst/>
              <a:rect l="textAreaLeft" t="textAreaTop" r="textAreaRight" b="textAreaBottom"/>
              <a:pathLst>
                <a:path w="262" h="1846">
                  <a:moveTo>
                    <a:pt x="249" y="28"/>
                  </a:moveTo>
                  <a:lnTo>
                    <a:pt x="182" y="0"/>
                  </a:lnTo>
                  <a:lnTo>
                    <a:pt x="142" y="28"/>
                  </a:lnTo>
                  <a:lnTo>
                    <a:pt x="125" y="123"/>
                  </a:lnTo>
                  <a:lnTo>
                    <a:pt x="142" y="652"/>
                  </a:lnTo>
                  <a:lnTo>
                    <a:pt x="142" y="778"/>
                  </a:lnTo>
                  <a:lnTo>
                    <a:pt x="120" y="1009"/>
                  </a:lnTo>
                  <a:lnTo>
                    <a:pt x="114" y="1278"/>
                  </a:lnTo>
                  <a:lnTo>
                    <a:pt x="125" y="1413"/>
                  </a:lnTo>
                  <a:lnTo>
                    <a:pt x="114" y="1489"/>
                  </a:lnTo>
                  <a:lnTo>
                    <a:pt x="35" y="1605"/>
                  </a:lnTo>
                  <a:lnTo>
                    <a:pt x="0" y="1749"/>
                  </a:lnTo>
                  <a:lnTo>
                    <a:pt x="7" y="1797"/>
                  </a:lnTo>
                  <a:lnTo>
                    <a:pt x="68" y="1846"/>
                  </a:lnTo>
                  <a:lnTo>
                    <a:pt x="85" y="1825"/>
                  </a:lnTo>
                  <a:lnTo>
                    <a:pt x="92" y="1740"/>
                  </a:lnTo>
                  <a:lnTo>
                    <a:pt x="108" y="1614"/>
                  </a:lnTo>
                  <a:lnTo>
                    <a:pt x="136" y="1557"/>
                  </a:lnTo>
                  <a:lnTo>
                    <a:pt x="170" y="1519"/>
                  </a:lnTo>
                  <a:lnTo>
                    <a:pt x="199" y="1470"/>
                  </a:lnTo>
                  <a:lnTo>
                    <a:pt x="205" y="1432"/>
                  </a:lnTo>
                  <a:lnTo>
                    <a:pt x="188" y="1384"/>
                  </a:lnTo>
                  <a:lnTo>
                    <a:pt x="170" y="1356"/>
                  </a:lnTo>
                  <a:lnTo>
                    <a:pt x="159" y="1240"/>
                  </a:lnTo>
                  <a:lnTo>
                    <a:pt x="170" y="998"/>
                  </a:lnTo>
                  <a:lnTo>
                    <a:pt x="210" y="720"/>
                  </a:lnTo>
                  <a:lnTo>
                    <a:pt x="249" y="498"/>
                  </a:lnTo>
                  <a:lnTo>
                    <a:pt x="262" y="230"/>
                  </a:lnTo>
                  <a:lnTo>
                    <a:pt x="24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 flipH="1">
              <a:off x="7280280" y="5131440"/>
              <a:ext cx="627120" cy="1135440"/>
            </a:xfrm>
            <a:custGeom>
              <a:avLst/>
              <a:gdLst>
                <a:gd name="textAreaLeft" fmla="*/ 0 w 627120"/>
                <a:gd name="textAreaRight" fmla="*/ 627120 w 627120"/>
                <a:gd name="textAreaTop" fmla="*/ 0 h 1135440"/>
                <a:gd name="textAreaBottom" fmla="*/ 1135800 h 1135440"/>
              </a:gdLst>
              <a:ahLst/>
              <a:rect l="textAreaLeft" t="textAreaTop" r="textAreaRight" b="textAreaBottom"/>
              <a:pathLst>
                <a:path w="430" h="1557">
                  <a:moveTo>
                    <a:pt x="141" y="230"/>
                  </a:moveTo>
                  <a:lnTo>
                    <a:pt x="130" y="76"/>
                  </a:lnTo>
                  <a:lnTo>
                    <a:pt x="80" y="0"/>
                  </a:lnTo>
                  <a:lnTo>
                    <a:pt x="6" y="9"/>
                  </a:lnTo>
                  <a:lnTo>
                    <a:pt x="0" y="76"/>
                  </a:lnTo>
                  <a:lnTo>
                    <a:pt x="6" y="220"/>
                  </a:lnTo>
                  <a:lnTo>
                    <a:pt x="45" y="441"/>
                  </a:lnTo>
                  <a:lnTo>
                    <a:pt x="74" y="605"/>
                  </a:lnTo>
                  <a:lnTo>
                    <a:pt x="108" y="825"/>
                  </a:lnTo>
                  <a:lnTo>
                    <a:pt x="119" y="1017"/>
                  </a:lnTo>
                  <a:lnTo>
                    <a:pt x="119" y="1171"/>
                  </a:lnTo>
                  <a:lnTo>
                    <a:pt x="102" y="1287"/>
                  </a:lnTo>
                  <a:lnTo>
                    <a:pt x="85" y="1325"/>
                  </a:lnTo>
                  <a:lnTo>
                    <a:pt x="85" y="1363"/>
                  </a:lnTo>
                  <a:lnTo>
                    <a:pt x="108" y="1422"/>
                  </a:lnTo>
                  <a:lnTo>
                    <a:pt x="147" y="1441"/>
                  </a:lnTo>
                  <a:lnTo>
                    <a:pt x="209" y="1441"/>
                  </a:lnTo>
                  <a:lnTo>
                    <a:pt x="322" y="1489"/>
                  </a:lnTo>
                  <a:lnTo>
                    <a:pt x="356" y="1557"/>
                  </a:lnTo>
                  <a:lnTo>
                    <a:pt x="408" y="1517"/>
                  </a:lnTo>
                  <a:lnTo>
                    <a:pt x="430" y="1422"/>
                  </a:lnTo>
                  <a:lnTo>
                    <a:pt x="408" y="1384"/>
                  </a:lnTo>
                  <a:lnTo>
                    <a:pt x="311" y="1363"/>
                  </a:lnTo>
                  <a:lnTo>
                    <a:pt x="204" y="1363"/>
                  </a:lnTo>
                  <a:lnTo>
                    <a:pt x="158" y="1354"/>
                  </a:lnTo>
                  <a:lnTo>
                    <a:pt x="147" y="1297"/>
                  </a:lnTo>
                  <a:lnTo>
                    <a:pt x="158" y="1190"/>
                  </a:lnTo>
                  <a:lnTo>
                    <a:pt x="165" y="1008"/>
                  </a:lnTo>
                  <a:lnTo>
                    <a:pt x="152" y="806"/>
                  </a:lnTo>
                  <a:lnTo>
                    <a:pt x="136" y="538"/>
                  </a:lnTo>
                  <a:lnTo>
                    <a:pt x="141" y="306"/>
                  </a:lnTo>
                  <a:lnTo>
                    <a:pt x="141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C2A3-2922-4E6E-B93A-1957398C5F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d Chapter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0" name="Picture 1032" descr="eagle"/>
          <p:cNvPicPr/>
          <p:nvPr/>
        </p:nvPicPr>
        <p:blipFill>
          <a:blip r:embed="rId1"/>
          <a:stretch/>
        </p:blipFill>
        <p:spPr>
          <a:xfrm>
            <a:off x="1400040" y="2620800"/>
            <a:ext cx="6343920" cy="278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F74A-2143-4A00-A511-C09F0CD82A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8000" y="250920"/>
            <a:ext cx="46926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rief Histo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enicians used magnetic direction fin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for use in Europe/China ~1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ss card invented ~ 13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 understood by 14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s showed variation by 17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1" descr="npo00000f"/>
          <p:cNvPicPr/>
          <p:nvPr/>
        </p:nvPicPr>
        <p:blipFill>
          <a:blip r:embed="rId6"/>
          <a:stretch/>
        </p:blipFill>
        <p:spPr>
          <a:xfrm>
            <a:off x="7172280" y="4095720"/>
            <a:ext cx="1590840" cy="23814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107" name="Picture 12" descr="npo000012"/>
          <p:cNvPicPr/>
          <p:nvPr/>
        </p:nvPicPr>
        <p:blipFill>
          <a:blip r:embed="rId7"/>
          <a:stretch/>
        </p:blipFill>
        <p:spPr>
          <a:xfrm>
            <a:off x="6858000" y="228600"/>
            <a:ext cx="1905120" cy="15638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5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DC4C-8530-4992-889E-91A7CF1681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172368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inders bar to compensate for deviation developed 180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chie liquid filled compass - 185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 gyrocompass developed by  Speery and Anschutz-Kanpfe ~190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2" descr="npo000012"/>
          <p:cNvPicPr/>
          <p:nvPr/>
        </p:nvPicPr>
        <p:blipFill>
          <a:blip r:embed="rId4"/>
          <a:stretch/>
        </p:blipFill>
        <p:spPr>
          <a:xfrm>
            <a:off x="6858000" y="228600"/>
            <a:ext cx="1905120" cy="15638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113" name="Picture 19" descr="1 open"/>
          <p:cNvPicPr/>
          <p:nvPr/>
        </p:nvPicPr>
        <p:blipFill>
          <a:blip r:embed="rId5"/>
          <a:stretch/>
        </p:blipFill>
        <p:spPr>
          <a:xfrm>
            <a:off x="6834240" y="4145040"/>
            <a:ext cx="1928880" cy="248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68000" y="250920"/>
            <a:ext cx="46926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rief Histo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6CD4-5413-461C-8FCC-307B5158E0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npo000016"/>
          <p:cNvPicPr/>
          <p:nvPr/>
        </p:nvPicPr>
        <p:blipFill>
          <a:blip r:embed="rId1"/>
          <a:stretch/>
        </p:blipFill>
        <p:spPr>
          <a:xfrm>
            <a:off x="576360" y="1773360"/>
            <a:ext cx="4147920" cy="38653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s of a Compa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0" name="Group 20"/>
          <p:cNvGrpSpPr/>
          <p:nvPr/>
        </p:nvGrpSpPr>
        <p:grpSpPr>
          <a:xfrm>
            <a:off x="1905120" y="2743200"/>
            <a:ext cx="6933960" cy="1295280"/>
            <a:chOff x="1905120" y="2743200"/>
            <a:chExt cx="6933960" cy="1295280"/>
          </a:xfrm>
        </p:grpSpPr>
        <p:sp>
          <p:nvSpPr>
            <p:cNvPr id="121" name="Rectangle 4"/>
            <p:cNvSpPr/>
            <p:nvPr/>
          </p:nvSpPr>
          <p:spPr>
            <a:xfrm>
              <a:off x="5257800" y="2743200"/>
              <a:ext cx="35812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nstructed of non-magnetic materials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 flipV="1">
              <a:off x="1905120" y="2971440"/>
              <a:ext cx="3352680" cy="609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CA22-70F1-457C-BFF4-8F531B54A0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" descr="npo000016"/>
          <p:cNvPicPr/>
          <p:nvPr/>
        </p:nvPicPr>
        <p:blipFill>
          <a:blip r:embed="rId1"/>
          <a:stretch/>
        </p:blipFill>
        <p:spPr>
          <a:xfrm>
            <a:off x="576360" y="1773360"/>
            <a:ext cx="4147920" cy="38653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s of a Compa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8" name="Group 19"/>
          <p:cNvGrpSpPr/>
          <p:nvPr/>
        </p:nvGrpSpPr>
        <p:grpSpPr>
          <a:xfrm>
            <a:off x="2057400" y="2819520"/>
            <a:ext cx="6781680" cy="1309680"/>
            <a:chOff x="2057400" y="2819520"/>
            <a:chExt cx="6781680" cy="1309680"/>
          </a:xfrm>
        </p:grpSpPr>
        <p:sp>
          <p:nvSpPr>
            <p:cNvPr id="129" name="Rectangle 12"/>
            <p:cNvSpPr/>
            <p:nvPr/>
          </p:nvSpPr>
          <p:spPr>
            <a:xfrm>
              <a:off x="5257800" y="2833560"/>
              <a:ext cx="35812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dexed card to read direction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2057400" y="2819520"/>
              <a:ext cx="3200400" cy="228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CBAC-C9B0-4C24-84FE-B8962F041D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npo000016"/>
          <p:cNvPicPr/>
          <p:nvPr/>
        </p:nvPicPr>
        <p:blipFill>
          <a:blip r:embed="rId1"/>
          <a:stretch/>
        </p:blipFill>
        <p:spPr>
          <a:xfrm>
            <a:off x="576360" y="1773360"/>
            <a:ext cx="4147920" cy="38653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s of a Compa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6" name="Group 24"/>
          <p:cNvGrpSpPr/>
          <p:nvPr/>
        </p:nvGrpSpPr>
        <p:grpSpPr>
          <a:xfrm>
            <a:off x="2590920" y="2590920"/>
            <a:ext cx="6248160" cy="1552320"/>
            <a:chOff x="2590920" y="2590920"/>
            <a:chExt cx="6248160" cy="1552320"/>
          </a:xfrm>
        </p:grpSpPr>
        <p:sp>
          <p:nvSpPr>
            <p:cNvPr id="137" name="Line 21"/>
            <p:cNvSpPr/>
            <p:nvPr/>
          </p:nvSpPr>
          <p:spPr>
            <a:xfrm>
              <a:off x="2590920" y="2590920"/>
              <a:ext cx="2590560" cy="457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5257800" y="2847960"/>
              <a:ext cx="35812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ubber line pins to align compass with boat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276C-4D18-4B12-9E00-5EE53B88D1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" descr="npo000016"/>
          <p:cNvPicPr/>
          <p:nvPr/>
        </p:nvPicPr>
        <p:blipFill>
          <a:blip r:embed="rId1"/>
          <a:stretch/>
        </p:blipFill>
        <p:spPr>
          <a:xfrm>
            <a:off x="576360" y="1773360"/>
            <a:ext cx="4147920" cy="38653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s of a Compa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3581280" y="2833560"/>
            <a:ext cx="5257800" cy="1295640"/>
            <a:chOff x="3581280" y="2833560"/>
            <a:chExt cx="5257800" cy="1295640"/>
          </a:xfrm>
        </p:grpSpPr>
        <p:sp>
          <p:nvSpPr>
            <p:cNvPr id="145" name="Line 6"/>
            <p:cNvSpPr/>
            <p:nvPr/>
          </p:nvSpPr>
          <p:spPr>
            <a:xfrm flipV="1">
              <a:off x="3581280" y="3048120"/>
              <a:ext cx="1676520" cy="3045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5257800" y="2833560"/>
              <a:ext cx="35812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Gimbal system to keep card level when boat heels and pitches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37:09Z</dcterms:created>
  <dc:creator>jan</dc:creator>
  <dc:description/>
  <dc:language>en-US</dc:language>
  <cp:lastModifiedBy>Cypherja</cp:lastModifiedBy>
  <dcterms:modified xsi:type="dcterms:W3CDTF">2010-10-01T11:11:52Z</dcterms:modified>
  <cp:revision>145</cp:revision>
  <dc:subject/>
  <dc:title>PowerPoint Presentation</dc:title>
</cp:coreProperties>
</file>