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28C9-0262-47C7-8604-FA7441CB9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1E17-2270-4EF6-BFF8-1BF0081B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C76A-8023-40BF-9C05-C70BF8531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9: Some Chapt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questions ar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to display each answer in sequence. Font change used to simulate human hand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ast answer displayed, one more [CLICK] to next screen (allows instructor pause for last answ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D990-4DDF-4A20-8AED-22FD9CAC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0: End of Chapter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st normally-displayed slide of this de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2EDF-C5E7-43E3-A03D-70B1D70C4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1: end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intended to b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7867-3EA1-45AF-9CAD-47FD4D55C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COAST GUARD AUXILIARY – Auxiliary Communications Specialty Course (“AUXC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 UPDATE, version 0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1. Chapter cover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1: “Communications Staff Officers’ Responsibilit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the final chapter of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2: Chapter 11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B7F6-4583-4DB9-8AC9-685794299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3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lide displayed. Table is intended for a high-level summary of the officers’ descriptions which are detailed further in subsequent slides. Above the table are representations of sleeve stripes for the four positions (FSO-CM, SO-CM, ADSO-CM, DSO-CM). Slide displays FSO-CM highlighted. Gold star adjacent to sleeve stripes and appropriate table row for each offi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SO-CM highligh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ADSO-CM highligh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DSO-CM highligh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LICK]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 * * * * * * * (end comm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6C76-8E87-48EA-AD62-33EC2AD54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4: FSO-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17BE-4E8E-4B1D-B85B-C39B3694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5: SO-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21DD-D97E-4454-8C90-78AB45C4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6: ADSO-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9476-3EF3-4077-9E4C-40134770C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7: DSO-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2F76-45A7-49C1-BB8C-A7B4B1C1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: More Details and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author’s n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83B6-547F-44D6-B3A6-3844417A2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C2A-9EDC-400B-B8CC-C0646A76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FEC-3591-4FC1-BEE4-DE8020D2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09402-CA0C-4E6D-B087-8E95C51C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1C2C8-B1D4-4FFC-A7DA-0DB54225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DECC7-DB14-48C6-9C3A-39BA49F0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DB823-3B78-46C1-A78D-F48912C4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2F330-138D-4E34-A4D3-E69DB180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E8B6F-C075-41BD-A492-D2DB01AD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EFC61-07DC-4B0A-8B17-7B1018E7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13BC1-DBF0-4A83-87E4-C6D175E1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C2300-B8D4-4998-82BF-87DDD396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D8F25-C7F2-40CE-8CAD-678457E4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C00-B46E-49E8-BFD2-EFE8CE43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72309-9A3B-4553-AE1D-58AAC61E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5B30C-A1FF-449E-894D-9A8E673E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4B3BF-6FB6-4859-9C30-C6C85EC4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42C16-617D-4892-953C-8EF7C1A8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1E885-B7CC-4D23-ABBA-7D21DE95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A103A-9E96-4A74-9259-84033F51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67BFB-3401-4F97-AF32-491DCD5B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ED9BD-47A2-4589-A170-C5417807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9BAC9-D394-47AC-8E98-73D96CCD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70751-61C2-4AEC-83EB-AFBEB935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061-E1D0-4EC2-B983-5463550C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07509-D0FB-4285-A282-D06E4622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0CCBD-A2D8-47BD-B968-9F6F426D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EC330-EEE2-43E8-BCFA-AD15655C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6E0F3-E3B0-4CBB-A42A-5336738A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7B3D5-84E5-472D-8D18-6AF9F2C1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AFD77-8EF1-4E06-9403-B14022FD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36712-9F3E-4D1F-9387-FEECEA16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D3E70-FA38-490C-AA8A-93C1113C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F1962-EB95-4F4E-8F7F-0CAA44F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79FD9-6695-4227-B29B-C9AA9C64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AEAB-8BAE-4ADF-91F6-64F301B5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7229A-9790-4501-8688-2CCA91A1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03E09-3896-4E50-854B-B7B95B01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7FF72-C8C0-47FD-A99A-A711034D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7A223-9C19-431E-98F5-997F9681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7A16A-31BE-48C0-A6F5-F4B10A5A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83A93-9EC1-4120-9E3A-DE02970A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49601-8B7B-4540-B54E-8B9D8C5C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F1FEC-34B8-4FF8-91C6-E443EA65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310A3-5893-45DE-8527-56C84391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C759F-3995-4390-8A23-EADEB920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96EB-10D1-4FD0-AC79-F8536797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9ECB3-67DB-4143-A57A-9619CE05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F607D-33A5-4AAE-AC80-4755B38C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429B5-9567-489A-8495-1D8F394B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3DAEE-BBFD-4E04-8EE8-2F013FC5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AE699-7BBF-44DA-BBEF-D84E8A44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B0DB0-3C4A-4D23-B9F7-10111D04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02121-8BBA-440D-A8BC-DF297E7D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5EE6B-F5AF-44DE-8B82-FEE50D85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03D47-7084-486C-A690-7378ABE0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B64E7-69A9-41A6-ADC2-5BC1E40A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CC7E-C9AD-440D-BBD9-DB6B4669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65ACB-EEC7-413B-AF8E-AA25A30C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9A95F-2FB9-4A41-B339-EBBDA2F1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D2027-AC12-4606-9BF8-7875E71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56F1D-6130-4A81-9881-9D9BA22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DB9F1-C9B3-4934-8338-D24251D3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CCC5A-F5A5-4A91-B3A6-EA649F2A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E7C55-609E-43DC-A7B1-2CB78349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0C375-D485-427E-806A-08A14895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76887-99D2-4054-A70D-DFE7BFC8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B5749-FA94-4CC4-8F24-BB0C4324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4C15-0123-4965-90EC-832E359B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F27A9-FDE1-451A-93B8-3F6F8914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DF9FC-2210-438B-9436-34BB1BF3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12B79-8A03-4185-A6F1-99ED7433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B7E9B-EFF1-423A-B557-4886F6EF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79A38-78CC-4952-A72A-163107BB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FD7B4-8492-4BD0-97CE-3666DFBA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57F90-DEBC-4E61-9978-F3A652AF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EE008-8995-4C65-B626-17CFC6C3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E77EA-B74A-48EF-B942-973EDE2F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980C-E848-4A17-86AE-F2041DE4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BBAF-E609-4EA3-ACE2-64A054AA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0F50-0CEB-4B28-AF66-EBECC36E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A6D-EAA5-4D80-9E4E-290FD458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0170-DADD-445D-AC64-2F86041B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C5D5-A7E5-4483-B529-B03B38A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0D6D-51B8-41ED-BCD3-49C28349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DEF3-5821-4536-9CAA-78DB941A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DBC3-54AC-40B6-8AFB-E7C1810A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2CE3-7C1F-413C-81F4-AD8F48A7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4BD9-0C12-4798-A47F-7CD278FA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F914-9597-4E0E-99E1-232D3752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4E75-B10F-4500-BD32-2A62A9C6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2091-7AAF-4FC1-9653-73E5BE44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A28-7278-4665-9063-5D4D363F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D787-70DE-45C4-8105-5835451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B2A92-F026-4874-BA10-BFA9CAB6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BAEE-2593-4AD5-9803-B907B6E4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D67C4-3964-4FA2-946E-AFBEF82F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34A3-3777-4EAF-AA9B-DD24062A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1918-FD25-44C1-80BD-E530D35B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47A3-7504-4EBE-800D-8F499068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0C519-1900-4999-99B1-73EE1329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E8B52-2021-43B7-84AE-2A1ABFB0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ED47-8B97-433A-ACBB-0B547256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DB2-7086-4A39-879B-904AFA8C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DE611-96EC-4151-907B-5F0DB4B8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B821-FB27-41C8-8551-B25A2461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7137E-25DD-46BE-BA42-E9E923BB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F005-2DF2-4BE9-9EBB-7D16425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3F164-8016-4AB5-A61F-8D0D08E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F95E-5EA0-48D8-95BF-FE5DBDC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74127-FB07-400C-828C-CB183042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21868-D438-4221-A5FD-A9917FF6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5A67-5AED-4893-8EF0-1243A1F2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C009E-911B-43A8-9B43-2B46B8D9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496-AB51-47A2-B9B1-E4E1874A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0E1E-9167-46E3-A491-83919E34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EE86-17F3-4164-8897-A85CD6AA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C2EBF-B853-412B-83E7-B7BE7A11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2B81-D7F4-4B5B-B4B3-F5227771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92B78-516C-4037-8937-51CD4202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7F4BC-AD07-4899-9954-53E2BBC3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F8365-E525-4F20-B247-BC687831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DE2E-9912-4EAA-897A-E3A1E368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202BE-F220-4B96-93CB-F7C2203D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76F81-8E47-440F-93E5-1D06AD0C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F6B-EC63-486E-B12F-858C65B1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5E540-5F2F-46AC-BCF5-55FEDB3A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60481-B8D0-4C7D-9D58-398B4FF2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8CD2A-8DCE-4286-9B4D-3E3B7D9C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9EC1B-61A3-4289-9A8F-E1B5EF9A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5DDF4-19F8-4D0A-888F-3FE4605E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1605C-3B7B-4C75-9543-3B3F3B1B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42308-2A11-440B-A5B2-D85C693C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760A1-EF84-4D2A-A37E-56F5168B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8A287-562C-4EC1-9DE0-2D73475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3A8B6-4E9F-4CDF-8482-BC51CA61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8B4-C01D-4C85-B572-D9850F90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82FD1-9A11-42AC-A7A7-425B3C50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F4CD5-32B1-4AEE-9FD8-EEF0C82C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0F8E-4B5A-4E98-A7EB-39A0E5B6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7EE5F-2517-413F-9B31-797D4ECA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2E715-786F-4363-B8C0-0A008D1A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91D7D-97E1-40C2-8726-EEBD1573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1AC06-46F7-4EB8-A1B4-C2993CB2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B6A57-39C8-45B8-A5E2-04A61F18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AF8DF-D066-4F42-9C63-8357704E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DCA81-F5D2-495D-B773-899E079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7BE-E018-459C-8251-36C068E9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CE11E-4271-4295-8FC4-7E8AC6C3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CBC7F-318C-4C5A-8616-7702202F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1BC4F-F984-4439-937C-4F81086A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DD412-F7AE-4B85-96D7-EC93BB26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49134-676D-4A55-B81C-38E6EC48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A78F2-F3BB-4291-ADAD-40506BCE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8174D-3646-484D-AE59-BA8A2AD7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7198B-6161-46B3-8A79-0504F2EA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EE356-E174-4CF3-80B0-7482DF90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2C7D5-9AFB-4351-9B17-03AB06D7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76E-6E66-4924-A6B5-7F73B589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D7EF5-BA5C-4E05-BB10-5F49DD32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70A5D-2020-4168-A8E7-E68558CF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D178C-03FA-490B-870B-FB4A9279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B7AEB-DEF9-4E3D-B43C-D8F95168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18352-9ECF-41C8-A31A-FA0C1AF6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B9EC7-A3CB-4472-A6F2-87CB1261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E1DB2-3026-457F-85E3-154358F1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A6385-15B1-4824-84B2-3E1DA555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51021-95A3-414E-8BDD-ED1C7D0A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E01F7-7EDF-4A96-9D1A-BF8E3B1B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69EE-7917-440C-9BC3-0CE228D3F152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EA83-8A6E-4AC2-A0D4-CB5FA92A7C4C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3EBA-1C58-4194-9B02-7C7E4881A416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B694-8FBC-4DFE-907A-470F8EA52892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2770-1C93-4E60-A95E-EC6663F33182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E0D7-18F2-4AC4-9E59-FCD6478BBFEF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2FC7-C161-4E2D-B5BA-346053C96065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0D9C-ECA9-40F3-B8DD-07D2866D9162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044-24B9-4E26-B179-5FC6B4636E6B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C9D7-8B39-4AED-8CD4-4773D8A6034F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8928-C680-4128-B5A3-3267393C2A2A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BF1C-4C16-45E2-ABB3-3D0646383B8F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5310-B789-45F0-BC52-9371CE4F760D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01 aux logo 3d copy"/>
          <p:cNvPicPr/>
          <p:nvPr/>
        </p:nvPicPr>
        <p:blipFill>
          <a:blip r:embed="rId3"/>
          <a:stretch/>
        </p:blipFill>
        <p:spPr>
          <a:xfrm>
            <a:off x="304920" y="304920"/>
            <a:ext cx="981000" cy="1028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homeland logo tipped copy"/>
          <p:cNvPicPr/>
          <p:nvPr/>
        </p:nvPicPr>
        <p:blipFill>
          <a:blip r:embed="rId4"/>
          <a:stretch/>
        </p:blipFill>
        <p:spPr>
          <a:xfrm>
            <a:off x="304920" y="5867280"/>
            <a:ext cx="769680" cy="7876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009 Rework 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6B8E-658D-4348-99C0-E4A14FD78DC1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1447920" y="22860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e information contained within this document is copyright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94F6-E4D7-44B1-B0C7-C33483BBA930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Some Chapter Question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1855800" y="1981080"/>
          <a:ext cx="6602400" cy="3926160"/>
        </p:xfrm>
        <a:graphic>
          <a:graphicData uri="http://schemas.openxmlformats.org/drawingml/2006/table">
            <a:tbl>
              <a:tblPr/>
              <a:tblGrid>
                <a:gridCol w="3301920"/>
                <a:gridCol w="3300480"/>
              </a:tblGrid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S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he FSO-CM is appointed by (… 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he FSO-CM is primarily concerned with (…) and (…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he FSO-CM should maintain update lists of (…), (…) and (…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…) or (…) can inspect a radio facili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he  (…) can be assigned to develop and implement specific District communication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6" name="Text Box 39"/>
          <p:cNvSpPr/>
          <p:nvPr/>
        </p:nvSpPr>
        <p:spPr>
          <a:xfrm>
            <a:off x="5181480" y="25909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Flotilla Comman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40"/>
          <p:cNvSpPr/>
          <p:nvPr/>
        </p:nvSpPr>
        <p:spPr>
          <a:xfrm>
            <a:off x="5181480" y="32004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Auxiliary fixed land and land mobile radio facil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46"/>
          <p:cNvSpPr/>
          <p:nvPr/>
        </p:nvSpPr>
        <p:spPr>
          <a:xfrm>
            <a:off x="5181480" y="380988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Flotilla communication specialists, Telecommunication Operators (TCO), radio facil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50"/>
          <p:cNvSpPr/>
          <p:nvPr/>
        </p:nvSpPr>
        <p:spPr>
          <a:xfrm>
            <a:off x="5181480" y="47242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A communications staff officer, someone who is AUXOP qualifi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52"/>
          <p:cNvSpPr/>
          <p:nvPr/>
        </p:nvSpPr>
        <p:spPr>
          <a:xfrm>
            <a:off x="5181480" y="5334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Comic Sans MS"/>
              </a:rPr>
              <a:t>ADSO-C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D934-E352-4EF4-990D-F95D9C5ED91B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End of Chapter 11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avo Zulu – well done! This was the last chapter of AUXCOM 2009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75" name="Picture 8" descr="080312-G-5974V-500.jpg"/>
          <p:cNvPicPr/>
          <p:nvPr/>
        </p:nvPicPr>
        <p:blipFill>
          <a:blip r:embed="rId1"/>
          <a:stretch/>
        </p:blipFill>
        <p:spPr>
          <a:xfrm>
            <a:off x="4316400" y="2895480"/>
            <a:ext cx="4084560" cy="30765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76" name="Picture 7" descr="BravoZulu-WellDone.bmp"/>
          <p:cNvPicPr/>
          <p:nvPr/>
        </p:nvPicPr>
        <p:blipFill>
          <a:blip r:embed="rId2"/>
          <a:stretch/>
        </p:blipFill>
        <p:spPr>
          <a:xfrm>
            <a:off x="2209680" y="3352680"/>
            <a:ext cx="1028880" cy="1476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2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1E18-0898-4AFD-AE10-D92F78F70A0A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2727360" y="126036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213372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This slide intentionally left blank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7023-5FB3-4A0F-9879-EC6F5609F439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6" descr="AUXCOM_Text-CoverPa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90920" y="152280"/>
            <a:ext cx="4956120" cy="64008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uxiliary Communications Specialty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(AUXCOM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pter 11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munications Staff Officers’ Responsibiliti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TextBox 7"/>
          <p:cNvSpPr/>
          <p:nvPr/>
        </p:nvSpPr>
        <p:spPr>
          <a:xfrm>
            <a:off x="129528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AUXCOM 2009 v0.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E1A2-CC6C-427F-8D65-296AF360A821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hapter 11 Outline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05520" y="2057040"/>
            <a:ext cx="35049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SO-C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O-C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SO-C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SO-C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view Ques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9" name="Picture 8" descr="normal_bill-kelly_8x6cloe-up008.jpg"/>
          <p:cNvPicPr/>
          <p:nvPr/>
        </p:nvPicPr>
        <p:blipFill>
          <a:blip r:embed="rId1"/>
          <a:stretch/>
        </p:blipFill>
        <p:spPr>
          <a:xfrm>
            <a:off x="1905120" y="1828800"/>
            <a:ext cx="2857320" cy="38098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20" name="TextBox 9"/>
          <p:cNvSpPr/>
          <p:nvPr/>
        </p:nvSpPr>
        <p:spPr>
          <a:xfrm>
            <a:off x="4952880" y="4572000"/>
            <a:ext cx="3810240" cy="106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Full staff officer job descriptions are available in the text and are also published online. This presentation contains highlights on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1295280" y="1828800"/>
          <a:ext cx="7162920" cy="43894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219320"/>
                <a:gridCol w="36576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PPT BY / RPTS 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FOCUS AREAS /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30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SO-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C / D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esponsible for providing Auxiliary communications to the Coast Guard, other agencies, and organizations devoted to life saving, boating safety, disaster response, and protection of the environment. Other duties (listed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DSO-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C / DSO-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uties vary based on the District’s size, resources, and communication requirements, per DSO-CM  Districts might have an ADSO-CM for different programs (HF, Internet, etc.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O-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CDR / VDC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upervise the Division’s communications, schedule communication activities in the Division’s AOR , liaise with DSO-CM and other duties (listed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FLOTIL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FSO-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FC / VF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perational Radio Facilities (fixed land and mobile), flotilla member communications training and drills, scheduling facility operations within flotilla AOR, liaise with SO-CM and other duties (listed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3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C26D-0DB6-4AF4-81EF-7889CE3FE6E2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"/>
          <p:cNvPicPr/>
          <p:nvPr/>
        </p:nvPicPr>
        <p:blipFill>
          <a:blip r:embed="rId2"/>
          <a:stretch/>
        </p:blipFill>
        <p:spPr>
          <a:xfrm>
            <a:off x="2743200" y="609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"/>
          <p:cNvPicPr/>
          <p:nvPr/>
        </p:nvPicPr>
        <p:blipFill>
          <a:blip r:embed="rId3"/>
          <a:stretch/>
        </p:blipFill>
        <p:spPr>
          <a:xfrm>
            <a:off x="4038480" y="6094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4"/>
          <a:stretch/>
        </p:blipFill>
        <p:spPr>
          <a:xfrm>
            <a:off x="5334120" y="6094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629" name="5-Point Star 13"/>
          <p:cNvSpPr/>
          <p:nvPr/>
        </p:nvSpPr>
        <p:spPr>
          <a:xfrm>
            <a:off x="2286000" y="518148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5-Point Star 14"/>
          <p:cNvSpPr/>
          <p:nvPr/>
        </p:nvSpPr>
        <p:spPr>
          <a:xfrm>
            <a:off x="2286000" y="43434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5-Point Star 15"/>
          <p:cNvSpPr/>
          <p:nvPr/>
        </p:nvSpPr>
        <p:spPr>
          <a:xfrm>
            <a:off x="2286000" y="350532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5-Point Star 16"/>
          <p:cNvSpPr/>
          <p:nvPr/>
        </p:nvSpPr>
        <p:spPr>
          <a:xfrm>
            <a:off x="2286000" y="22860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5-Point Star 18"/>
          <p:cNvSpPr/>
          <p:nvPr/>
        </p:nvSpPr>
        <p:spPr>
          <a:xfrm>
            <a:off x="5715000" y="30492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5-Point Star 19"/>
          <p:cNvSpPr/>
          <p:nvPr/>
        </p:nvSpPr>
        <p:spPr>
          <a:xfrm>
            <a:off x="4419720" y="3049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5-Point Star 20"/>
          <p:cNvSpPr/>
          <p:nvPr/>
        </p:nvSpPr>
        <p:spPr>
          <a:xfrm>
            <a:off x="3124080" y="30492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5-Point Star 21"/>
          <p:cNvSpPr/>
          <p:nvPr/>
        </p:nvSpPr>
        <p:spPr>
          <a:xfrm>
            <a:off x="1828800" y="30492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FSO-CM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2949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imarily concerned with Auxiliary fixed land and land mobile radio facilit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s with the FSO-MT to have comms training available for interested member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sure the proper operation of the flotilla’s radio facilit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chedule qualified Auxiliarists to perform communications activities within the flotilla’s Area of Responsibility (AOR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sure every activation of an Auxiliary Radio Facility is under Coast Guard order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chedule communication refreshers for the flotilla member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courage qualified member’s participation in communication drill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rganize a monthly flotilla Auxiliary Radio Facility Drill Network: VHF-FM Channel 83A; AUXNET if available; HF if available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1911-96FC-42E7-80D5-B60CCFB68B48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SO-CM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2949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chedule qualified Auxiliarists in the Division’s AOR for comms activit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lan, organize, and implement the Division’s communications activit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courage participation in communications training and qualification as TCO or Communications Specialis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with the DVCDR to ensure the Division’s communications program is effectively managed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rect and oversee implementation of local radio network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ist flotillas with any training, workshops, or seminar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gularly review AUXDATA communications data for status of the Division’s radio facilit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nage the Division’s radio faciliti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ist FSO-CMs performing radio facility inspections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CF7A-F0AE-4310-B261-D014E8512E3B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DSO-CM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2949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SO-CM duties vary based on District size, resources, and communication requirement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n be specially tasked to develop and implement specific District communication program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n lead development of multi-level communication networks in the Distric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tricts might have an ADSO-CM for different communication programs, such as: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SO-CM/IT – Internet Technology/ARMS (Auxiliary Resource Management System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SO-CM/HF – High Frequenc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SO-CM/CC – Contingency Communications/Repeate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…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and mor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9082-07ED-4728-A4DC-849AC2966088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DSO-CM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2949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vides Auxiliary communications to the Coast Guard, other agencies and organizations devoted to life saving, boating safety, disaster response, and protection of the environmen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sures there is an on-going training program directed towards all communication needs, surface patrols, air patrols, mobile patrols, and watch standing at Coast Guard and Auxiliary sta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tablish annual comms goals to insure total coverage for the Coast Guard and other agency need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velop Division/District Emergency Integrated comms plans for VHF and HF spectrum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tablish liaison and good relationships with the Civil Air Patrol (CAP), RACES, Amateur Radio Emergency Services (ARES), and amateur radio clubs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9CCE-FF4D-4D50-95DE-F06096F8E572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More Details and Notes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2949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SO-CM ensures radio facility inspections conducted within the flotilla by qualified inspector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cilities and qualified personnel (AUXCOM/TCO) lists kept by FSO-CM and aggregated upwards to Division and District, maintained by SO-CM and DSO-C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s staff officers form a chain of communications to/from the membership on comms-related topic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SO-CM ensures facility owners are TCO qualified (unless AUXCOM rated prior to 01 Aug 2008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SO-CM maintains and publishes a flotilla calling tree for member alerting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SO-CM promotes and facilitates development of radio comms assets within the District in support of Coast Guard, federal, state, and local agencies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UXCOM – Auxiliary Communications Specialty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99C6-7871-4530-9306-452F26182C05}" type="slidenum">
              <a:rPr b="1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23:18:45Z</dcterms:created>
  <dc:creator>Mike Bauer</dc:creator>
  <dc:description/>
  <dc:language>en-US</dc:language>
  <cp:lastModifiedBy>Cypherja</cp:lastModifiedBy>
  <dcterms:modified xsi:type="dcterms:W3CDTF">2010-10-01T11:15:42Z</dcterms:modified>
  <cp:revision>314</cp:revision>
  <dc:subject/>
  <dc:title>AUXCOM 2009 PHASE 1 REWORK - Chapter 1</dc:title>
</cp:coreProperties>
</file>