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7.jpeg" ContentType="image/jpeg"/>
  <Override PartName="/ppt/media/image13.png" ContentType="image/png"/>
  <Override PartName="/ppt/media/image12.wmf" ContentType="image/x-wmf"/>
  <Override PartName="/ppt/media/image4.png" ContentType="image/png"/>
  <Override PartName="/ppt/media/image18.jpeg" ContentType="image/jpeg"/>
  <Override PartName="/ppt/media/image17.wmf" ContentType="image/x-wmf"/>
  <Override PartName="/ppt/media/image16.wmf" ContentType="image/x-wmf"/>
  <Override PartName="/ppt/media/image14.wmf" ContentType="image/x-wmf"/>
  <Override PartName="/ppt/media/image5.jpeg" ContentType="image/jpeg"/>
  <Override PartName="/ppt/media/image15.wmf" ContentType="image/x-wmf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10.jpeg" ContentType="image/jpeg"/>
  <Override PartName="/ppt/media/image8.jpeg" ContentType="image/jpeg"/>
  <Override PartName="/ppt/media/image6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75030-21AF-496E-B95B-043D9B03E3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F0FC9-B749-4020-B1FA-F390EA0C90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9: RDF Theory of Operation (LOPs and Fix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 author’s not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499CD-1412-49D7-86C5-7EC204942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10: RDF Theory of Operations (LOPs and Fixes Illustra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lide displayed. Simulated perspective ocean with unlabeled transmitter and two RDF stations. For the visually acute, yes, the RDF stations are deliberately not align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CLICK] transmitter lab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CLICK] RDF labe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CLICK] LOP “A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CLICK] LOP “B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CLICK] Fi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CLICK]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* * * * * * * * * (end comment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D93B5-C3F5-44C9-B67C-962BBE9A87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11: RDF Theory of Operation (Bidirectional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lide displayed, text and dia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CLICK] text replaced with additional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CLICK]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* * * * * * * * * (end comment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71BD6-3E5F-4C59-8A27-9D9947696C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12: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 author’s not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400D7-9A0F-47B3-BCF8-078C6CA52A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13: Operator Tr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 author’s not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790B5-8183-4AA6-B84E-166D5A2494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7A58A-1E7B-49F7-908D-938B9900CB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14: Some Chapter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ve questions are display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CLICK] to display each answer in sequence. Font change used to simulate human handwri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last answer displayed, one more [CLICK] to next screen (allows instructor pause for last answer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* * * * * * * * * (end comment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45C43-552C-42AE-9479-EE40F90E17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15: End of 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 author’s not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last slide of this deck intended to be displayed norm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D806B-BECF-4872-8DC4-F41CFA107A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16: end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intended to be normally display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BBFBC-4AEF-4F56-ACE6-9AE67FE440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 COAST GUARD AUXILIARY – Auxiliary Communications Specialty Course (“AUXCOM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9 UPDATE, version 0.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1. Chapter cover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9: “Radio Direction Finding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 author not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2: Chapter 9 Out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 author’s not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resumably, that’s a waterproof VHF radio, not an EPIRB [note antenna style] the swimmer is holding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11C76-8689-4D3D-9E77-1C82E21574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3: 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 author’s not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C7FD4-A2F1-476D-811A-9FDA73E500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4: Introduction, continu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lide display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CLICK] info balloon display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CLICK]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* * * * * * * * * (end comment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0B250-F810-48FB-AFBD-A415AA3972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5: Applications of R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lide displayed. Location of distressed vesse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CLICK] Location of distress beac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CLICK] Vectoring of SAR un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CLICK] Hoax investig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CLICK] Locating interfering sign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CLICK]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click, photo and explanatory text changes, prev. bullet fa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* * * * * * * * * (end comment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C5A65-5CA6-4B6B-8F51-798E48D2B1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6: Preca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lide display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CLICK] additional explanatory text display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CLICK] additional explanatory test display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CLICK]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* * * * * * * * * (end comment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33BCC-A9AD-42B5-BAE0-8B9BFD18A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7: RDF Theory of Operation (Wavefron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lide displayed (radiating antenna diagram and explanatory balloo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CLICK] picture of wavefront straightening, arrow progressing, next explanatory ballo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CLICK]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* * * * * * * * * (end comment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32A62-E921-4D53-8C74-2DD85515D2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8: RDF Theory of Operation (Detecting Wavefron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 author’s not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2D2A1-9221-41FC-8887-6E74F19817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43D7-A049-4FCB-B999-96E67C556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27CE-CF14-4FD7-856E-60847679B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F89C60-69BE-4B84-877E-D1F62CAED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7B02CA-9F26-47E2-8896-6D610F618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A045CD-7525-41E6-82D4-39B2522DD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D73E9F-3101-4637-B750-5DA7D361F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EA27C1-8DD8-4B22-9422-CE59064BB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113D49-513F-4478-B037-7A03EB62D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A51604-A3E0-4457-9ABC-F5F9B0155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D45541-8E9D-4841-8E51-330CED0C3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7166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138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12949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7166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138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F186A3-4BB7-442E-A96A-E74CC5689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F69BB7-0E5D-4D9A-9DB8-07510DC6F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1C22-C22D-4051-861F-BA530C6E4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E1C63B-A368-40C7-A247-DDCDF010E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0AAE56-835B-424F-A395-6F15AF372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3CCE7F-8AA3-40C1-BDA2-D326A1430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857A26-5E6A-44D8-A817-17BEA9B61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3CDB13-7AF1-4F02-BE6B-86A0A1D05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0C2908-2D4A-463C-A948-CC1B80630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1B3CED-62A1-4087-98BE-BAF5B63E4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861789-322B-4C8E-A321-8338B027F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764432-B91E-4532-9B00-BB5058C1E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9E6923-2F8D-4BF9-B0D8-53B0856E8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66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38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2949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66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38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846E-484E-4C49-966C-90D580F12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7166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138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12949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7166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138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107855-B6FA-40F7-B126-1084ECBC6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0B05B9-21DF-49DA-A398-A2107847A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902C80-E269-4836-855B-2BDBF3183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5282B1-BDFD-4F66-85F8-71E2C36B8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8386FE-AA3D-4451-AA2E-B826A36E5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F21472-364D-4350-BBA7-4ECCD7A53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260B39-4103-4409-9A8C-306B7A913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9FFB29-8BAA-4E95-B2EE-114E1A1FB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EF65F3-5C0E-4BB4-B884-F4F411B8E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7F6A72-80E8-4F23-B15E-BAEA10144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BCD8E-967A-4B5D-BB2D-4117FCF1C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59A217-25D9-4FC5-8D83-90244D82D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DDA338-446B-41EB-95AA-3C960696C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7166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138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12949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7166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138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3D2370-4223-41B1-82C8-8030B8742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1D5F1F-7F0D-4E24-8F87-FD2EF3137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04234D-3380-4152-B65B-14423FDFA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DE141A-B668-4590-8054-A824944D7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993CE6-039A-4E53-862D-92081D15F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4A564B-7ACF-4EEC-A33C-081955BEF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198A4C-7B97-4411-9277-9C2C64C14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94A99C-E30D-4954-A607-41B631E0F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437B9-1B8C-4C31-BBD6-7B577A5BA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B2D432-C2C6-4F3B-A6B4-AD8B9EA0D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A2D362-7A3D-41F3-931A-89C551D43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8185A5-93DA-4A68-A152-062C59BCA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6B65C0-AD3E-4E25-BE91-0CD30145C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7166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138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12949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7166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138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12125D-7565-4B15-9EB9-BEE737284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87833C-6618-4718-A545-36BA5269B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BB2DA7-A605-4573-93C7-583E9A7D0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242EB4-6F1F-40C5-A169-1F43E6BC4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59DE3A-653D-48F1-A59E-E3B14D838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D526D8-C5AC-4685-A884-551BFAE2E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95DE3-0349-4E83-9534-872E6AAC9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A303CC-AD80-451D-9461-B32506FC9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A5957D-6249-461C-A9BA-AF8C20549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63D485-DF73-4D60-86BB-E21D25DDB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9BD0DC-3375-4500-8277-C4D422037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7A188F-D10C-44FA-8FBC-C0B722119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99D816-BC4C-4009-BDCF-6C977658B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7166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138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12949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7166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138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BF7FE7-5A42-4B32-813B-FA9658C67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91B439-6290-4AFF-87E9-F258B4248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523B20-C1EF-45AF-B5AE-BB8DC1DB5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FADF56-5B54-4499-B7C6-A7AC16A7F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6EE3C-7D13-413B-86F2-820B05825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0FBED2-A105-41CC-9C74-D97D612F0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1F82A6-1A63-4564-8697-F494784F6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5D8DE5-E4A3-408D-BC9F-282F03492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41C835-EA9C-4587-AE88-4FA0661C1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4125A7-8BFA-4828-A4EE-E08774B69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BD33FF-6F1F-4FD2-959E-0BA7D9D6F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0B6712-9118-44F5-AF6E-69F6E6556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26F121-7D8C-4521-9415-EF29396D8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7166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138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12949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7166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138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464A75-FEB7-4510-A233-EC9440DEA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F7790-37D7-4A71-8D70-6FB7B3C0E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E9F03-38C2-482C-9DB1-0568E24ED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84228-135A-487A-A2C4-961508DDF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8A75-508E-4C27-8169-0AC0B612B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7CAC3-4FD6-42C5-8AA6-9E76A0EBF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BAE75-1403-4B9F-B14B-01D8C994F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7B928-DCB3-43C6-A8A2-7E5F3154A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010D2-6BD0-4A34-94D2-086A4E9FE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166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38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2949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166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38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ACB38-D20A-4F26-94B8-BB0254F4C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D678D-BE46-42A5-958E-A02C3E6BF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43E25-44DF-473B-9C8B-6D9BDD450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75BDA-61F5-4A0E-A71F-822E26ED0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BC23A-2308-453E-907E-FFCB382D7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C5669-CFD2-4E5B-88C9-E1A9ED7AC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155F-1130-4CE1-B285-14D678CFF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1054F-0928-4E0E-ABC1-B9168EE42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6AC8B-9C40-493E-BDD9-8104D6E80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0797D-D23B-4632-BFBF-963797340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39B62-A56C-47FD-88F1-22D457538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A39A2-A7C1-4B4D-A6DD-EA205912F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C91CB-7D43-43E1-878E-823438ED0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7166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138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2949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7166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138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EFFF5-41FB-46C9-A3FD-6B0E3291B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53A38-68C7-4E02-A6C9-418235DC0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C4659-506D-40B5-A8A7-734E5FBF2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D5AF2-AD8E-4E2E-A4DA-AA5BACEB4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BE7A-99B7-4A27-A972-1DFF507F0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98EC2-F265-4BF2-AAFE-8713401CF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E1471-723B-48C9-89F3-3D6C2725C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E113D-5391-44A0-B701-AD3A91729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260EE-467C-4B8E-9359-0AB6A2D0F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64BF8-2859-44D9-A603-AF9C6B50B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FA56B-83C8-42AA-B430-87AE847D7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090F9-DB6C-4FC2-B747-1A26462FD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BF2CE-25D4-467A-AE7B-9E72B2BE3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7166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138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2949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7166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138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C9805-CE7F-4950-ABCD-1F39B67B5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E50FBA-AC87-42B8-8225-0E55E24CE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729F-20C8-4B0D-AC7E-3AFFDB07B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FE469D-0E31-42D2-8E57-91398C3E4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735F68-BFD4-4AC4-9C2E-CC6698968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D4455D-1ABA-41E4-A0F2-6C760CABA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34A764-A10D-41F4-A80D-CE3A65CA4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056E8A-C0D4-4ADB-B10A-0489D7D2F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5CA3E4-DE13-4DDF-8DEA-3965CF7BE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579CA4-EB38-4B32-8405-4C6287C01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ED45FB-7289-4033-AC41-DF2487325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655240-7ECD-4C98-80AA-341BE1243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2FE74A-1437-444B-8435-198574F23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6FD7-A42D-461C-AB1F-FA55050CA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7166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38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12949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7166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138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DC9B79-3DAC-41BC-98FB-290EA103D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52CFD8-756F-4291-B000-6D3CB7E6A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7709B0-702F-4362-8351-E4429C9F8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9DB810-919C-4FA6-9AF6-9E8AB1E62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B8D4DD-58EA-4E76-9CFD-735CAB912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1591CA-6612-4278-980E-D418982F9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F31CCC-7E5D-4502-ABF2-04729CED6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515084-F93A-4B43-BB04-F6F38AC23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9EECD0-DA6E-4C7F-A8B2-9D25ED67D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EF2C41-BB28-40E0-B1D5-4687CCF1D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34C7-7710-4BB2-9298-37680C171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EA3CC7-C8E8-472C-80E8-7FA1D3D1B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7B508A-5914-415B-92EE-5C6DCC122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7166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138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12949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7166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138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47D801-BD7A-41C3-89CF-35534C251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134A7E-973C-409D-8C95-676ABF892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A51150-625F-4C69-8BE5-3F2BEF737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E47769-68E4-4470-BE2A-098D413FF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2F0BAD-2010-46B4-BF79-06C33DE1F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00B38D-E66B-4BE2-BF73-293080CC4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58CB42-714F-42A5-80BB-F4E7CD98D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D14C44-0E9E-4D14-B90D-9894EF979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4254-9933-4D2B-9177-10FD7C747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8FEE07-0AB8-4CA6-8182-0B2CEE6FD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A69E7F-3EDF-4328-8E35-A3E41F594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FCAF47-F489-4827-9996-B46BF8466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98E298-7C34-4890-B680-13E1CF2DF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7166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38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2949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7166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138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8A23DF-1938-41D6-8637-AC87B6212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74C252-C8F9-4280-8D75-E44F8AC39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497763-341C-4E85-9E37-077D98AB2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4C8F80-2C3C-4C2E-9F55-C566114D7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AF3AA0-58F6-476B-80FD-DBF0E3B41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4301DD-7BC1-4ECD-A995-2744526DE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4273-A160-4F74-9D3C-09E0CD8C1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ED346F-DACF-45DB-9FD2-9C1C09DC7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C05506-ECA3-43BF-9219-E2903527F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B39383-C33F-456F-823C-57F50FEB2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E7201A-C42A-4B2B-A99F-90A9637D3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DB61F8-697B-4C10-A840-98BC72B42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C9E0D0-ADDA-4438-9964-CED2BB62D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7166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138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2949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7166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138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285B2C-F35F-40D1-900D-875DAE875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7A61DF-5AAB-4818-9DD4-413F8D214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276A4B-7A39-41A4-A6B6-BC9477A26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CF762D-8055-446C-A44B-2CA334DAA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2009 Rework DRA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AUXCOM – Auxiliary Communications Specialty Cou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0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5F573-7FD4-4FC8-99DD-B560ECD82C3C}" type="slidenum">
              <a:rPr b="1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6" descr="01 aux logo 3d copy"/>
          <p:cNvPicPr/>
          <p:nvPr/>
        </p:nvPicPr>
        <p:blipFill>
          <a:blip r:embed="rId3"/>
          <a:stretch/>
        </p:blipFill>
        <p:spPr>
          <a:xfrm>
            <a:off x="304920" y="304920"/>
            <a:ext cx="981000" cy="10285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7" descr="homeland logo tipped copy"/>
          <p:cNvPicPr/>
          <p:nvPr/>
        </p:nvPicPr>
        <p:blipFill>
          <a:blip r:embed="rId4"/>
          <a:stretch/>
        </p:blipFill>
        <p:spPr>
          <a:xfrm>
            <a:off x="304920" y="5867280"/>
            <a:ext cx="769680" cy="78768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6" descr="01 aux logo 3d copy"/>
          <p:cNvPicPr/>
          <p:nvPr/>
        </p:nvPicPr>
        <p:blipFill>
          <a:blip r:embed="rId3"/>
          <a:stretch/>
        </p:blipFill>
        <p:spPr>
          <a:xfrm>
            <a:off x="304920" y="304920"/>
            <a:ext cx="981000" cy="102852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7" descr="homeland logo tipped copy"/>
          <p:cNvPicPr/>
          <p:nvPr/>
        </p:nvPicPr>
        <p:blipFill>
          <a:blip r:embed="rId4"/>
          <a:stretch/>
        </p:blipFill>
        <p:spPr>
          <a:xfrm>
            <a:off x="304920" y="5867280"/>
            <a:ext cx="769680" cy="78768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2009 Rework DRA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AUXCOM – Auxiliary Communications Specialty Cou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0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72F87-B7DC-429E-BA2A-414F34BD48EB}" type="slidenum">
              <a:rPr b="1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6" descr="01 aux logo 3d copy"/>
          <p:cNvPicPr/>
          <p:nvPr/>
        </p:nvPicPr>
        <p:blipFill>
          <a:blip r:embed="rId3"/>
          <a:stretch/>
        </p:blipFill>
        <p:spPr>
          <a:xfrm>
            <a:off x="304920" y="304920"/>
            <a:ext cx="981000" cy="10285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7" descr="homeland logo tipped copy"/>
          <p:cNvPicPr/>
          <p:nvPr/>
        </p:nvPicPr>
        <p:blipFill>
          <a:blip r:embed="rId4"/>
          <a:stretch/>
        </p:blipFill>
        <p:spPr>
          <a:xfrm>
            <a:off x="304920" y="5867280"/>
            <a:ext cx="769680" cy="78768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2009 Rework DRA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AUXCOM – Auxiliary Communications Specialty Cou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0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82C33-9D17-465C-BF6D-EA91D6F0E35C}" type="slidenum">
              <a:rPr b="1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6" descr="01 aux logo 3d copy"/>
          <p:cNvPicPr/>
          <p:nvPr/>
        </p:nvPicPr>
        <p:blipFill>
          <a:blip r:embed="rId3"/>
          <a:stretch/>
        </p:blipFill>
        <p:spPr>
          <a:xfrm>
            <a:off x="304920" y="304920"/>
            <a:ext cx="981000" cy="102852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7" descr="homeland logo tipped copy"/>
          <p:cNvPicPr/>
          <p:nvPr/>
        </p:nvPicPr>
        <p:blipFill>
          <a:blip r:embed="rId4"/>
          <a:stretch/>
        </p:blipFill>
        <p:spPr>
          <a:xfrm>
            <a:off x="304920" y="5867280"/>
            <a:ext cx="769680" cy="78768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2009 Rework DRA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AUXCOM – Auxiliary Communications Specialty Cou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0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51234-387C-4F13-9BA2-783194B030BC}" type="slidenum">
              <a:rPr b="1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6" descr="01 aux logo 3d copy"/>
          <p:cNvPicPr/>
          <p:nvPr/>
        </p:nvPicPr>
        <p:blipFill>
          <a:blip r:embed="rId3"/>
          <a:stretch/>
        </p:blipFill>
        <p:spPr>
          <a:xfrm>
            <a:off x="304920" y="304920"/>
            <a:ext cx="981000" cy="102852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7" descr="homeland logo tipped copy"/>
          <p:cNvPicPr/>
          <p:nvPr/>
        </p:nvPicPr>
        <p:blipFill>
          <a:blip r:embed="rId4"/>
          <a:stretch/>
        </p:blipFill>
        <p:spPr>
          <a:xfrm>
            <a:off x="304920" y="5867280"/>
            <a:ext cx="769680" cy="78768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2009 Rework DRA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ftr" idx="38"/>
          </p:nvPr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AUXCOM – Auxiliary Communications Specialty Cou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0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F50C6-5FE1-4A24-994B-6D8B6FA78AAA}" type="slidenum">
              <a:rPr b="1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icture 6" descr="01 aux logo 3d copy"/>
          <p:cNvPicPr/>
          <p:nvPr/>
        </p:nvPicPr>
        <p:blipFill>
          <a:blip r:embed="rId3"/>
          <a:stretch/>
        </p:blipFill>
        <p:spPr>
          <a:xfrm>
            <a:off x="304920" y="304920"/>
            <a:ext cx="981000" cy="102852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7" descr="homeland logo tipped copy"/>
          <p:cNvPicPr/>
          <p:nvPr/>
        </p:nvPicPr>
        <p:blipFill>
          <a:blip r:embed="rId4"/>
          <a:stretch/>
        </p:blipFill>
        <p:spPr>
          <a:xfrm>
            <a:off x="304920" y="5867280"/>
            <a:ext cx="769680" cy="787680"/>
          </a:xfrm>
          <a:prstGeom prst="rect">
            <a:avLst/>
          </a:prstGeom>
          <a:ln w="0">
            <a:noFill/>
          </a:ln>
        </p:spPr>
      </p:pic>
      <p:sp>
        <p:nvSpPr>
          <p:cNvPr id="561" name="PlaceHolder 1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2009 Rework DRA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ftr" idx="41"/>
          </p:nvPr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AUXCOM – Auxiliary Communications Specialty Cou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0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208B4-6D07-4799-BBFC-7507EBE88472}" type="slidenum">
              <a:rPr b="1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01 aux logo 3d copy"/>
          <p:cNvPicPr/>
          <p:nvPr/>
        </p:nvPicPr>
        <p:blipFill>
          <a:blip r:embed="rId3"/>
          <a:stretch/>
        </p:blipFill>
        <p:spPr>
          <a:xfrm>
            <a:off x="304920" y="304920"/>
            <a:ext cx="981000" cy="1028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homeland logo tipped copy"/>
          <p:cNvPicPr/>
          <p:nvPr/>
        </p:nvPicPr>
        <p:blipFill>
          <a:blip r:embed="rId4"/>
          <a:stretch/>
        </p:blipFill>
        <p:spPr>
          <a:xfrm>
            <a:off x="304920" y="5867280"/>
            <a:ext cx="769680" cy="787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2009 Rework DRA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0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E99EE-31E6-46C9-9747-38E3F0D1CB6A}" type="slidenum">
              <a:rPr b="1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6" descr="01 aux logo 3d copy"/>
          <p:cNvPicPr/>
          <p:nvPr/>
        </p:nvPicPr>
        <p:blipFill>
          <a:blip r:embed="rId3"/>
          <a:stretch/>
        </p:blipFill>
        <p:spPr>
          <a:xfrm>
            <a:off x="304920" y="304920"/>
            <a:ext cx="981000" cy="10285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homeland logo tipped copy"/>
          <p:cNvPicPr/>
          <p:nvPr/>
        </p:nvPicPr>
        <p:blipFill>
          <a:blip r:embed="rId4"/>
          <a:stretch/>
        </p:blipFill>
        <p:spPr>
          <a:xfrm>
            <a:off x="304920" y="5867280"/>
            <a:ext cx="769680" cy="7876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2009 Rework DRA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AUXCOM – Auxiliary Communications Specialty Cou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0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A7F8C-1091-420D-9557-D7A1166ACFAE}" type="slidenum">
              <a:rPr b="1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6" descr="01 aux logo 3d copy"/>
          <p:cNvPicPr/>
          <p:nvPr/>
        </p:nvPicPr>
        <p:blipFill>
          <a:blip r:embed="rId3"/>
          <a:stretch/>
        </p:blipFill>
        <p:spPr>
          <a:xfrm>
            <a:off x="304920" y="304920"/>
            <a:ext cx="981000" cy="10285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homeland logo tipped copy"/>
          <p:cNvPicPr/>
          <p:nvPr/>
        </p:nvPicPr>
        <p:blipFill>
          <a:blip r:embed="rId4"/>
          <a:stretch/>
        </p:blipFill>
        <p:spPr>
          <a:xfrm>
            <a:off x="304920" y="5867280"/>
            <a:ext cx="769680" cy="78768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2009 Rework DRA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AUXCOM – Auxiliary Communications Specialty Cou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0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DC192-8558-43DE-B247-AFFF8A9402D8}" type="slidenum">
              <a:rPr b="1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6" descr="01 aux logo 3d copy"/>
          <p:cNvPicPr/>
          <p:nvPr/>
        </p:nvPicPr>
        <p:blipFill>
          <a:blip r:embed="rId3"/>
          <a:stretch/>
        </p:blipFill>
        <p:spPr>
          <a:xfrm>
            <a:off x="304920" y="304920"/>
            <a:ext cx="981000" cy="10285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homeland logo tipped copy"/>
          <p:cNvPicPr/>
          <p:nvPr/>
        </p:nvPicPr>
        <p:blipFill>
          <a:blip r:embed="rId4"/>
          <a:stretch/>
        </p:blipFill>
        <p:spPr>
          <a:xfrm>
            <a:off x="304920" y="5867280"/>
            <a:ext cx="769680" cy="78768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2009 Rework DRA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AUXCOM – Auxiliary Communications Specialty Cou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0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89817-BF66-4626-9B35-444B42B39A77}" type="slidenum">
              <a:rPr b="1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6" descr="01 aux logo 3d copy"/>
          <p:cNvPicPr/>
          <p:nvPr/>
        </p:nvPicPr>
        <p:blipFill>
          <a:blip r:embed="rId3"/>
          <a:stretch/>
        </p:blipFill>
        <p:spPr>
          <a:xfrm>
            <a:off x="304920" y="304920"/>
            <a:ext cx="981000" cy="10285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homeland logo tipped copy"/>
          <p:cNvPicPr/>
          <p:nvPr/>
        </p:nvPicPr>
        <p:blipFill>
          <a:blip r:embed="rId4"/>
          <a:stretch/>
        </p:blipFill>
        <p:spPr>
          <a:xfrm>
            <a:off x="304920" y="5867280"/>
            <a:ext cx="769680" cy="787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2009 Rework DRA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AUXCOM – Auxiliary Communications Specialty Cou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0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8A351-9B39-4723-836D-A1C4A4ABBFB3}" type="slidenum">
              <a:rPr b="1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6" descr="01 aux logo 3d copy"/>
          <p:cNvPicPr/>
          <p:nvPr/>
        </p:nvPicPr>
        <p:blipFill>
          <a:blip r:embed="rId3"/>
          <a:stretch/>
        </p:blipFill>
        <p:spPr>
          <a:xfrm>
            <a:off x="304920" y="304920"/>
            <a:ext cx="981000" cy="10285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7" descr="homeland logo tipped copy"/>
          <p:cNvPicPr/>
          <p:nvPr/>
        </p:nvPicPr>
        <p:blipFill>
          <a:blip r:embed="rId4"/>
          <a:stretch/>
        </p:blipFill>
        <p:spPr>
          <a:xfrm>
            <a:off x="304920" y="5867280"/>
            <a:ext cx="769680" cy="78768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2009 Rework DRA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AUXCOM – Auxiliary Communications Specialty Cou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0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B5845-56EB-4E07-BDF0-EE664925C894}" type="slidenum">
              <a:rPr b="1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6" descr="01 aux logo 3d copy"/>
          <p:cNvPicPr/>
          <p:nvPr/>
        </p:nvPicPr>
        <p:blipFill>
          <a:blip r:embed="rId3"/>
          <a:stretch/>
        </p:blipFill>
        <p:spPr>
          <a:xfrm>
            <a:off x="304920" y="304920"/>
            <a:ext cx="981000" cy="10285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7" descr="homeland logo tipped copy"/>
          <p:cNvPicPr/>
          <p:nvPr/>
        </p:nvPicPr>
        <p:blipFill>
          <a:blip r:embed="rId4"/>
          <a:stretch/>
        </p:blipFill>
        <p:spPr>
          <a:xfrm>
            <a:off x="304920" y="5867280"/>
            <a:ext cx="769680" cy="78768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2009 Rework DRA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AUXCOM – Auxiliary Communications Specialty Cou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0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E0030-FEC5-4979-9166-FE803FF22A11}" type="slidenum">
              <a:rPr b="1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6" descr="01 aux logo 3d copy"/>
          <p:cNvPicPr/>
          <p:nvPr/>
        </p:nvPicPr>
        <p:blipFill>
          <a:blip r:embed="rId3"/>
          <a:stretch/>
        </p:blipFill>
        <p:spPr>
          <a:xfrm>
            <a:off x="304920" y="304920"/>
            <a:ext cx="981000" cy="10285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7" descr="homeland logo tipped copy"/>
          <p:cNvPicPr/>
          <p:nvPr/>
        </p:nvPicPr>
        <p:blipFill>
          <a:blip r:embed="rId4"/>
          <a:stretch/>
        </p:blipFill>
        <p:spPr>
          <a:xfrm>
            <a:off x="304920" y="5867280"/>
            <a:ext cx="769680" cy="78768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2009 Rework DRA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AUXCOM – Auxiliary Communications Specialty Cou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0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48F28-17C7-4EDB-9BE6-BE34624A9C07}" type="slidenum">
              <a:rPr b="1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49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1447920" y="2286000"/>
            <a:ext cx="72388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NOTIC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The information contained within this document is copyright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  <a:ea typeface="Arial"/>
              </a:rPr>
              <a:t>© U.S. Coast Guard Auxili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  <a:ea typeface="Arial"/>
              </a:rPr>
              <a:t>No attempts to add, modify or delete information contained within this document shall be made.  If errors are discovered, please contact the U.S. Coast Guard Auxiliary’s National Training Departme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RDF Theory of Operation</a:t>
            </a:r>
            <a:br>
              <a:rPr sz="3200"/>
            </a:b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(LOPs and Fixes)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n LOP is a radio bearing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 mobile RDF station might take multiple bearings from multiple locations and thereby obtain a “fix” (location of the transmitter) through convergence of the bearings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 stationary RDF station might coordinate readings with other RDF station(s), mobile or fixed, for a fix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he more LOPs, and the larger the angles between them, the more accurate the fix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Bearings should be reported either as “True” or “Magnetic” – often small or mobile units use “Magnetic” while fixed stations use “True” (“True” enables direct chart plotting)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Knowing  the exact position of the RDF unit at the time the LOP was taken is essential.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6" name="Footer Placeholder 5"/>
          <p:cNvSpPr/>
          <p:nvPr/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AUXCOM – Auxiliary Communications Specialty Cou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26C64-EFDB-43AD-968A-91DC49BC7B19}" type="slidenum">
              <a:rPr b="1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RDF Theory of Operation</a:t>
            </a:r>
            <a:br>
              <a:rPr sz="3200"/>
            </a:b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(LOPs and Fixes Illustrated)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9" name="Footer Placeholder 5"/>
          <p:cNvSpPr/>
          <p:nvPr/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AUXCOM – Auxiliary Communications Specialty Cou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2A02A-90FD-4699-AA3F-C2142CE48E75}" type="slidenum">
              <a:rPr b="1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1" name="Picture 3" descr=""/>
          <p:cNvPicPr/>
          <p:nvPr/>
        </p:nvPicPr>
        <p:blipFill>
          <a:blip r:embed="rId1"/>
          <a:stretch/>
        </p:blipFill>
        <p:spPr>
          <a:xfrm>
            <a:off x="2544840" y="2057400"/>
            <a:ext cx="4776840" cy="3983040"/>
          </a:xfrm>
          <a:prstGeom prst="rect">
            <a:avLst/>
          </a:prstGeom>
          <a:ln w="0">
            <a:noFill/>
          </a:ln>
        </p:spPr>
      </p:pic>
      <p:sp>
        <p:nvSpPr>
          <p:cNvPr id="672" name="TextBox 17"/>
          <p:cNvSpPr/>
          <p:nvPr/>
        </p:nvSpPr>
        <p:spPr>
          <a:xfrm>
            <a:off x="1752480" y="5410080"/>
            <a:ext cx="1067040" cy="337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RDF “A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Box 19"/>
          <p:cNvSpPr/>
          <p:nvPr/>
        </p:nvSpPr>
        <p:spPr>
          <a:xfrm>
            <a:off x="7086600" y="5486400"/>
            <a:ext cx="1066680" cy="337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RDF “B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Straight Connector 21"/>
          <p:cNvSpPr/>
          <p:nvPr/>
        </p:nvSpPr>
        <p:spPr>
          <a:xfrm flipV="1">
            <a:off x="3352680" y="3885840"/>
            <a:ext cx="3048120" cy="15238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16"/>
          <p:cNvSpPr/>
          <p:nvPr/>
        </p:nvSpPr>
        <p:spPr>
          <a:xfrm>
            <a:off x="5105520" y="4191120"/>
            <a:ext cx="1828800" cy="337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TRANSMIT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Straight Connector 23"/>
          <p:cNvSpPr/>
          <p:nvPr/>
        </p:nvSpPr>
        <p:spPr>
          <a:xfrm flipH="1" flipV="1">
            <a:off x="3429000" y="3809520"/>
            <a:ext cx="3124080" cy="167652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TextBox 31"/>
          <p:cNvSpPr/>
          <p:nvPr/>
        </p:nvSpPr>
        <p:spPr>
          <a:xfrm>
            <a:off x="5410080" y="3581280"/>
            <a:ext cx="18288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LOP “A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TextBox 32"/>
          <p:cNvSpPr/>
          <p:nvPr/>
        </p:nvSpPr>
        <p:spPr>
          <a:xfrm>
            <a:off x="2590920" y="3505320"/>
            <a:ext cx="18288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LOP “B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Down Arrow 33"/>
          <p:cNvSpPr/>
          <p:nvPr/>
        </p:nvSpPr>
        <p:spPr>
          <a:xfrm>
            <a:off x="4648320" y="3124080"/>
            <a:ext cx="533160" cy="1371600"/>
          </a:xfrm>
          <a:prstGeom prst="downArrow">
            <a:avLst>
              <a:gd name="adj1" fmla="val 50000"/>
              <a:gd name="adj2" fmla="val 50022"/>
            </a:avLst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TextBox 34"/>
          <p:cNvSpPr/>
          <p:nvPr/>
        </p:nvSpPr>
        <p:spPr>
          <a:xfrm>
            <a:off x="3962520" y="2743200"/>
            <a:ext cx="182880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F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0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RDF Theory of Operation</a:t>
            </a:r>
            <a:br>
              <a:rPr sz="3200"/>
            </a:b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(Bidirectionality)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4952520" y="1676160"/>
            <a:ext cx="3505320" cy="236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he display unit indicates when the wave front is phased.  This indication is usually visual or audible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hen the RDF unit is in phase, the transmitting station is at right angles to the RDF antennas. 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3" name="Footer Placeholder 3"/>
          <p:cNvSpPr/>
          <p:nvPr/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AUXCOM – Auxiliary Communications Specialty Cou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888B3-627E-4DE4-AE06-2F662948568C}" type="slidenum">
              <a:rPr b="1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5" name="Picture 3" descr=""/>
          <p:cNvPicPr/>
          <p:nvPr/>
        </p:nvPicPr>
        <p:blipFill>
          <a:blip r:embed="rId1"/>
          <a:stretch/>
        </p:blipFill>
        <p:spPr>
          <a:xfrm>
            <a:off x="2895480" y="4724280"/>
            <a:ext cx="4029120" cy="148608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sp>
        <p:nvSpPr>
          <p:cNvPr id="686" name=""/>
          <p:cNvSpPr txBox="1"/>
          <p:nvPr/>
        </p:nvSpPr>
        <p:spPr>
          <a:xfrm>
            <a:off x="1447920" y="1676160"/>
            <a:ext cx="3504960" cy="28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wo or more antennas near each other and properly connected (phased) with a display unit usually determine the orientation of the wavefront 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he antennas are rotated until they both receive the same wavefront at the same time.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7" name="Content Placeholder 9"/>
          <p:cNvSpPr/>
          <p:nvPr/>
        </p:nvSpPr>
        <p:spPr>
          <a:xfrm>
            <a:off x="1523880" y="1676520"/>
            <a:ext cx="3505320" cy="236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mple RDF units using only two antennas may give bi-directional bearings (the operator can’t tell if the transmitter is ahead or 180 degrees behind the RDF unit)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Content Placeholder 9"/>
          <p:cNvSpPr/>
          <p:nvPr/>
        </p:nvSpPr>
        <p:spPr>
          <a:xfrm>
            <a:off x="5029200" y="1676520"/>
            <a:ext cx="3505320" cy="259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dditional bearings, either along the wave front or by other RDF units are required to determine the true direction of the bea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utomatic RDF units, with multiple antennas, do not have the bidirectional characteristic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Equipment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4952520" y="1676520"/>
            <a:ext cx="35053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ost RDF antennas differ from communication antennas - Automatic Directional Finder (ADF) antennas do not have “gain”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any RDF units enable the operator to change from RDF to radio communications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DF antenna system must be calibrated after installation.  Details in text.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1" name="Footer Placeholder 5"/>
          <p:cNvSpPr/>
          <p:nvPr/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AUXCOM – Auxiliary Communications Specialty Cou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DFFFA-7C12-446B-850C-5056F79E38F1}" type="slidenum">
              <a:rPr b="1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3" name="Picture 2" descr=""/>
          <p:cNvPicPr/>
          <p:nvPr/>
        </p:nvPicPr>
        <p:blipFill>
          <a:blip r:embed="rId1"/>
          <a:stretch/>
        </p:blipFill>
        <p:spPr>
          <a:xfrm>
            <a:off x="1368360" y="1676520"/>
            <a:ext cx="3359160" cy="438948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</p:spTree>
  </p:cSld>
  <p:transition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Operator Training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14475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liable RDF operations require skilled operators – VHF RDF is frequently subject to false readings from reflected and weak signals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DF operators should periodically check the condition of their units on known signals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DF operators should also frequently test their own capabilities by taking LOPs on mobile and weak signals to see just how well both they and the equipment are performing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6" name="Footer Placeholder 5"/>
          <p:cNvSpPr/>
          <p:nvPr/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AUXCOM – Auxiliary Communications Specialty Cou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147D8-1B4E-4F1F-845C-2F1ED5E5CDD5}" type="slidenum">
              <a:rPr b="1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Footer Placeholder 4"/>
          <p:cNvSpPr/>
          <p:nvPr/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AUXCOM – Auxiliary Communications Specialty Cou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CE273-5C1E-45AF-998F-5B1445C71EF9}" type="slidenum">
              <a:rPr b="1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Some Chapter Questions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701" name=""/>
          <p:cNvGraphicFramePr/>
          <p:nvPr/>
        </p:nvGraphicFramePr>
        <p:xfrm>
          <a:off x="1855800" y="1981080"/>
          <a:ext cx="6602400" cy="3926160"/>
        </p:xfrm>
        <a:graphic>
          <a:graphicData uri="http://schemas.openxmlformats.org/drawingml/2006/table">
            <a:tbl>
              <a:tblPr/>
              <a:tblGrid>
                <a:gridCol w="3301920"/>
                <a:gridCol w="3300480"/>
              </a:tblGrid>
              <a:tr h="58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QUES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ANSW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What type of bearing is usually taken by a mobile RDF? By a fixed RDF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What law enforcement powers does an Auxiliarist have when discovering an illegal transmitter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3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What are some of the uses of RDF unit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When several LOPs (lines of position) intersect at a point, this is called a (</a:t>
                      </a:r>
                      <a:r>
                        <a:rPr b="1" lang="en-US" sz="1200" spc="-1" strike="noStrike" u="sng">
                          <a:solidFill>
                            <a:srgbClr val="000066"/>
                          </a:solidFill>
                          <a:uFillTx/>
                          <a:latin typeface="Arial"/>
                        </a:rPr>
                        <a:t>what</a:t>
                      </a: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)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Bearing information should be provided to whom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02" name="Text Box 39"/>
          <p:cNvSpPr/>
          <p:nvPr/>
        </p:nvSpPr>
        <p:spPr>
          <a:xfrm>
            <a:off x="5181480" y="2590920"/>
            <a:ext cx="304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cc"/>
                </a:solidFill>
                <a:latin typeface="Comic Sans MS"/>
              </a:rPr>
              <a:t>Mobile: relative, translated to Magnetic. Fixed: True bearing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Text Box 40"/>
          <p:cNvSpPr/>
          <p:nvPr/>
        </p:nvSpPr>
        <p:spPr>
          <a:xfrm>
            <a:off x="5181480" y="3276720"/>
            <a:ext cx="320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cc"/>
                </a:solidFill>
                <a:latin typeface="Comic Sans MS"/>
              </a:rPr>
              <a:t>N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Text Box 46"/>
          <p:cNvSpPr/>
          <p:nvPr/>
        </p:nvSpPr>
        <p:spPr>
          <a:xfrm>
            <a:off x="5181480" y="3809880"/>
            <a:ext cx="320040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cc"/>
                </a:solidFill>
                <a:latin typeface="Comic Sans MS"/>
              </a:rPr>
              <a:t>Location of distressed vessels, Location of distress beacons, Locations of interfering signals, fraud detection, SAR vectorin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Text Box 50"/>
          <p:cNvSpPr/>
          <p:nvPr/>
        </p:nvSpPr>
        <p:spPr>
          <a:xfrm>
            <a:off x="5181480" y="4724280"/>
            <a:ext cx="320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cc"/>
                </a:solidFill>
                <a:latin typeface="Comic Sans MS"/>
              </a:rPr>
              <a:t>Fi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 Box 52"/>
          <p:cNvSpPr/>
          <p:nvPr/>
        </p:nvSpPr>
        <p:spPr>
          <a:xfrm>
            <a:off x="5181480" y="533412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cc"/>
                </a:solidFill>
                <a:latin typeface="Comic Sans MS"/>
              </a:rPr>
              <a:t>Coast Guard authorized recipien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Footer Placeholder 4"/>
          <p:cNvSpPr/>
          <p:nvPr/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AUXCOM – Auxiliary Communications Specialty Cou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B9538-DD9F-4D44-953D-5F2F8F592D83}" type="slidenum">
              <a:rPr b="1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End of Chapter 9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Questions?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Next: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hapter 10,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“Rescue 21”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11" name="Picture 8" descr="P3020004.JPG"/>
          <p:cNvPicPr/>
          <p:nvPr/>
        </p:nvPicPr>
        <p:blipFill>
          <a:blip r:embed="rId1"/>
          <a:stretch/>
        </p:blipFill>
        <p:spPr>
          <a:xfrm>
            <a:off x="4419720" y="3067200"/>
            <a:ext cx="4038480" cy="302868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</p:spTree>
  </p:cSld>
  <p:transition>
    <p:pull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Footer Placeholder 2"/>
          <p:cNvSpPr/>
          <p:nvPr/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AUXCOM – Auxiliary Communications Specialty Cou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FC800-9C91-4E47-BAD5-FD0D80FCAC78}" type="slidenum">
              <a:rPr b="1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Text Box 4"/>
          <p:cNvSpPr/>
          <p:nvPr/>
        </p:nvSpPr>
        <p:spPr>
          <a:xfrm>
            <a:off x="2727360" y="1260360"/>
            <a:ext cx="405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Text Box 5"/>
          <p:cNvSpPr/>
          <p:nvPr/>
        </p:nvSpPr>
        <p:spPr>
          <a:xfrm>
            <a:off x="2133720" y="14479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(This slide intentionally left blank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A89B9-74E2-4A8A-BFDE-E97994F4A144}" type="slidenum">
              <a:rPr b="1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1" name="Picture 6" descr="AUXCOM_Text-CoverPage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590920" y="152280"/>
            <a:ext cx="4956120" cy="6400800"/>
          </a:xfrm>
          <a:prstGeom prst="rect">
            <a:avLst/>
          </a:prstGeom>
          <a:ln w="9360">
            <a:solidFill>
              <a:srgbClr val="dddddd"/>
            </a:solidFill>
            <a:miter/>
          </a:ln>
        </p:spPr>
      </p:pic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Auxiliary Communications Specialty</a:t>
            </a:r>
            <a:br>
              <a:rPr sz="3200"/>
            </a:b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(AUXCOM)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hapter 9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Radio Direction Finding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4" name="TextBox 7"/>
          <p:cNvSpPr/>
          <p:nvPr/>
        </p:nvSpPr>
        <p:spPr>
          <a:xfrm>
            <a:off x="1295280" y="640080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AUXCOM 2009 v0.9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Footer Placeholder 5"/>
          <p:cNvSpPr/>
          <p:nvPr/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AUXCOM – Auxiliary Communications Specialty Cou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A6D03-DE9B-4D78-A35F-BF01BA05E215}" type="slidenum">
              <a:rPr b="1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Chapter 9 Outline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105520" y="2057400"/>
            <a:ext cx="350496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General Introduction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Applications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Precautions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heory of Operation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Equipment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Operator Training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Review Questions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619" name="Picture 8" descr="normal_Mvc-018f.jpg"/>
          <p:cNvPicPr/>
          <p:nvPr/>
        </p:nvPicPr>
        <p:blipFill>
          <a:blip r:embed="rId1"/>
          <a:stretch/>
        </p:blipFill>
        <p:spPr>
          <a:xfrm>
            <a:off x="1828800" y="2057400"/>
            <a:ext cx="3022560" cy="226692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</p:spTree>
  </p:cSld>
  <p:transition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Introduction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embers interested in establishing a RDF capability must :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omplete this cours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ave a working knowledge of piloting, navigation fundamentals, and related subject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embers owning radio facilities will have a practical appreciation of VHF RDF operations and may have some of the equipment required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embers who are also Amateur Radio operators or Military Auxiliary Radio Service (MARS) members can usually provide technical guidance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2" name="Footer Placeholder 5"/>
          <p:cNvSpPr/>
          <p:nvPr/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AUXCOM – Auxiliary Communications Specialty Cou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A7EC3-E99A-44D5-9E84-1816D56783AA}" type="slidenum">
              <a:rPr b="1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Introduction, continued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embers might express interest in establishing a RDF capability without appreciating technical and legal constraints imposed on its operation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wo basic types of RDF units: manual and automatic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Both can be operated as fixed or mobile, including hand carri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ome (expensive) "off-the-shelf " equipment available for automatic direction find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anual requires a modest technical ability to assemble and opera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asually-interested members might better limit efforts to a portable homing capabilit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6" name="Footer Placeholder 4"/>
          <p:cNvSpPr/>
          <p:nvPr/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AUXCOM – Auxiliary Communications Specialty Cou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AAB7D-B7CC-4B52-BC24-20977678B4AF}" type="slidenum">
              <a:rPr b="1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Box 6"/>
          <p:cNvSpPr/>
          <p:nvPr/>
        </p:nvSpPr>
        <p:spPr>
          <a:xfrm>
            <a:off x="1295280" y="2895480"/>
            <a:ext cx="6705720" cy="82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This discussion is not meant to discourage committed Auxiliarists; those interested need to be aware of, and willing to expend, the necessary funds, effort, and time to provide a RDF capabi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Applications of RDF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4952520" y="1752120"/>
            <a:ext cx="350532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Location of distressed vessels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Location of distress beacons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Vectoring of SAR Units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Hoax investigation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Locating interfering signals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1" name="Footer Placeholder 4"/>
          <p:cNvSpPr/>
          <p:nvPr/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AUXCOM – Auxiliary Communications Specialty Cou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29C21-DAED-42E8-9D79-1C37C67E8879}" type="slidenum">
              <a:rPr b="1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3" name="Picture 12" descr="normal_060115-c-9852e-504.jpg"/>
          <p:cNvPicPr/>
          <p:nvPr/>
        </p:nvPicPr>
        <p:blipFill>
          <a:blip r:embed="rId1"/>
          <a:stretch/>
        </p:blipFill>
        <p:spPr>
          <a:xfrm>
            <a:off x="1600200" y="1905120"/>
            <a:ext cx="3227400" cy="236196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sp>
        <p:nvSpPr>
          <p:cNvPr id="634" name="TextBox 15"/>
          <p:cNvSpPr/>
          <p:nvPr/>
        </p:nvSpPr>
        <p:spPr>
          <a:xfrm>
            <a:off x="1523880" y="4724280"/>
            <a:ext cx="6705720" cy="82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Distressed vessels operating VHF-FM radios can be located with RDF gear. RDF extremely useful when the vessel does not have an accurate position knowled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Box 16"/>
          <p:cNvSpPr/>
          <p:nvPr/>
        </p:nvSpPr>
        <p:spPr>
          <a:xfrm>
            <a:off x="1523880" y="4724280"/>
            <a:ext cx="6705720" cy="1310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Many vessels now carry (EPIRBs), activated in distress and transmitting a signal on 406 MHz (see Chapter X). Aircraft carry a similar unit called an Emergency Locator Transmitter (ELT). Commercially available scanners can usually receive theses non-marine band signa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Box 17"/>
          <p:cNvSpPr/>
          <p:nvPr/>
        </p:nvSpPr>
        <p:spPr>
          <a:xfrm>
            <a:off x="1523880" y="4724280"/>
            <a:ext cx="6705720" cy="82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If a SAR unit does not have an operational RDF or radar capability, several RDF stations coordinating bearings to obtain a fix can direct the SAR resources to merge with a distressed vesse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Box 18"/>
          <p:cNvSpPr/>
          <p:nvPr/>
        </p:nvSpPr>
        <p:spPr>
          <a:xfrm>
            <a:off x="1523880" y="4724280"/>
            <a:ext cx="6705720" cy="1310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The Coast Guard gets about 700 hoax MAYDAY calls each year, costing about $6 million.  RDF is one way to locate illegal transmissions.  Auxiliarists can assist the Coast Guard in these efforts but must not be involved in any actual law enforcement operat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Box 19"/>
          <p:cNvSpPr/>
          <p:nvPr/>
        </p:nvSpPr>
        <p:spPr>
          <a:xfrm>
            <a:off x="1523880" y="4724280"/>
            <a:ext cx="6705720" cy="1310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Open mikes, especially on a distress frequency, can render a channel useless in a local area. RDF units are required to locate these (usually unintentional) transmissions.  In these cases the Auxiliarist should use discretion, and take no action of questionable liabi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9" name="Picture 11" descr="091124-G-3392P-001-AdmiralBloreOSC (1).jpg"/>
          <p:cNvPicPr/>
          <p:nvPr/>
        </p:nvPicPr>
        <p:blipFill>
          <a:blip r:embed="rId2"/>
          <a:stretch/>
        </p:blipFill>
        <p:spPr>
          <a:xfrm>
            <a:off x="1600200" y="1905120"/>
            <a:ext cx="3203640" cy="213336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pic>
        <p:nvPicPr>
          <p:cNvPr id="640" name="Content Placeholder 9" descr="normal_2004-09-11_Helo_SAREX___049.jpg"/>
          <p:cNvPicPr/>
          <p:nvPr/>
        </p:nvPicPr>
        <p:blipFill>
          <a:blip r:embed="rId3"/>
          <a:stretch/>
        </p:blipFill>
        <p:spPr>
          <a:xfrm>
            <a:off x="1600200" y="1905120"/>
            <a:ext cx="3276720" cy="245736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pic>
        <p:nvPicPr>
          <p:cNvPr id="641" name="Picture 13" descr="normal_2002_seward_salmon_derby_015.jpg"/>
          <p:cNvPicPr/>
          <p:nvPr/>
        </p:nvPicPr>
        <p:blipFill>
          <a:blip r:embed="rId4"/>
          <a:stretch/>
        </p:blipFill>
        <p:spPr>
          <a:xfrm>
            <a:off x="1600200" y="1905120"/>
            <a:ext cx="3276720" cy="245736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pic>
        <p:nvPicPr>
          <p:cNvPr id="642" name="Picture 14" descr="normal_070730-G-9014M-537.jpg"/>
          <p:cNvPicPr/>
          <p:nvPr/>
        </p:nvPicPr>
        <p:blipFill>
          <a:blip r:embed="rId5"/>
          <a:stretch/>
        </p:blipFill>
        <p:spPr>
          <a:xfrm>
            <a:off x="1600200" y="1905120"/>
            <a:ext cx="3322800" cy="220968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</p:spTree>
  </p:cSld>
  <p:transition>
    <p:pull dir="r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indefinite"/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indefinite"/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6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Precautions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644" name="Picture 8" descr=""/>
          <p:cNvPicPr/>
          <p:nvPr/>
        </p:nvPicPr>
        <p:blipFill>
          <a:blip r:embed="rId1"/>
          <a:stretch/>
        </p:blipFill>
        <p:spPr>
          <a:xfrm>
            <a:off x="6095880" y="3124080"/>
            <a:ext cx="2286000" cy="188460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sp>
        <p:nvSpPr>
          <p:cNvPr id="645" name=""/>
          <p:cNvSpPr txBox="1"/>
          <p:nvPr/>
        </p:nvSpPr>
        <p:spPr>
          <a:xfrm>
            <a:off x="1371600" y="1447560"/>
            <a:ext cx="449568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hen engaged in RDF operations, the mission is in support of a Coast Guard operation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Bearing information is only given to Coast Guard approved recipients and no one else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Bearing information should not be exchanged on marine channels (they are open and easily monitored by the public)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andline communication is the most secure means available to Auxiliarists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6" name="Footer Placeholder 5"/>
          <p:cNvSpPr/>
          <p:nvPr/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AUXCOM – Auxiliary Communications Specialty Cou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E2FF0-5AF5-41E3-8D3F-EF8A5C05AA9F}" type="slidenum">
              <a:rPr b="1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Content Placeholder 10"/>
          <p:cNvSpPr/>
          <p:nvPr/>
        </p:nvSpPr>
        <p:spPr>
          <a:xfrm>
            <a:off x="1371600" y="1447920"/>
            <a:ext cx="449568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hen using mobile or portable RDF, an Auxiliarist is not allowed to enter or pass through an private property without the express permission of the ow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n Auxiliarist has no law enforcement autho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iscretion must be used when engaging with the public during RDF – i.e., a boater must be informed that their radio has an "open mike", but cannot be 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ordered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to correct the proble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Content Placeholder 10"/>
          <p:cNvSpPr/>
          <p:nvPr/>
        </p:nvSpPr>
        <p:spPr>
          <a:xfrm>
            <a:off x="1371600" y="1447920"/>
            <a:ext cx="4572000" cy="32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n Auxiliarist learning of a situation where RDF assistance may be required should always contact the Coast Guard authority coordinating the mission – usually the SAR Mission Coordinator (SMC) – prior to taking any ac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Picture 3" descr=""/>
          <p:cNvPicPr/>
          <p:nvPr/>
        </p:nvPicPr>
        <p:blipFill>
          <a:blip r:embed="rId1"/>
          <a:stretch/>
        </p:blipFill>
        <p:spPr>
          <a:xfrm>
            <a:off x="3124080" y="1523880"/>
            <a:ext cx="5524560" cy="460692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447560" y="45684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RDF Theory of Operation (Wavefronts)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2" name="Footer Placeholder 5"/>
          <p:cNvSpPr/>
          <p:nvPr/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AUXCOM – Auxiliary Communications Specialty Cou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DDEA9-8C60-458E-B84E-470587C659CC}" type="slidenum">
              <a:rPr b="1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4" name="Picture 20" descr="radiowavepropogation-chapter9.bmp"/>
          <p:cNvPicPr/>
          <p:nvPr/>
        </p:nvPicPr>
        <p:blipFill>
          <a:blip r:embed="rId2"/>
          <a:stretch/>
        </p:blipFill>
        <p:spPr>
          <a:xfrm>
            <a:off x="6858000" y="1676520"/>
            <a:ext cx="1657440" cy="1218960"/>
          </a:xfrm>
          <a:prstGeom prst="rect">
            <a:avLst/>
          </a:prstGeom>
          <a:ln w="0">
            <a:noFill/>
          </a:ln>
        </p:spPr>
      </p:pic>
      <p:sp>
        <p:nvSpPr>
          <p:cNvPr id="655" name="TextBox 21"/>
          <p:cNvSpPr/>
          <p:nvPr/>
        </p:nvSpPr>
        <p:spPr>
          <a:xfrm>
            <a:off x="1371600" y="1676520"/>
            <a:ext cx="5029200" cy="824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Radio waves spread outward from the transmitter like the ripples produced when a stone is thrown into a pond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TextBox 22"/>
          <p:cNvSpPr/>
          <p:nvPr/>
        </p:nvSpPr>
        <p:spPr>
          <a:xfrm>
            <a:off x="1371600" y="1981080"/>
            <a:ext cx="502920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As the distance from the antenna increases, the wave fronts become nearly straigh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7" name="Straight Arrow Connector 24"/>
          <p:cNvCxnSpPr/>
          <p:nvPr/>
        </p:nvCxnSpPr>
        <p:spPr>
          <a:xfrm>
            <a:off x="6552720" y="2286000"/>
            <a:ext cx="1677240" cy="2160"/>
          </a:xfrm>
          <a:prstGeom prst="straightConnector1">
            <a:avLst/>
          </a:prstGeom>
          <a:ln w="63360">
            <a:solidFill>
              <a:srgbClr val="ff0000"/>
            </a:solidFill>
            <a:miter/>
            <a:tailEnd len="med" type="arrow" w="med"/>
          </a:ln>
        </p:spPr>
      </p:cxnSp>
    </p:spTree>
  </p:cSld>
  <p:transition>
    <p:pull dir="rd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2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RDF Theory of Operation (Detecting Wavefronts)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1294920" y="1981080"/>
            <a:ext cx="35053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he receiving antenna systems can determine the orientation of the wave fronts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f a line is drawn perpendicular to these waves, it will point at the transmitting antenna.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4952520" y="1981080"/>
            <a:ext cx="350532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his line is known as a single Line of Position (LOP) and is a radio bearing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he operator knows the transmitter is located along this line but not where.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1" name="Footer Placeholder 3"/>
          <p:cNvSpPr/>
          <p:nvPr/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AUXCOM – Auxiliary Communications Specialty Cou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E527D-8F56-47F0-A122-67A0A5D24B37}" type="slidenum">
              <a:rPr b="1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3" name="Picture 2" descr=""/>
          <p:cNvPicPr/>
          <p:nvPr/>
        </p:nvPicPr>
        <p:blipFill>
          <a:blip r:embed="rId1"/>
          <a:stretch/>
        </p:blipFill>
        <p:spPr>
          <a:xfrm>
            <a:off x="2666880" y="4724280"/>
            <a:ext cx="4592880" cy="118116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</p:spTree>
  </p:cSld>
  <p:transition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6T23:18:45Z</dcterms:created>
  <dc:creator>Mike Bauer</dc:creator>
  <dc:description/>
  <dc:language>en-US</dc:language>
  <cp:lastModifiedBy>Cypherja</cp:lastModifiedBy>
  <dcterms:modified xsi:type="dcterms:W3CDTF">2010-10-01T11:14:42Z</dcterms:modified>
  <cp:revision>309</cp:revision>
  <dc:subject/>
  <dc:title>AUXCOM 2009 PHASE 1 REWORK - Chapter 1</dc:title>
</cp:coreProperties>
</file>