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5E6-05EB-4FD9-A685-55B4D345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7F90-50A7-4736-9B14-6C1A0045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9: CG Communications Organization (District)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3A8-62E9-427D-8DF8-2F7195F0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0: CG Communications Watch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2535-A2FB-42D4-A621-51A81730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29D-63A4-4421-9ADD-8BD44517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1: Some Chapt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895-F1C8-4C8C-9664-B889E11D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2: End of Chapter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symbolic depiction of radio frequency spectrum and assignments – intended to convey a sense of the few frequencies actually used of the available spectrum, and through careful analysis of the picture, how some frequencies are shared by differing services and users, permitting cross-group commun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st typically-displayed slide of this d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434-5A42-4436-A0FF-142F8822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3: end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not typically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AF5C-B43C-4AB6-A7CD-49860243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COAST GUARD AUXILIARY – Auxiliary Communications Specialty Course (“AUXC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 UPDATE, version 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. Chapter cov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: “Coast Guard Communica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: Chapter 8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2585-2340-4DBB-89DC-7DD3FB88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General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5DD-C25E-471B-9F9E-1FADBEFFB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4: Frequency Al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A4E-4FEC-4433-B7AB-017C3743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Frequency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 with allocation chart and representative spectrum illus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info balloon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1401-39DF-4E03-BB8D-FFD6A69E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6: CG All-Station Broa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8C2-3EE8-459B-AA65-9B541F2E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7: CG Communications Organization (Distri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displayed with simulated OPLAN binder and info ball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binder dissolves into smaller, open binder. New, appropriate info balloon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C742-8F3D-4E7F-B4A9-92890438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: CG Communications Organization (District)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181-A163-4F2B-AB21-68563427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FD1-2DEC-4B8A-90AD-FE0D6DB3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BB6-1DA4-41C9-BE43-67C9E20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68E02-600A-4428-B44A-F41656B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D0D65-ADD1-4384-9207-A94BD138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5777D-AE37-4AE6-9FF1-182A874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FA36-911F-4770-8986-65A1FD9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DDA64-2906-4530-B394-15E8B9F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6F845-781E-4261-907C-C2637A6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97910-53DC-4549-A0F4-B19558A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AA67F-51C2-4274-B15F-0246B1BF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F8A1F-857F-4B60-A0F2-B5EB4E0E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D9E47-6DAA-43BB-9089-17ECF821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7B1-BFBE-4D37-AF9A-61429368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67738-D99F-46AE-AE4E-46757FB4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8B04A-1671-49EB-AF04-60EAFD9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9F133-1AF6-4DC7-B303-74A819E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B3B4B-C811-449A-89FD-180E7572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EE753-13E9-4ABF-8C40-97A8217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2F094-A0CE-4652-BA5A-AFECC43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88E7D-1D42-4FE0-8E29-CDE7E28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39D99-588B-4483-BAF2-E136183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1664E-B3D3-41CE-9A46-EE2772F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7632-74CC-4DB0-9878-ABAD5AFC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E32-FF2A-44CF-8E7D-9AEA592E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04631-EAB7-46B1-ACC6-FF927FA2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EDD8A-E762-4DDD-9602-69069FA1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0E391-DDD3-4598-8BDB-78B90B4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6397-8B4F-4CDC-8E2B-A69151CA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D6FE7-4943-46D0-8D53-7A2E3FD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F1E14-4C66-4AFF-9CB0-70AD4A2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88A0-8B45-44D0-8953-09B7BA17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847A0-C1A5-4718-93FF-B7934EE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86A97-EEC7-453D-9B5B-CD606DF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8CB60-9791-4725-A61B-7F6DB26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BF7-5698-4032-828B-D286C0B5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1352-87E3-41D5-B5EC-7611C715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39B4-9D4E-4FA7-AE6D-A65A9891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3672-8A79-417B-A4B9-4A7B3C4A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0F715-A5FB-450F-A47A-C7DFA6FB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3A96F-BB42-49B7-9061-D2698792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87BC-E27A-4BD9-BB74-A1531B03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A77A2-2CFC-4969-91F5-B2A515C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64098-AFAF-4543-BC51-FB7410CA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05EA-25BB-4088-8568-F1CE958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B39C0-F236-4EC7-A503-8EFB1E24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68B6-0780-4B71-B2EF-0B5DBC45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FFA16-E39E-4355-902F-56A188A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35185-F882-46D8-9318-8E014C6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CC77D-A662-42A6-AE13-2E07258A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B2E5B-5497-491E-97B4-DE8738B7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67DA1-1C59-4991-A1B5-205AA6DF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78F55-FAB0-44F0-8827-E871FEFF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13977-52D7-417A-84D7-BFADBCE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667D5-8B18-4D96-8104-171EC5D6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68D3E-D051-452D-8074-EBF43E5D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9FB97-76CD-47C3-B1A3-386F6460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C9A4-5966-4035-8F6C-7D842E44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C4BE5-8894-43B5-ACF8-76A983AA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73F46-D1B8-46FD-A779-6320BE06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5B493-1E1C-4604-9906-2B94F2F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90180-34BD-4620-A297-B8264BD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941EF-5F75-4CB5-B819-E40D6DFB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93AD7-BBA2-4449-A7DA-0F86A1DB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46012-924B-4218-B1D6-17F8ADA5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EB835-739B-4A5A-9E79-CCD61DBA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7E19A-7C5C-4974-A1F8-10F003CB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A1472-86C3-4107-98A3-1E44A290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36C0-C8E1-47A5-83F2-E13B3FA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C7AB6-B0AE-46E2-AC7E-DC393C0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C5A85-60D2-4BFB-AFC7-0913E3F6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E037A-BC3F-43DD-9C4B-521B6FC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058AB-0A3D-4DA5-8B26-40CCA9E6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7654B-AA59-4E53-B945-2D90F3B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A2EC2-D33A-4BB8-A4B0-1FD8D6B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8742B-A1E6-4F4C-AD8C-7D611D45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6ED16-EFA8-4F10-8526-5690364D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76864-061A-4BFB-9EBF-EE797CA7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6EC-2FB5-4B1D-B3F4-C7DFE78B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A70E-F030-4C99-835D-CA49C09E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6D8A-776A-40B6-8ED0-B52BBE2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E09-6C6D-40E0-AB9E-93DD2BA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B69B-757C-42B7-8543-2433DFF8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FF5-510E-4434-98D7-66931CD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6663-7ABD-4BE4-8B9A-25BD1AA3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F3A2-4C59-4389-9C1E-1AF0F78D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3A38-31B8-4F82-90F6-1EF179A3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CD8F-0DEE-41E5-A25C-3F61C9D6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8A3E-583F-42DB-A6D6-A0DC1FC7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424C-3657-4F99-B46E-7051946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B191-83F1-4EF2-8864-48C575F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F4B9-8A11-45A7-9D7A-F20449E4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BF3-8CFE-4628-A02E-1F56C40F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CBDD-B0BF-495F-B29B-28D8F4E7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9B3A-37E5-4241-8376-993EC02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B5D0-7D3F-40D3-89A4-27B4C6B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B6D9-D02B-46FB-ACD9-55BC8E23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FC69-A619-40C8-8BB3-FB315D08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FA15-6119-4DB2-ADA6-BA0F8A99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E612-938B-48BB-907B-4B6993ED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62CB-9DD2-4708-A28B-EE3E549C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0C6F-DCE8-4F83-8D6F-5282065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8020-EE68-42B7-B0B7-169C757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FAA-A356-4937-B5C6-DB9EEF1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3898-FF28-4C27-BCC0-9ED8D88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CDA7-5E71-44B4-8387-ABB55676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CCA1-8AA5-414E-BDC3-003D79CE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EF3E-FCF4-4E0F-B5D3-25D8C99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2F60-B71A-473C-AB06-EB45F65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27C0-F9CF-4488-A2C5-0BFC9AF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A62D-F6C9-49BD-B4AC-B0AFD70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7FD1-2FB3-40B6-A28C-3A5FC73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B1C3-406A-4ECF-A7A4-221554ED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0CE77-5871-493C-840B-DE7D9588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FC3-31A0-403F-BD00-E4316867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720F-6CFB-4E64-B25B-9DC13A2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C650-56DA-4E20-9266-237E784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66D1-7319-44F5-90E7-E5068012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26513-3E87-4FFF-9712-A00C648F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9533-ABC0-4E0D-9766-4080439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9287-A94C-46D3-AFB2-B06772C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095B9-6A6F-442F-8E4A-6870303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AC84-D7A6-4027-A315-15391E4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95B6-A401-42FD-B58A-0A056737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FBF75-7B37-4D6A-8B12-6EE6A3C0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AAA-AD56-4BFA-89B6-05C7E59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1C5A4-FC7F-4472-BB75-31E361F6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DEF98-6DC1-4BD7-9C98-574236D3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ED61-3044-478E-819E-53CD54D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2DDA-A034-4356-A928-A671106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04CB-E58D-49E1-96F2-3C722170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1E8CA-718B-4F3E-A572-D360F0A3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992B-82A6-488E-B4D2-CC1EBF16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9B19-2380-49D1-9381-4E02261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EA98-ED87-459F-AAA7-E02B061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EE2E4-40F0-4F85-8BE5-05809B49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18C-E4D4-4498-A084-FEBCCD96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A8496-AD44-4425-8E37-A6F6F72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A1642-62F5-47B9-B8FE-1EC3C0B7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2FB96-0466-4E4C-A54F-D42C0C35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34AD-B3E5-472F-8EA3-9A2C9CDE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4908-6F0D-4518-8B5B-BB4FE3F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96846-2A9C-4CAB-8256-4E7221AE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61E7-2E2C-46AA-BBDA-4D451316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D257-FE87-4024-B302-F45F604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332D-0655-4B28-B2C8-46E48717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169D-86DB-46FA-B4BE-C55A1DB6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9BB-DE63-4810-8662-0F7F17B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DE3E-D6E4-4D64-ABED-80FB37A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6120-8B95-44B3-AAB8-8808628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A5E8-CFF7-4055-9B60-C2B24BF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BDA2-0012-4B92-8F0E-50A1BE5C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B75CD-2C4B-4401-8522-BF3ED2CF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B65E6-E63A-44C2-B222-A96A724A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C6FEB-CE35-4783-AA79-847DFF12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F99E-56D0-42EF-B1F3-3012550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70764-027F-434B-B7A2-55F5947C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554DD-FF4C-432E-BA0E-10FB1B2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B47-8A74-48E6-898E-867BE05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0D7FF-62D8-49AD-8F05-DC8BD483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BA3F-60FC-43DE-A54A-0DE9821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366D-043F-4C5B-AF5D-B2F4168B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0434E-C936-4A15-94EC-2B2601B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3BDEC-0D01-468A-8252-05FE43E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2483-29D0-4EA3-BB7D-1884DA9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2623-C517-411B-8DDB-D36872BC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52169-4064-4A10-80D2-B9168B65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EF14A-84A0-46C7-AD7C-ED6ED38B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99923-C7C8-4605-B5CA-1179EB1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25A-4CF3-4DF6-A340-EAC758A9C95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961-0C44-467B-B3D9-7F921C511F6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054-086A-4383-A1AB-ED9D98D93D6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A3AB-C6F5-4550-8717-11F549888B3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50F-08B3-4E21-B1BD-66F161F45826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14B2-B178-4A86-AEB1-D05C4E8BD9C4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B33D-8C8F-4C83-8AF3-94CD3AD64E1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9A85-F3CF-4583-B8AE-0783A3E31A8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D9E-726B-4FDC-850A-137028AA164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C83-1237-4266-884F-EED729D9F4E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21D2-7E05-469C-A713-33FE3FEE9306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A72-8089-460D-A208-BBE3B1CF8E2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4D1-0682-4D3F-B4A5-DE7754973AA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C878-6BC9-4764-B137-DF31C1E5760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1447920" y="22860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information contained within this document is copyrigh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G Communications Organization (District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unication equipment varies by location, mission and type of vessels supporte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HF-FM most common (and is carried in all CG small boats); HF SSB often found; in vessels, larger size usually implies more equipment options – i.e., larger cutters might carry satellite terminals, VHF and UHF AM, weather fax, data fax and more; buoy tenders usually carry HF SSB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tchstanders usually operate landline data circuits in the station telecommunications center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G callsigns vary – geographic (COMMSTA SAN DIEGO); small boats use 5-6 numbers (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 are boat length), e.g., 47452, 25894; larger vessels are named (“Eagle,” “Rush”) –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ext has more detail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01A5-1728-4145-AECF-47DA596B1A9D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G Communications Watchstanding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ull-time communications watch maintained by all CG Groups and many stations – monitoring local distress and calling frequenc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communicators are a welcome and needed augment to the CG staff – interested Auxiliarists should follow their chain to see how to attain qualific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roup and Stations Communications Watchstander Qualification Gui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” COMDTINST M16120.7 – the same criteria the CG uses for their own watchstanders – is used for the Auxiliar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 additional qualification criteria defined by the District or Station, plus local area knowledge needed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449-83BF-4D15-A96B-B4A2EC3A55AD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153F-994C-4DF7-A9A6-885C3FA70F36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ome Chapter Ques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1855800" y="1981080"/>
          <a:ext cx="6602400" cy="4048200"/>
        </p:xfrm>
        <a:graphic>
          <a:graphicData uri="http://schemas.openxmlformats.org/drawingml/2006/table">
            <a:tbl>
              <a:tblPr/>
              <a:tblGrid>
                <a:gridCol w="3301920"/>
                <a:gridCol w="330048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nce the Coast Guard is a government agency, the frequencies it uses are assigned by wh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e Coast Guard makes three (3) types of “all station” broadcasts. What are the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o is responsible for coordination and organization of communications with a Distric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dio operators speak with whose authorit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atchstander qualification at a station usuallyrequires completing what criteri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2" name="Text Box 39"/>
          <p:cNvSpPr/>
          <p:nvPr/>
        </p:nvSpPr>
        <p:spPr>
          <a:xfrm>
            <a:off x="5181480" y="2590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NTIA, as advised by IRAC and managed by G-S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5181480" y="32767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Distress (“Mayday”), Urgency (“Pan-Pan”), Safety (“Securite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6"/>
          <p:cNvSpPr/>
          <p:nvPr/>
        </p:nvSpPr>
        <p:spPr>
          <a:xfrm>
            <a:off x="518148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Chief, Telecommunications 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5181480" y="47242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Unit Commander or Officer-In-Char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2"/>
          <p:cNvSpPr/>
          <p:nvPr/>
        </p:nvSpPr>
        <p:spPr>
          <a:xfrm>
            <a:off x="5181480" y="54864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Those contained in the qualification gu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8B99-5F39-4047-9E14-8B496429065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End of Chapter 8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xt: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apter 9, “Radio Direction Finding”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1" name="Picture 8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86320" cy="3773520"/>
          </a:xfrm>
          <a:prstGeom prst="rect">
            <a:avLst/>
          </a:prstGeom>
          <a:ln w="0">
            <a:noFill/>
          </a:ln>
        </p:spPr>
      </p:pic>
      <p:sp>
        <p:nvSpPr>
          <p:cNvPr id="672" name="TextBox 8"/>
          <p:cNvSpPr/>
          <p:nvPr/>
        </p:nvSpPr>
        <p:spPr>
          <a:xfrm>
            <a:off x="5486400" y="5562720"/>
            <a:ext cx="2971800" cy="24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(SYMBOLIC DEPICTION OF FREQUENC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EB9-890B-4765-8610-0FB00BD140A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2727360" y="126036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21337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is slide intentionally left blank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26D-739A-412E-B760-81CF6D8B95F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6" descr="AUXCOM_Text-CoverP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152280"/>
            <a:ext cx="4956120" cy="6400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pecialty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AUXCOM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8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ast Guard Communicatio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12952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2009 v0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8677-FDAD-4802-81BE-1E6D1DD19A9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8 Outlin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04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eneral Introdu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requency Alloc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G All-Station Broadcas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G Communications Organization – Distric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G Communications Watchstand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view Ques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9" name="Picture 8" descr="normal_070405-G-6680B-500.jpg"/>
          <p:cNvPicPr/>
          <p:nvPr/>
        </p:nvPicPr>
        <p:blipFill>
          <a:blip r:embed="rId1"/>
          <a:stretch/>
        </p:blipFill>
        <p:spPr>
          <a:xfrm>
            <a:off x="1371600" y="1981080"/>
            <a:ext cx="3657600" cy="2614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General Introdu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9625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iable communications essential to all CG operations – from SAR to port security, and mo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communications most uses CG radiotelephone procedures – which are designed for simplicity and clarit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is important – become familiar and adhere to common procedur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re are organizational, operational and administrative standpoints to this topic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8FF-C463-4DAE-8F52-A972377DFD4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7" descr="3217624967_5f462d40f1-Inauguration2009.jpg"/>
          <p:cNvPicPr/>
          <p:nvPr/>
        </p:nvPicPr>
        <p:blipFill>
          <a:blip r:embed="rId1"/>
          <a:stretch/>
        </p:blipFill>
        <p:spPr>
          <a:xfrm>
            <a:off x="1676520" y="1600200"/>
            <a:ext cx="2176200" cy="2819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Frequency Alloca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TU (International Telecommunication Union) allocates radio frequencies to various radio services per covena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Services” include radio navigation, maritime mobile, broadcast commercial radio/TV, etc. – much competition for available spectru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TIA (National Telecommunications and Information Administration) assigns allocated frequencies to US Gov’t agencies (advised by IRAC, Interdepartment Radio Advisory Committee, working for the President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CC (Federal Communications Commission) assigns allocated frequencies to civil/non-federal agenc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G Commandant (G-SCT) responsible for surface agencies frequency assignments …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ext sli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C95-64B8-41E0-B565-061D7BB42936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Frequency Alloca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2843-D14C-4FC3-A8C7-C0D56E6D037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8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029720" cy="53625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8"/>
          <p:cNvSpPr/>
          <p:nvPr/>
        </p:nvSpPr>
        <p:spPr>
          <a:xfrm>
            <a:off x="5257800" y="6019920"/>
            <a:ext cx="2971800" cy="24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(SYMBOLIC DEPICTION OF FREQUENC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ular Callout 8"/>
          <p:cNvSpPr/>
          <p:nvPr/>
        </p:nvSpPr>
        <p:spPr>
          <a:xfrm>
            <a:off x="990720" y="2743200"/>
            <a:ext cx="5562360" cy="914400"/>
          </a:xfrm>
          <a:prstGeom prst="wedgeRectCallout">
            <a:avLst>
              <a:gd name="adj1" fmla="val 28166"/>
              <a:gd name="adj2" fmla="val 222819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ast Guard “Frequency Plan” (index of frequencies used, utilization procedures and circuit listings, etc.) contained  in COMDTINST M240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G All-Station Broadcast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G makes Urgency, Safety and scheduled marine information broadcasts; broadcasts have vital info to maritime interests in US waters and vicinity (i.e., the Caribbean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rgency Broadcasts (“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Pan-Pan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”)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sent on VHF Channel 16, 2182 KHz and (possibly) district working frequenc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oadcasts upon receipt, 15 minutes later, then in regular broadcast schedule (as belo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afety Broadcasts (“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écurité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”)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sent on VHF Channel 22 and 2670 KHz; similar schedule to Urgency, as abov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cheduled Broadcas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sent on VHF Channel 22 and 2670 KHz; schedule times vary according to the Distric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portant Notices to Mariners, oceanographic information, meteorological warning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F120-780A-4EC3-BCBE-F024932D82B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G Communications Organization (District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A3BC-2D99-4130-BF0E-7F8BBCCB95C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3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3459240" cy="2133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3487680" cy="4286160"/>
          </a:xfrm>
          <a:prstGeom prst="rect">
            <a:avLst/>
          </a:prstGeom>
          <a:ln w="0">
            <a:noFill/>
          </a:ln>
        </p:spPr>
      </p:pic>
      <p:sp>
        <p:nvSpPr>
          <p:cNvPr id="644" name="TextBox 9"/>
          <p:cNvSpPr/>
          <p:nvPr/>
        </p:nvSpPr>
        <p:spPr>
          <a:xfrm>
            <a:off x="5257800" y="2438280"/>
            <a:ext cx="35053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istrict Commander publishes all District-wide communications instructions and plans in the District Operations Plan (OPLA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5257800" y="1905120"/>
            <a:ext cx="35053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istrict Commander designates the Chief, Telecommunications Branch (dt) responsible for planning, organization, operation, inspection, supervision and coordination of all communications activities in the Distri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Auxiliarists should be familiar with applicable information published in the OP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G Communications Organization (District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29492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AMS (Communication Area Master Stations)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overall control of all radio circuits, speak for/with authority of Area Commander; maintain responsibility for circuit disciplin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roup/Activity command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maintain discipline on radiotelephone circuits within AOR (“Area of Operations Responsibility”), speak with authority of Commander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Individual radio-equipped uni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each have their own communications responsibility; guidance obtained from Area commander, but unit commanding officers/OICs are responsible for maintaining reliable comms capabilit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y radio-equipped unit, ashore, afloat or aloft, speaks with the authority of its commander/OIC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rational on-scene commanders might also have proper delegated authority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895-6629-45C3-B9A0-32C85D939A2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3:18:45Z</dcterms:created>
  <dc:creator>Mike Bauer</dc:creator>
  <dc:description/>
  <dc:language>en-US</dc:language>
  <cp:lastModifiedBy>Cypherja</cp:lastModifiedBy>
  <dcterms:modified xsi:type="dcterms:W3CDTF">2010-10-01T11:14:44Z</dcterms:modified>
  <cp:revision>288</cp:revision>
  <dc:subject/>
  <dc:title>AUXCOM 2009 PHASE 1 REWORK - Chapter 1</dc:title>
</cp:coreProperties>
</file>