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4.png" ContentType="image/png"/>
  <Override PartName="/ppt/media/image13.wmf" ContentType="image/x-wmf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3.png" ContentType="image/png"/>
  <Override PartName="/ppt/media/image11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C81B-E80F-4B6A-A0BB-F50D92994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1905-6328-4950-B860-142DC957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9: Radio Facilities,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E8E9-BB71-4D47-B294-4F0492C5B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0: Radio Facilities,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81FD-A0E1-49B1-BC10-68D946207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1: Radio Facilities,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7107-7877-4441-8024-C2D46C09C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2: Radio Facilities,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B6F8-9424-40F6-B339-E0DAF0B3A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3: Radio Call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E21E-A319-4B1F-B6A5-E3367E4E4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4: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77FB-CC20-4947-8575-BF425A736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5: Administration,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6041-BE09-4A91-B718-3094204C9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6: CB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5C28-8125-420F-9B89-F8F45D837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7: Radio 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F82C-19B1-4B40-8C1F-96D3BFA6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8: Authorized/Required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48CB-822B-4063-B050-037944D29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5EE8-E85C-4DC9-8564-0C57ABB8B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COAST GUARD AUXILIARY – Auxiliary Communications Specialty Course (“AUXC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9 UPDATE, version 0.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. Chapter cover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: “Auxiliary Communications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9: Insp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D47F-E069-4602-B1B4-5E16173AC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0: Auxiliary Communications Watchsta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FC99-EB7B-4E3C-A2AF-FC817CF5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1: Auxiliary Communications Watchstanders,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6FD4-27DD-4855-A28D-0984C89A7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2: Responding to Requests fo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9D7C-1C81-4E3E-BCA4-08A638099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3: Communication With Civilian Emergency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A077-BF9C-4D2E-A480-93BA3144A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1044-5C00-4F70-B379-3A26AD11D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4: Some Chapter Questions (1 of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questions ar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to display each answer in sequence. Font change used to simulate human hand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ast answer displayed, one more [CLICK] to next screen (allows instructor pause for last answ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66F7-27F3-4075-8DDE-8397F558D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5: More Chapter Questions (2 of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questions ar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to display each answer in sequence. Font change used to simulate human hand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ast answer displayed, one more [CLICK] to next screen (allows instructor pause for last answ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D795-29C1-4E2A-B244-08450D8F6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6: End of Chapter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ded as the last normally-displayed slide of this de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CF41-5C66-47E2-A60D-C27FD672C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7: end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ormally intended to b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: Chapter 5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ue to the nature of the material in this chapter, more information is to be found in the text than in this presentation. Especially procedural and forms-related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4286-EBC2-4B40-A2BD-5F02EC5D6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3: Auxiliary Communication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CBAD-D490-4861-9EE7-AA936085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4: Auxiliary Communications System,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C004-72ED-485C-A394-EE6574A99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5: Auxiliary Communications System, continu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15A3-5AF8-45FC-9A37-0D8F5A8E7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6: Radio Fac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308B-E0B1-4FCA-8B3A-3B17B47F9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7: Radio Facilities,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92D8-E8EC-48D7-B551-C984DF9C3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: Radio Facilities,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6E08-747E-43C2-9B85-5DFB0BCAC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F4D-7DCC-46B2-AA91-61A8EBDE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FA6-F6A8-4B7B-9313-F2B44983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3A742-3770-4EC0-A8B7-AFA65FA2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8F208-252F-4346-8216-776460D3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4678F-4BD0-4E79-9129-C72788B5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5A3EB-0F53-477B-8C31-A4DD9C24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B30C4-58E9-4463-BFB9-64DA3826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2A485-E922-4C10-9126-78872FAE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8CA89-1568-4B24-AA00-1CDCC4E3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9F25D-E202-417B-96C2-43514693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BA26C-AD1E-459D-A982-AD36B005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08AE8-A1FB-48AC-AC55-E92AC2A8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211-CE1E-4EEE-A311-4681EA0D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F6606-347A-451F-A896-44FE80E9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BB523-5CD7-45BB-91A1-771C184C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62C72-8FF7-4C80-8804-8FDA4085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671C5-29D9-4561-BAF8-0BDD4EA0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44571-D4B7-4B0B-87B0-BF213DB7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1E2CC-4CB7-4670-B25E-2755416D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7DE43-1B3B-44CD-9D57-BD390277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A60EC-FA5C-4A34-987F-98B93FCD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24FC1-4D38-4DAE-B334-012241A9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4D49F-448C-443C-B0A8-E08C874B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D86-88D2-4732-994A-80EB823D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E544F-C938-4DC4-BB01-6566236D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1FCAA-6362-4A4D-86F4-35E2FABD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69169-AE56-4EAD-BF8F-FC4DD778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77881-21EF-4AA4-AF38-D86C6EE3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4E640-819B-45C8-B9E0-DE385824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7BBC1-0151-4BED-850D-A7CB6075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A50FA-AC68-4CDA-8997-FDE0F530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85542-DCD3-46CA-A5BB-4F18D1F4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2D710-F71E-46B8-9FAA-B5B6CC7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CBC81-1058-4CE8-B46B-BE14DEB1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2728-B470-4E15-B91C-DB8FEAB9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B8939-D46E-4071-85F9-90106307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6D6A4-DDB5-4AD2-A8C4-84F744EA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8E79B-EC2F-4937-99F1-8E2E0D75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B23F0-4F19-4CE5-BBBF-F903521D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9A378-213C-46C8-8F6E-C07BF4DE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915E0-6128-42DB-99EE-801185D0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78EBE-94A9-41BF-889B-336B0E70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EAD65-46CF-424E-BA66-2FE2F555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AE36C-5237-4C1E-920D-0CDB0044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D44BC-87DF-4C33-AFE7-D56C5CC1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60C2-4471-4D97-A1F3-0230AC89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3ACC9-B76D-4A7A-A926-C59D208B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28AE2-4017-4E9F-BCC5-B4524CC3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B732E-9146-4B46-A1DF-06E8C152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4BD9D-C8CA-43A9-A5D4-B083D0ED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BAA54-D4C4-4EAD-B68B-75034650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5BE01-86DD-4DEC-AD72-88CDB5CB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936C5-CF91-4E25-A494-829E4BA9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CEAD6-B98C-4EBD-B731-EC4108D4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83244-2AB5-4A6B-B627-EC8CDCDD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1B0DE-71E3-49EF-BAD3-015B70F5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0DE5-95B9-420C-9E7C-9343851A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71256-E4B4-49F4-AA58-62C8A1A1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ED77F-E3C2-48FE-8F5C-674982F3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960D2-1AEC-448A-9829-0D69A1ED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BF400-C33B-49BD-91F1-3DCF134A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EE9A2-05A1-4CC3-82A5-5BBBA7C3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09820-7E49-48D9-BE0C-9CEDB27F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1C356-9640-4BE7-AF1B-5FC6878F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6450-73E0-42B4-9F54-A149103C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8236-7FE4-43D7-8E54-EF4EAC40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0141-D2ED-4F18-8EE9-C1BCF7F6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F556-5549-4833-801D-6D1B886B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83D-C8C7-42ED-BD1E-C6486794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AA0C-92B2-47A4-8290-60858255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D9A9-8C29-457B-AC52-1EF1314C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0EE3-DE50-4E0E-A1A7-D81101AD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0B5F-609B-4D07-8AF0-F6F2B63E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9E46-AAE0-4C50-9A1C-358C0C11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8BC7-7AC2-46A5-B347-65BDDE0F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914D-F470-4E42-98E7-60421425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2176-1802-415D-98D9-6EB24FA0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43D9-48A6-440E-BC83-8E329CC5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DF6C-9858-4AD9-9EEA-F0A0B97D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41C-410F-4D52-971D-EEB5BF0D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8BA9-07D4-48A6-8F56-83199ACA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3D6B-2D5E-4578-9817-F8B12CDA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33A2-FCD9-455E-83D4-BBFD0B92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CF0FD-9BEE-43DD-B027-54B0FE05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2C62-5924-429C-9D0F-3CA85804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EC097-1F92-4D18-9CF0-11128837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EFA4-BAF6-4B26-8532-C367DE36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3BF1E-2BDE-4088-98F5-E2F79E03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1E64-14C9-464F-86CD-0AFC100F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25DF-E4B2-490E-A6C0-BA7C63A7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17E-3248-488B-B053-C440EE35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D2188-8918-4760-A2AF-B748A910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5CC86-7CEA-4958-9D4B-251E37FB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2DB13-C023-4C10-A491-04871130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4DF06-0ADC-408D-A4FE-D3CAAC7B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3ADE9-0DB1-4B71-B5B8-DFDB9440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8426C-5073-4A5C-B8F2-67AE88BC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59E0-B0CB-44D6-9827-AFB6D905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7D1A6-ECAD-44A3-ADD1-767D65EC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B4ABD-255A-48CB-B93F-F70F9977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DB3BA-E568-41D8-BE09-3563151B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44E-A16B-4F44-A938-5AA8AA42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1311A-7E8B-4B0A-AA4B-C1B77B24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8F773-6CC5-4402-8DD3-0D60E1BF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DDDC0-21DB-40A2-8B64-5E0E9FAD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6CD22-659E-49CE-BCDD-89B970BF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3A399-F309-45CF-865C-76963164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034DA-5548-45B3-953C-3E0E8CE3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8D216-AD2C-4586-87CE-1B16F3E9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E20BA-4F33-4302-9B8A-66181706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211EF-A088-40EE-B8FE-16A9CD71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211B1-86F6-42B4-AA72-1896425C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003-7534-459F-82C6-6851C6E8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26527-6586-4504-BA12-EAB9F0F9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D5A40-5EA9-4519-957B-A3AC558B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25F45-1750-4596-9105-EBF16C2A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C202E-8EFF-4A8F-8DB2-F390831D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026C4-176F-4337-A829-F0189F4A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9EB4F-EDFF-4964-A46D-15526CED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ACA84-3188-4432-BD85-61B22500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DEF3A-40C5-41A6-B065-5DA88D3A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6A670-FC49-4FDA-9A22-7DF87CFA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9E7A8-43F5-4729-B219-3705243B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9DE-C45B-44A5-940E-49B89282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37750-9186-443F-96E7-78805481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E7D23-8DB8-48D7-B919-166A8649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C8CC0-38A5-48AF-A401-22AF2DD6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5A933-3D8B-4165-BEC5-897B7BEE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824EF-8302-4978-B410-A96FCC33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4BDB8-68C9-4D30-87A1-641CC1FC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B373C-8690-43D8-8AAB-4C349397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228E9-8B66-4C91-B4D3-78592F88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AF095-DC30-4F6C-897F-433865D2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69FDC-F4C0-45DB-ADAB-89FA5954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2A0-E192-439D-BB2F-101E5D42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61876-A7DE-43E2-B9E6-AF6899FB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C9093-8D1C-4AF9-BCF8-C2671C8F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CE694-BF89-4F38-A29C-32FE9DE6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CD80A-4048-4668-9DF1-6E03EB90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D5B86-492D-4A96-912D-95E363E1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0A802-7EDA-4A9E-AB36-06440201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9096F-5061-478D-8184-587A183E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9921B-D9B4-4E84-A61F-755E306A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3CF11-953C-4AF8-B198-4BA5D708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B80FF-FE6C-4CB5-BB8D-A38BC92D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3D9-5290-4FB1-9D77-2E54244C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2C366-C82D-4486-B3F3-BD4508D3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28A2A-3FBC-405A-BF20-21558382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DD522-6663-405B-B4EC-982F6833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3503A-8F31-43EC-85A2-5126A6F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3FAC0-F710-4367-A17D-FC70052A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6A775-380F-4E1A-99C7-25550462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D645C-BB99-4FF5-A31E-679CC682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0D385-2D1E-45BB-A01B-36943CFC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E817F-DA84-4E86-B27B-CFFF5BDD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313A7-688C-4724-ACF7-70F0B28C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3EB9-6967-4820-989F-D3D0DAAFC9ED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6087-A357-48AA-9873-D216B2EC1B26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8A81-F573-4B33-B16C-2BAA539CCD9B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23E8-18A4-4A8B-9DCD-A2F3E469B89C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6EFC-63CD-48A0-8DAA-DF60C86B3630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AUXCOM – Auxiliary Communications Specialty Cou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13D6-E900-47AF-9CA8-D7E810476711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61C3-82CC-4391-A866-4B1480021048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7D33-3DDA-4C26-A11E-B782953A23F6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9D0B-3140-4C1A-A0E2-E204FFFAEB5A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083D-4C46-49D3-A97D-7CBB29D731C2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085B-D26E-43B9-AFBB-15DB36F84402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CA68-61BB-4F7F-BBAE-FA7AC3598E84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D961-800A-4ECE-A3AE-BC61C3508403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1447920" y="22860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e information contained within this document is copyright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adio Facilitie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219320" y="160020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overnment Station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station, when assigned Coast Guard duty, is a Coast Guard radio station and a legal “government station”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o operate as a government station, the radio must be on board a surface or aircraft facility, or be accepted for use as a radio facility by the Direc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xiliarists may operate the facility if they meet the owner/operator requirements, or are under direct supervision of the owner/operator – compliance is responsibility of the facility own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en under orders, operators of radio-equipped facilities may (and must) operate on government frequencies; all surface and air facilities must be VHF-FM equipped. Only frequencies authorized by the District Commander may be used as local working frequenci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F6D5-650E-40A0-94BA-18C0B1A81E5A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adio Facilitie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294920" y="152388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CC Licens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xiliary surface or aircraft facility when operating under orders or performing a mission directed or scheduled by the Coast Guard does not need an FCC licen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st Auxiliarists also use their equipment for recreational uses, and must have an FCC license if required – the Director can waiver if the facility is used only for government purpos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xiliarists do not directly contact the FCC on Auxiliary matt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re details in text, Chapter 5, Section B.3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37EB-6CE5-40FD-BCB5-89D71875A964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6" descr="P4220066.jpg"/>
          <p:cNvPicPr/>
          <p:nvPr/>
        </p:nvPicPr>
        <p:blipFill>
          <a:blip r:embed="rId1"/>
          <a:stretch/>
        </p:blipFill>
        <p:spPr>
          <a:xfrm>
            <a:off x="5867280" y="3429000"/>
            <a:ext cx="2729160" cy="20494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adio Facilitie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wner/Operators must have the following training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wners or operators of fixed land, land mobile or RDF facilities – AUXCOM and other training as required by the District Comman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erators on boats, aircraft or special-purpose facilities must have appropriate crew qualifications or AUXCOM, and other training as required by the District Comman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xiliarists standing communications watches at Coast Guard units are “BQ” and meet the watchstander qualification of that uni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54DC-DCA6-48DA-88BE-6313678F090E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adio Facilitie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29492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HF-FM RDF Facility Requirement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nimum range 10 miles; arc of unobstructed direction finding 130 degrees, no reflected signals noted; demonstrated bearing error +/- 5 degre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cated close to assigned patrol areas; must provide accurate DF support to operational facilities in patrol are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ndline or non-marine communications capability – operator is NOT to pass LOPs and fixes on VFH-FM unless reques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e text regarding certain other requirements, Section B.1.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B435-BB60-422C-96AF-75031701CEC4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adio Call Sign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uthorization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xiliary radio facilities must use Auxiliary radio call signs whe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ducting SAR, emergency or patrol communic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ducting official Coast Guard or Auxiliary business on Coast Guard frequenc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 not use an FCC call sign along with an Auxiliary call sig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ritten orders are not required to use Auxiliary call sig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signation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ary by situation. Refer to text (Section C.2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32DB-A042-4A71-B751-2317B15E1835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dministration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ast Guard Director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ordinates general supervision of Auxiliary communic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proves potential station owners for membershi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cepts/rejects facility inspe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proves drill schedu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courages maximum level of effectiven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intains current list of available facili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intains the approved call sign numbering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ordinates with CG District telecommunications branch on use or distribution of CG-supplied equipment to Auxiliarist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1AD3-E044-4D41-8A58-837B31133F8A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dministration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1907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cal Display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niature decal and wreath can be displayed on exterior or interior of building in which the equipment is hous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cal may also be placed in any legal position on a vehicle or the radio itsel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rge-size decal &amp; wreath not use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53BB-4896-44AF-AFCE-482CAC076305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4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2457360" cy="22604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itizen’s Band (CB) Radio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ast Guard has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requirements to monitor or support CB radi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xiliary facilities 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ma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use CB equipment to communicate with boats when no other method available – CG prefers Auxiliary using marine frequencies on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xiliarists using CB will use Auxiliary call signs and proper radiotelephone procedures; no “10” code (e.g., “10-4”), no CB slang (e.g., “good buddy”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B equipment does not satisfy requirements for radio facility statu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25C3-DE92-4CB8-893C-76360ECDC607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adio Log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29492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erators of all boat, aircraft and radio facilities must maintain radio logs and formal message log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me exceptions exist when operating for a CG or Auxiliary shore unit (see text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fixed shore-side radio facility is better able to maintain logs than a boat or aircraft; facilities 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under direct control of a CG station or Auxiliary fixed land facility 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ake log entri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gs to be available to cognizant authority when asked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gs must be maintained for 1 year; 3 years when distress traffic recorded; longer if an investigation or claim is ope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eeping a log must not interfere with safe operation of the facility – see text on details re: deferred entries (G.5)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AD8F-D852-4EF7-90F7-AE1C1C0C2EBA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6"/>
          <p:cNvSpPr/>
          <p:nvPr/>
        </p:nvSpPr>
        <p:spPr>
          <a:xfrm>
            <a:off x="1981080" y="5715000"/>
            <a:ext cx="60962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CHAPTER 7 HAS A FULL DESCRIPTION OF RADIO LO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uthorized / Required Frequencie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916A-CCB8-46CA-90A4-A629E906833C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371600" y="1676520"/>
          <a:ext cx="7162920" cy="3597120"/>
        </p:xfrm>
        <a:graphic>
          <a:graphicData uri="http://schemas.openxmlformats.org/drawingml/2006/table">
            <a:tbl>
              <a:tblPr/>
              <a:tblGrid>
                <a:gridCol w="2724120"/>
                <a:gridCol w="1913040"/>
                <a:gridCol w="1220760"/>
                <a:gridCol w="13050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UTHORIZED FREQU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ALL VHF-F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QUIRED 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QUIRED AIR / SU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G 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annel 2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annel 2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annel 8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annel 8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G LIAISON/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annel 2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STRESS, SAFETY, CA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annel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ERNATE CA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annel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SHIP SAFETY / SAR SHIP TO AIRCRA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annel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1" name="TextBox 10"/>
          <p:cNvSpPr/>
          <p:nvPr/>
        </p:nvSpPr>
        <p:spPr>
          <a:xfrm>
            <a:off x="1371600" y="5486400"/>
            <a:ext cx="71629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EE TEXT, CHAPTER 5, SECTION “I” FOR MORE COMPLETE LISTING, INCLUDING NON MARINE VHF-FM FREQUENC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AUXCOM_Text-CoverPag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90920" y="152280"/>
            <a:ext cx="4956120" cy="640080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uxiliary Communications Specialty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(AUXCOM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pter 5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uxiliary Communications System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C888-44D8-4E38-9B09-11913744ED32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7"/>
          <p:cNvSpPr/>
          <p:nvPr/>
        </p:nvSpPr>
        <p:spPr>
          <a:xfrm>
            <a:off x="129528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2009 v0.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Inspection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ach facility is initially inspected, then re-inspected every 3 year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nly AUXOP or communications officer (any level) having completed AUXCOM may conduct inspection; may not inspect own equipment or that of immediate family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dio equipment permanently installed on boats or aircraft is boat/aircraft equipment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wner of inspected equipment solely responsible for maintenanc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nd mobile owners may carry a copy of their Radio Facility Inspection Report (Form 2736A) in their vehicle, along with Auxiliary ID card and facility decal to satisfy potential enforcement agency inquiries on vehicle-carried equipment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801B-47C2-4A7E-8B28-B9AB300B9F45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uxiliary Communications Watchstander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uxiliary Communicators – an integral part of CG network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uxiliary Communicator IS the CG to the public, and must work to maintain public trus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Qualifications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 CG Units – must meet unit training and qualific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 Auxiliary Facilities – AUXCOM and other requirements per the Direc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cal Knowledge – must be thoroughly familiar with local operating area in addition to training and qualific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roup and Station Communications Watchstanders Qualification Guide, COMDTINST M16120.7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E782-0AA4-4D09-9B3A-32CEFBD185FC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uxiliary Communications Watchstander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294920" y="18284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public will likely exhibit a wide range of emotions, including confusion, panic, impaired thinking (intoxication, hypothermia, fatigue, etc.), ignorance and more – remain cool and professional to complete necessary communications and provide effective help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mportant Communicator skills include: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Speaking clearly, evenly, not too fast, not too lou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Clear thinking before speak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Relate to level of caller: child, novice, professional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Full attention – active listening, note tak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Calm, Confident, Objective, Profession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Accept your limits &amp; distance between yourself and the cri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More, see Chapter 5, Section M.2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5F50-E43D-4991-A525-2409443B4B94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esponding to Requests for Information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formation requests from the public to Auxiliary Communicators are guided by Auxiliary policy or local CG policies for watchstanders at CG units. Expanded details in the text, Chapter 5, Section N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Navigational Information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Auxiliarists may pass any information contained in recognized published documents, but may not give or recommend compass cours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Lost or Disoriented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see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Weath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Auxiliarists may pass weather information, but be clear the CG does not forecast weat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Third party Radio Traffic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CG does not usually handle 3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party traffic – see text for situational detai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Accuracy &amp; Timelines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see tex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F5C5-4B45-4CAB-98DD-B90C0329CFF9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ommunication With Civilian Emergency Service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G resources interact with civilian emergency services in many SAR and disaster situations – all resources need to communicate and coordinat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ferable for civilian station to shift to government frequency for the duration, such as VHF-FM Channels 21A, 23A or 83A (note Channel 22A would raise interference problems if another SAR situation arises locally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nnel 81A is used for environmental problem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ing government frequencies, Auxiliary is precluded from involvement in law enforcement, CAP, DOD or other services with differing operating procedures – most units working maritime SAR have marine VHF-FM capabiliti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 of government channels by non-government stations in these cases is allowed by FCC rules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B5BD-69F6-4A38-B4B0-AE9F738BA395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ooter Placeholder 4"/>
          <p:cNvSpPr/>
          <p:nvPr/>
        </p:nvSpPr>
        <p:spPr>
          <a:xfrm>
            <a:off x="312408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Some Chapter Question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1855800" y="1981080"/>
          <a:ext cx="6602400" cy="3997440"/>
        </p:xfrm>
        <a:graphic>
          <a:graphicData uri="http://schemas.openxmlformats.org/drawingml/2006/table">
            <a:tbl>
              <a:tblPr/>
              <a:tblGrid>
                <a:gridCol w="3301920"/>
                <a:gridCol w="3300480"/>
              </a:tblGrid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S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an an individual radio used on a vessel facility be accounted for in any other facility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at are the various types of Auxiliary Radio Faciliti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an a portable radio qualify as a facility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essel facility radios are considered government stations under what circumstanc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an land mobile radio facilities engage in personal business on their facility radio frequenci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5" name="Text Box 29"/>
          <p:cNvSpPr/>
          <p:nvPr/>
        </p:nvSpPr>
        <p:spPr>
          <a:xfrm>
            <a:off x="5257800" y="2743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30"/>
          <p:cNvSpPr/>
          <p:nvPr/>
        </p:nvSpPr>
        <p:spPr>
          <a:xfrm>
            <a:off x="5257800" y="32767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Fixed Land, Land Mobile, R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40"/>
          <p:cNvSpPr/>
          <p:nvPr/>
        </p:nvSpPr>
        <p:spPr>
          <a:xfrm>
            <a:off x="5257800" y="37339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Yes – some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45"/>
          <p:cNvSpPr/>
          <p:nvPr/>
        </p:nvSpPr>
        <p:spPr>
          <a:xfrm>
            <a:off x="5181480" y="441972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When operating under orders; when performing CG du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6"/>
          <p:cNvSpPr/>
          <p:nvPr/>
        </p:nvSpPr>
        <p:spPr>
          <a:xfrm>
            <a:off x="5257800" y="54864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No – not on CG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4BEC-DA91-4B41-9CC6-499837F4FBAA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4"/>
          <p:cNvSpPr/>
          <p:nvPr/>
        </p:nvSpPr>
        <p:spPr>
          <a:xfrm>
            <a:off x="3048120" y="62485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More Chapter Question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1905120" y="1752480"/>
          <a:ext cx="6602400" cy="4443480"/>
        </p:xfrm>
        <a:graphic>
          <a:graphicData uri="http://schemas.openxmlformats.org/drawingml/2006/table">
            <a:tbl>
              <a:tblPr/>
              <a:tblGrid>
                <a:gridCol w="3301920"/>
                <a:gridCol w="330048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S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nder what conditions may fixed land, land mobile or RDF facilities be activated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at training is required for an Auxiliarist to be able to use a vessel facility radio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at are the conditions under which CB radio may be utilized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essel and aircraft facilities must be capable of operating on which VHF-FM marine channel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unication with civil emergency services is preferred on what VHF-FM marine channel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4" name="Text Box 39"/>
          <p:cNvSpPr/>
          <p:nvPr/>
        </p:nvSpPr>
        <p:spPr>
          <a:xfrm>
            <a:off x="5257800" y="236232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Mission, Distress, Technical Testing, need to contact CG to see if Aux help needed (B.1.h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40"/>
          <p:cNvSpPr/>
          <p:nvPr/>
        </p:nvSpPr>
        <p:spPr>
          <a:xfrm>
            <a:off x="5257800" y="3200400"/>
            <a:ext cx="297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Boat Crew qualified or AUXCOM plus other training required by District Comma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46"/>
          <p:cNvSpPr/>
          <p:nvPr/>
        </p:nvSpPr>
        <p:spPr>
          <a:xfrm>
            <a:off x="5257800" y="4038480"/>
            <a:ext cx="3124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No other method avail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CG protocols used; no “10 codes,” no CB sla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50"/>
          <p:cNvSpPr/>
          <p:nvPr/>
        </p:nvSpPr>
        <p:spPr>
          <a:xfrm>
            <a:off x="5257800" y="495288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Channels 6, 16, 21A, 22A, 23A, 81A, 83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2"/>
          <p:cNvSpPr/>
          <p:nvPr/>
        </p:nvSpPr>
        <p:spPr>
          <a:xfrm>
            <a:off x="5257800" y="563868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Channels 21A, 23A, 83A. 81A for environmental ev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D0A4-BDE3-4B28-AE3E-71E9C43FF27E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End of Chapter 5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ext: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apter 6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Messages”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C452-0EBF-40A1-ACEE-5C83F3DDA01E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Picture 7" descr="2901040455_5ee025afe1-HoustonShipChannel.jpg"/>
          <p:cNvPicPr/>
          <p:nvPr/>
        </p:nvPicPr>
        <p:blipFill>
          <a:blip r:embed="rId1"/>
          <a:stretch/>
        </p:blipFill>
        <p:spPr>
          <a:xfrm>
            <a:off x="4800600" y="3681360"/>
            <a:ext cx="3595680" cy="2387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2"/>
          <p:cNvSpPr/>
          <p:nvPr/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2727360" y="126036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213372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This slide intentionally left blank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574E-D818-48BB-8DDD-D26832056B65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5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hapter 5 Outline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xiliary Communications System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dio Faciliti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dio Call Sig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ministra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itizens Band (CB) Radio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dio Log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thorized/Required Frequenci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pec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xiliary Communications Watchstander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ponding to Mariners’ Requests for Informa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unication With Civilian Emergency Servic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ew Ques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5" name="Picture 10" descr="alan_main_comms"/>
          <p:cNvPicPr/>
          <p:nvPr/>
        </p:nvPicPr>
        <p:blipFill>
          <a:blip r:embed="rId1"/>
          <a:stretch/>
        </p:blipFill>
        <p:spPr>
          <a:xfrm>
            <a:off x="4876920" y="2286000"/>
            <a:ext cx="3886200" cy="29145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57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B1BA-2B9D-4E45-B1E4-A8BAB0746DFD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7"/>
          <p:cNvSpPr/>
          <p:nvPr/>
        </p:nvSpPr>
        <p:spPr>
          <a:xfrm>
            <a:off x="4876920" y="5334120"/>
            <a:ext cx="388620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Relative to some other chapters, much more information is in the text than this accompanying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uxiliary Communications System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sists of designated “radio facilities,” plus vessels and aircraft with radio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dio facilities are offered by their owner for use by the Auxiliary, and inspected / accepted by the Director – after which they are operational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dio facilities may be: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xed land st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nd mobile st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dio detection finding (“RDF”) st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given radio may not be used for more than one facility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nsmitters must be FCC accepted/type approved (see section B.5 in text)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486D-158D-40EB-833D-B3D58718A873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uxiliary Communications System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urpos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ordinate authorized Auxiliary activities in support of Coast Guard oper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gment Coast Guard communications system when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unicate urgent matters of official Auxiliary busin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sist national resources in time of disas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C170-AD19-4178-8275-88E6AE3C3A0D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uxiliary Communications System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o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trict Commander controls – including training and drill activities. DC authorizes frequencies (listed in tes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ach Auxiliary district must conduct communications drills, at least quarter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trict commanders may also authorize use of the Federal Telecommunications System and local Coast Guard landli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9C7D-525D-4412-85A2-52B379AA8314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adio Facilitie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295280" y="19810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xed Land Radio Facility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erated from a fixed location (home, garage, office, etc.). May also have RDF capabil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Transportable Stat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 – fixed land radio facility transported to various location but not used while in mo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5" descr="normal_downloads_012.jpg"/>
          <p:cNvPicPr/>
          <p:nvPr/>
        </p:nvPicPr>
        <p:blipFill>
          <a:blip r:embed="rId1"/>
          <a:stretch/>
        </p:blipFill>
        <p:spPr>
          <a:xfrm>
            <a:off x="5715000" y="1600200"/>
            <a:ext cx="1657440" cy="22096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594" name="Picture 6" descr="PICT2394.JPG"/>
          <p:cNvPicPr/>
          <p:nvPr/>
        </p:nvPicPr>
        <p:blipFill>
          <a:blip r:embed="rId2"/>
          <a:stretch/>
        </p:blipFill>
        <p:spPr>
          <a:xfrm>
            <a:off x="5715000" y="3962520"/>
            <a:ext cx="2895480" cy="2171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59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8DC9-65CB-40D2-B1CA-7C5B9A16AEE9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adio Facilitie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295280" y="16765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nd Mobile Radi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erated while in motion – in a vehicle, walking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n include portable radios (“walkie-talkies,” “H/T’s,” etc.), as well as marine rad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Portable Radio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can be hand-carried and have a self-contained antenna and power source. The Director may certify a portable radio for a facility under certain conditions, where one is appropriate to the facility’s mission;  additional power, antenna or other capabilities may be required by the Director to augment the uni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10" descr="normal_comm_ededson_lott_5x7.jpg"/>
          <p:cNvPicPr/>
          <p:nvPr/>
        </p:nvPicPr>
        <p:blipFill>
          <a:blip r:embed="rId1"/>
          <a:stretch/>
        </p:blipFill>
        <p:spPr>
          <a:xfrm>
            <a:off x="7010280" y="3886200"/>
            <a:ext cx="1586160" cy="2225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00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81FD-2A3B-4274-8CF6-012E72712BD8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8" descr="P4220086.jpg"/>
          <p:cNvPicPr/>
          <p:nvPr/>
        </p:nvPicPr>
        <p:blipFill>
          <a:blip r:embed="rId2"/>
          <a:stretch/>
        </p:blipFill>
        <p:spPr>
          <a:xfrm>
            <a:off x="6324480" y="1828800"/>
            <a:ext cx="2248200" cy="16891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Radio Facilitie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295280" y="19810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HF RDF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ive direction-finding capabil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nd-line or other non-marine communications must be avail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its must meet standards of accuracy, range and scope of dire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uxiliary Vessels and Aircraf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cilities with radios,” not “radio facilities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8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533680" cy="20876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06" name="Picture 2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562120" cy="1923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0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9DF0-D2A7-44E6-9FCC-6FDA5BCC55E2}" type="slidenum">
              <a:rPr b="0" lang="en-US" sz="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23:18:45Z</dcterms:created>
  <dc:creator>Mike Bauer</dc:creator>
  <dc:description/>
  <dc:language>en-US</dc:language>
  <cp:lastModifiedBy>Cypherja</cp:lastModifiedBy>
  <dcterms:modified xsi:type="dcterms:W3CDTF">2010-10-01T11:14:52Z</dcterms:modified>
  <cp:revision>224</cp:revision>
  <dc:subject/>
  <dc:title>AUXCOM 2009 PHASE 1 REWORK - Chapter 1</dc:title>
</cp:coreProperties>
</file>