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0.wmf" ContentType="image/x-wmf"/>
  <Override PartName="/ppt/media/image2.png" ContentType="image/png"/>
  <Override PartName="/ppt/media/image8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13.jpeg" ContentType="image/jpeg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83C4-E8B3-4B9C-BE08-7A247076B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A8CD-27C5-4882-A684-5D185C88E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9: The Reference File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lide displayed with simulated logbook opened to reference file section, showing an assortment of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logbook image dissolves, replaced with a smaller version and an appropriate info ball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48C7-A1C5-4AD0-8C6B-088FAB23D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0: Operato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7B97-F856-45B4-8AFB-07037F86E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0CCD-DC65-429F-A9A7-2D810D81C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1: Some Chapt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questions ar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to display each answer in sequence. Font change used to simulate human hand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ast answer displayed, one more [CLICK] to next screen (allows instructor pause for last answ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0852-9843-4EFA-8055-3DFDAE6C7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2: End of Chapte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st slide normally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31CC-E77F-4623-9B1E-2B94156FE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3: end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normally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D7C8-CDA6-4038-8825-543960EB4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COAST GUARD AUXILIARY – Auxiliary Communications Specialty Course (“AUXCOM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9 UPDATE, version 0.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. Chapter cover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: “The Radiotelephone Lo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: Chapter 7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3992-26CA-4D9B-984B-073B6957E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3: General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F947-4439-4CA7-9433-3D07EE300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4: Minimum C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C830-3671-4335-B2A8-1A2188DC7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5: Logbook S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ty slide (title only)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simulated ring-style logbook displayed, open to “Log” section with explanatory ball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simulated logbook opened to “Messages” section overlays previ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simulated logbook opened to “Reference” section overlays previ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24EA-1477-40CA-87FA-487C3979F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6: The Log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lide displayed with simulated logbook opened to communications log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dissolve of larger simulated logbook; display of relevant info and a smaller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AAD6-6C4D-4D6E-AD5E-C4C100BF1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7: The Log Section (Deta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lide displayed with empty communications log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longer-running animation progressively fills in log page entries: vessel name, call sign, page number, local time symbol, date/ti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displays info balloon on use of boxes (multiline entr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displays info balloon on sign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37F5-3290-44F2-BE31-B250CA7D0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: The Message File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lide displayed with large simulated logbook opened to messages file section. Iconic message displayed (e.g., simular in appearance to Chapter 6 message ic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large logbook dissolves, replaced with smaller representation and an appropriate info ball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40F3-C66E-49F0-A42B-8C6F3BE90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0C7B-1E0E-49A8-8106-8855504F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463-4977-4D60-BCFE-FFFE212E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2EF72-8792-4CBA-87AD-3FDD014B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CD1C9-0648-4883-831B-9F1720DB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F9C4F-247C-4CE1-9684-479E4FF6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77EA3-F102-4C75-8ED0-53588AFC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63809-F553-4031-A270-BBDEACCA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B9F3D-0F8B-479E-8108-84BA1010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6A180-4A26-4FFC-8D16-58591898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943F4-9273-4A5B-8499-754C9EDA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64BE7-6DFD-42B0-9D95-BF5F7CA0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4DC2E-4982-4D44-9811-002F0C16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022-538E-4A3A-866D-89893F81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CED26-063F-4D98-8F2C-3D1CC1D4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9B676-F637-4C65-8972-F666E1A0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B7795-E04A-40A7-A02B-EC215E7F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4FFC3-291B-412F-AFAF-F2908E4A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EFD38-E2D1-40CB-8470-F8787772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3893C-AC50-46E2-A042-5284FCBF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14DC9-040C-4F0E-8EC0-CF562DE2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1570C-DB32-4B45-9EFE-AEAC3DCF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AE778-346B-42F7-BC4A-BD8F2406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5B397-42A3-4D5F-8C7A-7E8314DC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3FE-64BF-44BB-BCA5-916B99C3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F7553-B743-4533-8B46-735442B6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7BB4D-8939-475A-BF37-207A706D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49DBF-6141-4284-8FC7-7CC41075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A0BBC-33CC-452F-8B4F-81ED726E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86812-E94E-44D7-993F-EC2B6571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39B21-4917-40E9-8C1E-ACFD6BAF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7546E-825A-4382-AB8A-294F6A21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6CDAB-9FDC-47D2-A8D5-1865018B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81706-F110-4B29-B4AD-A1D15B73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BADDB-EBC0-47E2-AE32-1EBA26A2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B13E-187F-43A3-BF72-F998E2D0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677EB-D496-4E01-AD8A-F870C5C6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69B42-198F-480B-A835-ACC7E43A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83815-3790-4604-B5BF-F1CBF757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28A30-C31C-47F2-8D1F-67F0AE34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FD195-46D0-4C1B-90F9-B3077314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6FE40-C778-4210-AAEF-4665E766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9D57A-B4A8-41D8-A22E-984F2AFE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BEACE-0391-4CFD-8815-4750BF19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EA97A-F83D-4B67-9C21-4C9199F4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BBCD4-BDB7-4193-AE2F-43D7D4E3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8527-2123-4689-B5FF-EF44B7D1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17301-861D-45E1-B256-9F5981DB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004E1-C33D-4261-9C8D-CC82D1A7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FA903-9A95-4AB7-9C2A-D5C64671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D911C-66C1-40E7-B2C8-2AF4B5B9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B7C25-F246-462B-8BC3-3FE28A48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EAA1E-0676-4BF0-A028-4B7FD722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781FB-189D-4803-AA1E-F48161CC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3B308-B9D3-433D-AD40-4CC3171D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BD3F3-9B09-4DC3-AF25-16CB3321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39A8D-1FED-4B2E-ADA6-039D6961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7BBD-F4BA-4238-9338-A2528608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D37A1-F338-4244-9E84-F79DDCE1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FB7B4-5B39-4176-9ED8-EC488DF3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DB07A-E3B3-46F6-A766-E8885E87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A72DD-25B4-4D91-96B9-58FF7F91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D98AF-307D-4F8A-89FA-14A2496C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F19F3-95FC-4370-8206-9DAE973B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13016-CF26-43A7-B602-23F802AA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CD078-8D5D-4E97-9D9A-C9439D0A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39756-A281-4589-9F37-8F80A065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109FF-ED70-4307-BBEF-A2662010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638F-3046-4E3D-A558-10172D1A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2F98F-FE9C-4596-8B64-EABD591B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6D03F-84AB-4450-84BC-46FCCA95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650DB-80F1-4D8E-B053-FA0589C2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6C569-3CC2-44D5-B05F-E45E6616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CD98D-37BA-4CF3-9F4B-E44E23DA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9FBE9-960B-4096-BEF6-FDD86733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61BDA4-4409-46FD-97B0-80723FD3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C53A9-E169-4350-ABB4-2BFBB418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7DC0E-73D1-456D-8B21-3E631549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5FC2-EACF-4EF2-BE63-3A6CA084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24DF-C43F-4246-9AA6-FCAA699D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5C08-5C10-45A5-AA9D-E73F9F52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D47-F4C4-43D7-982D-CC88B7F4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6C35-30D0-46F7-BB52-2248FB23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7B4B-DC33-48D0-921F-846D0DCF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1E1A-A01A-4C5C-9502-3142BDC1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25C6-ABCD-4310-85A2-54C799B8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272C-CD37-45D6-9411-7CBA8EC5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1790B-6B25-4DBB-9BB4-AE3D8F06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014DF-552F-4766-AA6D-37FB89FF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13AA-27C8-4CD3-A093-84F203E1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E3D01-21AF-4F4D-882C-C6B37A34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6A9B-B884-4C67-B4D5-3198E1FA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697-0379-4C66-BCF0-2AF3F689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1D9DE-F739-4486-8516-0A3FE22D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B44D5-407A-4BF6-B729-FF5E4DD1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5D9D-2839-44C8-9015-01F6DD84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DE002-FFBD-45BD-865E-0F9FAC48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8F711-6439-44DB-8C14-2C31AE69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D6AA6-64EA-48B1-B48B-BF33B1E8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56C3A-460A-4EC2-A4E0-0BAA8C31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E95F0-9D2C-45E2-A58D-2544E9A7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628ED-1A2C-4ADE-B29D-E65CC45C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2C060-D3A3-4327-ABF7-889940AB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E03-D2E9-4853-A149-D8348EBF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32CDA-D280-43A8-997C-5D0EFC31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D646C-3C99-409D-A17F-FC437772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E6D26-3EAC-4032-B971-2EE2C842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27936-4E91-4ABC-A5DB-A402E218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4E82A-3EEF-4054-B72A-6140A7FB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0FEB-33EE-4406-9932-46F8D7C2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5F8C0-C71F-4797-AC3F-ABA206F4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B2F29-0B18-4ACE-8570-E9FE8ADD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5750E-5B24-41C5-94FB-6DFEF72B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93328-0F43-4571-8838-D6E9B7BB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C62-9A57-4F22-8D71-89FF977E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BBB28-67E2-4DD0-9895-1755A6FC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0B4B0-6855-4B57-AA45-B1398D45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44220-8CA7-45CB-A9AD-85894DF6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FECAA-628D-4921-A46F-AC7B0B28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3CAAC-222C-432D-8FD1-A800DC7D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430B5-0033-4EE3-9E14-55115B56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DB075-80C7-4261-9E71-63F3C71D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FAB27-3DC0-4C8C-84AB-ECA3594B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D1EA3-F896-4DC7-8A7E-1E289651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28B7F-B7A3-42AE-B21A-5FA8D6E7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00E-D262-4D61-8785-32C6CF9A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59610-8C8A-4CF3-9232-E4B0C3A6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D5362-2F97-47B8-AC5D-7962EA17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AC326-FCAC-4324-BBA5-AC71BE88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7F338-9260-4B39-A08E-EC2D0962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75F44-08ED-4F97-8953-0189589B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F0046-356A-423D-97EC-D91B7F75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B58F9-6E25-43AE-9620-2034F356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2D9F5-0E06-46F5-BFE0-BF6BAC40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ED6D5-EB6B-420D-8CA9-9A27C290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9B55F-EED9-4AD8-B751-B70B1988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70B-9418-4B4F-8A03-8EDE5C7D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4F7FC-7927-432A-A8C2-9B7CFBA3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3BDF9-AEE1-4042-9AAF-02741FCB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403FD-0807-4DA7-83F8-EC0777C2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44694-52F9-41DF-BBB1-AED002BB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D1A0B-C272-497D-9139-9BA6FDD3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7973C-865E-4070-94E9-6AECF091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E902B-B050-4986-8953-88C34E41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08560-AE70-4659-B829-7997544C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8DB77-77A6-4FBF-ACA7-16E20686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7F2EB-4576-432A-8DCA-48CE6A7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89B-F2A9-497F-B5CA-93A7B84A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15DD6-05D4-442B-8128-23A6E028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CF7FA-3F85-4E84-8AA9-2F976989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1DB53-DE2F-407F-9531-61F9019E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B7458-0A2B-4180-9AB9-E63DF4D8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11D31-BBC0-43C5-9E45-844A01CC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56B32-B75B-4CAA-B830-AD607133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9F037-763C-4C00-ACC7-D218E76D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CB7C7-51FA-4BC0-9D93-9E18D4AD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24EFB-EC52-49D3-83E3-49DF006E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72C6B-A343-48DF-ABE1-37B3433A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863-969F-48E7-A7E5-A9817C2F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7DE19-23F7-49A5-A502-28D236D8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FE7A5-2625-4D3D-82C3-7E533C28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3199F-D1A8-4A06-99F1-1BF7221F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37489-E620-41D1-AC29-DA3AB996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3E0A1-0776-4C8D-8B6D-7849AFD3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6CB3E-F02B-47A4-AF02-81C6F8AD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98A77-AB98-4585-98F1-64082323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EBBEB-5F7C-4D80-AB6F-0C79B03B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0CCAB-918E-4C4C-ACD2-3CA3B390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03E43-4815-45FB-B2EA-53DBBB87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0458-EA0E-4C29-ABF8-40C0BB04BCDB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BE70-9D08-4005-AED3-EF1D5B9FC739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5AA9-ABCD-427E-99C0-B83942CEBF8F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3369-0F38-4FAF-865C-6B5D4F560513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7D9D-F935-49AC-974A-48E3F8BEA20D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1A32-575B-4578-9E9E-8C7055580F20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4ACE-1208-4AE4-8D1F-FA1228D86AD4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B58E-E395-46E4-B50F-3F9EE963013B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E033-F666-4B17-9592-93D3784F1A66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E2FA-F772-4585-8E67-CDCF892BDBD9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2471-4E34-4F13-9F72-E1E07F9E7C3C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A2E8-4794-43E5-A522-19003AA65E48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487C-5BFA-468F-B1A9-E88191908811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B607-3E30-41E5-BE01-F1567681F974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1447920" y="22860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e information contained within this document is copyright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© U.S. Coast Guard Auxili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The Reference File Section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5B70-56F6-48B2-91E2-6F34E35D7430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003480" cy="18604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7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7086600" cy="4370400"/>
          </a:xfrm>
          <a:prstGeom prst="rect">
            <a:avLst/>
          </a:prstGeom>
          <a:ln w="0">
            <a:noFill/>
          </a:ln>
        </p:spPr>
      </p:pic>
      <p:sp>
        <p:nvSpPr>
          <p:cNvPr id="678" name="TextBox 7"/>
          <p:cNvSpPr/>
          <p:nvPr/>
        </p:nvSpPr>
        <p:spPr>
          <a:xfrm>
            <a:off x="1295280" y="1676520"/>
            <a:ext cx="3962520" cy="398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This section has reference materials intended to the station operator(s) in a broad range of circumstances. The exact content will vary by s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Chapter 7, lists recommended items, inclu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Local CG units and locations, phone numbers, call signs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Local Auxiliary facilities, flotilla rosters and reach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Civilian agencies reach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rea of Operations (AOR)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istress  &amp; SAR “scripts” &amp; 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CG, State and other 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…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d m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Operator Note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P NOTES” added to the log are helpful to describe log entries to remind operators later on situation or activity which required the communica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 descriptive: “Safety Patrol,” “Comms Drill,” “Weather Alert,” etc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5C4D-B42E-49DE-97B5-4F4E63CF0A2F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430E-3F70-4954-8B4D-2C222D4482BF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Some Chapter Question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855800" y="1981080"/>
          <a:ext cx="6602400" cy="3997440"/>
        </p:xfrm>
        <a:graphic>
          <a:graphicData uri="http://schemas.openxmlformats.org/drawingml/2006/table">
            <a:tbl>
              <a:tblPr/>
              <a:tblGrid>
                <a:gridCol w="3301920"/>
                <a:gridCol w="3300480"/>
              </a:tblGrid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S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en operating as a government station, what is the minimum log requir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at are the three sections of a lo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at are some recommended items to be kept in the reference sec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en is an Auxiliary facility required to maintain a lo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at are OP NOT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7" name="Text Box 39"/>
          <p:cNvSpPr/>
          <p:nvPr/>
        </p:nvSpPr>
        <p:spPr>
          <a:xfrm>
            <a:off x="5257800" y="259092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A station log, in ink, in a ledger or log boo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40"/>
          <p:cNvSpPr/>
          <p:nvPr/>
        </p:nvSpPr>
        <p:spPr>
          <a:xfrm>
            <a:off x="5257800" y="32767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Log, Messages and 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46"/>
          <p:cNvSpPr/>
          <p:nvPr/>
        </p:nvSpPr>
        <p:spPr>
          <a:xfrm>
            <a:off x="5257800" y="38098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Local unit phone numbers, local agency phone numbers, AOR data, “scripts” and forms,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50"/>
          <p:cNvSpPr/>
          <p:nvPr/>
        </p:nvSpPr>
        <p:spPr>
          <a:xfrm>
            <a:off x="5257800" y="464832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When mobile and NOT under direction of a fixed land station, or when mobile-to-mobile callin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52"/>
          <p:cNvSpPr/>
          <p:nvPr/>
        </p:nvSpPr>
        <p:spPr>
          <a:xfrm>
            <a:off x="5257800" y="548640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Annotations in the log to describe the communic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F51A-2938-454D-B7C6-CB53A2714DD8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End of Chapter 7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ext: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apter 8, “Coast Guard Communications”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96" name="Picture 8" descr="normal_auxiliarist_handles_communications.jpg"/>
          <p:cNvPicPr/>
          <p:nvPr/>
        </p:nvPicPr>
        <p:blipFill>
          <a:blip r:embed="rId1"/>
          <a:stretch/>
        </p:blipFill>
        <p:spPr>
          <a:xfrm>
            <a:off x="4343400" y="3048120"/>
            <a:ext cx="4114800" cy="30859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ooter Placeholder 2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3D6C-CF70-495A-871A-E8F4CE339988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2727360" y="126036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213372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This slide intentionally left blank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1F72-F6D8-42F9-A282-0021111A906C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6" descr="AUXCOM_Text-CoverPag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90920" y="152280"/>
            <a:ext cx="4956120" cy="640080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uxiliary Communications Specialty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(AUXCOM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pter 7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Radiotelephone Log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TextBox 7"/>
          <p:cNvSpPr/>
          <p:nvPr/>
        </p:nvSpPr>
        <p:spPr>
          <a:xfrm>
            <a:off x="129528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2009 v0.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083F-4A1E-4678-8173-90DB35F624D5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hapter 7 Outline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952520" y="175248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eneral Introduc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inimum Coast Guard Requirement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og Section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Log Sec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Message File Sec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Reference File Sec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perator Not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view Question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19" name="Picture 2" descr="K0G Coast Guard Aux Station In Action by flotilla_4."/>
          <p:cNvPicPr/>
          <p:nvPr/>
        </p:nvPicPr>
        <p:blipFill>
          <a:blip r:embed="rId1">
            <a:lum contrast="20000"/>
          </a:blip>
          <a:srcRect l="0" t="43205" r="18936" b="0"/>
          <a:stretch/>
        </p:blipFill>
        <p:spPr>
          <a:xfrm>
            <a:off x="1752480" y="1828800"/>
            <a:ext cx="2895840" cy="27050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20" name="TextBox 7"/>
          <p:cNvSpPr/>
          <p:nvPr/>
        </p:nvSpPr>
        <p:spPr>
          <a:xfrm>
            <a:off x="1676520" y="5029200"/>
            <a:ext cx="670536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The purpose of this chapter is to explain how to fulfill CG requirements using a standard log book format and organiz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General Introduction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adio Logs and Formal Message Logs must be maintained by owner or operator of radio facility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f mobile station is in communication with a fixed land station, land station keeps log (see Chapter 5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f two mobile stations are in communications, then they keep logs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A291-7F81-469E-9E4A-2CB70A0F2EA0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9" descr="normal_watchstanding-station-ft-piercept.jpg"/>
          <p:cNvPicPr/>
          <p:nvPr/>
        </p:nvPicPr>
        <p:blipFill>
          <a:blip r:embed="rId1"/>
          <a:stretch/>
        </p:blipFill>
        <p:spPr>
          <a:xfrm>
            <a:off x="1143000" y="2362320"/>
            <a:ext cx="3809880" cy="25048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Minimum CG Requirement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952520" y="16765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dger or log book, tape recorder or computer – retention policy for all media is the sam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f written, use ink; be legible, readable and easy to understand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nscripts of tapes, hard copies of computer files are often generated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log book binder (or binders) is often used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C541-C0C7-48D8-B680-203824E3A13E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1828800" y="1604880"/>
            <a:ext cx="2971800" cy="3662280"/>
          </a:xfrm>
          <a:prstGeom prst="rect">
            <a:avLst/>
          </a:prstGeom>
          <a:ln w="0">
            <a:noFill/>
          </a:ln>
        </p:spPr>
      </p:pic>
      <p:sp>
        <p:nvSpPr>
          <p:cNvPr id="631" name="TextBox 7"/>
          <p:cNvSpPr/>
          <p:nvPr/>
        </p:nvSpPr>
        <p:spPr>
          <a:xfrm>
            <a:off x="1828800" y="5334120"/>
            <a:ext cx="2971800" cy="73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LOGS MAY VARY IN DETAILS PER POLICIES OF THE CG STATION IN QUES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Logbook Section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66EB-5E96-4AFD-A26C-FEC345AF832A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4267080" cy="26319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4267440" cy="26319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" descr=""/>
          <p:cNvPicPr/>
          <p:nvPr/>
        </p:nvPicPr>
        <p:blipFill>
          <a:blip r:embed="rId3"/>
          <a:stretch/>
        </p:blipFill>
        <p:spPr>
          <a:xfrm>
            <a:off x="2057400" y="3276720"/>
            <a:ext cx="4267080" cy="2631960"/>
          </a:xfrm>
          <a:prstGeom prst="rect">
            <a:avLst/>
          </a:prstGeom>
          <a:ln w="0">
            <a:noFill/>
          </a:ln>
        </p:spPr>
      </p:pic>
      <p:sp>
        <p:nvSpPr>
          <p:cNvPr id="638" name="Rectangular Callout 8"/>
          <p:cNvSpPr/>
          <p:nvPr/>
        </p:nvSpPr>
        <p:spPr>
          <a:xfrm>
            <a:off x="6705720" y="1905120"/>
            <a:ext cx="2133360" cy="1295280"/>
          </a:xfrm>
          <a:prstGeom prst="wedgeRectCallout">
            <a:avLst>
              <a:gd name="adj1" fmla="val -90620"/>
              <a:gd name="adj2" fmla="val -14300"/>
            </a:avLst>
          </a:prstGeom>
          <a:solidFill>
            <a:srgbClr val="99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e Log section contains communication records (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e next slid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ular Callout 9"/>
          <p:cNvSpPr/>
          <p:nvPr/>
        </p:nvSpPr>
        <p:spPr>
          <a:xfrm>
            <a:off x="6705720" y="2514600"/>
            <a:ext cx="2133360" cy="1143000"/>
          </a:xfrm>
          <a:prstGeom prst="wedgeRectCallout">
            <a:avLst>
              <a:gd name="adj1" fmla="val -77365"/>
              <a:gd name="adj2" fmla="val -11875"/>
            </a:avLst>
          </a:prstGeom>
          <a:solidFill>
            <a:srgbClr val="99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e Message File section contains all recorded messages sent or recei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ular Callout 11"/>
          <p:cNvSpPr/>
          <p:nvPr/>
        </p:nvSpPr>
        <p:spPr>
          <a:xfrm>
            <a:off x="6705720" y="3200400"/>
            <a:ext cx="2133360" cy="1828800"/>
          </a:xfrm>
          <a:prstGeom prst="wedgeRectCallout">
            <a:avLst>
              <a:gd name="adj1" fmla="val -64685"/>
              <a:gd name="adj2" fmla="val -25208"/>
            </a:avLst>
          </a:prstGeom>
          <a:solidFill>
            <a:srgbClr val="99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e Reference File section contains  assorted information which might be required for communic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The Log Section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B396-DB27-48F4-859A-83DC2B47F538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3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003480" cy="18604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0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7162920" cy="4418280"/>
          </a:xfrm>
          <a:prstGeom prst="rect">
            <a:avLst/>
          </a:prstGeom>
          <a:ln w="0">
            <a:noFill/>
          </a:ln>
        </p:spPr>
      </p:pic>
      <p:sp>
        <p:nvSpPr>
          <p:cNvPr id="646" name="TextBox 10"/>
          <p:cNvSpPr/>
          <p:nvPr/>
        </p:nvSpPr>
        <p:spPr>
          <a:xfrm>
            <a:off x="1371600" y="1523880"/>
            <a:ext cx="3962520" cy="398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Use this log style or acceptable equivalent format. CG requires following entr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Vessel name (each p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Vessel call sign (each p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Page number 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ate of entry(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Local Time Zone abbrev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Time radio watch is beg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Time radio watch ends or is interrup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Frequency used or guar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tation called or ca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Message reference number or call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Operator’s signature.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Box 8"/>
          <p:cNvSpPr/>
          <p:nvPr/>
        </p:nvSpPr>
        <p:spPr>
          <a:xfrm>
            <a:off x="5486400" y="4572000"/>
            <a:ext cx="31240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Required when operating as a “government station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The Log Section (Detail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072B-7D9C-46D2-B2F3-3DAEC0565744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5" descr="radio-station-log.JPG"/>
          <p:cNvPicPr/>
          <p:nvPr/>
        </p:nvPicPr>
        <p:blipFill>
          <a:blip r:embed="rId1"/>
          <a:stretch/>
        </p:blipFill>
        <p:spPr>
          <a:xfrm>
            <a:off x="2209680" y="1752480"/>
            <a:ext cx="6162840" cy="4257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52" name="TextBox 16"/>
          <p:cNvSpPr/>
          <p:nvPr/>
        </p:nvSpPr>
        <p:spPr>
          <a:xfrm>
            <a:off x="3505320" y="2362320"/>
            <a:ext cx="160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Comic Sans MS"/>
              </a:rPr>
              <a:t>Sea Bree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Box 18"/>
          <p:cNvSpPr/>
          <p:nvPr/>
        </p:nvSpPr>
        <p:spPr>
          <a:xfrm>
            <a:off x="5791320" y="2362320"/>
            <a:ext cx="228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Comic Sans MS"/>
              </a:rPr>
              <a:t>258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Box 19"/>
          <p:cNvSpPr/>
          <p:nvPr/>
        </p:nvSpPr>
        <p:spPr>
          <a:xfrm>
            <a:off x="7315200" y="2362320"/>
            <a:ext cx="38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Comic Sans MS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Box 20"/>
          <p:cNvSpPr/>
          <p:nvPr/>
        </p:nvSpPr>
        <p:spPr>
          <a:xfrm>
            <a:off x="2666880" y="3505320"/>
            <a:ext cx="1752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Comic Sans MS"/>
              </a:rPr>
              <a:t>04-Ju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Box 21"/>
          <p:cNvSpPr/>
          <p:nvPr/>
        </p:nvSpPr>
        <p:spPr>
          <a:xfrm>
            <a:off x="2666880" y="3276720"/>
            <a:ext cx="1752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Comic Sans MS"/>
              </a:rPr>
              <a:t>(2009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Box 22"/>
          <p:cNvSpPr/>
          <p:nvPr/>
        </p:nvSpPr>
        <p:spPr>
          <a:xfrm>
            <a:off x="3200400" y="3505320"/>
            <a:ext cx="99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Comic Sans MS"/>
              </a:rPr>
              <a:t>1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Box 23"/>
          <p:cNvSpPr/>
          <p:nvPr/>
        </p:nvSpPr>
        <p:spPr>
          <a:xfrm>
            <a:off x="3657600" y="350532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Comic Sans MS"/>
              </a:rPr>
              <a:t>15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4"/>
          <p:cNvSpPr/>
          <p:nvPr/>
        </p:nvSpPr>
        <p:spPr>
          <a:xfrm>
            <a:off x="4114800" y="3505320"/>
            <a:ext cx="144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Comic Sans MS"/>
              </a:rPr>
              <a:t>VHF 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Box 25"/>
          <p:cNvSpPr/>
          <p:nvPr/>
        </p:nvSpPr>
        <p:spPr>
          <a:xfrm>
            <a:off x="4724280" y="3505320"/>
            <a:ext cx="91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Comic Sans MS"/>
              </a:rPr>
              <a:t>Wind Dan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26"/>
          <p:cNvSpPr/>
          <p:nvPr/>
        </p:nvSpPr>
        <p:spPr>
          <a:xfrm>
            <a:off x="5410080" y="3505320"/>
            <a:ext cx="21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Comic Sans MS"/>
              </a:rPr>
              <a:t>Urgency – adrift / sails damaged, no eng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27"/>
          <p:cNvSpPr/>
          <p:nvPr/>
        </p:nvSpPr>
        <p:spPr>
          <a:xfrm>
            <a:off x="3809880" y="2819520"/>
            <a:ext cx="4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Comic Sans MS"/>
              </a:rPr>
              <a:t>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28"/>
          <p:cNvSpPr/>
          <p:nvPr/>
        </p:nvSpPr>
        <p:spPr>
          <a:xfrm>
            <a:off x="7315200" y="350532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Mistral"/>
              </a:rPr>
              <a:t>MJ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ular Callout 29"/>
          <p:cNvSpPr/>
          <p:nvPr/>
        </p:nvSpPr>
        <p:spPr>
          <a:xfrm>
            <a:off x="1905120" y="4419720"/>
            <a:ext cx="3657600" cy="1143000"/>
          </a:xfrm>
          <a:prstGeom prst="wedgeRectCallout">
            <a:avLst>
              <a:gd name="adj1" fmla="val 53574"/>
              <a:gd name="adj2" fmla="val -85912"/>
            </a:avLst>
          </a:prstGeom>
          <a:solidFill>
            <a:srgbClr val="99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ox sizes are for guidelines and neatness – use as many as needed for clarity and essential det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ular Callout 30"/>
          <p:cNvSpPr/>
          <p:nvPr/>
        </p:nvSpPr>
        <p:spPr>
          <a:xfrm>
            <a:off x="5638680" y="4724280"/>
            <a:ext cx="2819520" cy="1447920"/>
          </a:xfrm>
          <a:prstGeom prst="wedgeRectCallout">
            <a:avLst>
              <a:gd name="adj1" fmla="val 16055"/>
              <a:gd name="adj2" fmla="val -115111"/>
            </a:avLst>
          </a:prstGeom>
          <a:solidFill>
            <a:srgbClr val="99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ight sign once per page covering all entries; also possible for multiple watchstanders to sign as a group at bott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The Message File Section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798D-890F-4B4F-8D53-D987C70B45AE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2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003480" cy="18604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7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7086600" cy="4370400"/>
          </a:xfrm>
          <a:prstGeom prst="rect">
            <a:avLst/>
          </a:prstGeom>
          <a:ln w="0">
            <a:noFill/>
          </a:ln>
        </p:spPr>
      </p:pic>
      <p:sp>
        <p:nvSpPr>
          <p:cNvPr id="671" name="TextBox 8"/>
          <p:cNvSpPr/>
          <p:nvPr/>
        </p:nvSpPr>
        <p:spPr>
          <a:xfrm>
            <a:off x="1295280" y="2362320"/>
            <a:ext cx="396252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Use this section to file and hold all recorded messages sent and received by the station. The Coast Guard requires the message pages to be numbered in sequence, with cross-reference on the appropriate Section 1 log she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Box 9"/>
          <p:cNvSpPr/>
          <p:nvPr/>
        </p:nvSpPr>
        <p:spPr>
          <a:xfrm>
            <a:off x="3048120" y="5638680"/>
            <a:ext cx="39621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ee Chapter 6 for details on messages, content and proced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23:18:45Z</dcterms:created>
  <dc:creator>Mike Bauer</dc:creator>
  <dc:description/>
  <dc:language>en-US</dc:language>
  <cp:lastModifiedBy>Cypherja</cp:lastModifiedBy>
  <dcterms:modified xsi:type="dcterms:W3CDTF">2010-10-01T11:14:46Z</dcterms:modified>
  <cp:revision>277</cp:revision>
  <dc:subject/>
  <dc:title>AUXCOM 2009 PHASE 1 REWORK - Chapter 1</dc:title>
</cp:coreProperties>
</file>